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71F-8C12-43CC-BA12-77A9746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64E-4ED6-49CD-BBFB-04E79E1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746-8C0B-4BB0-A01F-3AE83B64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B50-8CAF-4837-920A-0F1195EC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E22-FF3D-4B60-BCFD-3D570B8C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54F-677A-4A92-AFB8-2B7E0D7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D3E-2AD7-4413-AE06-0AE8ED6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80A-8DAA-4289-92FC-33CBAF7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B21-94B8-44C6-AAD4-A28775C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81F-4F78-44CB-BE7D-FC660E2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D89-46D9-42C6-ACA0-08013CF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9FB-2D26-4E57-938F-219B9ED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00F0-A76D-483B-ACA9-D9D50C1F3C4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kda.com.hk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kda.com.hk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fs.gov.hk/english/programme/programme_nifl/files/Energy_E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Calibri"/>
              </a:rPr>
              <a:t>Survey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lvia L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irlady, Hong Kong Dietitian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redited Practicing Dietitian o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zh-TW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titians Association of Austral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hkda.com.hk/skins/Classic/styleImages/backgrounds/hkda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768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issue6oxyntomodulin3_large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551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5280" y="1890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inciples of weigh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973080" y="3792600"/>
            <a:ext cx="7416720" cy="322200"/>
            <a:chOff x="973080" y="3792600"/>
            <a:chExt cx="7416720" cy="322200"/>
          </a:xfrm>
        </p:grpSpPr>
        <p:sp>
          <p:nvSpPr>
            <p:cNvPr id="103" name="Text Box 9"/>
            <p:cNvSpPr/>
            <p:nvPr/>
          </p:nvSpPr>
          <p:spPr>
            <a:xfrm>
              <a:off x="5149800" y="3792600"/>
              <a:ext cx="3240000" cy="32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alorie out</a:t>
              </a:r>
              <a:r>
                <a:rPr b="1" lang="zh-TW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hysical activi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973080" y="3792600"/>
              <a:ext cx="2879640" cy="322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alorie in </a:t>
              </a:r>
              <a:r>
                <a:rPr b="1" lang="zh-TW" sz="16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ood intak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3223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4% said some foods and beverages cannot be part of a balanced di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800" y="-762120"/>
            <a:ext cx="1945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b7dee8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Placeholder 4"/>
          <p:cNvSpPr/>
          <p:nvPr/>
        </p:nvSpPr>
        <p:spPr>
          <a:xfrm>
            <a:off x="2286000" y="533520"/>
            <a:ext cx="655308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5968"/>
                </a:solidFill>
                <a:latin typeface="Calibri"/>
              </a:rPr>
              <a:t>“…</a:t>
            </a:r>
            <a:r>
              <a:rPr b="1" i="1" lang="en-US" sz="2800" spc="-1" strike="noStrike">
                <a:solidFill>
                  <a:srgbClr val="215968"/>
                </a:solidFill>
                <a:latin typeface="Calibri"/>
              </a:rPr>
              <a:t>a balanced diet means no ice-cream, potato chips, chocolate and soft drin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914400" y="4952880"/>
            <a:ext cx="1295280" cy="1524240"/>
            <a:chOff x="914400" y="4952880"/>
            <a:chExt cx="1295280" cy="1524240"/>
          </a:xfrm>
        </p:grpSpPr>
        <p:pic>
          <p:nvPicPr>
            <p:cNvPr id="109" name="Picture 4" descr="cones,dairy products,dining,food,ice cream,ice cream cones,ice creams,snacks,treats"/>
            <p:cNvPicPr/>
            <p:nvPr/>
          </p:nvPicPr>
          <p:blipFill>
            <a:blip r:embed="rId1"/>
            <a:stretch/>
          </p:blipFill>
          <p:spPr>
            <a:xfrm>
              <a:off x="1009080" y="5126040"/>
              <a:ext cx="1137600" cy="124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Multiply 13"/>
            <p:cNvSpPr/>
            <p:nvPr/>
          </p:nvSpPr>
          <p:spPr>
            <a:xfrm>
              <a:off x="914400" y="4952880"/>
              <a:ext cx="1295280" cy="1524240"/>
            </a:xfrm>
            <a:custGeom>
              <a:avLst/>
              <a:gdLst>
                <a:gd name="textAreaLeft" fmla="*/ 258480 w 1295280"/>
                <a:gd name="textAreaRight" fmla="*/ 1036800 w 1295280"/>
                <a:gd name="textAreaTop" fmla="*/ 312480 h 1524240"/>
                <a:gd name="textAreaBottom" fmla="*/ 1211760 h 152424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2895480" y="4800600"/>
            <a:ext cx="1676520" cy="2057400"/>
            <a:chOff x="2895480" y="4800600"/>
            <a:chExt cx="1676520" cy="2057400"/>
          </a:xfrm>
        </p:grpSpPr>
        <p:pic>
          <p:nvPicPr>
            <p:cNvPr id="112" name="Picture 6" descr="chocolates,dining,food"/>
            <p:cNvPicPr/>
            <p:nvPr/>
          </p:nvPicPr>
          <p:blipFill>
            <a:blip r:embed="rId2"/>
            <a:stretch/>
          </p:blipFill>
          <p:spPr>
            <a:xfrm>
              <a:off x="2936160" y="4893840"/>
              <a:ext cx="1594800" cy="18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Multiply 16"/>
            <p:cNvSpPr/>
            <p:nvPr/>
          </p:nvSpPr>
          <p:spPr>
            <a:xfrm>
              <a:off x="2895480" y="4800600"/>
              <a:ext cx="1676520" cy="2057400"/>
            </a:xfrm>
            <a:custGeom>
              <a:avLst/>
              <a:gdLst>
                <a:gd name="textAreaLeft" fmla="*/ 334800 w 1676520"/>
                <a:gd name="textAreaRight" fmla="*/ 1341720 w 1676520"/>
                <a:gd name="textAreaTop" fmla="*/ 421920 h 2057400"/>
                <a:gd name="textAreaBottom" fmla="*/ 1635480 h 205740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5105520" y="4648320"/>
            <a:ext cx="1523880" cy="1904760"/>
            <a:chOff x="5105520" y="4648320"/>
            <a:chExt cx="1523880" cy="1904760"/>
          </a:xfrm>
        </p:grpSpPr>
        <p:pic>
          <p:nvPicPr>
            <p:cNvPr id="115" name="Picture 10" descr="candies,candy,dining,food"/>
            <p:cNvPicPr/>
            <p:nvPr/>
          </p:nvPicPr>
          <p:blipFill>
            <a:blip r:embed="rId3"/>
            <a:stretch/>
          </p:blipFill>
          <p:spPr>
            <a:xfrm>
              <a:off x="5105520" y="4951080"/>
              <a:ext cx="1263960" cy="14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Multiply 22"/>
            <p:cNvSpPr/>
            <p:nvPr/>
          </p:nvSpPr>
          <p:spPr>
            <a:xfrm>
              <a:off x="5105520" y="4648320"/>
              <a:ext cx="1523880" cy="1904760"/>
            </a:xfrm>
            <a:custGeom>
              <a:avLst/>
              <a:gdLst>
                <a:gd name="textAreaLeft" fmla="*/ 304200 w 1523880"/>
                <a:gd name="textAreaRight" fmla="*/ 1219680 w 1523880"/>
                <a:gd name="textAreaTop" fmla="*/ 390600 h 1904760"/>
                <a:gd name="textAreaBottom" fmla="*/ 1514160 h 190476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4"/>
          <p:cNvGrpSpPr/>
          <p:nvPr/>
        </p:nvGrpSpPr>
        <p:grpSpPr>
          <a:xfrm>
            <a:off x="7086600" y="4724280"/>
            <a:ext cx="1676520" cy="1752840"/>
            <a:chOff x="7086600" y="4724280"/>
            <a:chExt cx="1676520" cy="1752840"/>
          </a:xfrm>
        </p:grpSpPr>
        <p:pic>
          <p:nvPicPr>
            <p:cNvPr id="118" name="Picture 2" descr="beverages,bottles,cups,drinks,paper cups,pop,pop bottles,soda bottles,sodas,soft drinks,straws"/>
            <p:cNvPicPr/>
            <p:nvPr/>
          </p:nvPicPr>
          <p:blipFill>
            <a:blip r:embed="rId4"/>
            <a:stretch/>
          </p:blipFill>
          <p:spPr>
            <a:xfrm>
              <a:off x="7168320" y="4724280"/>
              <a:ext cx="1554120" cy="14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Multiply 26"/>
            <p:cNvSpPr/>
            <p:nvPr/>
          </p:nvSpPr>
          <p:spPr>
            <a:xfrm>
              <a:off x="7086600" y="4763880"/>
              <a:ext cx="1676520" cy="1713240"/>
            </a:xfrm>
            <a:custGeom>
              <a:avLst/>
              <a:gdLst>
                <a:gd name="textAreaLeft" fmla="*/ 334800 w 1676520"/>
                <a:gd name="textAreaRight" fmla="*/ 1341720 w 1676520"/>
                <a:gd name="textAreaTop" fmla="*/ 351360 h 1713240"/>
                <a:gd name="textAreaBottom" fmla="*/ 1361880 h 1713240"/>
              </a:gdLst>
              <a:ahLst/>
              <a:rect l="textAreaLeft" t="textAreaTop" r="textAreaRight" b="textAreaBottom"/>
              <a:pathLst>
                <a:path w="3124200" h="3351350">
                  <a:moveTo>
                    <a:pt x="624141" y="922569"/>
                  </a:moveTo>
                  <a:lnTo>
                    <a:pt x="876568" y="687252"/>
                  </a:lnTo>
                  <a:lnTo>
                    <a:pt x="1562100" y="1422627"/>
                  </a:lnTo>
                  <a:lnTo>
                    <a:pt x="2247632" y="687252"/>
                  </a:lnTo>
                  <a:lnTo>
                    <a:pt x="2500059" y="922569"/>
                  </a:lnTo>
                  <a:lnTo>
                    <a:pt x="1797997" y="1675675"/>
                  </a:lnTo>
                  <a:lnTo>
                    <a:pt x="2500059" y="2428781"/>
                  </a:lnTo>
                  <a:lnTo>
                    <a:pt x="2247632" y="2664098"/>
                  </a:lnTo>
                  <a:lnTo>
                    <a:pt x="1562100" y="1928723"/>
                  </a:lnTo>
                  <a:lnTo>
                    <a:pt x="876568" y="2664098"/>
                  </a:lnTo>
                  <a:lnTo>
                    <a:pt x="624141" y="2428781"/>
                  </a:lnTo>
                  <a:lnTo>
                    <a:pt x="1326203" y="167567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3760" y="1519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ition Statement (2007)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rican Dietetic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-76320" y="-11160"/>
            <a:ext cx="5181840" cy="686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709800" cy="3352680"/>
          </a:xfrm>
          <a:prstGeom prst="rect">
            <a:avLst/>
          </a:prstGeom>
          <a:ln w="9360">
            <a:solidFill>
              <a:srgbClr val="92d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Rectangle 4"/>
          <p:cNvSpPr/>
          <p:nvPr/>
        </p:nvSpPr>
        <p:spPr>
          <a:xfrm>
            <a:off x="1752480" y="2362320"/>
            <a:ext cx="1524240" cy="137160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rapezoid 9"/>
          <p:cNvSpPr/>
          <p:nvPr/>
        </p:nvSpPr>
        <p:spPr>
          <a:xfrm rot="16200000">
            <a:off x="2629080" y="2018880"/>
            <a:ext cx="3352680" cy="2057400"/>
          </a:xfrm>
          <a:custGeom>
            <a:avLst/>
            <a:gdLst>
              <a:gd name="textAreaLeft" fmla="*/ 639360 w 3352680"/>
              <a:gd name="textAreaRight" fmla="*/ 2713320 w 3352680"/>
              <a:gd name="textAreaTop" fmla="*/ 392400 h 2057400"/>
              <a:gd name="textAreaBottom" fmla="*/ 2057760 h 2057400"/>
            </a:gdLst>
            <a:ahLst/>
            <a:rect l="textAreaLeft" t="textAreaTop" r="textAreaRight" b="textAreaBottom"/>
            <a:pathLst>
              <a:path w="3352800" h="2057400">
                <a:moveTo>
                  <a:pt x="0" y="2057400"/>
                </a:moveTo>
                <a:lnTo>
                  <a:pt x="959201" y="0"/>
                </a:lnTo>
                <a:lnTo>
                  <a:pt x="2393599" y="0"/>
                </a:lnTo>
                <a:lnTo>
                  <a:pt x="3352800" y="2057400"/>
                </a:lnTo>
                <a:close/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foods can fit within a healthy diet, if consumed in appropriate portion size and combined with regular physical activit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Energy balance is the key to weight management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American Dietetic Association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http://www.hkda.com.hk/images/uploads/food_py%20(eng).jpg"/>
          <p:cNvPicPr/>
          <p:nvPr/>
        </p:nvPicPr>
        <p:blipFill>
          <a:blip r:embed="rId1"/>
          <a:stretch/>
        </p:blipFill>
        <p:spPr>
          <a:xfrm>
            <a:off x="1752480" y="2286000"/>
            <a:ext cx="6438960" cy="41115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5638680" y="2438280"/>
            <a:ext cx="2743200" cy="571680"/>
            <a:chOff x="5638680" y="2438280"/>
            <a:chExt cx="2743200" cy="571680"/>
          </a:xfrm>
        </p:grpSpPr>
        <p:pic>
          <p:nvPicPr>
            <p:cNvPr id="128" name="Picture 6" descr="chocolates,dining,food"/>
            <p:cNvPicPr/>
            <p:nvPr/>
          </p:nvPicPr>
          <p:blipFill>
            <a:blip r:embed="rId2"/>
            <a:stretch/>
          </p:blipFill>
          <p:spPr>
            <a:xfrm>
              <a:off x="6976440" y="2487960"/>
              <a:ext cx="652320" cy="4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beverages,bottles,cups,drinks,paper cups,pop,pop bottles,soda bottles,sodas,soft drinks,straws"/>
            <p:cNvPicPr/>
            <p:nvPr/>
          </p:nvPicPr>
          <p:blipFill>
            <a:blip r:embed="rId3"/>
            <a:stretch/>
          </p:blipFill>
          <p:spPr>
            <a:xfrm>
              <a:off x="7645680" y="2463120"/>
              <a:ext cx="63540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cones,dairy products,dining,food,ice cream,ice cream cones,ice creams,snacks,treats"/>
            <p:cNvPicPr/>
            <p:nvPr/>
          </p:nvPicPr>
          <p:blipFill>
            <a:blip r:embed="rId4"/>
            <a:stretch/>
          </p:blipFill>
          <p:spPr>
            <a:xfrm>
              <a:off x="5638680" y="2487960"/>
              <a:ext cx="60192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0" descr="candies,candy,dining,food"/>
            <p:cNvPicPr/>
            <p:nvPr/>
          </p:nvPicPr>
          <p:blipFill>
            <a:blip r:embed="rId5"/>
            <a:stretch/>
          </p:blipFill>
          <p:spPr>
            <a:xfrm>
              <a:off x="6307560" y="2587320"/>
              <a:ext cx="568440" cy="4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ounded Rectangle 8"/>
            <p:cNvSpPr/>
            <p:nvPr/>
          </p:nvSpPr>
          <p:spPr>
            <a:xfrm>
              <a:off x="5638680" y="2438280"/>
              <a:ext cx="2743200" cy="545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9"/>
          <p:cNvSpPr/>
          <p:nvPr/>
        </p:nvSpPr>
        <p:spPr>
          <a:xfrm>
            <a:off x="3808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Excludes people with chron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35049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0% misunderstand the principles of weight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tle 3"/>
          <p:cNvSpPr/>
          <p:nvPr/>
        </p:nvSpPr>
        <p:spPr>
          <a:xfrm>
            <a:off x="0" y="-21924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Placeholder 4"/>
          <p:cNvSpPr/>
          <p:nvPr/>
        </p:nvSpPr>
        <p:spPr>
          <a:xfrm>
            <a:off x="2666880" y="533520"/>
            <a:ext cx="60962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5968"/>
                </a:solidFill>
                <a:latin typeface="Calibri"/>
              </a:rPr>
              <a:t>“…</a:t>
            </a:r>
            <a:r>
              <a:rPr b="1" i="1" lang="en-US" sz="2800" spc="-1" strike="noStrike">
                <a:solidFill>
                  <a:srgbClr val="215968"/>
                </a:solidFill>
                <a:latin typeface="Calibri"/>
              </a:rPr>
              <a:t>Diet control is more important than exercise for weight management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of the following is the most effective way of weight manage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ing diet only (limit calorie intak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physical activities only (but no diet contr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ing both diet and increasing 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380880" y="4576680"/>
            <a:ext cx="8382240" cy="2314080"/>
            <a:chOff x="380880" y="4576680"/>
            <a:chExt cx="8382240" cy="2314080"/>
          </a:xfrm>
        </p:grpSpPr>
        <p:sp>
          <p:nvSpPr>
            <p:cNvPr id="140" name="Text Box 5"/>
            <p:cNvSpPr/>
            <p:nvPr/>
          </p:nvSpPr>
          <p:spPr>
            <a:xfrm>
              <a:off x="1600200" y="4576680"/>
              <a:ext cx="6095880" cy="1068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trolling both diet and increasing physical activit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380880" y="5867280"/>
              <a:ext cx="83822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erences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tional Journal Obesity 1997;21:941–94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esity Reviews 2009; 10, 313 – 32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tional Journal Obesity 2005;29:1168–117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Sport Sciecne Review  2000;28:165–17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ight management in Hong Kong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ople focus too much on diet contr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ncepts,dieting,diets,flatware,food,forks,measuring tapes,numbers,photographs,silverware,symbols,tape measures"/>
          <p:cNvPicPr/>
          <p:nvPr/>
        </p:nvPicPr>
        <p:blipFill>
          <a:blip r:embed="rId1"/>
          <a:srcRect l="16316" t="0" r="17235" b="0"/>
          <a:stretch/>
        </p:blipFill>
        <p:spPr>
          <a:xfrm>
            <a:off x="763560" y="2057400"/>
            <a:ext cx="2513160" cy="37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4" descr="Asian,exercises,females,fitness,jogs,people,photographs,ponytails,runs,sweatpants,women,workouts"/>
          <p:cNvPicPr/>
          <p:nvPr/>
        </p:nvPicPr>
        <p:blipFill>
          <a:blip r:embed="rId2"/>
          <a:srcRect l="17235" t="0" r="18770" b="0"/>
          <a:stretch/>
        </p:blipFill>
        <p:spPr>
          <a:xfrm>
            <a:off x="5791320" y="3733920"/>
            <a:ext cx="1347840" cy="210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6"/>
          <p:cNvSpPr/>
          <p:nvPr/>
        </p:nvSpPr>
        <p:spPr>
          <a:xfrm>
            <a:off x="3505320" y="4495680"/>
            <a:ext cx="236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oncepts,dieting,diets,flatware,food,forks,measuring tapes,numbers,photographs,silverware,symbols,tape measures"/>
          <p:cNvPicPr/>
          <p:nvPr/>
        </p:nvPicPr>
        <p:blipFill>
          <a:blip r:embed="rId1"/>
          <a:srcRect l="16316" t="0" r="17235" b="0"/>
          <a:stretch/>
        </p:blipFill>
        <p:spPr>
          <a:xfrm>
            <a:off x="814320" y="2133720"/>
            <a:ext cx="246240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4" descr="Asian,exercises,females,fitness,jogs,people,photographs,ponytails,runs,sweatpants,women,workouts"/>
          <p:cNvPicPr/>
          <p:nvPr/>
        </p:nvPicPr>
        <p:blipFill>
          <a:blip r:embed="rId2"/>
          <a:srcRect l="17235" t="0" r="18770" b="0"/>
          <a:stretch/>
        </p:blipFill>
        <p:spPr>
          <a:xfrm>
            <a:off x="5715000" y="1981080"/>
            <a:ext cx="246852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TextBox 6"/>
          <p:cNvSpPr/>
          <p:nvPr/>
        </p:nvSpPr>
        <p:spPr>
          <a:xfrm>
            <a:off x="3505320" y="4495680"/>
            <a:ext cx="236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ight management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t control and exercise are equally important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3124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3% said it’s hard to burn cal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tle 3"/>
          <p:cNvSpPr/>
          <p:nvPr/>
        </p:nvSpPr>
        <p:spPr>
          <a:xfrm>
            <a:off x="0" y="-666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cc1da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Placeholder 4"/>
          <p:cNvSpPr/>
          <p:nvPr/>
        </p:nvSpPr>
        <p:spPr>
          <a:xfrm>
            <a:off x="2666880" y="533520"/>
            <a:ext cx="60962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64a2"/>
                </a:solidFill>
                <a:latin typeface="Calibri"/>
              </a:rPr>
              <a:t>“…</a:t>
            </a:r>
            <a:r>
              <a:rPr b="1" i="1" lang="en-US" sz="2800" spc="-1" strike="noStrike">
                <a:solidFill>
                  <a:srgbClr val="8064a2"/>
                </a:solidFill>
                <a:latin typeface="Calibri"/>
              </a:rPr>
              <a:t>It’s hard to burn calo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:\CLIENTS\Current - Healthcare\Coca-Cola\Front of Pack\Presentation slide\Pictures\IMG_033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2209680"/>
            <a:ext cx="2743200" cy="285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burn 140 kc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30492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lf of a pineapple b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411480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30 mL soft dr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:\CLIENTS\Current - Healthcare\Coca-Cola\Front of Pack\Presentation slide\Pictures\IMG_0337.JPG"/>
          <p:cNvPicPr/>
          <p:nvPr/>
        </p:nvPicPr>
        <p:blipFill>
          <a:blip r:embed="rId2"/>
          <a:stretch/>
        </p:blipFill>
        <p:spPr>
          <a:xfrm>
            <a:off x="1371600" y="2209680"/>
            <a:ext cx="1371600" cy="285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Picture 16" descr="H:\CLIENTS\Current - Healthcare\Coca-Cola\Front of Pack\Presentation slide\Pictures\DSC_0024.JPG"/>
          <p:cNvPicPr/>
          <p:nvPr/>
        </p:nvPicPr>
        <p:blipFill>
          <a:blip r:embed="rId3"/>
          <a:stretch/>
        </p:blipFill>
        <p:spPr>
          <a:xfrm>
            <a:off x="5751360" y="2241720"/>
            <a:ext cx="202104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3"/>
          <p:cNvSpPr/>
          <p:nvPr/>
        </p:nvSpPr>
        <p:spPr>
          <a:xfrm>
            <a:off x="1523880" y="13716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b3a2c7"/>
                </a:solidFill>
                <a:latin typeface="Bell MT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3"/>
          <p:cNvSpPr/>
          <p:nvPr/>
        </p:nvSpPr>
        <p:spPr>
          <a:xfrm>
            <a:off x="1752480" y="-9810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e6b9b8"/>
                </a:solidFill>
                <a:latin typeface="Arial"/>
                <a:ea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3"/>
          <p:cNvSpPr/>
          <p:nvPr/>
        </p:nvSpPr>
        <p:spPr>
          <a:xfrm>
            <a:off x="388620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ffff00"/>
                </a:solidFill>
                <a:latin typeface="Imprint MT Shadow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3"/>
          <p:cNvSpPr/>
          <p:nvPr/>
        </p:nvSpPr>
        <p:spPr>
          <a:xfrm>
            <a:off x="2057400" y="29052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c000"/>
                </a:solidFill>
                <a:latin typeface="Lucida Console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3"/>
          <p:cNvSpPr/>
          <p:nvPr/>
        </p:nvSpPr>
        <p:spPr>
          <a:xfrm>
            <a:off x="5486400" y="-11430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4bd97"/>
                </a:solidFill>
                <a:latin typeface="Rockwell Extra Bold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5419440" y="2141640"/>
            <a:ext cx="23007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0" spc="-1" strike="noStrike">
                <a:solidFill>
                  <a:srgbClr val="93cddd"/>
                </a:solidFill>
                <a:latin typeface="Showcard Gothic"/>
              </a:rPr>
              <a:t>?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533520" y="54500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lking upstai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 min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ctivities,bags,consumers,females,happiness,happy,packages,people,purchases,shoppers,shopping,signs,women"/>
          <p:cNvPicPr/>
          <p:nvPr/>
        </p:nvPicPr>
        <p:blipFill>
          <a:blip r:embed="rId1"/>
          <a:stretch/>
        </p:blipFill>
        <p:spPr>
          <a:xfrm>
            <a:off x="6458040" y="240192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6400800" y="545004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opp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our and 5 minute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sketball players,basketballs,competitions,games,leisure,males,men,people,persons,recreation,sports"/>
          <p:cNvPicPr/>
          <p:nvPr/>
        </p:nvPicPr>
        <p:blipFill>
          <a:blip r:embed="rId2"/>
          <a:stretch/>
        </p:blipFill>
        <p:spPr>
          <a:xfrm>
            <a:off x="3352680" y="2554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733920" y="54500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ketball game: 20 minute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rning calories is easier than you th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143000" y="16095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Examples of how to burn 140 k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3808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* WebMD Fitness and Exercise Calorie Calculator. Based on the body weight of 120 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business,businesswomen,females,goals,metaphors,people,people at work,persons,stairs,successes,uphill climbs,women"/>
          <p:cNvPicPr/>
          <p:nvPr/>
        </p:nvPicPr>
        <p:blipFill>
          <a:blip r:embed="rId3"/>
          <a:stretch/>
        </p:blipFill>
        <p:spPr>
          <a:xfrm>
            <a:off x="380880" y="2286000"/>
            <a:ext cx="2362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 for healthy adults under age 6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 moderately intense cardio exercise for 30 minutes a day, 5 days a week. E.g brisk wa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 vigorously intense cardio exercise for 20 minutes a day, 3 days a week, E.g. jog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 8 to 10 groups of strength-training exercise,8 to 12 repetitions of each exercise, twice a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457200" y="6019920"/>
            <a:ext cx="868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Moderate-intensity physical activity means working hard enough to raise  your heart rate and break a sweat, yet still being able to carry on a conver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57200" y="640080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1. American College of Sports Medicine. Available at: http://www.acsm.org/AM/Template.cfm?Section=Home_Page&amp;TEMPLATE=/CM/HTMLDisplay.cfm&amp;CONTENTID=77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22160" y="3376440"/>
            <a:ext cx="804096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90% of people in Hong Kong do not read the nutrition label on the back of pack of foods and bever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-5238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2dcdb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Placeholder 4"/>
          <p:cNvSpPr/>
          <p:nvPr/>
        </p:nvSpPr>
        <p:spPr>
          <a:xfrm>
            <a:off x="1219320" y="533520"/>
            <a:ext cx="754380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9694"/>
                </a:solidFill>
                <a:latin typeface="Calibri"/>
              </a:rPr>
              <a:t>“…</a:t>
            </a:r>
            <a:r>
              <a:rPr b="1" i="1" lang="en-US" sz="2800" spc="-1" strike="noStrike">
                <a:solidFill>
                  <a:srgbClr val="d99694"/>
                </a:solidFill>
                <a:latin typeface="Calibri"/>
              </a:rPr>
              <a:t>I don’t feel it’s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9694"/>
                </a:solidFill>
                <a:latin typeface="Calibri"/>
              </a:rPr>
              <a:t>to read the nutrition lab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eryone should read nutrition label before purcha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86169223, blue jean images /blue jean images"/>
          <p:cNvPicPr/>
          <p:nvPr/>
        </p:nvPicPr>
        <p:blipFill>
          <a:blip r:embed="rId1"/>
          <a:srcRect l="0" t="9001" r="0" b="0"/>
          <a:stretch/>
        </p:blipFill>
        <p:spPr>
          <a:xfrm>
            <a:off x="757080" y="1676520"/>
            <a:ext cx="3810240" cy="231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103789244, Lane Oatey /blue jean images"/>
          <p:cNvPicPr/>
          <p:nvPr/>
        </p:nvPicPr>
        <p:blipFill>
          <a:blip r:embed="rId2"/>
          <a:srcRect l="0" t="8440" r="0" b="0"/>
          <a:stretch/>
        </p:blipFill>
        <p:spPr>
          <a:xfrm>
            <a:off x="2743200" y="411480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102484942, Tom Grill /Photographer's Choice RF"/>
          <p:cNvPicPr/>
          <p:nvPr/>
        </p:nvPicPr>
        <p:blipFill>
          <a:blip r:embed="rId3"/>
          <a:srcRect l="0" t="9083" r="0" b="0"/>
          <a:stretch/>
        </p:blipFill>
        <p:spPr>
          <a:xfrm>
            <a:off x="4795920" y="1676520"/>
            <a:ext cx="1676160" cy="228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C:\Users\jane.hung\Desktop\98682969.jpg"/>
          <p:cNvPicPr/>
          <p:nvPr/>
        </p:nvPicPr>
        <p:blipFill>
          <a:blip r:embed="rId4"/>
          <a:srcRect l="0" t="8823" r="0" b="0"/>
          <a:stretch/>
        </p:blipFill>
        <p:spPr>
          <a:xfrm>
            <a:off x="487692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 ste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reading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 nutrition lab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note of the reference food amount in the nutrition l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ent content is expressed in several w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 100 g or m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 ser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 pack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 rot="21381600">
            <a:off x="6168960" y="4375080"/>
            <a:ext cx="2654280" cy="240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2743200" cy="2187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 rot="21438000">
            <a:off x="5715000" y="2133720"/>
            <a:ext cx="2616120" cy="2406600"/>
          </a:xfrm>
          <a:prstGeom prst="rect">
            <a:avLst/>
          </a:prstGeom>
          <a:ln w="0">
            <a:noFill/>
          </a:ln>
        </p:spPr>
      </p:pic>
      <p:sp>
        <p:nvSpPr>
          <p:cNvPr id="186" name="Oval 8"/>
          <p:cNvSpPr/>
          <p:nvPr/>
        </p:nvSpPr>
        <p:spPr>
          <a:xfrm>
            <a:off x="4114800" y="4724280"/>
            <a:ext cx="1600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Source: Centre for Food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d and compare by u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“per 100 g or ml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tretch/>
        </p:blipFill>
        <p:spPr>
          <a:xfrm>
            <a:off x="533520" y="1844640"/>
            <a:ext cx="8610480" cy="330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755640" y="4581360"/>
            <a:ext cx="352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scui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4932360" y="4581360"/>
            <a:ext cx="37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scu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Source: Centre for Food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3352680" cy="2703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se “per serving” to calculate the energy and nutrient intak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0" y="213372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rcRect l="0" t="0" r="0" b="-8208"/>
          <a:stretch/>
        </p:blipFill>
        <p:spPr>
          <a:xfrm>
            <a:off x="5943600" y="182880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Source: Centre for Food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字方塊 6"/>
          <p:cNvSpPr/>
          <p:nvPr/>
        </p:nvSpPr>
        <p:spPr>
          <a:xfrm>
            <a:off x="914400" y="1687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Milk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7"/>
          <p:cNvSpPr/>
          <p:nvPr/>
        </p:nvSpPr>
        <p:spPr>
          <a:xfrm>
            <a:off x="39625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S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字方塊 8"/>
          <p:cNvSpPr/>
          <p:nvPr/>
        </p:nvSpPr>
        <p:spPr>
          <a:xfrm>
            <a:off x="670572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Corn fla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comparison in reading the nutrition label: “3 Lo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523880"/>
          <a:ext cx="8458200" cy="48625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 sugar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g per 100g or 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ab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 f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g per 100g or 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ab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 sodiu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mg per 100g or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ab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 sugar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5g per 100g or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 fat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more than or equal to 3g per 100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more than or equal to 1.5g per 100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 sodiu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120 mg per 100 g or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sodiu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40mg per 100g or 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ugars free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0.5g per 100g or 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at free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0.5g per 100g or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dium fre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ore than or equal to  5mg per 100 g or 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-5238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22160" y="3376440"/>
            <a:ext cx="804096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7% of people do not know where to can find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qualified dietitia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one has the highest energy lev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per 100g or ml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:\CLIENTS\Current - Healthcare\Coca-Cola\Front of Pack\Presentation slide\Pictures\IMG_0328.JPG"/>
          <p:cNvPicPr/>
          <p:nvPr/>
        </p:nvPicPr>
        <p:blipFill>
          <a:blip r:embed="rId1"/>
          <a:stretch/>
        </p:blipFill>
        <p:spPr>
          <a:xfrm>
            <a:off x="685800" y="2438280"/>
            <a:ext cx="1809720" cy="14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5" descr="H:\CLIENTS\Current - Healthcare\Coca-Cola\Front of Pack\Presentation slide\Pictures\IMG_0333.JPG"/>
          <p:cNvPicPr/>
          <p:nvPr/>
        </p:nvPicPr>
        <p:blipFill>
          <a:blip r:embed="rId2"/>
          <a:stretch/>
        </p:blipFill>
        <p:spPr>
          <a:xfrm>
            <a:off x="6172200" y="2438280"/>
            <a:ext cx="190512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6" descr="H:\CLIENTS\Current - Healthcare\Coca-Cola\Front of Pack\Presentation slide\Pictures\IMG_0334.JPG"/>
          <p:cNvPicPr/>
          <p:nvPr/>
        </p:nvPicPr>
        <p:blipFill>
          <a:blip r:embed="rId3"/>
          <a:stretch/>
        </p:blipFill>
        <p:spPr>
          <a:xfrm>
            <a:off x="3657600" y="4876920"/>
            <a:ext cx="1752480" cy="118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18" descr="H:\CLIENTS\Current - Healthcare\Coca-Cola\Front of Pack\Presentation slide\Pictures\DSC_0032.JPG"/>
          <p:cNvPicPr/>
          <p:nvPr/>
        </p:nvPicPr>
        <p:blipFill>
          <a:blip r:embed="rId4"/>
          <a:stretch/>
        </p:blipFill>
        <p:spPr>
          <a:xfrm>
            <a:off x="3886200" y="2438280"/>
            <a:ext cx="990720" cy="151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H:\CLIENTS\Current - Healthcare\Coca-Cola\Front of Pack\Presentation slide\Pictures\DSC_0028.JPG"/>
          <p:cNvPicPr/>
          <p:nvPr/>
        </p:nvPicPr>
        <p:blipFill>
          <a:blip r:embed="rId5"/>
          <a:stretch/>
        </p:blipFill>
        <p:spPr>
          <a:xfrm>
            <a:off x="6629400" y="4648320"/>
            <a:ext cx="1069920" cy="155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:\CLIENTS\Current - Healthcare\Coca-Cola\Front of Pack\Presentation slide\Pictures\DSC_0024.JPG"/>
          <p:cNvPicPr/>
          <p:nvPr/>
        </p:nvPicPr>
        <p:blipFill>
          <a:blip r:embed="rId6"/>
          <a:stretch/>
        </p:blipFill>
        <p:spPr>
          <a:xfrm>
            <a:off x="1143000" y="4648320"/>
            <a:ext cx="106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rcRect l="0" t="0" r="0" b="6288"/>
          <a:stretch/>
        </p:blipFill>
        <p:spPr>
          <a:xfrm>
            <a:off x="0" y="1447920"/>
            <a:ext cx="9144000" cy="5356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d qualified dietitians at HKDA website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ww.hkda.com.hk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Home Messag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public education is needed to improve understanding of energy and nutrition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people to read nutrition label before purchas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and beverage companies should provide factual and easy to read nutrition label for consumers to make informed dietary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www.hkda.com.hk/skins/Classic/styleImages/backgrounds/hkda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76840" cy="101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you-are-what-you-eat-cartoon-262x300"/>
          <p:cNvPicPr/>
          <p:nvPr/>
        </p:nvPicPr>
        <p:blipFill>
          <a:blip r:embed="rId3"/>
          <a:stretch/>
        </p:blipFill>
        <p:spPr>
          <a:xfrm>
            <a:off x="4572000" y="1371600"/>
            <a:ext cx="425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levels rank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 from highest to lowe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:\CLIENTS\Current - Healthcare\Coca-Cola\Front of Pack\Presentation slide\Pictures\IMG_0328.JPG"/>
          <p:cNvPicPr/>
          <p:nvPr/>
        </p:nvPicPr>
        <p:blipFill>
          <a:blip r:embed="rId1"/>
          <a:stretch/>
        </p:blipFill>
        <p:spPr>
          <a:xfrm>
            <a:off x="5791320" y="1828800"/>
            <a:ext cx="1809720" cy="14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5" descr="H:\CLIENTS\Current - Healthcare\Coca-Cola\Front of Pack\Presentation slide\Pictures\IMG_0333.JPG"/>
          <p:cNvPicPr/>
          <p:nvPr/>
        </p:nvPicPr>
        <p:blipFill>
          <a:blip r:embed="rId2"/>
          <a:stretch/>
        </p:blipFill>
        <p:spPr>
          <a:xfrm>
            <a:off x="685800" y="1828800"/>
            <a:ext cx="19051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H:\CLIENTS\Current - Healthcare\Coca-Cola\Front of Pack\Presentation slide\Pictures\IMG_0334.JPG"/>
          <p:cNvPicPr/>
          <p:nvPr/>
        </p:nvPicPr>
        <p:blipFill>
          <a:blip r:embed="rId3"/>
          <a:stretch/>
        </p:blipFill>
        <p:spPr>
          <a:xfrm>
            <a:off x="3505320" y="1905120"/>
            <a:ext cx="1752480" cy="118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62" name="Group 22"/>
          <p:cNvGrpSpPr/>
          <p:nvPr/>
        </p:nvGrpSpPr>
        <p:grpSpPr>
          <a:xfrm>
            <a:off x="685800" y="1295280"/>
            <a:ext cx="2057400" cy="2730240"/>
            <a:chOff x="685800" y="1295280"/>
            <a:chExt cx="2057400" cy="2730240"/>
          </a:xfrm>
        </p:grpSpPr>
        <p:sp>
          <p:nvSpPr>
            <p:cNvPr id="63" name="TextBox 8"/>
            <p:cNvSpPr/>
            <p:nvPr/>
          </p:nvSpPr>
          <p:spPr>
            <a:xfrm>
              <a:off x="114300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0"/>
            <p:cNvSpPr/>
            <p:nvPr/>
          </p:nvSpPr>
          <p:spPr>
            <a:xfrm>
              <a:off x="685800" y="36572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350 kcal/100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3"/>
          <p:cNvGrpSpPr/>
          <p:nvPr/>
        </p:nvGrpSpPr>
        <p:grpSpPr>
          <a:xfrm>
            <a:off x="3352680" y="1219320"/>
            <a:ext cx="2057400" cy="2676240"/>
            <a:chOff x="3352680" y="1219320"/>
            <a:chExt cx="2057400" cy="2676240"/>
          </a:xfrm>
        </p:grpSpPr>
        <p:sp>
          <p:nvSpPr>
            <p:cNvPr id="66" name="TextBox 9"/>
            <p:cNvSpPr/>
            <p:nvPr/>
          </p:nvSpPr>
          <p:spPr>
            <a:xfrm>
              <a:off x="39625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1"/>
            <p:cNvSpPr/>
            <p:nvPr/>
          </p:nvSpPr>
          <p:spPr>
            <a:xfrm>
              <a:off x="3352680" y="35272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310 kcal/100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4"/>
          <p:cNvGrpSpPr/>
          <p:nvPr/>
        </p:nvGrpSpPr>
        <p:grpSpPr>
          <a:xfrm>
            <a:off x="5867280" y="1295280"/>
            <a:ext cx="2057400" cy="2676240"/>
            <a:chOff x="5867280" y="1295280"/>
            <a:chExt cx="2057400" cy="2676240"/>
          </a:xfrm>
        </p:grpSpPr>
        <p:sp>
          <p:nvSpPr>
            <p:cNvPr id="69" name="TextBox 10"/>
            <p:cNvSpPr/>
            <p:nvPr/>
          </p:nvSpPr>
          <p:spPr>
            <a:xfrm>
              <a:off x="6400440" y="1295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2"/>
            <p:cNvSpPr/>
            <p:nvPr/>
          </p:nvSpPr>
          <p:spPr>
            <a:xfrm>
              <a:off x="5867280" y="36032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130 kcal/100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609480" y="4038480"/>
            <a:ext cx="2057400" cy="2730600"/>
            <a:chOff x="609480" y="4038480"/>
            <a:chExt cx="2057400" cy="2730600"/>
          </a:xfrm>
        </p:grpSpPr>
        <p:sp>
          <p:nvSpPr>
            <p:cNvPr id="72" name="TextBox 12"/>
            <p:cNvSpPr/>
            <p:nvPr/>
          </p:nvSpPr>
          <p:spPr>
            <a:xfrm>
              <a:off x="114300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3"/>
            <p:cNvSpPr/>
            <p:nvPr/>
          </p:nvSpPr>
          <p:spPr>
            <a:xfrm>
              <a:off x="609480" y="64008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48 kcal/100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6"/>
          <p:cNvGrpSpPr/>
          <p:nvPr/>
        </p:nvGrpSpPr>
        <p:grpSpPr>
          <a:xfrm>
            <a:off x="3429000" y="3886200"/>
            <a:ext cx="2057400" cy="2730240"/>
            <a:chOff x="3429000" y="3886200"/>
            <a:chExt cx="2057400" cy="2730240"/>
          </a:xfrm>
        </p:grpSpPr>
        <p:sp>
          <p:nvSpPr>
            <p:cNvPr id="75" name="TextBox 13"/>
            <p:cNvSpPr/>
            <p:nvPr/>
          </p:nvSpPr>
          <p:spPr>
            <a:xfrm>
              <a:off x="4038480" y="38862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4"/>
            <p:cNvSpPr/>
            <p:nvPr/>
          </p:nvSpPr>
          <p:spPr>
            <a:xfrm>
              <a:off x="3429000" y="6248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44 kcal/100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7"/>
          <p:cNvGrpSpPr/>
          <p:nvPr/>
        </p:nvGrpSpPr>
        <p:grpSpPr>
          <a:xfrm>
            <a:off x="5943600" y="3962520"/>
            <a:ext cx="2057400" cy="2730240"/>
            <a:chOff x="5943600" y="3962520"/>
            <a:chExt cx="2057400" cy="2730240"/>
          </a:xfrm>
        </p:grpSpPr>
        <p:sp>
          <p:nvSpPr>
            <p:cNvPr id="78" name="TextBox 14"/>
            <p:cNvSpPr/>
            <p:nvPr/>
          </p:nvSpPr>
          <p:spPr>
            <a:xfrm>
              <a:off x="6477120" y="3962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25"/>
            <p:cNvSpPr/>
            <p:nvPr/>
          </p:nvSpPr>
          <p:spPr>
            <a:xfrm>
              <a:off x="5943600" y="63244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37 kcal/100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6" descr="H:\CLIENTS\Current - Healthcare\Coca-Cola\Front of Pack\Presentation slide\Pictures\DSC_0024.JPG"/>
          <p:cNvPicPr/>
          <p:nvPr/>
        </p:nvPicPr>
        <p:blipFill>
          <a:blip r:embed="rId4"/>
          <a:stretch/>
        </p:blipFill>
        <p:spPr>
          <a:xfrm>
            <a:off x="6324480" y="4648320"/>
            <a:ext cx="106704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H:\CLIENTS\Current - Healthcare\Coca-Cola\Front of Pack\Presentation slide\Pictures\DSC_0028.JPG"/>
          <p:cNvPicPr/>
          <p:nvPr/>
        </p:nvPicPr>
        <p:blipFill>
          <a:blip r:embed="rId5"/>
          <a:stretch/>
        </p:blipFill>
        <p:spPr>
          <a:xfrm>
            <a:off x="3886200" y="4495680"/>
            <a:ext cx="1069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H:\CLIENTS\Current - Healthcare\Coca-Cola\Front of Pack\Presentation slide\Pictures\DSC_0032.JPG"/>
          <p:cNvPicPr/>
          <p:nvPr/>
        </p:nvPicPr>
        <p:blipFill>
          <a:blip r:embed="rId6"/>
          <a:stretch/>
        </p:blipFill>
        <p:spPr>
          <a:xfrm>
            <a:off x="1143000" y="4572000"/>
            <a:ext cx="9907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1080" y="762120"/>
            <a:ext cx="7010640" cy="25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bb59"/>
                </a:solidFill>
                <a:latin typeface="Calibri"/>
              </a:rPr>
              <a:t>“…</a:t>
            </a:r>
            <a:r>
              <a:rPr b="1" i="1" lang="en-US" sz="2400" spc="-1" strike="noStrike">
                <a:solidFill>
                  <a:srgbClr val="9bbb59"/>
                </a:solidFill>
                <a:latin typeface="Calibri"/>
              </a:rPr>
              <a:t>100 mL soft drink has a higher energy level </a:t>
            </a:r>
            <a:br>
              <a:rPr sz="2400"/>
            </a:br>
            <a:r>
              <a:rPr b="1" i="1" lang="en-US" sz="2400" spc="-1" strike="noStrike">
                <a:solidFill>
                  <a:srgbClr val="9bbb59"/>
                </a:solidFill>
                <a:latin typeface="Calibri"/>
              </a:rPr>
              <a:t>than a 100 g pineapple bu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Placeholder 4"/>
          <p:cNvSpPr/>
          <p:nvPr/>
        </p:nvSpPr>
        <p:spPr>
          <a:xfrm>
            <a:off x="609480" y="3809880"/>
            <a:ext cx="777240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in Hong Kong could not correctly estimate the energy levels of common foods and be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4266720"/>
            <a:ext cx="84218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% of people in Hong Kong do not kn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energy nee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% do not consider their energy needs before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le 3"/>
          <p:cNvSpPr/>
          <p:nvPr/>
        </p:nvSpPr>
        <p:spPr>
          <a:xfrm>
            <a:off x="0" y="-6858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Placeholder 4"/>
          <p:cNvSpPr/>
          <p:nvPr/>
        </p:nvSpPr>
        <p:spPr>
          <a:xfrm>
            <a:off x="3124080" y="609480"/>
            <a:ext cx="563904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“…</a:t>
            </a: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I know how many calories I need - 1,000 kcal per 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upports and maintains the daily operation/metabolism of the human bod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requirements depend on age, gender, body weight and activity leve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of energy in food is depicted by  kilocalories (kcal or cal) and kilojoules (kJ or Jou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80880" y="650556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1. Centre for Food Safety (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vailable at: http://www.cfs.gov.hk/english/programme/programme_nifl/files/Energy_E.pdf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etitian’s advice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the energy and nutrient information of the foods and beverages you eat can help you make informed dietary choices and benefits weigh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bright ideas,bulbs,cropped images,cropped pictures,ideas,light bulbs,lights,PNG,smart,transparent background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recommendation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,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80880" y="63198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Nutrition Society (Chin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of Food Safety (Hong Ko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828800"/>
          <a:ext cx="7848720" cy="3505320"/>
        </p:xfrm>
        <a:graphic>
          <a:graphicData uri="http://schemas.openxmlformats.org/drawingml/2006/table">
            <a:tbl>
              <a:tblPr/>
              <a:tblGrid>
                <a:gridCol w="1586160"/>
                <a:gridCol w="3062160"/>
                <a:gridCol w="3200400"/>
              </a:tblGrid>
              <a:tr h="116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0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2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7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5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4" descr="avatar,clipped images,cropped images,cropped pictures,females,heads,icons,persons,PNG,transparent background,women"/>
          <p:cNvPicPr/>
          <p:nvPr/>
        </p:nvPicPr>
        <p:blipFill>
          <a:blip r:embed="rId1"/>
          <a:srcRect l="32004" t="27085" r="31085" b="26154"/>
          <a:stretch/>
        </p:blipFill>
        <p:spPr>
          <a:xfrm>
            <a:off x="6705720" y="190512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vatar,clipped images,cropped images,cropped pictures,heads,icons,males,men,persons,PNG,transparent background"/>
          <p:cNvPicPr/>
          <p:nvPr/>
        </p:nvPicPr>
        <p:blipFill>
          <a:blip r:embed="rId2"/>
          <a:srcRect l="29538" t="27085" r="28620" b="26154"/>
          <a:stretch/>
        </p:blipFill>
        <p:spPr>
          <a:xfrm>
            <a:off x="3505320" y="1989000"/>
            <a:ext cx="8380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00:01Z</dcterms:created>
  <dc:creator>winnie.hui</dc:creator>
  <dc:description/>
  <dc:language>en-US</dc:language>
  <cp:lastModifiedBy>winnie</cp:lastModifiedBy>
  <dcterms:modified xsi:type="dcterms:W3CDTF">2011-02-11T11:00:42Z</dcterms:modified>
  <cp:revision>103</cp:revision>
  <dc:subject/>
  <dc:title>Slide 1</dc:title>
</cp:coreProperties>
</file>