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DE0-E7C0-49CD-881B-F0A8B5BE546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39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EEB-D117-4424-AB64-44E0590EF06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66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E52-4EB2-42AC-B0FD-B8EB8E25842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69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B25B-0F2C-42B6-A684-9535E7AFB81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2E05-C5A3-42B4-B7EE-F6F60AAB061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75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9DF6-42C3-42DC-98E2-E63580E1EA1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78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B20-D60C-407B-8FE6-10397369231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1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258-4B2A-4DC1-80B2-DF76422FB96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4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979-E866-4DE7-A8BB-8EA137FFAD7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7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4E7-E0CB-43C3-8F43-50AA94F0823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90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E65F-BE02-4BC9-8486-BD6611510A1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93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45C-0A72-48B9-808D-CDEDD509C20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42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2EB1-C032-4BAF-8255-14797D2EB22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96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0F88-73C5-4699-8797-2D16C36A7CF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99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56F-0399-4355-9FC6-F7F3B075C81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02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2583-97CD-48EA-A32C-4A44677D237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2E3C-8C6F-46AC-AB9F-A2A61CF48C8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44BA-8035-4AB7-9E17-41C3EDEC814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8DB-3256-4A64-9C79-25559C372D5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4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D5BD-B07F-4A08-9C88-0B4572542B6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DED-2E8B-431E-B8E1-07E0CB54968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3CB7-34F0-4169-A206-F8E4E2D8D1D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55D-D370-40F0-A308-2C5E5910FF6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FC9B-0DC5-4E0F-8AD2-8627D080C6B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26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2C8-F3C1-4304-B15C-9E1E754C807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29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FA6-344E-47F1-9FBC-1FCABD16EF6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32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3D54-DB52-466C-8E5B-30FCBB44211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35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0F41-59B2-41EB-A4BE-28CA68254F9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38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103-1DF8-4EA5-8D07-AC09DAC8E7B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2650-F6F1-44CB-A65F-EDB4CFFCBBE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0BA-35E9-449F-92BA-3305E880120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54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B7B-1E0B-4A70-9ECB-9114092D692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57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25D7-41C7-4E4E-855E-E438697426D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60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948E-841B-4F83-A2A9-36911F30670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63" name="投影片編號版面配置區 3"/>
          <p:cNvSpPr/>
          <p:nvPr/>
        </p:nvSpPr>
        <p:spPr>
          <a:xfrm>
            <a:off x="388476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994D-5BE9-4D21-8375-83598BBD4B0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FCB-BCB0-40F6-8A23-19EDAFAD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ADA-2A93-4DC6-B524-E4EBBFA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E56-BCC7-426D-8C7B-A53F69B4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A16-91F4-4667-BC4E-4613F815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C22-BD47-4508-B3E5-D9A2488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810-3317-4DF0-9F5C-4CEE4E1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FE0-485B-4445-927C-051590C1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337-B231-49A4-9261-0F1A688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28D-457D-4FA2-9EEA-11BBD011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41C-7FB0-4265-BF2F-389F9F0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9CE-6FEB-412A-A7BE-527DEFE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56E-35E6-42EA-A666-DDE0953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72A-3B55-45C6-9840-37619AFF0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2708280"/>
            <a:ext cx="763272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urvey on Local NGOs’ IT Application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r Robert T. Y. 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Director of Public Opinion Programme, H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June 8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52"/>
          <p:cNvSpPr/>
          <p:nvPr/>
        </p:nvSpPr>
        <p:spPr>
          <a:xfrm>
            <a:off x="179280" y="1341360"/>
            <a:ext cx="331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2053"/>
          <p:cNvGraphicFramePr/>
          <p:nvPr/>
        </p:nvGraphicFramePr>
        <p:xfrm>
          <a:off x="1692360" y="390600"/>
          <a:ext cx="87768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90600"/>
                    <a:ext cx="87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3" descr="C:\Program Files\Microsoft Resource DVD Artwork\DVD_ART\BoxShots_Logos\MICROSOFT\Microsoft Logo Black.png"/>
          <p:cNvPicPr/>
          <p:nvPr/>
        </p:nvPicPr>
        <p:blipFill>
          <a:blip r:embed="rId4"/>
          <a:stretch/>
        </p:blipFill>
        <p:spPr>
          <a:xfrm>
            <a:off x="3795840" y="690480"/>
            <a:ext cx="2133360" cy="35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s:\users\kevinb\My Pictures\hkcss.png"/>
          <p:cNvPicPr/>
          <p:nvPr/>
        </p:nvPicPr>
        <p:blipFill>
          <a:blip r:embed="rId5"/>
          <a:stretch/>
        </p:blipFill>
        <p:spPr>
          <a:xfrm>
            <a:off x="6143760" y="333360"/>
            <a:ext cx="2357280" cy="809640"/>
          </a:xfrm>
          <a:prstGeom prst="rect">
            <a:avLst/>
          </a:prstGeom>
          <a:ln w="0">
            <a:noFill/>
          </a:ln>
        </p:spPr>
      </p:pic>
      <p:sp>
        <p:nvSpPr>
          <p:cNvPr id="55" name="文字方塊 8"/>
          <p:cNvSpPr/>
          <p:nvPr/>
        </p:nvSpPr>
        <p:spPr>
          <a:xfrm>
            <a:off x="3492360" y="1341360"/>
            <a:ext cx="30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Microsoft Hong Kong Limi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字方塊 9"/>
          <p:cNvSpPr/>
          <p:nvPr/>
        </p:nvSpPr>
        <p:spPr>
          <a:xfrm>
            <a:off x="6227640" y="1268280"/>
            <a:ext cx="2629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ng Kong Council of Social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lf of the organizations need to send staff work outside office with computers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70% equipped with the system/facilities requir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內容版面配置區 6" descr=""/>
          <p:cNvPicPr/>
          <p:nvPr/>
        </p:nvPicPr>
        <p:blipFill>
          <a:blip r:embed="rId2"/>
          <a:stretch/>
        </p:blipFill>
        <p:spPr>
          <a:xfrm>
            <a:off x="504720" y="1811160"/>
            <a:ext cx="3967200" cy="3192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674-4848-4E7F-AEBB-EE204B025D3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755640" y="4653000"/>
            <a:ext cx="36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 Do your staff need to use PC for work outside the offic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=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表 9" descr=""/>
          <p:cNvPicPr/>
          <p:nvPr/>
        </p:nvPicPr>
        <p:blipFill>
          <a:blip r:embed="rId3"/>
          <a:stretch/>
        </p:blipFill>
        <p:spPr>
          <a:xfrm>
            <a:off x="5445000" y="3076560"/>
            <a:ext cx="2503440" cy="1712880"/>
          </a:xfrm>
          <a:prstGeom prst="rect">
            <a:avLst/>
          </a:prstGeom>
          <a:ln w="0">
            <a:noFill/>
          </a:ln>
        </p:spPr>
      </p:pic>
      <p:sp>
        <p:nvSpPr>
          <p:cNvPr id="104" name="燕尾形向右箭號 10"/>
          <p:cNvSpPr/>
          <p:nvPr/>
        </p:nvSpPr>
        <p:spPr>
          <a:xfrm rot="817800">
            <a:off x="4346280" y="2882880"/>
            <a:ext cx="936720" cy="647640"/>
          </a:xfrm>
          <a:custGeom>
            <a:avLst/>
            <a:gdLst>
              <a:gd name="textAreaLeft" fmla="*/ 161640 w 936720"/>
              <a:gd name="textAreaRight" fmla="*/ 775080 w 93672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132" y="5400"/>
                </a:lnTo>
                <a:lnTo>
                  <a:pt x="14132" y="0"/>
                </a:lnTo>
                <a:lnTo>
                  <a:pt x="21600" y="10800"/>
                </a:lnTo>
                <a:lnTo>
                  <a:pt x="14132" y="21600"/>
                </a:lnTo>
                <a:lnTo>
                  <a:pt x="14132" y="16200"/>
                </a:lnTo>
                <a:lnTo>
                  <a:pt x="0" y="16200"/>
                </a:lnTo>
                <a:lnTo>
                  <a:pt x="37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5219640" y="5013360"/>
            <a:ext cx="324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5] [Only ask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ose who answered “Yes” in Q4] Can the current IT system/facilities support your staff working outside the office (e.g. to remote login the organization’s application system)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=3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8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re than half organizations do not fully utiliz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ny IT software applica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內容版面配置區 6" descr=""/>
          <p:cNvPicPr/>
          <p:nvPr/>
        </p:nvPicPr>
        <p:blipFill>
          <a:blip r:embed="rId2"/>
          <a:stretch/>
        </p:blipFill>
        <p:spPr>
          <a:xfrm>
            <a:off x="468360" y="1760400"/>
            <a:ext cx="8280360" cy="3956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14C-79E3-44B9-A3FB-5B978DD1078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324000" y="5732640"/>
            <a:ext cx="828036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6] What kind(s) of IT software application system does your organization use now?[Interviewer to read out items 1-7, order to be randomized, multiple respons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1] Option in 2009 survey read “Administrative / financial management”; [2] Option in  2009 survey read “Knowledge management” ; [3]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nd [4] are new options in 2011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* Different is statistically significant at p&lt;0.01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線接點 16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字方塊 8"/>
          <p:cNvSpPr/>
          <p:nvPr/>
        </p:nvSpPr>
        <p:spPr>
          <a:xfrm>
            <a:off x="2268360" y="2205000"/>
            <a:ext cx="43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字方塊 9"/>
          <p:cNvSpPr/>
          <p:nvPr/>
        </p:nvSpPr>
        <p:spPr>
          <a:xfrm>
            <a:off x="684360" y="3348000"/>
            <a:ext cx="43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字方塊 10"/>
          <p:cNvSpPr/>
          <p:nvPr/>
        </p:nvSpPr>
        <p:spPr>
          <a:xfrm>
            <a:off x="2556000" y="3789360"/>
            <a:ext cx="43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字方塊 11"/>
          <p:cNvSpPr/>
          <p:nvPr/>
        </p:nvSpPr>
        <p:spPr>
          <a:xfrm>
            <a:off x="2411280" y="4149720"/>
            <a:ext cx="43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4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橢圓 21"/>
          <p:cNvSpPr/>
          <p:nvPr/>
        </p:nvSpPr>
        <p:spPr>
          <a:xfrm>
            <a:off x="4572000" y="2924280"/>
            <a:ext cx="2808360" cy="165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字方塊 1"/>
          <p:cNvSpPr/>
          <p:nvPr/>
        </p:nvSpPr>
        <p:spPr>
          <a:xfrm>
            <a:off x="1332000" y="4869000"/>
            <a:ext cx="103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10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Nearly half organizations are considering to purchase / update Membership Management Sys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內容版面配置區 6" descr=""/>
          <p:cNvPicPr/>
          <p:nvPr/>
        </p:nvPicPr>
        <p:blipFill>
          <a:blip r:embed="rId2"/>
          <a:stretch/>
        </p:blipFill>
        <p:spPr>
          <a:xfrm>
            <a:off x="711360" y="1738440"/>
            <a:ext cx="7721280" cy="4244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3B0-32FE-42BC-BDA7-17A8E37CC9E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324000" y="616572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 Which IT software application system(s) you are considering to purchase / upgrade in your organization?[Multiple respons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字方塊 1"/>
          <p:cNvSpPr/>
          <p:nvPr/>
        </p:nvSpPr>
        <p:spPr>
          <a:xfrm>
            <a:off x="1042920" y="5516640"/>
            <a:ext cx="996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uite some organizations do not have other security measures except the basic anti-virus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內容版面配置區 6" descr=""/>
          <p:cNvPicPr/>
          <p:nvPr/>
        </p:nvPicPr>
        <p:blipFill>
          <a:blip r:embed="rId2"/>
          <a:stretch/>
        </p:blipFill>
        <p:spPr>
          <a:xfrm>
            <a:off x="907920" y="1636560"/>
            <a:ext cx="7615440" cy="4303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171-FD6E-49AF-92FE-B325EDCC6A3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324000" y="6218280"/>
            <a:ext cx="835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 What kind of measures does your organization have to protect the servers / application system? [Interviewer to read out items 1-6, order to be randomized by computer, multiple respons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1049400" y="5445000"/>
            <a:ext cx="90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標題 5"/>
          <p:cNvSpPr/>
          <p:nvPr/>
        </p:nvSpPr>
        <p:spPr>
          <a:xfrm>
            <a:off x="755640" y="25653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) IT Funding and Subsi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Upward trend observed for the no. of organizations which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s reserved budget for IT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內容版面配置區 6" descr=""/>
          <p:cNvPicPr/>
          <p:nvPr/>
        </p:nvPicPr>
        <p:blipFill>
          <a:blip r:embed="rId2"/>
          <a:stretch/>
        </p:blipFill>
        <p:spPr>
          <a:xfrm>
            <a:off x="620640" y="1760400"/>
            <a:ext cx="4395960" cy="2668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2FC0-E693-4B6F-B89C-97DDC6F23D1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684360" y="4592520"/>
            <a:ext cx="417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 the past year, has your organization set aside a specific amount of resources for improving IT facilities or increasing its applicabi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ject 3" descr=""/>
          <p:cNvPicPr/>
          <p:nvPr/>
        </p:nvPicPr>
        <p:blipFill>
          <a:blip r:embed="rId3"/>
          <a:stretch/>
        </p:blipFill>
        <p:spPr>
          <a:xfrm>
            <a:off x="4940280" y="3510000"/>
            <a:ext cx="3697200" cy="2300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4427640" y="609300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3] Will your organization set aside a specific amount of resources for IT development in the year of 2011/12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字方塊 7"/>
          <p:cNvSpPr/>
          <p:nvPr/>
        </p:nvSpPr>
        <p:spPr>
          <a:xfrm>
            <a:off x="7667640" y="587700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292720" y="1773360"/>
          <a:ext cx="3313080" cy="1655640"/>
        </p:xfrm>
        <a:graphic>
          <a:graphicData uri="http://schemas.openxmlformats.org/drawingml/2006/table">
            <a:tbl>
              <a:tblPr/>
              <a:tblGrid>
                <a:gridCol w="1104840"/>
                <a:gridCol w="1103400"/>
                <a:gridCol w="1104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mall siz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 siz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arge siz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ganizations’ recurrent expenditure and government grant / subsidy are major sources of IT fund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內容版面配置區 6" descr=""/>
          <p:cNvPicPr/>
          <p:nvPr/>
        </p:nvPicPr>
        <p:blipFill>
          <a:blip r:embed="rId2"/>
          <a:stretch/>
        </p:blipFill>
        <p:spPr>
          <a:xfrm>
            <a:off x="806400" y="1608120"/>
            <a:ext cx="7531200" cy="4146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B40A-DEE3-448F-9C59-FAE4BDA9E6F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324000" y="5877000"/>
            <a:ext cx="8064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][Only ask those answered “yes” in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] What is the major funding source(s) of this expenditure?[Interviewer to read out items 1-5, multiple responses allowed, ordered by importance level, 1 meaning the most importanc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1] Option in 2009 survey was “Lump sum grant from the Govern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線接點 5"/>
          <p:cNvSpPr/>
          <p:nvPr/>
        </p:nvSpPr>
        <p:spPr>
          <a:xfrm>
            <a:off x="971640" y="1413000"/>
            <a:ext cx="7129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字方塊 1"/>
          <p:cNvSpPr/>
          <p:nvPr/>
        </p:nvSpPr>
        <p:spPr>
          <a:xfrm>
            <a:off x="1476360" y="5157720"/>
            <a:ext cx="995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3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3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字方塊 10"/>
          <p:cNvSpPr/>
          <p:nvPr/>
        </p:nvSpPr>
        <p:spPr>
          <a:xfrm>
            <a:off x="1044720" y="2338560"/>
            <a:ext cx="43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Government grant / subsidy remains to be regarded as the most useful subsidizing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內容版面配置區 6" descr=""/>
          <p:cNvPicPr/>
          <p:nvPr/>
        </p:nvPicPr>
        <p:blipFill>
          <a:blip r:embed="rId2"/>
          <a:stretch/>
        </p:blipFill>
        <p:spPr>
          <a:xfrm>
            <a:off x="836640" y="1636560"/>
            <a:ext cx="7399440" cy="3945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3D51-79FF-437A-AAEB-B5FD8113DFF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250920" y="5950080"/>
            <a:ext cx="820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4] What mode(s) of subsidy would you consider to be most conducive for the IT development within the social welfare sector?[Interviewer to read out items 1-5, multiple responses allowed, ordered by conducive level, 1 meaning the most conduciv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1] Option in 2009 survey was “Lump sum grant from the Government”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2] New option in 2011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字方塊 1"/>
          <p:cNvSpPr/>
          <p:nvPr/>
        </p:nvSpPr>
        <p:spPr>
          <a:xfrm>
            <a:off x="1560600" y="5011560"/>
            <a:ext cx="995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字方塊 9"/>
          <p:cNvSpPr/>
          <p:nvPr/>
        </p:nvSpPr>
        <p:spPr>
          <a:xfrm>
            <a:off x="1619280" y="1835280"/>
            <a:ext cx="43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字方塊 9"/>
          <p:cNvSpPr/>
          <p:nvPr/>
        </p:nvSpPr>
        <p:spPr>
          <a:xfrm>
            <a:off x="1979640" y="2349360"/>
            <a:ext cx="43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字方塊 8"/>
          <p:cNvSpPr/>
          <p:nvPr/>
        </p:nvSpPr>
        <p:spPr>
          <a:xfrm>
            <a:off x="6588000" y="2997360"/>
            <a:ext cx="11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rcentage of the most conduc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inions are split if one has to choose betwee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“a lump sum” or “continuous” subsi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內容版面配置區 6" descr=""/>
          <p:cNvPicPr/>
          <p:nvPr/>
        </p:nvPicPr>
        <p:blipFill>
          <a:blip r:embed="rId2"/>
          <a:stretch/>
        </p:blipFill>
        <p:spPr>
          <a:xfrm>
            <a:off x="887400" y="1679400"/>
            <a:ext cx="7297920" cy="4075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58BE-CB27-4AA1-A2C2-EDCDF34E549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24000" y="6093000"/>
            <a:ext cx="80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5 Which of the following mode(s) of subsidy would you consider more suitable for the operation and development of the social welfare organizations? [Interviewer to read out items 1-2, order to be randomized by computer, single response onl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字方塊 1"/>
          <p:cNvSpPr/>
          <p:nvPr/>
        </p:nvSpPr>
        <p:spPr>
          <a:xfrm>
            <a:off x="6875640" y="5589720"/>
            <a:ext cx="996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ose opted for “a lump sum” mainly because “more choices” and “no need to purchase / upgrade system / facilities every yea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B25-6918-4BEE-85FC-73E34FC4F65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324000" y="623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6a] [Only ask those who answered “a lump sum” in Q15] Why do you think a lump sum of IT fund or subsidy with larger amount of money is more suitable? [Do not read out answers, multiple respons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線接點 4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圖表 6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5256360" cy="4392360"/>
          </a:xfrm>
          <a:prstGeom prst="rect">
            <a:avLst/>
          </a:prstGeom>
          <a:ln w="0">
            <a:noFill/>
          </a:ln>
        </p:spPr>
      </p:pic>
      <p:sp>
        <p:nvSpPr>
          <p:cNvPr id="167" name="矩形 7"/>
          <p:cNvSpPr/>
          <p:nvPr/>
        </p:nvSpPr>
        <p:spPr>
          <a:xfrm>
            <a:off x="1551600" y="57848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向右箭號 7"/>
          <p:cNvSpPr/>
          <p:nvPr/>
        </p:nvSpPr>
        <p:spPr>
          <a:xfrm rot="9336000">
            <a:off x="5319360" y="4068000"/>
            <a:ext cx="719280" cy="289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9999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011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search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042920" y="1773360"/>
            <a:ext cx="72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Objective: To understand the current applications of information technology (IT) in local NGOs, including infrastructure, practical application, mode of subsidies, information security and future development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P has consulted Microsoft and HKCSS in designing the questionnaire while POP enjoyed full autonomy in fieldwork operation, data collection and data analysis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POP takes full responsibility for all findings repor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research methodology and all survey findings will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open for public consum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接點 4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ose opted for “continuous” mainly because they wish to have continuous upgrade/development of IT infra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內容版面配置區 6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532944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61AE-8065-4837-8454-6DFB82B8FBE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324000" y="6237360"/>
            <a:ext cx="81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6b]  [Only ask those who answered “continuous” in Q15 Why do you think the continuous IT funds or subsidy with smaller amount of money is more suitable? [Do not read out answers, multiple respons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向右箭號 6"/>
          <p:cNvSpPr/>
          <p:nvPr/>
        </p:nvSpPr>
        <p:spPr>
          <a:xfrm rot="9336000">
            <a:off x="6035400" y="4019040"/>
            <a:ext cx="720720" cy="289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1696320" y="56610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3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標題 5"/>
          <p:cNvSpPr/>
          <p:nvPr/>
        </p:nvSpPr>
        <p:spPr>
          <a:xfrm>
            <a:off x="684360" y="25653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 Evaluation of Overall IT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 regard the IT duty “software and system development” as very important but lacking resources / time / ma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內容版面配置區 6" descr=""/>
          <p:cNvPicPr/>
          <p:nvPr/>
        </p:nvPicPr>
        <p:blipFill>
          <a:blip r:embed="rId2"/>
          <a:stretch/>
        </p:blipFill>
        <p:spPr>
          <a:xfrm>
            <a:off x="301680" y="1679400"/>
            <a:ext cx="8467560" cy="4192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CB5-CDB5-4640-A176-7920CE5B541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324000" y="6021360"/>
            <a:ext cx="80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7] What kinds of IT related duties do you think are the most important to your organization but does not have the resources / time / manpower to handle or execute? [Interviewer to read out items 1-6, multiple resourc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字方塊 7"/>
          <p:cNvSpPr/>
          <p:nvPr/>
        </p:nvSpPr>
        <p:spPr>
          <a:xfrm>
            <a:off x="118728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ganizations appear less satisfied with the IT infrastructure and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內容版面配置區 6" descr=""/>
          <p:cNvPicPr/>
          <p:nvPr/>
        </p:nvPicPr>
        <p:blipFill>
          <a:blip r:embed="rId2"/>
          <a:stretch/>
        </p:blipFill>
        <p:spPr>
          <a:xfrm>
            <a:off x="453960" y="1616040"/>
            <a:ext cx="6794640" cy="3554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EA9-B1F6-43E2-B92D-3EDBD5CD3E4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250920" y="5229360"/>
            <a:ext cx="806436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] Please rate your satisfaction level towards the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標楷體"/>
              </a:rPr>
              <a:t>basic IT infrastructure (e.g. software/ hardware)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 of your organization using 0 – 10 marks, in which 0 represents very dissatisfied, 5 represents half-half while 10 represents very satisfi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9 Please rate the satisfaction towards current status of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標楷體"/>
              </a:rPr>
              <a:t>IT application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 of your organization using 0 – 10 marks, in which 0 represents very dissatisfied, 5 represents half-half while 10 represents very satisfi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0] In general, please rate how much your organization is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標楷體"/>
              </a:rPr>
              <a:t>in need to improve the current IT faciliti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 using 0 – 10 marks, in which 0 represents no improvement is needed at all, 5 represents half-half, 10 represents improvement is urgently need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1] Please rate the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標楷體"/>
              </a:rPr>
              <a:t>sufficiency of resources used for improving IT faciliti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標楷體"/>
              </a:rPr>
              <a:t> allocated by your organization using 0 – 10 marks, in which 0 represents totally insufficient, 5 represents half-half, 10 represents very suffici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 Difference is statistically significant at p&lt;0.05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236000" y="1628640"/>
          <a:ext cx="1728720" cy="303228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63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1*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6*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1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1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1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Lack of IT specialists / knowledge / funding is the biggest IT related challenge to the local NG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內容版面配置區 6" descr=""/>
          <p:cNvPicPr/>
          <p:nvPr/>
        </p:nvPicPr>
        <p:blipFill>
          <a:blip r:embed="rId2"/>
          <a:stretch/>
        </p:blipFill>
        <p:spPr>
          <a:xfrm>
            <a:off x="519120" y="1535040"/>
            <a:ext cx="8120160" cy="4579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A41F-C1EE-4FC6-A7A0-62799121FB9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324000" y="623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2] What do you think is/ are the biggest challenge(s) related to IT development in your organization?[Do not read out answers, multiple responses allow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字方塊 7"/>
          <p:cNvSpPr/>
          <p:nvPr/>
        </p:nvSpPr>
        <p:spPr>
          <a:xfrm>
            <a:off x="900000" y="5661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標題 5"/>
          <p:cNvSpPr/>
          <p:nvPr/>
        </p:nvSpPr>
        <p:spPr>
          <a:xfrm>
            <a:off x="755640" y="2828880"/>
            <a:ext cx="793116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 “Cloud Computing”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0% have heard of “Cloud Comput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內容版面配置區 4" descr=""/>
          <p:cNvPicPr/>
          <p:nvPr/>
        </p:nvPicPr>
        <p:blipFill>
          <a:blip r:embed="rId2"/>
          <a:stretch/>
        </p:blipFill>
        <p:spPr>
          <a:xfrm>
            <a:off x="711360" y="1854360"/>
            <a:ext cx="7721280" cy="4017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472-1B71-41E7-9635-A1AEB1A9F85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324000" y="630864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3] Lastly, have you ever heard of the term “Cloud Computing” before this interview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字方塊 7"/>
          <p:cNvSpPr/>
          <p:nvPr/>
        </p:nvSpPr>
        <p:spPr>
          <a:xfrm>
            <a:off x="1187280" y="537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% organizations believe “Cloud Computing” can effectively solve their problems of IT develop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內容版面配置區 4" descr=""/>
          <p:cNvPicPr/>
          <p:nvPr/>
        </p:nvPicPr>
        <p:blipFill>
          <a:blip r:embed="rId2"/>
          <a:stretch/>
        </p:blipFill>
        <p:spPr>
          <a:xfrm>
            <a:off x="711360" y="1854360"/>
            <a:ext cx="7721280" cy="3192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9D7-7A07-499C-9ECC-4CA4BCC7D79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395280" y="5570640"/>
            <a:ext cx="792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Interviewer to read out: “Cloud Computing” basically refers to different users/organizations sharing resources and information through the internet, replacing the use of hardware to store files and information. As a result, one can reduce the workload of IT management, cut budget and increase efficiency.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4] Do you think that “Cloud Computing” can effectively solve the problems of IT development that your organization is currently fac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字方塊 7"/>
          <p:cNvSpPr/>
          <p:nvPr/>
        </p:nvSpPr>
        <p:spPr>
          <a:xfrm>
            <a:off x="118728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-depth analysis of the opinion on “Cloud Computing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200-0582-49B8-8B2E-901C66E8B65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接點 12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00000" y="1700280"/>
          <a:ext cx="7488360" cy="1368360"/>
        </p:xfrm>
        <a:graphic>
          <a:graphicData uri="http://schemas.openxmlformats.org/drawingml/2006/table">
            <a:tbl>
              <a:tblPr/>
              <a:tblGrid>
                <a:gridCol w="2664000"/>
                <a:gridCol w="1657440"/>
                <a:gridCol w="1557360"/>
                <a:gridCol w="1609560"/>
              </a:tblGrid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ca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Representatives of small size organiz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ca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Representatives of medium size organiz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ca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Representatives of large size organiz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cae3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ware of “Cloud Computin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00000" y="3357720"/>
          <a:ext cx="7488360" cy="2882880"/>
        </p:xfrm>
        <a:graphic>
          <a:graphicData uri="http://schemas.openxmlformats.org/drawingml/2006/table">
            <a:tbl>
              <a:tblPr/>
              <a:tblGrid>
                <a:gridCol w="3456000"/>
                <a:gridCol w="403236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ca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elieve “Cloud Computing” can solve the challenge of IT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ca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ever heard of “Cloud Computin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Heard of “Cloud Computin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on-IT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T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Nearly 2/3 of respondents are willing to participate i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 a territory-wide donor and volunteer management sys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內容版面配置區 6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619760" cy="3524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727D-CD57-460F-BCB4-9FBA2C66CB9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179280" y="6002280"/>
            <a:ext cx="82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5] If there is a territory-wide centralized management system for donors and volunteers, that is, the social welfare organizations involved in the system can share/obtain data and information on an internet platform, will your organization be willing to particip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字方塊 7"/>
          <p:cNvSpPr/>
          <p:nvPr/>
        </p:nvSpPr>
        <p:spPr>
          <a:xfrm>
            <a:off x="1187280" y="522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 =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9B8C-7DE8-418F-9639-EEE12832C79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858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1628640"/>
            <a:ext cx="7993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7480" indent="-1887480" algn="just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e of survey: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pril 14 to May 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just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arget population: Representatives of local NGOs who are involved in decision making of IT policies, contact list was provided by HK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just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urvey method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KCSS invited 385 agency members to participate in this survey via email, then the contact list of 88 interested organizations was given to HKUPOP to conduct telephone 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just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ample size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presentatives of 74 out of the 88 organizations completed the telephone interviews, the cooperation rate is 84.1%, accounting to 19.2% of the total agency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just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andard error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ssuming no response bias, at 95% confidence level, the sampling error of all percentages should be no more than +/-10.4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F1C9-E4C9-4A6D-A361-860CF778201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接點 12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6920" y="1412640"/>
            <a:ext cx="763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re is a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Times New Roman"/>
                <a:ea typeface="標楷體"/>
              </a:rPr>
              <a:t>steady develop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 IT infrastructure of the NGOs interviewed, but satisfactory level towards various IT related aspects has slightly dropped as compared to the 2009 survey. Their biggest challenge identified is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Times New Roman"/>
                <a:ea typeface="標楷體"/>
              </a:rPr>
              <a:t>the lack of IT specialists, knowledge and fu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re than half organizations have not fully utilized IT to help manage their operations. Many organizations apply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Times New Roman"/>
                <a:ea typeface="標楷體"/>
              </a:rPr>
              <a:t>no any other security measures except basic anti-virus softw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oth “Lump sum” or “Continuous” funding modes got supporters, depending on the types and scales of organizations.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Times New Roman"/>
                <a:ea typeface="標楷體"/>
              </a:rPr>
              <a:t>The Government should build in more flexibil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presentatives without IT background generally have no idea how “Cloud Computing” can tie in with their organization’s future development, the big discrepancy with that of IT specialists reconfirms 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Times New Roman"/>
                <a:ea typeface="標楷體"/>
              </a:rPr>
              <a:t>the importance of hiring IT specialists to handle 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 representatives welcome the setting up of a territory-wide </a:t>
            </a:r>
            <a:r>
              <a:rPr b="1" lang="en-US" sz="1800" spc="-1" strike="noStrike" u="sng">
                <a:solidFill>
                  <a:srgbClr val="800080"/>
                </a:solidFill>
                <a:uFillTx/>
                <a:latin typeface="Times New Roman"/>
                <a:ea typeface="標楷體"/>
              </a:rPr>
              <a:t>centralized donor and volunteer management system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nd they are willing to participate in this 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880920" y="1928880"/>
            <a:ext cx="736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file Information of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erviewed Organiz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aff responsible for IT affai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內容版面配置區 4" descr=""/>
          <p:cNvPicPr/>
          <p:nvPr/>
        </p:nvPicPr>
        <p:blipFill>
          <a:blip r:embed="rId2"/>
          <a:stretch/>
        </p:blipFill>
        <p:spPr>
          <a:xfrm>
            <a:off x="598320" y="1903320"/>
            <a:ext cx="7823520" cy="372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D549-229E-4E5C-943C-8E9EB562E6A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1476360" y="5516640"/>
            <a:ext cx="619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DM1] People who are responsible for IT affairs in your organization are mainly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IT specialist indicates people who are mainly responsible for IT services and resolve the needs of internal IT servic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Number of IT speciali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內容版面配置區 4" descr=""/>
          <p:cNvPicPr/>
          <p:nvPr/>
        </p:nvPicPr>
        <p:blipFill>
          <a:blip r:embed="rId2"/>
          <a:stretch/>
        </p:blipFill>
        <p:spPr>
          <a:xfrm>
            <a:off x="476280" y="1925640"/>
            <a:ext cx="7924680" cy="3827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0D38-60DA-4893-B1C9-A6E6C70215A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1476360" y="5516640"/>
            <a:ext cx="62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DM2] How many IT specialists in your organization in tota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IT specialist indicates people who are mainly responsible for IT services and resolve the needs of internal IT servic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2421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For detailed report, please 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A623-5575-4D56-ABE2-CC2C9CE2202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tegorization of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71640" y="1484280"/>
            <a:ext cx="7488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7120" indent="-1797120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71640" y="1628640"/>
          <a:ext cx="7345440" cy="3738600"/>
        </p:xfrm>
        <a:graphic>
          <a:graphicData uri="http://schemas.openxmlformats.org/drawingml/2006/table">
            <a:tbl>
              <a:tblPr/>
              <a:tblGrid>
                <a:gridCol w="1836720"/>
                <a:gridCol w="2227320"/>
                <a:gridCol w="1641240"/>
                <a:gridCol w="16401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nnual Expenditure*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HK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9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mall size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elow 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5%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9% (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 size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etween 1 million and 1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4% (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4% (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arge size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ore than 1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1% (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8% (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</a:tr>
              <a:tr h="455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o information on categor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3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" name="矩形 4"/>
          <p:cNvSpPr/>
          <p:nvPr/>
        </p:nvSpPr>
        <p:spPr>
          <a:xfrm>
            <a:off x="1042920" y="558972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The 2009 categorization was based on the information of Year 2008-09, and that of 2011 was based on the information of Year 2009-10. Survey of 2009 was conducted by HKC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sition of Respon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內容版面配置區 4" descr=""/>
          <p:cNvPicPr/>
          <p:nvPr/>
        </p:nvPicPr>
        <p:blipFill>
          <a:blip r:embed="rId2"/>
          <a:stretch/>
        </p:blipFill>
        <p:spPr>
          <a:xfrm>
            <a:off x="1144440" y="1658880"/>
            <a:ext cx="7099560" cy="4291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61E-C3E6-4CA5-A58F-ED2F9A7D118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6838920" y="580536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線接點 11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 Basic IT Infrastructure and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eady development of IT infrastructur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within the organizations inter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內容版面配置區 6" descr=""/>
          <p:cNvPicPr/>
          <p:nvPr/>
        </p:nvPicPr>
        <p:blipFill>
          <a:blip r:embed="rId2"/>
          <a:stretch/>
        </p:blipFill>
        <p:spPr>
          <a:xfrm>
            <a:off x="958680" y="2192400"/>
            <a:ext cx="7564680" cy="3963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6014-4569-472C-A28D-061B54BD0CF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32400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 In the past year, how many PCs and laptops in total were in use in your organiz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字方塊 7"/>
          <p:cNvSpPr/>
          <p:nvPr/>
        </p:nvSpPr>
        <p:spPr>
          <a:xfrm>
            <a:off x="5219640" y="1484280"/>
            <a:ext cx="2017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an: 1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rror: +/-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dian: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: 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字方塊 8"/>
          <p:cNvSpPr/>
          <p:nvPr/>
        </p:nvSpPr>
        <p:spPr>
          <a:xfrm>
            <a:off x="2556000" y="1484280"/>
            <a:ext cx="216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an: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rror: +/-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dian: 3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: 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356000" y="2708280"/>
          <a:ext cx="4248360" cy="1554120"/>
        </p:xfrm>
        <a:graphic>
          <a:graphicData uri="http://schemas.openxmlformats.org/drawingml/2006/table">
            <a:tbl>
              <a:tblPr/>
              <a:tblGrid>
                <a:gridCol w="1062000"/>
                <a:gridCol w="1062000"/>
                <a:gridCol w="1062360"/>
                <a:gridCol w="1062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mall siz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 siz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arge size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actically all computers have internet acces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內容版面配置區 6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405320" cy="303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9C9-7588-4431-8AEA-52766A2E3B8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50920" y="5931000"/>
            <a:ext cx="82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] Also in the past year, did all the computers/ IT facilities in your organization have access to the interne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# Results of 2009 survey revealed that, computers of 100% interviewed organizations have access to the internet, but did not state the percentage of computers that with internet access. [Base = 1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接點 5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圖表 7" descr=""/>
          <p:cNvPicPr/>
          <p:nvPr/>
        </p:nvPicPr>
        <p:blipFill>
          <a:blip r:embed="rId3"/>
          <a:stretch/>
        </p:blipFill>
        <p:spPr>
          <a:xfrm>
            <a:off x="4745160" y="3386160"/>
            <a:ext cx="3254400" cy="2330280"/>
          </a:xfrm>
          <a:prstGeom prst="rect">
            <a:avLst/>
          </a:prstGeom>
          <a:ln w="0">
            <a:noFill/>
          </a:ln>
        </p:spPr>
      </p:pic>
      <p:sp>
        <p:nvSpPr>
          <p:cNvPr id="90" name="燕尾形向右箭號 7"/>
          <p:cNvSpPr/>
          <p:nvPr/>
        </p:nvSpPr>
        <p:spPr>
          <a:xfrm rot="1971600">
            <a:off x="3765600" y="4568760"/>
            <a:ext cx="873000" cy="547920"/>
          </a:xfrm>
          <a:custGeom>
            <a:avLst/>
            <a:gdLst>
              <a:gd name="textAreaLeft" fmla="*/ 136800 w 873000"/>
              <a:gd name="textAreaRight" fmla="*/ 736200 w 873000"/>
              <a:gd name="textAreaTop" fmla="*/ 136800 h 547920"/>
              <a:gd name="textAreaBottom" fmla="*/ 411120 h 547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25" y="5400"/>
                </a:lnTo>
                <a:lnTo>
                  <a:pt x="14825" y="0"/>
                </a:lnTo>
                <a:lnTo>
                  <a:pt x="21600" y="10800"/>
                </a:lnTo>
                <a:lnTo>
                  <a:pt x="14825" y="21600"/>
                </a:lnTo>
                <a:lnTo>
                  <a:pt x="14825" y="16200"/>
                </a:lnTo>
                <a:lnTo>
                  <a:pt x="0" y="16200"/>
                </a:lnTo>
                <a:lnTo>
                  <a:pt x="338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字方塊 9"/>
          <p:cNvSpPr/>
          <p:nvPr/>
        </p:nvSpPr>
        <p:spPr>
          <a:xfrm>
            <a:off x="7812000" y="4724280"/>
            <a:ext cx="11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rcentage of PCs that have internet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ase=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字方塊 10"/>
          <p:cNvSpPr/>
          <p:nvPr/>
        </p:nvSpPr>
        <p:spPr>
          <a:xfrm>
            <a:off x="826920" y="45813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 =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字方塊 7"/>
          <p:cNvSpPr/>
          <p:nvPr/>
        </p:nvSpPr>
        <p:spPr>
          <a:xfrm>
            <a:off x="5867280" y="1773360"/>
            <a:ext cx="2449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Statistics for  organizations with </a:t>
            </a:r>
            <a:r>
              <a:rPr b="0" lang="zh-TW" sz="1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part of PCs have internet access</a:t>
            </a:r>
            <a:r>
              <a:rPr b="0" lang="zh-TW" sz="1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an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rror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25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edian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se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lf of the computer facilities wer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rchased / donated within the past 3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E8A7-5CCA-4D18-8D95-A984EC4263E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324000" y="5950080"/>
            <a:ext cx="78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] What is the proportion of personal computers and laptops of your organization which were purchased/donated by others within 3 years, and, purchased/donated by others 3 years before, but have been upgraded within the past 3 year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接點 4"/>
          <p:cNvSpPr/>
          <p:nvPr/>
        </p:nvSpPr>
        <p:spPr>
          <a:xfrm>
            <a:off x="971640" y="1413000"/>
            <a:ext cx="734544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6000" y="1700280"/>
          <a:ext cx="7056360" cy="381636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>
                        <a:alpha val="40000"/>
                      </a:srgbClr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d/donated by others within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an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rror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ase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40000"/>
                      </a:srgbClr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d/donated by others 3 years before, but have been upgraded within the past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an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rror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ase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>
                        <a:alpha val="40000"/>
                      </a:srgbClr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d/donated by others 3 years before, have not been upgraded within the past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an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rror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ase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59:32Z</dcterms:created>
  <dc:creator>winnie</dc:creator>
  <dc:description/>
  <dc:language>en-US</dc:language>
  <cp:lastModifiedBy>winnie</cp:lastModifiedBy>
  <dcterms:modified xsi:type="dcterms:W3CDTF">2011-06-07T10:20:07Z</dcterms:modified>
  <cp:revision>308</cp:revision>
  <dc:subject/>
  <dc:title>投影片 1</dc:title>
</cp:coreProperties>
</file>