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media/image9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4D3DF-995B-4F41-A40E-62A253B86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955D6-DF3D-4095-B872-FE96CEEC9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999D9-CE13-4710-BF2F-A95D5B3DF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BCE86-6783-4D0F-807A-B1A033909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A1279-4218-4B4C-949E-41C818F9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A25AD-AF04-4EEE-99E6-ECFDD28E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FC405-63DE-4FBB-9C75-6B0D368E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E0662-DF16-434A-9310-FBCBC1FE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331C5-4541-4254-A92B-43A11DD9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324C3-B513-4E15-A691-96ABDCE4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521B7-A215-47C1-9D32-A9E61C7E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60C28-F4B9-412C-B327-AB398C813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5ABAD-BB98-4867-B52D-5713C437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F155F-59FF-4981-95C6-CF007473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7858E-C09E-481F-B684-15B87130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C5010-84B5-457A-A909-D0592E4E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A172B-FBDE-4171-8248-579613C0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D5936-7AC2-44D8-AD85-251CBBD26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5193F-1744-49B2-BE98-49AABA70E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87AF6-CF51-4431-8F57-AC91FB46F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F6121-79A8-4249-B37F-532D56BB6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1EE1E-D494-4204-ABBD-5D870718E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E0164-E4C3-47BC-87A0-E00581846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ABA76-9F9A-420C-96DC-B718586B0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D9F7-2A6C-43BB-9579-A4C78E3E8AC6}" type="slidenum">
              <a: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4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4791-D069-4257-9718-5D62E8CC313B}" type="datetime">
              <a: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15/0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7776-72E9-4099-8DAB-C1B989EC0053}" type="slidenum">
              <a: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worldallergy.org/prefessional/allergic_disease_center/foodallergy" TargetMode="External"/><Relationship Id="rId4" Type="http://schemas.openxmlformats.org/officeDocument/2006/relationships/hyperlink" Target="http://www.worldallergy.org/prefessional/allergic_disease_center/foodallergy" TargetMode="External"/><Relationship Id="rId5" Type="http://schemas.openxmlformats.org/officeDocument/2006/relationships/hyperlink" Target="http://www.worldallergy.org/prefessional/allergic_disease_center/foodallergy" TargetMode="External"/><Relationship Id="rId6" Type="http://schemas.openxmlformats.org/officeDocument/2006/relationships/hyperlink" Target="http://www.worldallergy.org/prefessional/allergic_disease_center/foodallergy" TargetMode="External"/><Relationship Id="rId7" Type="http://schemas.openxmlformats.org/officeDocument/2006/relationships/hyperlink" Target="http://www.worldallergy.org/prefessional/allergic_disease_center/foodallergy" TargetMode="External"/><Relationship Id="rId8" Type="http://schemas.openxmlformats.org/officeDocument/2006/relationships/hyperlink" Target="http://www.worldallergy.org/prefessional/allergic_disease_center/foodallergy" TargetMode="External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61960" y="23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Survey on </a:t>
            </a:r>
            <a:br>
              <a:rPr sz="6000"/>
            </a:b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parents’ awareness on allergy in infants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4784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. Alfred T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pecialist in Paediatr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BBS( HK), FRCP (Edin.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CP (Lond.), FRCP (Glasg.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HKCPaed, FHKAM (Paediatric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ovember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4240" y="5076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reastfeeding: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est  choice for infa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1" name="stillen1" descr=""/>
          <p:cNvPicPr/>
          <p:nvPr/>
        </p:nvPicPr>
        <p:blipFill>
          <a:blip r:embed="rId1"/>
          <a:srcRect l="0" t="863" r="1289" b="575"/>
          <a:stretch/>
        </p:blipFill>
        <p:spPr>
          <a:xfrm>
            <a:off x="5619600" y="1720800"/>
            <a:ext cx="3257640" cy="497520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7819" dir="2700000" blurRad="0" rotWithShape="0">
              <a:srgbClr val="cc3300"/>
            </a:outerShdw>
          </a:effectLst>
        </p:spPr>
      </p:pic>
      <p:sp>
        <p:nvSpPr>
          <p:cNvPr id="132" name=""/>
          <p:cNvSpPr/>
          <p:nvPr/>
        </p:nvSpPr>
        <p:spPr>
          <a:xfrm>
            <a:off x="449280" y="1908000"/>
            <a:ext cx="48560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afd00"/>
              </a:buClr>
              <a:buFont typeface="Arial"/>
              <a:buChar char="•"/>
              <a:tabLst>
                <a:tab algn="l" pos="1998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新細明體"/>
              </a:rPr>
              <a:t>Avoid over sensitization to immature immune system in inf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afd00"/>
              </a:buClr>
              <a:buFont typeface="Arial"/>
              <a:buChar char="•"/>
              <a:tabLst>
                <a:tab algn="l" pos="1998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afd00"/>
                </a:solidFill>
                <a:latin typeface="Arial"/>
                <a:ea typeface="新細明體"/>
              </a:rPr>
              <a:t> </a:t>
            </a:r>
            <a:r>
              <a:rPr b="1" lang="de-DE" sz="2800" spc="-1" strike="noStrike">
                <a:solidFill>
                  <a:srgbClr val="fafd00"/>
                </a:solidFill>
                <a:latin typeface="Arial"/>
                <a:ea typeface="新細明體"/>
              </a:rPr>
              <a:t>Provide optimal nutrition to suit your baby‘s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tabLst>
                <a:tab algn="l" pos="0"/>
                <a:tab algn="l" pos="1998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998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998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998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9240" y="388440"/>
            <a:ext cx="8250120" cy="9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The gut immune system is not yet mature in newborn and they are prone to over react with foreign intact protein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index-B5" descr=""/>
          <p:cNvPicPr/>
          <p:nvPr/>
        </p:nvPicPr>
        <p:blipFill>
          <a:blip r:embed="rId1"/>
          <a:srcRect l="9299" t="18499" r="50412" b="10074"/>
          <a:stretch/>
        </p:blipFill>
        <p:spPr>
          <a:xfrm>
            <a:off x="2565360" y="1631880"/>
            <a:ext cx="3635280" cy="4954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28640" y="6553080"/>
            <a:ext cx="58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Arial"/>
                <a:ea typeface="新細明體"/>
              </a:rPr>
              <a:t>Sampson H.A.</a:t>
            </a:r>
            <a:r>
              <a:rPr b="0" i="1" lang="en-US" sz="1400" spc="-1" strike="noStrike">
                <a:solidFill>
                  <a:srgbClr val="ffcc66"/>
                </a:solidFill>
                <a:latin typeface="Arial"/>
                <a:ea typeface="新細明體"/>
              </a:rPr>
              <a:t> J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  <a:ea typeface="新細明體"/>
              </a:rPr>
              <a:t> </a:t>
            </a:r>
            <a:r>
              <a:rPr b="0" i="1" lang="en-US" sz="1400" spc="-1" strike="noStrike">
                <a:solidFill>
                  <a:srgbClr val="ffcc66"/>
                </a:solidFill>
                <a:latin typeface="Arial"/>
                <a:ea typeface="新細明體"/>
              </a:rPr>
              <a:t>Allergy Clin Immunol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  <a:ea typeface="新細明體"/>
              </a:rPr>
              <a:t> 2003; 111:S540-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7280" y="288288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Mou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19480" y="37958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Li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89680" y="3387600"/>
            <a:ext cx="11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toma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54360" y="4513320"/>
            <a:ext cx="16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Large Intes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08440" y="4540320"/>
            <a:ext cx="15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mall intes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89120" y="1730520"/>
            <a:ext cx="257328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Gut immune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920" y="679320"/>
            <a:ext cx="8961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新細明體"/>
              </a:rPr>
              <a:t>Proteins in HA formula are refined to smaller particles to prevent overreaction of the immature infant immune system and reduce the allergy risk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19120" y="6176880"/>
            <a:ext cx="6691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Arial"/>
                <a:ea typeface="新細明體"/>
              </a:rPr>
              <a:t>Reference: Hays T &amp; Wood R.A. </a:t>
            </a:r>
            <a:r>
              <a:rPr b="0" i="1" lang="en-US" sz="1200" spc="-1" strike="noStrike">
                <a:solidFill>
                  <a:srgbClr val="ffcc66"/>
                </a:solidFill>
                <a:latin typeface="Arial"/>
                <a:ea typeface="新細明體"/>
              </a:rPr>
              <a:t>Arch Ped adolesc med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  <a:ea typeface="新細明體"/>
              </a:rPr>
              <a:t> 2005:159:810-816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Arial"/>
                <a:ea typeface="新細明體"/>
              </a:rPr>
              <a:t>Exl BM et al. </a:t>
            </a:r>
            <a:r>
              <a:rPr b="0" i="1" lang="en-US" sz="1200" spc="-1" strike="noStrike">
                <a:solidFill>
                  <a:srgbClr val="ffcc66"/>
                </a:solidFill>
                <a:latin typeface="Arial"/>
                <a:ea typeface="新細明體"/>
              </a:rPr>
              <a:t>Eur J Nutr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  <a:ea typeface="新細明體"/>
              </a:rPr>
              <a:t> 2000; 39:145-14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11120" y="2022480"/>
            <a:ext cx="8359920" cy="3905280"/>
            <a:chOff x="411120" y="2022480"/>
            <a:chExt cx="8359920" cy="39052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11120" y="2022480"/>
              <a:ext cx="8359920" cy="39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614760" y="3387600"/>
              <a:ext cx="873000" cy="309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Arial"/>
                <a:ea typeface="新細明體"/>
              </a:rPr>
              <a:t>Conclusion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3520" y="1573200"/>
            <a:ext cx="888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od allergy during the 1st year of infancy in HK is comm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Early dietary prevention is crucial to strengthen babies’ immune system and significantly reduced the onset of allergic diseases in  infants, childhood and adult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Breastfeeding is the best for babies.  H.A. formula can be considered for babies if breastfeeding is not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1480" y="247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新細明體"/>
              </a:rPr>
              <a:t>Refere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9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rgmann RL et al. 1998, ‘ Atopic Dermatitis in early infancy predicts allergic airway disease at 5 years’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linical and experimental Allerg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vol. 28, pp. 965-9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l BM et al. 2000, ‘ Improved general health status in an unselected infant population following an allergen reduced diet-intervention programme: Results until 2 years’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 Paediatr Gastroenterol Nut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vol. 31 (Suppl 2), pp. 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hn EL, Bacharier LB 2005, ‘ The Atopic March: The Pattern of Allergic Disease Development in Childhood’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mmunol Allergy Clin N A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vol. 25, pp. 231-24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ken S 2004, ‘ Prevention of allergic disease in childhood: clinical and epidemiological aspects of primary and secondary allergy prevention’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ediatr Allergy Immun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vol. 15 (Suppl. 16), pp. 9-3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ys T &amp; Wood RA 2005, ‘ A systematic review of the role of hydrolyzed infant formulas in allergy prevention’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ch Pediatr Adolesc 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vol.159, pp. 810-8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新細明體"/>
              </a:rPr>
              <a:t>Refere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st A 2001, ‘ Primary and secondary dietary prevention’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ediatr Allergy Immun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vol. 12 (suppl 14), pp.78-8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e SL., Wong W, Lau YL 2004, ‘ Increasing prevalence of allergic rhinitis but not asthma among children in Hong Kong from 1995 to 2001 (Phase 3 International Study of Asthma and Allergies in Childhood)’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editar Allergy Immun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vol 15, pp.72-7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hodes H et al. 2001, ‘ Early life risk factors for adult asthma: A birth cohort study of subjects at risk’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 Allergy Clin Immun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vol. 108, pp.720-7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arinen UM &amp; Kajosaari M 1995, ‘ Breastfeeding as prophylaxis against atopic disease; prospective follow-up study until 17 years old’ 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Lance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vol. 346, pp. 1065-106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pson HA 2003, ‘ Food allergy’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 Allergy Clin Immun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vol. 111, pp. S450-45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新細明體"/>
              </a:rPr>
              <a:t>Refere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pson HA 2005, ‘ Food allergy- accurately identifying clinical reactivity’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llerg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vol. 60 (Suppl. 79), pp. 19-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rgel JM &amp; Paller AS 2003, ‘ Atopic dermatitis and the atopic march’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 Allergy Clin Immn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vol. 112, pp. S118-1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Wong GWK, Leung TF &amp; Fok TF 2004, ‘ ISAAC and risk factors for asthma in the Asia- Pacific’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Paediatric Respiratory Review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, vol. 5 (Suppl A), S163-S16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ckman M 2005, ‘ When allergies complicate allergies’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llerg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vol.60 (Suppl. 79), pp. 14-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ld Health Organization 2003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evention of Allergy and Allergic Asthm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WHO Document Production Services, Geneva, Switzerl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WHO / WAO meeting on the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vention of Allergy and Allergic Asthma, Geneva, 8-9 January 2002</a:t>
            </a:r>
            <a:br>
              <a:rPr sz="40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8440" y="2728800"/>
            <a:ext cx="818028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20% of the world population is atop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sthma occurs in 10-15% of the paediatric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sthma affects approximately 150 million people worldw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2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新細明體"/>
              </a:rPr>
              <a:t>Allergic disease are very common among children in Hong Ko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65040" y="3498840"/>
          <a:ext cx="8566200" cy="2457360"/>
        </p:xfrm>
        <a:graphic>
          <a:graphicData uri="http://schemas.openxmlformats.org/drawingml/2006/table">
            <a:tbl>
              <a:tblPr/>
              <a:tblGrid>
                <a:gridCol w="3106800"/>
                <a:gridCol w="1830240"/>
                <a:gridCol w="2052720"/>
                <a:gridCol w="1576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valence</a:t>
                      </a: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0-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 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=444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94-19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=361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-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sth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ife time Rhinit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8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0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ife time Ecze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8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309600" y="2046240"/>
            <a:ext cx="856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he prevalence of allergic diseases among children is increasing in Hong Kong (But not asthm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5200" y="6078600"/>
            <a:ext cx="82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Arial"/>
                <a:ea typeface="Times New Roman"/>
              </a:rPr>
              <a:t>Reference: Lee SL, Wong W &amp; Lau Y.L. </a:t>
            </a:r>
            <a:r>
              <a:rPr b="0" i="1" lang="en-US" sz="1400" spc="-1" strike="noStrike">
                <a:solidFill>
                  <a:srgbClr val="ffcc66"/>
                </a:solidFill>
                <a:latin typeface="Arial"/>
                <a:ea typeface="Times New Roman"/>
              </a:rPr>
              <a:t>Pediatric Allergy and Immunology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  <a:ea typeface="Times New Roman"/>
              </a:rPr>
              <a:t> 2004,(15) 72-7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8091720" cy="17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新細明體"/>
              </a:rPr>
              <a:t>Hong Kong ranked second highest asthma prevalence in the Asia –Pacific reg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90440" y="2954160"/>
          <a:ext cx="8713800" cy="2194200"/>
        </p:xfrm>
        <a:graphic>
          <a:graphicData uri="http://schemas.openxmlformats.org/drawingml/2006/table">
            <a:tbl>
              <a:tblPr/>
              <a:tblGrid>
                <a:gridCol w="2284200"/>
                <a:gridCol w="1646280"/>
                <a:gridCol w="1420920"/>
                <a:gridCol w="1771560"/>
                <a:gridCol w="159084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ong Kong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lays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ngapor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aiwa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valence(%) of sympto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sthma 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heeze 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03040" y="5284800"/>
            <a:ext cx="92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Arial"/>
                <a:ea typeface="Times New Roman"/>
              </a:rPr>
              <a:t>Reference: Wong GWK, Leung TF &amp; Fok TF, </a:t>
            </a:r>
            <a:r>
              <a:rPr b="0" i="1" lang="en-US" sz="1400" spc="-1" strike="noStrike">
                <a:solidFill>
                  <a:srgbClr val="ffcc66"/>
                </a:solidFill>
                <a:latin typeface="Arial"/>
                <a:ea typeface="Times New Roman"/>
              </a:rPr>
              <a:t>Paediatric Respiratory Reviews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  <a:ea typeface="Times New Roman"/>
              </a:rPr>
              <a:t> 2004, (5) S163-S16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6800" y="3711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新細明體"/>
              </a:rPr>
              <a:t>Most common food allergens in infan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822240"/>
            <a:ext cx="5716800" cy="39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Most common foods provoking food allergy in inf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w’s mi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n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kin problem ( Eczema, skin rash) is the most common symptom of hypersensitivity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Milk" descr=""/>
          <p:cNvPicPr/>
          <p:nvPr/>
        </p:nvPicPr>
        <p:blipFill>
          <a:blip r:embed="rId1"/>
          <a:stretch/>
        </p:blipFill>
        <p:spPr>
          <a:xfrm>
            <a:off x="6392880" y="3841920"/>
            <a:ext cx="2262240" cy="2842920"/>
          </a:xfrm>
          <a:prstGeom prst="rect">
            <a:avLst/>
          </a:prstGeom>
          <a:ln w="0">
            <a:noFill/>
          </a:ln>
        </p:spPr>
      </p:pic>
      <p:pic>
        <p:nvPicPr>
          <p:cNvPr id="101" name="egg" descr=""/>
          <p:cNvPicPr/>
          <p:nvPr/>
        </p:nvPicPr>
        <p:blipFill>
          <a:blip r:embed="rId2"/>
          <a:stretch/>
        </p:blipFill>
        <p:spPr>
          <a:xfrm>
            <a:off x="6365880" y="1093680"/>
            <a:ext cx="2292480" cy="2800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36480" y="5394240"/>
            <a:ext cx="30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280" y="6004080"/>
            <a:ext cx="581832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參考文獻</a:t>
            </a:r>
            <a:r>
              <a:rPr b="0" lang="zh-TW" sz="14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World Allergy Organization, viewed 11 November 2005, &lt; 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Arial Unicode MS"/>
                <a:ea typeface="新細明體"/>
                <a:hlinkClick r:id="rId3"/>
              </a:rPr>
              <a:t>http://www.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Arial Unicode MS"/>
                <a:ea typeface="新細明體"/>
                <a:hlinkClick r:id="rId4"/>
              </a:rPr>
              <a:t>worldallergy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Arial Unicode MS"/>
                <a:ea typeface="新細明體"/>
                <a:hlinkClick r:id="rId5"/>
              </a:rPr>
              <a:t>.org/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Arial Unicode MS"/>
                <a:ea typeface="新細明體"/>
                <a:hlinkClick r:id="rId6"/>
              </a:rPr>
              <a:t>prefessional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Arial Unicode MS"/>
                <a:ea typeface="新細明體"/>
                <a:hlinkClick r:id="rId7"/>
              </a:rPr>
              <a:t>/allergic_disease_center/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Arial Unicode MS"/>
                <a:ea typeface="新細明體"/>
                <a:hlinkClick r:id="rId8"/>
              </a:rPr>
              <a:t>foodallergy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&gt; ; Sampson H.A.</a:t>
            </a:r>
            <a:r>
              <a:rPr b="0" i="1" lang="en-US" sz="14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Allergy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 2005; 60(S79):19-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4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llergy March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8120" y="6310440"/>
            <a:ext cx="830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rrinen U.M. &amp; Kajosaari 1995; Bergmann RL et al. 1998 ; Host A 2001 ;Spergel JM &amp; Paller AS 2003 ; Rhodes et al. 2001; Sampson H.A. 2003 ; Halken S 2004; Wickman M. 2005; Hahn E. &amp; Bacharier L.B. 200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360" y="976320"/>
            <a:ext cx="8450280" cy="4287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80960" y="5332320"/>
            <a:ext cx="81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zation and allergic symptoms in early childhood lead to an increased risk of allergic disease in adulth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5120" y="487080"/>
            <a:ext cx="894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Mothers’ alertness on managing hypersensitivity symptoms in infants are not high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65080" y="2965320"/>
          <a:ext cx="7772400" cy="407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2965320"/>
                    <a:ext cx="777240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033560" y="2000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新細明體"/>
              </a:rPr>
              <a:t>Can you successfully manage with your babies’ hypersensitivity symptom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5715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n = 17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4080" y="3236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Mothers’ alertness on managing hypersensitivity symptoms in infants are not high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0600" y="6216480"/>
            <a:ext cx="82785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For those 66% who cannot and temporarily managed their babies’ hypersensitivity symptoms, nearly 50% of them were not stressed because they did not recognize it’s a big problem or they believed symptoms will gradually disappear with 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49160" y="1308240"/>
          <a:ext cx="7975800" cy="50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308240"/>
                    <a:ext cx="797580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14360" y="5343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n = 1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296640"/>
            <a:ext cx="8893080" cy="9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新細明體"/>
              </a:rPr>
              <a:t>Mothers’ awareness on the risk factor for allergic symptoms are high but they are ignorant on prevention strategie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080" y="1501920"/>
            <a:ext cx="895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Most 66% of the mothers could identify food allergy as a risk factor for these allergic symptoms and believed that food selection during the first year is cru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However, nearly 40% of them did not recognize breastfeeding or HA formula can protect babies’ immature immun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3040" y="3193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4173480"/>
          <a:ext cx="5424480" cy="26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73480"/>
                    <a:ext cx="542448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568760" y="4449600"/>
          <a:ext cx="4775400" cy="2837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8760" y="4449600"/>
                    <a:ext cx="4775400" cy="28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775040" y="3968640"/>
            <a:ext cx="436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re you aware of breastfeeding or HA formula feeding can prevent over-sensitization to babies’ immature immune system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58840" y="4052880"/>
            <a:ext cx="3822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dentify 2 risk factors leading to baby’s hypersensitivity reaction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1520" y="5564160"/>
            <a:ext cx="1041480" cy="42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Food all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55720" y="5281560"/>
            <a:ext cx="2025720" cy="258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Environmental fa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827440" y="5402160"/>
            <a:ext cx="450720" cy="266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1:22:29Z</dcterms:created>
  <dc:creator>bbecker</dc:creator>
  <dc:description>Nestl Nutrition</dc:description>
  <dc:language>en-US</dc:language>
  <cp:lastModifiedBy>HKUPOP</cp:lastModifiedBy>
  <cp:lastPrinted>2002-07-16T15:17:21Z</cp:lastPrinted>
  <dcterms:modified xsi:type="dcterms:W3CDTF">2005-11-24T04:19:58Z</dcterms:modified>
  <cp:revision>138</cp:revision>
  <dc:subject/>
  <dc:title>PowerPoint Presentation</dc:title>
</cp:coreProperties>
</file>