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73D5D7-C229-485C-A50B-FDA1692E3EF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8269-3CA3-4976-AC68-C5BC0E39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4CF-6A84-4825-860F-2D047CD5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AC4-CC14-4DB5-9F48-159BF5C4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D37-5BC1-42DF-9645-6A138F97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389-96EE-4831-9690-FA6959C0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920-511B-4B36-A5A3-58AFD836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1A3-FE69-4158-A22D-D81ECDFC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31C-FB68-4AE7-B17D-FFBDFE2B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D95-3499-4FCE-836E-ABA5B76A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7AD-F86F-4DFB-A29F-8ADADA80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98E-8048-4868-88E0-357F3AE2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EB2-CCF2-4CE8-B24E-A4FA1E27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F15D-EB49-4889-902E-4F4600B77BF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最低工資及標準工時意見調查</a:t>
            </a:r>
            <a:br>
              <a:rPr sz="4800"/>
            </a:br>
            <a:br>
              <a:rPr sz="2400"/>
            </a:b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結果簡報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8380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19320" y="685800"/>
          <a:ext cx="1609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1609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809880" y="5105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2005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8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16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如果要立法，最低工資應該是多少？ </a:t>
            </a:r>
            <a:br>
              <a:rPr sz="3600"/>
            </a:br>
            <a:br>
              <a:rPr sz="2000"/>
            </a:b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（以每天工作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8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小時，每月工作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26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天計 ）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-76320" y="1857240"/>
          <a:ext cx="9220320" cy="41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857240"/>
                    <a:ext cx="922032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238880" y="6019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N= 506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553080" y="3352680"/>
          <a:ext cx="2057400" cy="15242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平均數：</a:t>
                      </a:r>
                      <a:r>
                        <a:rPr b="1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$6,61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標準誤差：</a:t>
                      </a: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97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眾數：</a:t>
                      </a:r>
                      <a:r>
                        <a:rPr b="1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$6,00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中位數：</a:t>
                      </a:r>
                      <a:r>
                        <a:rPr b="1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$6,00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基數：</a:t>
                      </a: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06)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最低工資應否與入息中位數掛勾？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-609480" y="1825560"/>
          <a:ext cx="9982080" cy="48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825560"/>
                    <a:ext cx="998208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8580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0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8288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如果要立法，哪種最低工資模式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較適合香港目前的情況？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-609480" y="2133720"/>
          <a:ext cx="99820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2133720"/>
                    <a:ext cx="9982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9343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0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如果要選擇個別行業試行最低工資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制度，哪類行業最需要優先處理？ </a:t>
            </a:r>
            <a:br>
              <a:rPr sz="3600"/>
            </a:br>
            <a:br>
              <a:rPr sz="1800"/>
            </a:b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（佔回答人數百分比）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320" y="1600200"/>
          <a:ext cx="899136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600200"/>
                    <a:ext cx="8991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7086600" y="51055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N= 505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447920"/>
            <a:ext cx="83059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-76320" y="22824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被訪者有否聽過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「就業貧窮」？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-609480" y="1828800"/>
          <a:ext cx="9982080" cy="46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828800"/>
                    <a:ext cx="9982080" cy="46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701028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0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52388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訂定最低工資是否減少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「就業貧窮」的有效方法？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-533520" y="2206800"/>
          <a:ext cx="9982440" cy="46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2206800"/>
                    <a:ext cx="9982440" cy="46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781680" y="251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0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75248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被訪者對立法訂定</a:t>
            </a:r>
            <a:br>
              <a:rPr sz="4400"/>
            </a:b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最高工時的意見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-76320" y="53352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香港人超時工作問題是否嚴重？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-533520" y="2206800"/>
          <a:ext cx="9982440" cy="46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2206800"/>
                    <a:ext cx="9982440" cy="46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168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0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被訪者認為合理的每週最高工時 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8600" y="1600200"/>
          <a:ext cx="86104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10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705720" y="19051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N= 507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095880" y="3581280"/>
          <a:ext cx="2362320" cy="1828800"/>
        </p:xfrm>
        <a:graphic>
          <a:graphicData uri="http://schemas.openxmlformats.org/drawingml/2006/table">
            <a:tbl>
              <a:tblPr/>
              <a:tblGrid>
                <a:gridCol w="236232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平均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8.8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標準誤差：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34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小時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眾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8.0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中位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8.0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基數：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64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457200" y="1447920"/>
            <a:ext cx="83059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-76320" y="53352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被訪者對立法訂定最高工時的取態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-609480" y="2206800"/>
          <a:ext cx="9982080" cy="46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2206800"/>
                    <a:ext cx="9982080" cy="46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705720" y="2209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67652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簡報大綱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</a:rPr>
              <a:t>調查方法及樣本資料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</a:rPr>
              <a:t>被訪者對立法訂定最低工資的意見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</a:rPr>
              <a:t>被訪者對立法訂定最高工時的意見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</a:rPr>
              <a:t>總結</a:t>
            </a:r>
            <a:r>
              <a:rPr b="1" lang="zh-TW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75248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如果要立法，每週最高工時應該是多少？ 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" y="1600200"/>
          <a:ext cx="853452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5345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7086600" y="175248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N= 506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95880" y="3581280"/>
          <a:ext cx="2362320" cy="1828800"/>
        </p:xfrm>
        <a:graphic>
          <a:graphicData uri="http://schemas.openxmlformats.org/drawingml/2006/table">
            <a:tbl>
              <a:tblPr/>
              <a:tblGrid>
                <a:gridCol w="236232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平均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0.8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標準誤差：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41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小時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眾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8.0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中位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8.0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基數：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4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304920" y="1371600"/>
            <a:ext cx="84582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228600" y="22824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對最低工資及最高工時的取態 – 綜合數據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-1143000" y="1295280"/>
          <a:ext cx="113536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3000" y="1295280"/>
                    <a:ext cx="113536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701028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0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60642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400" spc="-1" strike="noStrike">
                <a:solidFill>
                  <a:srgbClr val="ccecff"/>
                </a:solidFill>
                <a:latin typeface="Times New Roman"/>
              </a:rPr>
              <a:t>* </a:t>
            </a:r>
            <a:r>
              <a:rPr b="1" i="1" lang="zh-TW" sz="1400" spc="-1" strike="noStrike">
                <a:solidFill>
                  <a:srgbClr val="ccecff"/>
                </a:solidFill>
                <a:latin typeface="Times New Roman"/>
              </a:rPr>
              <a:t>包括於其中一項，或兩項均選答「一半半」或「唔知</a:t>
            </a:r>
            <a:r>
              <a:rPr b="1" i="1" lang="zh-TW" sz="1400" spc="-1" strike="noStrike">
                <a:solidFill>
                  <a:srgbClr val="ccecff"/>
                </a:solidFill>
                <a:latin typeface="Times New Roman"/>
              </a:rPr>
              <a:t>/</a:t>
            </a:r>
            <a:r>
              <a:rPr b="1" i="1" lang="zh-TW" sz="1400" spc="-1" strike="noStrike">
                <a:solidFill>
                  <a:srgbClr val="ccecff"/>
                </a:solidFill>
                <a:latin typeface="Times New Roman"/>
              </a:rPr>
              <a:t>難講」的被訪者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結語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本民意調查由香港大學民意研究計劃獨立進行及全權負責，與樂施會立場無關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關心最低工資討論的巿民只屬少數，制定政策前需要更多理性討論，以掌握關乎各界利益的數據和論據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巿民普遍支持立法訂定最低工資及最高工時，但亦普遍認為應該根據不同工種行業分開處理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倘若立法訂定最低工資及最高工時，巿民傾向接受比較嚴格的立法標準，即規管最低工資的水平比最低工資的合理水平略低，而規管最高工時的水平則比最高工時的合理水平略高 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Times New Roman"/>
                <a:ea typeface="細明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4114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請瀏覽 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396252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Times New Roman"/>
              </a:rPr>
              <a:t>調查方法及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1828800"/>
            <a:ext cx="7010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訪問日期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005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7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5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日至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8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日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訪問對象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15</a:t>
            </a:r>
            <a:r>
              <a:rPr b="1" lang="zh-TW" sz="2800" spc="-1" strike="noStrike">
                <a:solidFill>
                  <a:srgbClr val="ccffff"/>
                </a:solidFill>
                <a:latin typeface="新細明體"/>
              </a:rPr>
              <a:t>歲或以上操粵語的香港市民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調查方法：由訪問員直接進行電話訪問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樣本數目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510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個成功個案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回應比率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61.7%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抽樣誤差：少於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.2%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75248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被訪者對立法訂定</a:t>
            </a:r>
            <a:br>
              <a:rPr sz="4400"/>
            </a:b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最低工資的意見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-228600" y="22824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被訪者對本地最低工資消息的關心程度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-609480" y="1574640"/>
          <a:ext cx="9982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574640"/>
                    <a:ext cx="9982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7010280" y="6019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1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被訪者對立法訂定最低工資的取態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-1447920" y="1417680"/>
          <a:ext cx="11430000" cy="520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7920" y="1417680"/>
                    <a:ext cx="1143000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7010280" y="6019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44792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被訪者認為立法訂定最低工資的好處 </a:t>
            </a:r>
            <a:br>
              <a:rPr sz="3600"/>
            </a:br>
            <a:br>
              <a:rPr sz="2000"/>
            </a:br>
            <a:br>
              <a:rPr sz="2000"/>
            </a:br>
            <a:r>
              <a:rPr b="1" lang="zh-TW" sz="2000" spc="-1" strike="noStrike">
                <a:solidFill>
                  <a:srgbClr val="ffff99"/>
                </a:solidFill>
                <a:latin typeface="新細明體"/>
              </a:rPr>
              <a:t>（佔回答人數百分比）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23800" y="996840"/>
          <a:ext cx="8591760" cy="55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996840"/>
                    <a:ext cx="859176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3080" y="1828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N= 50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被訪者認為立法訂定最低工資的壞處 </a:t>
            </a:r>
            <a:br>
              <a:rPr sz="3600"/>
            </a:br>
            <a:br>
              <a:rPr sz="2000"/>
            </a:br>
            <a:r>
              <a:rPr b="1" lang="zh-TW" sz="2000" spc="-1" strike="noStrike">
                <a:solidFill>
                  <a:srgbClr val="ffff99"/>
                </a:solidFill>
                <a:latin typeface="新細明體"/>
              </a:rPr>
              <a:t>（佔回答人數百分比）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23800" y="1112760"/>
          <a:ext cx="8591760" cy="532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1112760"/>
                    <a:ext cx="859176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962520" y="19051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N= 50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06668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被訪者認為合理的最低月薪</a:t>
            </a:r>
            <a:br>
              <a:rPr sz="3600"/>
            </a:br>
            <a:r>
              <a:rPr b="1" lang="zh-TW" sz="20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（以每天工作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8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小時，每月工作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26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天計 ）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-76320" y="1785960"/>
          <a:ext cx="9220320" cy="43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785960"/>
                    <a:ext cx="922032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7238880" y="6019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N= 507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705720" y="2362320"/>
          <a:ext cx="1981080" cy="182880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平均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$8,04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標準誤差：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133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眾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$8,00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中位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$8,00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基數：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79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5-08-18T08:21:10Z</dcterms:modified>
  <cp:revision>739</cp:revision>
  <dc:subject/>
  <dc:title>無投影片標題</dc:title>
</cp:coreProperties>
</file>