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d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bdf5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rc 6"/>
          <p:cNvSpPr/>
          <p:nvPr/>
        </p:nvSpPr>
        <p:spPr>
          <a:xfrm rot="17898600">
            <a:off x="988560" y="6022800"/>
            <a:ext cx="1777680" cy="1670040"/>
          </a:xfrm>
          <a:prstGeom prst="pie">
            <a:avLst/>
          </a:prstGeom>
          <a:noFill/>
          <a:ln w="64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rc 7"/>
          <p:cNvSpPr/>
          <p:nvPr/>
        </p:nvSpPr>
        <p:spPr>
          <a:xfrm rot="17113200">
            <a:off x="4014720" y="6383160"/>
            <a:ext cx="766800" cy="9475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8"/>
          <p:cNvSpPr/>
          <p:nvPr/>
        </p:nvSpPr>
        <p:spPr>
          <a:xfrm>
            <a:off x="1042920" y="5516640"/>
            <a:ext cx="358920" cy="3585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9"/>
          <p:cNvSpPr/>
          <p:nvPr/>
        </p:nvSpPr>
        <p:spPr>
          <a:xfrm>
            <a:off x="3348000" y="6237360"/>
            <a:ext cx="287280" cy="28728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rc 10"/>
          <p:cNvSpPr/>
          <p:nvPr/>
        </p:nvSpPr>
        <p:spPr>
          <a:xfrm rot="16714200">
            <a:off x="6402240" y="5559120"/>
            <a:ext cx="2357280" cy="1697040"/>
          </a:xfrm>
          <a:prstGeom prst="pie">
            <a:avLst/>
          </a:pr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11"/>
          <p:cNvSpPr/>
          <p:nvPr/>
        </p:nvSpPr>
        <p:spPr>
          <a:xfrm rot="18426600">
            <a:off x="534960" y="5376600"/>
            <a:ext cx="628560" cy="119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81" y="1500"/>
                  <a:pt x="8362" y="5080"/>
                  <a:pt x="8362" y="10800"/>
                </a:cubicBezTo>
                <a:cubicBezTo>
                  <a:pt x="8362" y="16520"/>
                  <a:pt x="14981" y="201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df5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2"/>
          <p:cNvSpPr/>
          <p:nvPr/>
        </p:nvSpPr>
        <p:spPr>
          <a:xfrm>
            <a:off x="4251240" y="278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rc 8"/>
          <p:cNvSpPr/>
          <p:nvPr/>
        </p:nvSpPr>
        <p:spPr>
          <a:xfrm rot="17898600">
            <a:off x="988560" y="6022800"/>
            <a:ext cx="1777680" cy="1670040"/>
          </a:xfrm>
          <a:prstGeom prst="pie">
            <a:avLst/>
          </a:prstGeom>
          <a:noFill/>
          <a:ln w="64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rc 9"/>
          <p:cNvSpPr/>
          <p:nvPr/>
        </p:nvSpPr>
        <p:spPr>
          <a:xfrm rot="14952000">
            <a:off x="5651280" y="3141720"/>
            <a:ext cx="3600720" cy="4464000"/>
          </a:xfrm>
          <a:prstGeom prst="pie">
            <a:avLst/>
          </a:pr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rc 10"/>
          <p:cNvSpPr/>
          <p:nvPr/>
        </p:nvSpPr>
        <p:spPr>
          <a:xfrm rot="17113200">
            <a:off x="4014720" y="6383160"/>
            <a:ext cx="766800" cy="9475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042920" y="5516640"/>
            <a:ext cx="358920" cy="3585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348000" y="6237360"/>
            <a:ext cx="287280" cy="28728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rc 16"/>
          <p:cNvSpPr/>
          <p:nvPr/>
        </p:nvSpPr>
        <p:spPr>
          <a:xfrm rot="16714200">
            <a:off x="6402240" y="5559120"/>
            <a:ext cx="2357280" cy="1697040"/>
          </a:xfrm>
          <a:prstGeom prst="pie">
            <a:avLst/>
          </a:pr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7"/>
          <p:cNvSpPr/>
          <p:nvPr/>
        </p:nvSpPr>
        <p:spPr>
          <a:xfrm rot="18426600">
            <a:off x="712800" y="666000"/>
            <a:ext cx="628920" cy="119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81" y="1500"/>
                  <a:pt x="8362" y="5080"/>
                  <a:pt x="8362" y="10800"/>
                </a:cubicBezTo>
                <a:cubicBezTo>
                  <a:pt x="8362" y="16520"/>
                  <a:pt x="14981" y="201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df5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1619280" y="1125360"/>
            <a:ext cx="214200" cy="2145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9"/>
          <p:cNvSpPr/>
          <p:nvPr/>
        </p:nvSpPr>
        <p:spPr>
          <a:xfrm rot="609600">
            <a:off x="5148000" y="333000"/>
            <a:ext cx="285480" cy="2858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d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bdf5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121932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8"/>
          <p:cNvSpPr/>
          <p:nvPr/>
        </p:nvSpPr>
        <p:spPr>
          <a:xfrm>
            <a:off x="3505320" y="8380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09480" y="3714840"/>
            <a:ext cx="77724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Arial"/>
                <a:ea typeface="標楷體"/>
              </a:rPr>
              <a:t>小學生與媽媽關係意見調查 </a:t>
            </a:r>
            <a:br>
              <a:rPr sz="3600"/>
            </a:br>
            <a:br>
              <a:rPr sz="4400"/>
            </a:br>
            <a:br>
              <a:rPr sz="1600"/>
            </a:br>
            <a:r>
              <a:rPr b="1" lang="zh-TW" sz="2400" spc="-1" strike="noStrike">
                <a:solidFill>
                  <a:srgbClr val="ffff99"/>
                </a:solidFill>
                <a:latin typeface="Arial"/>
                <a:ea typeface="標楷體"/>
              </a:rPr>
              <a:t>調查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Arial"/>
                <a:ea typeface="標楷體"/>
              </a:rPr>
              <a:t>鍾庭耀博士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ffff99"/>
                </a:solidFill>
                <a:latin typeface="Arial"/>
                <a:ea typeface="標楷體"/>
              </a:rPr>
              <a:t>2008</a:t>
            </a:r>
            <a:r>
              <a:rPr b="1" i="1" lang="zh-TW" sz="1800" spc="-1" strike="noStrike">
                <a:solidFill>
                  <a:srgbClr val="ffff99"/>
                </a:solidFill>
                <a:latin typeface="Arial"/>
                <a:ea typeface="標楷體"/>
              </a:rPr>
              <a:t>年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  <a:ea typeface="標楷體"/>
              </a:rPr>
              <a:t>5</a:t>
            </a:r>
            <a:r>
              <a:rPr b="1" i="1" lang="zh-TW" sz="1800" spc="-1" strike="noStrike">
                <a:solidFill>
                  <a:srgbClr val="ffff99"/>
                </a:solidFill>
                <a:latin typeface="Arial"/>
                <a:ea typeface="標楷體"/>
              </a:rPr>
              <a:t>月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  <a:ea typeface="標楷體"/>
              </a:rPr>
              <a:t>11</a:t>
            </a:r>
            <a:r>
              <a:rPr b="1" i="1" lang="zh-TW" sz="1800" spc="-1" strike="noStrike">
                <a:solidFill>
                  <a:srgbClr val="ffff99"/>
                </a:solidFill>
                <a:latin typeface="Arial"/>
                <a:ea typeface="標楷體"/>
              </a:rPr>
              <a:t>日</a:t>
            </a:r>
            <a:r>
              <a:rPr b="0" i="1" lang="zh-TW" sz="1800" spc="-1" strike="noStrike">
                <a:solidFill>
                  <a:srgbClr val="ffff99"/>
                </a:solidFill>
                <a:latin typeface="Arial"/>
                <a:ea typeface="標楷體"/>
              </a:rPr>
              <a:t> 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428760" y="26431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00040" y="392904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你同媽媽一齊做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乜野係會令你最開心既呢？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228600" y="1066680"/>
          <a:ext cx="85597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559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6"/>
          <p:cNvSpPr/>
          <p:nvPr/>
        </p:nvSpPr>
        <p:spPr>
          <a:xfrm>
            <a:off x="7642440" y="617220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6"/>
          <p:cNvGraphicFramePr/>
          <p:nvPr/>
        </p:nvGraphicFramePr>
        <p:xfrm>
          <a:off x="228600" y="1523880"/>
          <a:ext cx="87631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763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Arial"/>
              </a:rPr>
              <a:t>你可唔可以用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0-100</a:t>
            </a:r>
            <a:r>
              <a:rPr b="1" lang="zh-TW" sz="2600" spc="-1" strike="noStrike">
                <a:solidFill>
                  <a:srgbClr val="ffff99"/>
                </a:solidFill>
                <a:latin typeface="Arial"/>
              </a:rPr>
              <a:t>分評價一下你同媽媽既關係有幾好？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214960" y="3071880"/>
          <a:ext cx="2438280" cy="914400"/>
        </p:xfrm>
        <a:graphic>
          <a:graphicData uri="http://schemas.openxmlformats.org/drawingml/2006/table">
            <a:tbl>
              <a:tblPr/>
              <a:tblGrid>
                <a:gridCol w="1216080"/>
                <a:gridCol w="1222200"/>
              </a:tblGrid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平均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87.9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0.69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基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Rectangle 24"/>
          <p:cNvSpPr/>
          <p:nvPr/>
        </p:nvSpPr>
        <p:spPr>
          <a:xfrm>
            <a:off x="7663320" y="624528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762120" y="121932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ff99"/>
                </a:solidFill>
                <a:latin typeface="Arial"/>
              </a:rPr>
              <a:t>「金牌媽媽」五個元素之「重要」比率</a:t>
            </a:r>
            <a:endParaRPr b="0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500040" y="1312920"/>
          <a:ext cx="8186760" cy="53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12920"/>
                    <a:ext cx="818676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1596960" y="24382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596960" y="31240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596960" y="38098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627200" y="44956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596960" y="518148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5"/>
          <p:cNvGraphicFramePr/>
          <p:nvPr/>
        </p:nvGraphicFramePr>
        <p:xfrm>
          <a:off x="357120" y="1428840"/>
          <a:ext cx="8572680" cy="53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428840"/>
                    <a:ext cx="857268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Arial"/>
              </a:rPr>
              <a:t>受訪學生就其媽媽在「金牌媽咪」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Arial"/>
              </a:rPr>
              <a:t>五個元素的表現之平均評分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714240" y="17146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071800" y="2643120"/>
            <a:ext cx="98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499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2071800" y="3286080"/>
            <a:ext cx="98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071800" y="4000680"/>
            <a:ext cx="98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2071800" y="4643280"/>
            <a:ext cx="98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2071800" y="5286240"/>
            <a:ext cx="98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0" lang="zh-TW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2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如果要成為一個「金牌媽咪」，即係模範媽媽，你認為</a:t>
            </a:r>
            <a:r>
              <a:rPr b="1" i="1" lang="zh-TW" sz="2800" spc="-1" strike="noStrike" u="sng">
                <a:solidFill>
                  <a:srgbClr val="ffff99"/>
                </a:solidFill>
                <a:uFillTx/>
                <a:latin typeface="Arial"/>
              </a:rPr>
              <a:t>好關心你／好用心照顧你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重唔重要呀？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1295280"/>
            <a:ext cx="8742240" cy="4982400"/>
            <a:chOff x="228600" y="1295280"/>
            <a:chExt cx="8742240" cy="4982400"/>
          </a:xfrm>
        </p:grpSpPr>
        <p:graphicFrame>
          <p:nvGraphicFramePr>
            <p:cNvPr id="231" name="Rectangle 3"/>
            <p:cNvGraphicFramePr/>
            <p:nvPr/>
          </p:nvGraphicFramePr>
          <p:xfrm>
            <a:off x="228600" y="1295280"/>
            <a:ext cx="8742240" cy="4924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2" name="Rectangle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95280"/>
                      <a:ext cx="8742240" cy="492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7768080" y="594036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 </a:t>
              </a: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 5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咁你認為你媽媽係</a:t>
            </a:r>
            <a:r>
              <a:rPr b="1" i="1" lang="zh-TW" sz="2800" spc="-1" strike="noStrike" u="sng">
                <a:solidFill>
                  <a:srgbClr val="ffff99"/>
                </a:solidFill>
                <a:uFillTx/>
                <a:latin typeface="Arial"/>
              </a:rPr>
              <a:t>好關心你／好用心照顧你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呢方面做得好唔好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Rectangle 3"/>
          <p:cNvGraphicFramePr/>
          <p:nvPr/>
        </p:nvGraphicFramePr>
        <p:xfrm>
          <a:off x="380880" y="1523880"/>
          <a:ext cx="857412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74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7718760" y="571500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4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172200" y="3429000"/>
          <a:ext cx="2438280" cy="9586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平均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90.6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0.62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基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4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如果要成為一個「金牌媽咪」，即係模範媽媽，你認為</a:t>
            </a:r>
            <a:r>
              <a:rPr b="1" i="1" lang="zh-TW" sz="2800" spc="-1" strike="noStrike" u="sng">
                <a:solidFill>
                  <a:srgbClr val="ffff99"/>
                </a:solidFill>
                <a:uFillTx/>
                <a:latin typeface="Arial"/>
              </a:rPr>
              <a:t>用好多時間陪你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重唔重要呀？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89080" y="1447920"/>
            <a:ext cx="8550000" cy="4829760"/>
            <a:chOff x="289080" y="1447920"/>
            <a:chExt cx="8550000" cy="4829760"/>
          </a:xfrm>
        </p:grpSpPr>
        <p:graphicFrame>
          <p:nvGraphicFramePr>
            <p:cNvPr id="243" name="Rectangle 3"/>
            <p:cNvGraphicFramePr/>
            <p:nvPr/>
          </p:nvGraphicFramePr>
          <p:xfrm>
            <a:off x="289080" y="1447920"/>
            <a:ext cx="8550000" cy="4581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44" name="Rectangle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080" y="1447920"/>
                      <a:ext cx="8550000" cy="45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"/>
            <p:cNvSpPr/>
            <p:nvPr/>
          </p:nvSpPr>
          <p:spPr>
            <a:xfrm>
              <a:off x="7723080" y="594036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 </a:t>
              </a: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 50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咁你認為你媽媽係</a:t>
            </a:r>
            <a:r>
              <a:rPr b="1" i="1" lang="zh-TW" sz="3000" spc="-1" strike="noStrike" u="sng">
                <a:solidFill>
                  <a:srgbClr val="ffff99"/>
                </a:solidFill>
                <a:uFillTx/>
                <a:latin typeface="Arial"/>
              </a:rPr>
              <a:t>用好多時間陪你</a:t>
            </a: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呢方面</a:t>
            </a:r>
            <a:br>
              <a:rPr sz="3000"/>
            </a:b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做得好唔好</a:t>
            </a: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Rectangle 3"/>
          <p:cNvGraphicFramePr/>
          <p:nvPr/>
        </p:nvGraphicFramePr>
        <p:xfrm>
          <a:off x="415800" y="1395360"/>
          <a:ext cx="849960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395360"/>
                    <a:ext cx="84996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642440" y="579132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715000" y="3200400"/>
          <a:ext cx="2438280" cy="1006200"/>
        </p:xfrm>
        <a:graphic>
          <a:graphicData uri="http://schemas.openxmlformats.org/drawingml/2006/table">
            <a:tbl>
              <a:tblPr/>
              <a:tblGrid>
                <a:gridCol w="1215720"/>
                <a:gridCol w="1222560"/>
              </a:tblGrid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平均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84.7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0.86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基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5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ffff99"/>
                </a:solidFill>
                <a:latin typeface="Arial"/>
              </a:rPr>
              <a:t>如果要成為一個「金牌媽咪」，即係模範媽媽，你認為</a:t>
            </a:r>
            <a:r>
              <a:rPr b="1" i="1" lang="zh-TW" sz="2700" spc="-1" strike="noStrike" u="sng">
                <a:solidFill>
                  <a:srgbClr val="ffff99"/>
                </a:solidFill>
                <a:uFillTx/>
                <a:latin typeface="Arial"/>
              </a:rPr>
              <a:t>平時會抱下你／錫下你／拖下你</a:t>
            </a:r>
            <a:r>
              <a:rPr b="1" lang="zh-TW" sz="2700" spc="-1" strike="noStrike">
                <a:solidFill>
                  <a:srgbClr val="ffff99"/>
                </a:solidFill>
                <a:latin typeface="Arial"/>
              </a:rPr>
              <a:t>重唔重要呀？</a:t>
            </a:r>
            <a:endParaRPr b="0" lang="en-US" sz="2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" y="1295280"/>
            <a:ext cx="8548560" cy="4982400"/>
            <a:chOff x="228600" y="1295280"/>
            <a:chExt cx="8548560" cy="4982400"/>
          </a:xfrm>
        </p:grpSpPr>
        <p:graphicFrame>
          <p:nvGraphicFramePr>
            <p:cNvPr id="255" name="Rectangle 3"/>
            <p:cNvGraphicFramePr/>
            <p:nvPr/>
          </p:nvGraphicFramePr>
          <p:xfrm>
            <a:off x="228600" y="1295280"/>
            <a:ext cx="8548560" cy="4498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56" name="Rectangle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95280"/>
                      <a:ext cx="8548560" cy="449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>
              <a:off x="7642440" y="594036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 </a:t>
              </a: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 50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咁你認為你媽媽係</a:t>
            </a:r>
            <a:r>
              <a:rPr b="1" i="1" lang="zh-TW" sz="2800" spc="-1" strike="noStrike" u="sng">
                <a:solidFill>
                  <a:srgbClr val="ffff99"/>
                </a:solidFill>
                <a:uFillTx/>
                <a:latin typeface="Arial"/>
              </a:rPr>
              <a:t>平時會抱下你／錫下你／拖下你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呢方面做得好唔好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Rectangle 3"/>
          <p:cNvGraphicFramePr/>
          <p:nvPr/>
        </p:nvGraphicFramePr>
        <p:xfrm>
          <a:off x="152280" y="1447920"/>
          <a:ext cx="861084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610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7566480" y="571500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943600" y="3352680"/>
          <a:ext cx="2438280" cy="958680"/>
        </p:xfrm>
        <a:graphic>
          <a:graphicData uri="http://schemas.openxmlformats.org/drawingml/2006/table">
            <a:tbl>
              <a:tblPr/>
              <a:tblGrid>
                <a:gridCol w="1215720"/>
                <a:gridCol w="1222560"/>
              </a:tblGrid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平均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81.3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0.97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基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5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Arial"/>
              </a:rPr>
              <a:t>調查背景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600200"/>
            <a:ext cx="771552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調查目的：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瞭解被訪的小學生與家人相處的情況，特別是與媽媽共處的情況、與媽媽的關係及對「金牌媽媽」的看法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麥當勞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)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有限公司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後獨立設計，數據收集及分析由民研計劃獨立進行，結果亦由民研計劃全面負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如果要成為一個「金牌媽咪」，即係模範媽媽，你認為</a:t>
            </a:r>
            <a:r>
              <a:rPr b="1" i="1" lang="zh-TW" sz="2800" spc="-1" strike="noStrike" u="sng">
                <a:solidFill>
                  <a:srgbClr val="ffff99"/>
                </a:solidFill>
                <a:uFillTx/>
                <a:latin typeface="Arial"/>
              </a:rPr>
              <a:t>搵好多錢／做嘢好叻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重唔重要呀？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1447920"/>
            <a:ext cx="8729280" cy="4829760"/>
            <a:chOff x="0" y="1447920"/>
            <a:chExt cx="8729280" cy="4829760"/>
          </a:xfrm>
        </p:grpSpPr>
        <p:graphicFrame>
          <p:nvGraphicFramePr>
            <p:cNvPr id="267" name="Rectangle 3"/>
            <p:cNvGraphicFramePr/>
            <p:nvPr/>
          </p:nvGraphicFramePr>
          <p:xfrm>
            <a:off x="0" y="1447920"/>
            <a:ext cx="8545680" cy="4198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68" name="Rectangle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447920"/>
                      <a:ext cx="8545680" cy="41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" name=""/>
            <p:cNvSpPr/>
            <p:nvPr/>
          </p:nvSpPr>
          <p:spPr>
            <a:xfrm>
              <a:off x="7663320" y="594036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 </a:t>
              </a: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 50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咁你認為你媽媽係</a:t>
            </a:r>
            <a:r>
              <a:rPr b="1" i="1" lang="zh-TW" sz="2800" spc="-1" strike="noStrike" u="sng">
                <a:solidFill>
                  <a:srgbClr val="ffff99"/>
                </a:solidFill>
                <a:uFillTx/>
                <a:latin typeface="Arial"/>
              </a:rPr>
              <a:t>搵好多錢／做嘢好叻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呢方面做得好唔好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Rectangle 3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7566480" y="571500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095880" y="3200400"/>
          <a:ext cx="2438640" cy="958680"/>
        </p:xfrm>
        <a:graphic>
          <a:graphicData uri="http://schemas.openxmlformats.org/drawingml/2006/table">
            <a:tbl>
              <a:tblPr/>
              <a:tblGrid>
                <a:gridCol w="1216080"/>
                <a:gridCol w="1222560"/>
              </a:tblGrid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平均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81.7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0.95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基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5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Arial"/>
              </a:rPr>
              <a:t>如果要成為一個「金牌媽咪」，即係模範媽媽，你認為</a:t>
            </a:r>
            <a:r>
              <a:rPr b="1" i="1" lang="zh-TW" sz="2600" spc="-1" strike="noStrike" u="sng">
                <a:solidFill>
                  <a:srgbClr val="ffff99"/>
                </a:solidFill>
                <a:uFillTx/>
                <a:latin typeface="Arial"/>
              </a:rPr>
              <a:t>可以滿足你所有願望，例如買晒你鍾意既野俾你</a:t>
            </a:r>
            <a:r>
              <a:rPr b="1" lang="zh-TW" sz="2600" spc="-1" strike="noStrike">
                <a:solidFill>
                  <a:srgbClr val="ffff99"/>
                </a:solidFill>
                <a:latin typeface="Arial"/>
              </a:rPr>
              <a:t>重唔重要呀？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1571760"/>
            <a:ext cx="8826480" cy="4677480"/>
            <a:chOff x="0" y="1571760"/>
            <a:chExt cx="8826480" cy="4677480"/>
          </a:xfrm>
        </p:grpSpPr>
        <p:graphicFrame>
          <p:nvGraphicFramePr>
            <p:cNvPr id="279" name="Rectangle 3"/>
            <p:cNvGraphicFramePr/>
            <p:nvPr/>
          </p:nvGraphicFramePr>
          <p:xfrm>
            <a:off x="0" y="1571760"/>
            <a:ext cx="8826480" cy="4495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0" name="Rectangle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571760"/>
                      <a:ext cx="88264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1" name=""/>
            <p:cNvSpPr/>
            <p:nvPr/>
          </p:nvSpPr>
          <p:spPr>
            <a:xfrm>
              <a:off x="7663320" y="591192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 </a:t>
              </a: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 50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咁你認為你媽媽係</a:t>
            </a:r>
            <a:r>
              <a:rPr b="1" i="1" lang="zh-TW" sz="2800" spc="-1" strike="noStrike" u="sng">
                <a:solidFill>
                  <a:srgbClr val="ffff99"/>
                </a:solidFill>
                <a:uFillTx/>
                <a:latin typeface="Arial"/>
              </a:rPr>
              <a:t>可以滿足你所有願望，例如買晒你鍾意既野俾你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呢方面做得好唔好</a:t>
            </a:r>
            <a:r>
              <a:rPr b="1" lang="zh-TW" sz="28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04920" y="1447920"/>
            <a:ext cx="8381880" cy="4893120"/>
            <a:chOff x="304920" y="1447920"/>
            <a:chExt cx="8381880" cy="4893120"/>
          </a:xfrm>
        </p:grpSpPr>
        <p:graphicFrame>
          <p:nvGraphicFramePr>
            <p:cNvPr id="285" name="Rectangle 3"/>
            <p:cNvGraphicFramePr/>
            <p:nvPr/>
          </p:nvGraphicFramePr>
          <p:xfrm>
            <a:off x="304920" y="1447920"/>
            <a:ext cx="8381880" cy="4239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6" name="Rectangle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447920"/>
                      <a:ext cx="8381880" cy="42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"/>
            <p:cNvSpPr/>
            <p:nvPr/>
          </p:nvSpPr>
          <p:spPr>
            <a:xfrm>
              <a:off x="7511040" y="600372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 </a:t>
              </a: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 5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88" name=""/>
          <p:cNvGraphicFramePr/>
          <p:nvPr/>
        </p:nvGraphicFramePr>
        <p:xfrm>
          <a:off x="6248520" y="2666880"/>
          <a:ext cx="2438280" cy="1012680"/>
        </p:xfrm>
        <a:graphic>
          <a:graphicData uri="http://schemas.openxmlformats.org/drawingml/2006/table">
            <a:tbl>
              <a:tblPr/>
              <a:tblGrid>
                <a:gridCol w="1225440"/>
                <a:gridCol w="1212840"/>
              </a:tblGrid>
              <a:tr h="357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平均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76.5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1.01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基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5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762120" y="10666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</a:rPr>
              <a:t>總結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38080" y="121932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小學生就自己與媽媽的關係進行評分，接近半數超過</a:t>
            </a:r>
            <a:r>
              <a:rPr b="0" lang="en-US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90</a:t>
            </a:r>
            <a:r>
              <a:rPr b="0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分，另外三成超過</a:t>
            </a:r>
            <a:r>
              <a:rPr b="0" lang="en-US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80</a:t>
            </a:r>
            <a:r>
              <a:rPr b="0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分，一成超過</a:t>
            </a:r>
            <a:r>
              <a:rPr b="0" lang="en-US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70</a:t>
            </a:r>
            <a:r>
              <a:rPr b="0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分，平均</a:t>
            </a:r>
            <a:r>
              <a:rPr b="0" lang="en-US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88</a:t>
            </a:r>
            <a:r>
              <a:rPr b="0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「金牌媽咪」的條件，最重要是關心照顧子女，多用時間和行為愛護孩子。滿足子女的物質願望，屬於次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媽媽「關心照顧子女」的評分，平均超過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90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分，在稍為次要的項目，亦超過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80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分，即大部分小學生都認為自己的媽媽是「金牌媽咪」。</a:t>
            </a:r>
            <a:r>
              <a:rPr b="0" lang="zh-TW" sz="2400" spc="-1" strike="noStrike">
                <a:solidFill>
                  <a:srgbClr val="ffff99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調查以小學生為對象，答案可能偏於感性。倘若媽媽在旁邊聆聽，答案可能受到影響。不過，由於問卷沒有敏感題目，應該影響不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25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媽媽的角色會因人而異，而小朋友又不斷成長。媽媽如何能夠在子女成長過程中，不斷適應子女的需要，長期保持「金牌媽咪」的美譽，是一項十分艱巨的挑戰。</a:t>
            </a:r>
            <a:r>
              <a:rPr b="0" lang="zh-TW" sz="2400" spc="-1" strike="noStrike">
                <a:solidFill>
                  <a:srgbClr val="ffff99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21337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Arial"/>
                <a:ea typeface="標楷體"/>
              </a:rPr>
              <a:t>被訪者個人資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Arial"/>
              </a:rPr>
              <a:t>性別</a:t>
            </a:r>
            <a:r>
              <a:rPr b="1" lang="zh-TW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52600" y="1447920"/>
            <a:ext cx="8210520" cy="4803120"/>
            <a:chOff x="552600" y="1447920"/>
            <a:chExt cx="8210520" cy="4803120"/>
          </a:xfrm>
        </p:grpSpPr>
        <p:graphicFrame>
          <p:nvGraphicFramePr>
            <p:cNvPr id="296" name=""/>
            <p:cNvGraphicFramePr/>
            <p:nvPr/>
          </p:nvGraphicFramePr>
          <p:xfrm>
            <a:off x="552600" y="1447920"/>
            <a:ext cx="8029440" cy="4359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600" y="1447920"/>
                      <a:ext cx="8029440" cy="435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8" name=""/>
            <p:cNvSpPr/>
            <p:nvPr/>
          </p:nvSpPr>
          <p:spPr>
            <a:xfrm>
              <a:off x="7162920" y="57913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</a:t>
              </a:r>
              <a:r>
                <a:rPr b="0" lang="zh-TW" sz="2400" spc="-1" strike="noStrike">
                  <a:solidFill>
                    <a:srgbClr val="ffff99"/>
                  </a:solidFill>
                  <a:latin typeface="Times New Roman"/>
                </a:rPr>
                <a:t>= 5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62120" y="12952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Arial"/>
                <a:ea typeface="標楷體"/>
              </a:rPr>
              <a:t>年齡組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838080" y="1676520"/>
            <a:ext cx="8164800" cy="4385880"/>
            <a:chOff x="838080" y="1676520"/>
            <a:chExt cx="8164800" cy="4385880"/>
          </a:xfrm>
        </p:grpSpPr>
        <p:graphicFrame>
          <p:nvGraphicFramePr>
            <p:cNvPr id="302" name=""/>
            <p:cNvGraphicFramePr/>
            <p:nvPr/>
          </p:nvGraphicFramePr>
          <p:xfrm>
            <a:off x="838080" y="1676520"/>
            <a:ext cx="7936200" cy="3928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676520"/>
                      <a:ext cx="7936200" cy="39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4" name=""/>
            <p:cNvSpPr/>
            <p:nvPr/>
          </p:nvSpPr>
          <p:spPr>
            <a:xfrm>
              <a:off x="7402680" y="56941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</a:t>
              </a:r>
              <a:r>
                <a:rPr b="0" lang="zh-TW" sz="1800" spc="-1" strike="noStrike">
                  <a:solidFill>
                    <a:srgbClr val="ffff99"/>
                  </a:solidFill>
                  <a:latin typeface="Times New Roman"/>
                </a:rPr>
                <a:t>= 5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68580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Arial"/>
                <a:ea typeface="標楷體"/>
              </a:rPr>
              <a:t>報 告 完 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571760" y="3276720"/>
            <a:ext cx="600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Arial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標楷體"/>
              </a:rPr>
              <a:t>樣本資料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5880" y="1928520"/>
            <a:ext cx="77580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訪問日期        ： 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08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3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月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31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至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4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月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11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日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訪問對象        ：現就讀小一至小六並操粵語的學生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調查方法        ：由訪問員直接進行電話訪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樣本數目        ：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510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個成功個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有效回應比率：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85.3% </a:t>
            </a:r>
            <a:r>
              <a:rPr b="1" lang="en-US" sz="2500" spc="-1" strike="noStrike">
                <a:solidFill>
                  <a:srgbClr val="ffff99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ffff99"/>
                </a:solidFill>
                <a:latin typeface="標楷體"/>
                <a:ea typeface="標楷體"/>
              </a:rPr>
              <a:t>以符合資格的目標對象計算</a:t>
            </a:r>
            <a:r>
              <a:rPr b="1" lang="en-US" sz="2500" spc="-1" strike="noStrike">
                <a:solidFill>
                  <a:srgbClr val="ffff99"/>
                </a:solidFill>
                <a:latin typeface="標楷體"/>
                <a:ea typeface="標楷體"/>
              </a:rPr>
              <a:t>)</a:t>
            </a:r>
            <a:r>
              <a:rPr b="1" lang="en-US" sz="2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抽樣誤差        ：少於 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+/- 4.4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714240" y="164304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請問而家係邊一個主要負責照顧／湊你呀？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762120" y="11430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-3200400" y="762120"/>
            <a:ext cx="10080000" cy="3581280"/>
            <a:chOff x="-3200400" y="762120"/>
            <a:chExt cx="10080000" cy="3581280"/>
          </a:xfrm>
        </p:grpSpPr>
        <p:sp>
          <p:nvSpPr>
            <p:cNvPr id="109" name="Rectangle 6"/>
            <p:cNvSpPr/>
            <p:nvPr/>
          </p:nvSpPr>
          <p:spPr>
            <a:xfrm>
              <a:off x="5813640" y="258120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 </a:t>
              </a: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 50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0" name="Object 12"/>
            <p:cNvGraphicFramePr/>
            <p:nvPr/>
          </p:nvGraphicFramePr>
          <p:xfrm>
            <a:off x="-3200400" y="762120"/>
            <a:ext cx="9296280" cy="3581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3200400" y="762120"/>
                      <a:ext cx="929628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2" name="Group 15"/>
          <p:cNvGrpSpPr/>
          <p:nvPr/>
        </p:nvGrpSpPr>
        <p:grpSpPr>
          <a:xfrm>
            <a:off x="3124080" y="3657600"/>
            <a:ext cx="6782040" cy="3200400"/>
            <a:chOff x="3124080" y="3657600"/>
            <a:chExt cx="6782040" cy="3200400"/>
          </a:xfrm>
        </p:grpSpPr>
        <p:graphicFrame>
          <p:nvGraphicFramePr>
            <p:cNvPr id="113" name="Object 8"/>
            <p:cNvGraphicFramePr/>
            <p:nvPr/>
          </p:nvGraphicFramePr>
          <p:xfrm>
            <a:off x="3124080" y="3657600"/>
            <a:ext cx="6782040" cy="3200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4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657600"/>
                      <a:ext cx="678204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Rectangle 9"/>
            <p:cNvSpPr/>
            <p:nvPr/>
          </p:nvSpPr>
          <p:spPr>
            <a:xfrm>
              <a:off x="4835520" y="6248520"/>
              <a:ext cx="107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</a:t>
              </a: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509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5943600" y="36576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 u="sng">
                  <a:solidFill>
                    <a:srgbClr val="ffff99"/>
                  </a:solidFill>
                  <a:uFillTx/>
                  <a:latin typeface="Times New Roman"/>
                  <a:ea typeface="標楷體"/>
                </a:rPr>
                <a:t>你媽媽是否需要工作？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Arial"/>
              </a:rPr>
              <a:t>係屋企既時候，你最鍾意同邊個一齊呀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Object 5"/>
          <p:cNvGraphicFramePr/>
          <p:nvPr/>
        </p:nvGraphicFramePr>
        <p:xfrm>
          <a:off x="152280" y="1523880"/>
          <a:ext cx="8712360" cy="46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871236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6"/>
          <p:cNvSpPr/>
          <p:nvPr/>
        </p:nvSpPr>
        <p:spPr>
          <a:xfrm>
            <a:off x="7569720" y="61167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Arial"/>
              </a:rPr>
              <a:t>如果你有唔開心，你通常第一時間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Arial"/>
              </a:rPr>
              <a:t>會搵邊個傾計呀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0" y="1676520"/>
          <a:ext cx="8864640" cy="43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886464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5"/>
          <p:cNvSpPr/>
          <p:nvPr/>
        </p:nvSpPr>
        <p:spPr>
          <a:xfrm>
            <a:off x="762120" y="13716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566480" y="579132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5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Arial"/>
              </a:rPr>
              <a:t>你媽媽通常每日會有幾多時間陪你做功課、溫書、補習等等？每日大約有幾多個鐘呢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4200" y="1600200"/>
            <a:ext cx="8539200" cy="4381560"/>
            <a:chOff x="214200" y="1600200"/>
            <a:chExt cx="8539200" cy="4381560"/>
          </a:xfrm>
        </p:grpSpPr>
        <p:grpSp>
          <p:nvGrpSpPr>
            <p:cNvPr id="130" name=""/>
            <p:cNvGrpSpPr/>
            <p:nvPr/>
          </p:nvGrpSpPr>
          <p:grpSpPr>
            <a:xfrm>
              <a:off x="5857920" y="1714680"/>
              <a:ext cx="2895480" cy="1266840"/>
              <a:chOff x="5857920" y="1714680"/>
              <a:chExt cx="2895480" cy="1266840"/>
            </a:xfrm>
          </p:grpSpPr>
          <p:sp>
            <p:nvSpPr>
              <p:cNvPr id="131" name="Rectangle 7"/>
              <p:cNvSpPr/>
              <p:nvPr/>
            </p:nvSpPr>
            <p:spPr>
              <a:xfrm>
                <a:off x="7531200" y="2019240"/>
                <a:ext cx="12222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0.07</a:t>
                </a:r>
                <a:r>
                  <a:rPr b="0" lang="zh-TW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小時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8"/>
              <p:cNvSpPr/>
              <p:nvPr/>
            </p:nvSpPr>
            <p:spPr>
              <a:xfrm>
                <a:off x="6315120" y="2019240"/>
                <a:ext cx="12160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ffff99"/>
                    </a:solidFill>
                    <a:latin typeface="Arial"/>
                    <a:ea typeface="標楷體"/>
                  </a:rPr>
                  <a:t>標準誤差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9"/>
              <p:cNvSpPr/>
              <p:nvPr/>
            </p:nvSpPr>
            <p:spPr>
              <a:xfrm>
                <a:off x="7531200" y="2341440"/>
                <a:ext cx="12222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497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0"/>
              <p:cNvSpPr/>
              <p:nvPr/>
            </p:nvSpPr>
            <p:spPr>
              <a:xfrm>
                <a:off x="7531200" y="1714680"/>
                <a:ext cx="1222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2.1</a:t>
                </a:r>
                <a:r>
                  <a:rPr b="0" lang="zh-TW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小時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1"/>
              <p:cNvSpPr/>
              <p:nvPr/>
            </p:nvSpPr>
            <p:spPr>
              <a:xfrm>
                <a:off x="6315120" y="1714680"/>
                <a:ext cx="1216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ffff99"/>
                    </a:solidFill>
                    <a:latin typeface="Arial"/>
                    <a:ea typeface="標楷體"/>
                  </a:rPr>
                  <a:t>平均時間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Rectangle 12"/>
              <p:cNvSpPr/>
              <p:nvPr/>
            </p:nvSpPr>
            <p:spPr>
              <a:xfrm>
                <a:off x="6315120" y="2341440"/>
                <a:ext cx="121608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ffff99"/>
                    </a:solidFill>
                    <a:latin typeface="Arial"/>
                    <a:ea typeface="標楷體"/>
                  </a:rPr>
                  <a:t>基數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3"/>
              <p:cNvSpPr/>
              <p:nvPr/>
            </p:nvSpPr>
            <p:spPr>
              <a:xfrm>
                <a:off x="6315120" y="1714680"/>
                <a:ext cx="2438280" cy="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14"/>
              <p:cNvSpPr/>
              <p:nvPr/>
            </p:nvSpPr>
            <p:spPr>
              <a:xfrm>
                <a:off x="6315120" y="2644920"/>
                <a:ext cx="2438280" cy="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15"/>
              <p:cNvSpPr/>
              <p:nvPr/>
            </p:nvSpPr>
            <p:spPr>
              <a:xfrm>
                <a:off x="7531200" y="1714680"/>
                <a:ext cx="0" cy="304560"/>
              </a:xfrm>
              <a:prstGeom prst="line">
                <a:avLst/>
              </a:prstGeom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16"/>
              <p:cNvSpPr/>
              <p:nvPr/>
            </p:nvSpPr>
            <p:spPr>
              <a:xfrm>
                <a:off x="6315120" y="2019240"/>
                <a:ext cx="2438280" cy="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17"/>
              <p:cNvSpPr/>
              <p:nvPr/>
            </p:nvSpPr>
            <p:spPr>
              <a:xfrm>
                <a:off x="6315120" y="2341440"/>
                <a:ext cx="2438280" cy="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18"/>
              <p:cNvSpPr/>
              <p:nvPr/>
            </p:nvSpPr>
            <p:spPr>
              <a:xfrm>
                <a:off x="6315120" y="2019240"/>
                <a:ext cx="0" cy="32220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19"/>
              <p:cNvSpPr/>
              <p:nvPr/>
            </p:nvSpPr>
            <p:spPr>
              <a:xfrm>
                <a:off x="6315120" y="1714680"/>
                <a:ext cx="0" cy="30456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0"/>
              <p:cNvSpPr/>
              <p:nvPr/>
            </p:nvSpPr>
            <p:spPr>
              <a:xfrm>
                <a:off x="6315120" y="2341440"/>
                <a:ext cx="0" cy="30348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1"/>
              <p:cNvSpPr/>
              <p:nvPr/>
            </p:nvSpPr>
            <p:spPr>
              <a:xfrm>
                <a:off x="7531200" y="2019240"/>
                <a:ext cx="0" cy="32220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2"/>
              <p:cNvSpPr/>
              <p:nvPr/>
            </p:nvSpPr>
            <p:spPr>
              <a:xfrm>
                <a:off x="7531200" y="2341440"/>
                <a:ext cx="0" cy="303480"/>
              </a:xfrm>
              <a:prstGeom prst="line">
                <a:avLst/>
              </a:prstGeom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3"/>
              <p:cNvSpPr/>
              <p:nvPr/>
            </p:nvSpPr>
            <p:spPr>
              <a:xfrm>
                <a:off x="8753400" y="2019240"/>
                <a:ext cx="0" cy="32220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24"/>
              <p:cNvSpPr/>
              <p:nvPr/>
            </p:nvSpPr>
            <p:spPr>
              <a:xfrm>
                <a:off x="8753400" y="1714680"/>
                <a:ext cx="0" cy="30456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25"/>
              <p:cNvSpPr/>
              <p:nvPr/>
            </p:nvSpPr>
            <p:spPr>
              <a:xfrm>
                <a:off x="8753400" y="2341440"/>
                <a:ext cx="0" cy="30348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28"/>
              <p:cNvSpPr/>
              <p:nvPr/>
            </p:nvSpPr>
            <p:spPr>
              <a:xfrm>
                <a:off x="5857920" y="2705040"/>
                <a:ext cx="2362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*</a:t>
                </a:r>
                <a:r>
                  <a:rPr b="0" lang="zh-TW" sz="12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撇除「唔知／難講」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14200" y="1600200"/>
              <a:ext cx="8458200" cy="4381560"/>
              <a:chOff x="214200" y="1600200"/>
              <a:chExt cx="8458200" cy="4381560"/>
            </a:xfrm>
          </p:grpSpPr>
          <p:graphicFrame>
            <p:nvGraphicFramePr>
              <p:cNvPr id="152" name="Object 41"/>
              <p:cNvGraphicFramePr/>
              <p:nvPr/>
            </p:nvGraphicFramePr>
            <p:xfrm>
              <a:off x="214200" y="1714680"/>
              <a:ext cx="8458200" cy="42670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53" name="Object 4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14200" y="1714680"/>
                        <a:ext cx="8458200" cy="426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4" name=""/>
              <p:cNvSpPr/>
              <p:nvPr/>
            </p:nvSpPr>
            <p:spPr>
              <a:xfrm>
                <a:off x="304920" y="1600200"/>
                <a:ext cx="144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基數 </a:t>
                </a:r>
                <a:r>
                  <a:rPr b="0" lang="zh-TW" sz="16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= 5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3929040" y="4000680"/>
            <a:ext cx="5214960" cy="2643120"/>
            <a:chOff x="3929040" y="4000680"/>
            <a:chExt cx="5214960" cy="2643120"/>
          </a:xfrm>
        </p:grpSpPr>
        <p:graphicFrame>
          <p:nvGraphicFramePr>
            <p:cNvPr id="156" name="Object 31"/>
            <p:cNvGraphicFramePr/>
            <p:nvPr/>
          </p:nvGraphicFramePr>
          <p:xfrm>
            <a:off x="3929040" y="4218120"/>
            <a:ext cx="5214960" cy="2425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7" name="Object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29040" y="4218120"/>
                      <a:ext cx="5214960" cy="24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Rectangle 32"/>
            <p:cNvSpPr/>
            <p:nvPr/>
          </p:nvSpPr>
          <p:spPr>
            <a:xfrm>
              <a:off x="4584960" y="619776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 </a:t>
              </a: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 4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33"/>
            <p:cNvSpPr/>
            <p:nvPr/>
          </p:nvSpPr>
          <p:spPr>
            <a:xfrm>
              <a:off x="4862520" y="4000680"/>
              <a:ext cx="404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 u="sng">
                  <a:solidFill>
                    <a:srgbClr val="ffff99"/>
                  </a:solidFill>
                  <a:uFillTx/>
                  <a:latin typeface="Arial"/>
                  <a:ea typeface="標楷體"/>
                </a:rPr>
                <a:t>媽媽每日陪同子女溫習的時間是否足夠？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除左以上既時間，你媽媽通常每日又會陪你一齊玩、打電腦、睇圖書、睇電視等等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…</a:t>
            </a: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幾多個鐘？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14200" y="1600200"/>
            <a:ext cx="8467920" cy="4776840"/>
            <a:chOff x="214200" y="1600200"/>
            <a:chExt cx="8467920" cy="4776840"/>
          </a:xfrm>
        </p:grpSpPr>
        <p:grpSp>
          <p:nvGrpSpPr>
            <p:cNvPr id="163" name=""/>
            <p:cNvGrpSpPr/>
            <p:nvPr/>
          </p:nvGrpSpPr>
          <p:grpSpPr>
            <a:xfrm>
              <a:off x="5786280" y="1785960"/>
              <a:ext cx="2895840" cy="1267200"/>
              <a:chOff x="5786280" y="1785960"/>
              <a:chExt cx="2895840" cy="1267200"/>
            </a:xfrm>
          </p:grpSpPr>
          <p:sp>
            <p:nvSpPr>
              <p:cNvPr id="164" name="Rectangle 44"/>
              <p:cNvSpPr/>
              <p:nvPr/>
            </p:nvSpPr>
            <p:spPr>
              <a:xfrm>
                <a:off x="7459560" y="2090880"/>
                <a:ext cx="1222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0.05</a:t>
                </a:r>
                <a:r>
                  <a:rPr b="0" lang="zh-TW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小時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45"/>
              <p:cNvSpPr/>
              <p:nvPr/>
            </p:nvSpPr>
            <p:spPr>
              <a:xfrm>
                <a:off x="6243480" y="2090880"/>
                <a:ext cx="12160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ffff99"/>
                    </a:solidFill>
                    <a:latin typeface="Arial"/>
                    <a:ea typeface="標楷體"/>
                  </a:rPr>
                  <a:t>標準誤差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46"/>
              <p:cNvSpPr/>
              <p:nvPr/>
            </p:nvSpPr>
            <p:spPr>
              <a:xfrm>
                <a:off x="7459560" y="2413080"/>
                <a:ext cx="1222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497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47"/>
              <p:cNvSpPr/>
              <p:nvPr/>
            </p:nvSpPr>
            <p:spPr>
              <a:xfrm>
                <a:off x="7459560" y="1785960"/>
                <a:ext cx="12225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1.5</a:t>
                </a:r>
                <a:r>
                  <a:rPr b="0" lang="zh-TW" sz="14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小時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48"/>
              <p:cNvSpPr/>
              <p:nvPr/>
            </p:nvSpPr>
            <p:spPr>
              <a:xfrm>
                <a:off x="6243480" y="1785960"/>
                <a:ext cx="1216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ffff99"/>
                    </a:solidFill>
                    <a:latin typeface="Arial"/>
                    <a:ea typeface="標楷體"/>
                  </a:rPr>
                  <a:t>平均時間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49"/>
              <p:cNvSpPr/>
              <p:nvPr/>
            </p:nvSpPr>
            <p:spPr>
              <a:xfrm>
                <a:off x="6243480" y="2413080"/>
                <a:ext cx="121608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46800" bIns="46800" anchor="t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ffff99"/>
                    </a:solidFill>
                    <a:latin typeface="Arial"/>
                    <a:ea typeface="標楷體"/>
                  </a:rPr>
                  <a:t>基數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50"/>
              <p:cNvSpPr/>
              <p:nvPr/>
            </p:nvSpPr>
            <p:spPr>
              <a:xfrm>
                <a:off x="6243480" y="1785960"/>
                <a:ext cx="2438640" cy="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51"/>
              <p:cNvSpPr/>
              <p:nvPr/>
            </p:nvSpPr>
            <p:spPr>
              <a:xfrm>
                <a:off x="6243480" y="2716200"/>
                <a:ext cx="2438640" cy="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52"/>
              <p:cNvSpPr/>
              <p:nvPr/>
            </p:nvSpPr>
            <p:spPr>
              <a:xfrm>
                <a:off x="7459560" y="1785960"/>
                <a:ext cx="0" cy="304920"/>
              </a:xfrm>
              <a:prstGeom prst="line">
                <a:avLst/>
              </a:prstGeom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53"/>
              <p:cNvSpPr/>
              <p:nvPr/>
            </p:nvSpPr>
            <p:spPr>
              <a:xfrm>
                <a:off x="6243480" y="2090880"/>
                <a:ext cx="2438640" cy="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54"/>
              <p:cNvSpPr/>
              <p:nvPr/>
            </p:nvSpPr>
            <p:spPr>
              <a:xfrm>
                <a:off x="6243480" y="2413080"/>
                <a:ext cx="2438640" cy="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55"/>
              <p:cNvSpPr/>
              <p:nvPr/>
            </p:nvSpPr>
            <p:spPr>
              <a:xfrm>
                <a:off x="6243480" y="2090880"/>
                <a:ext cx="0" cy="32220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56"/>
              <p:cNvSpPr/>
              <p:nvPr/>
            </p:nvSpPr>
            <p:spPr>
              <a:xfrm>
                <a:off x="6243480" y="1785960"/>
                <a:ext cx="0" cy="30492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57"/>
              <p:cNvSpPr/>
              <p:nvPr/>
            </p:nvSpPr>
            <p:spPr>
              <a:xfrm>
                <a:off x="6243480" y="2413080"/>
                <a:ext cx="0" cy="30312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58"/>
              <p:cNvSpPr/>
              <p:nvPr/>
            </p:nvSpPr>
            <p:spPr>
              <a:xfrm>
                <a:off x="7459560" y="2090880"/>
                <a:ext cx="0" cy="32220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59"/>
              <p:cNvSpPr/>
              <p:nvPr/>
            </p:nvSpPr>
            <p:spPr>
              <a:xfrm>
                <a:off x="7459560" y="2413080"/>
                <a:ext cx="0" cy="303120"/>
              </a:xfrm>
              <a:prstGeom prst="line">
                <a:avLst/>
              </a:prstGeom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60"/>
              <p:cNvSpPr/>
              <p:nvPr/>
            </p:nvSpPr>
            <p:spPr>
              <a:xfrm>
                <a:off x="8682120" y="2090880"/>
                <a:ext cx="0" cy="322200"/>
              </a:xfrm>
              <a:prstGeom prst="line">
                <a:avLst/>
              </a:prstGeom>
              <a:ln cap="rnd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61"/>
              <p:cNvSpPr/>
              <p:nvPr/>
            </p:nvSpPr>
            <p:spPr>
              <a:xfrm>
                <a:off x="8682120" y="1785960"/>
                <a:ext cx="0" cy="30492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62"/>
              <p:cNvSpPr/>
              <p:nvPr/>
            </p:nvSpPr>
            <p:spPr>
              <a:xfrm>
                <a:off x="8682120" y="2413080"/>
                <a:ext cx="0" cy="303120"/>
              </a:xfrm>
              <a:prstGeom prst="line">
                <a:avLst/>
              </a:prstGeom>
              <a:ln cap="sq"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Text Box 63"/>
              <p:cNvSpPr/>
              <p:nvPr/>
            </p:nvSpPr>
            <p:spPr>
              <a:xfrm>
                <a:off x="5786280" y="2776680"/>
                <a:ext cx="2362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*</a:t>
                </a:r>
                <a:r>
                  <a:rPr b="0" lang="zh-TW" sz="12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撇除「唔知／難講」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14200" y="1600200"/>
              <a:ext cx="8386920" cy="4776840"/>
              <a:chOff x="214200" y="1600200"/>
              <a:chExt cx="8386920" cy="4776840"/>
            </a:xfrm>
          </p:grpSpPr>
          <p:graphicFrame>
            <p:nvGraphicFramePr>
              <p:cNvPr id="185" name="Object 67"/>
              <p:cNvGraphicFramePr/>
              <p:nvPr/>
            </p:nvGraphicFramePr>
            <p:xfrm>
              <a:off x="214200" y="1785960"/>
              <a:ext cx="8386920" cy="45910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86" name="Object 6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14200" y="1785960"/>
                        <a:ext cx="8386920" cy="459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7" name=""/>
              <p:cNvSpPr/>
              <p:nvPr/>
            </p:nvSpPr>
            <p:spPr>
              <a:xfrm>
                <a:off x="380880" y="1600200"/>
                <a:ext cx="129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基數 </a:t>
                </a:r>
                <a:r>
                  <a:rPr b="0" lang="zh-TW" sz="1600" spc="-1" strike="noStrike">
                    <a:solidFill>
                      <a:srgbClr val="ffff99"/>
                    </a:solidFill>
                    <a:latin typeface="Times New Roman"/>
                    <a:ea typeface="標楷體"/>
                  </a:rPr>
                  <a:t>= 5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815280" y="3786120"/>
            <a:ext cx="5042880" cy="2857680"/>
            <a:chOff x="3815280" y="3786120"/>
            <a:chExt cx="5042880" cy="2857680"/>
          </a:xfrm>
        </p:grpSpPr>
        <p:graphicFrame>
          <p:nvGraphicFramePr>
            <p:cNvPr id="189" name="Object 30"/>
            <p:cNvGraphicFramePr/>
            <p:nvPr/>
          </p:nvGraphicFramePr>
          <p:xfrm>
            <a:off x="3863880" y="3932280"/>
            <a:ext cx="4994280" cy="2711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0" name="Object 3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63880" y="3932280"/>
                      <a:ext cx="4994280" cy="27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Rectangle 31"/>
            <p:cNvSpPr/>
            <p:nvPr/>
          </p:nvSpPr>
          <p:spPr>
            <a:xfrm>
              <a:off x="3815280" y="613080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基數 </a:t>
              </a: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  <a:ea typeface="標楷體"/>
                </a:rPr>
                <a:t>= 4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34"/>
            <p:cNvSpPr/>
            <p:nvPr/>
          </p:nvSpPr>
          <p:spPr>
            <a:xfrm>
              <a:off x="4863960" y="3786120"/>
              <a:ext cx="369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 u="sng">
                  <a:solidFill>
                    <a:srgbClr val="ffff99"/>
                  </a:solidFill>
                  <a:uFillTx/>
                  <a:latin typeface="Arial"/>
                  <a:ea typeface="標楷體"/>
                </a:rPr>
                <a:t>媽媽每日陪同子女玩耍的時間是否足夠？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綜合溫習及玩耍時間，受訪學生的媽媽</a:t>
            </a:r>
            <a:br>
              <a:rPr sz="3000"/>
            </a:br>
            <a:r>
              <a:rPr b="1" lang="zh-TW" sz="3000" spc="-1" strike="noStrike">
                <a:solidFill>
                  <a:srgbClr val="ffff99"/>
                </a:solidFill>
                <a:latin typeface="Arial"/>
              </a:rPr>
              <a:t>每日陪伴他們的時間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304920" y="1676520"/>
          <a:ext cx="85341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341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5486400" y="1600200"/>
          <a:ext cx="2438280" cy="939960"/>
        </p:xfrm>
        <a:graphic>
          <a:graphicData uri="http://schemas.openxmlformats.org/drawingml/2006/table">
            <a:tbl>
              <a:tblPr/>
              <a:tblGrid>
                <a:gridCol w="1216080"/>
                <a:gridCol w="1222200"/>
              </a:tblGrid>
              <a:tr h="307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平均時間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3.6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0.10</a:t>
                      </a: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99"/>
                          </a:solidFill>
                          <a:latin typeface="Arial"/>
                          <a:ea typeface="標楷體"/>
                        </a:rPr>
                        <a:t>基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Times New Roman"/>
                          <a:ea typeface="標楷體"/>
                        </a:rPr>
                        <a:t>4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5"/>
          <p:cNvSpPr/>
          <p:nvPr/>
        </p:nvSpPr>
        <p:spPr>
          <a:xfrm>
            <a:off x="7663320" y="624528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基數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= 4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joseph</cp:lastModifiedBy>
  <cp:lastPrinted>2001-04-04T10:00:24Z</cp:lastPrinted>
  <dcterms:modified xsi:type="dcterms:W3CDTF">2008-05-09T04:17:57Z</dcterms:modified>
  <cp:revision>1289</cp:revision>
  <dc:subject/>
  <dc:title>無投影片標題</dc:title>
</cp:coreProperties>
</file>