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glass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DED-C297-47EC-AFFD-2A5ABF9B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8120" y="75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A2DD-3A1E-4F9C-A80B-0D1C509D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8120" y="75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1908-0930-4A81-8CCB-293D161D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8120" y="75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0F9-A05C-45D5-866B-ED740C48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8120" y="75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667-F8D8-4B5F-94FE-1BF0066F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8120" y="75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550-7E5C-470B-8145-8B98F59B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8120" y="75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9929-E584-4714-9025-F5BFB594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8120" y="75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495-D90E-465C-BEA0-6A7DABF3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8120" y="759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696-083F-48FF-94C7-8ADDF8F8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8120" y="75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009E-0F7D-424E-B837-954E1290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8120" y="75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F1C-6C2B-4D3A-8BEE-613D90AC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8120" y="75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C8F-7C50-4E31-85AD-0E443B87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76520"/>
            <a:ext cx="91440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66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D9F0-FBEE-4129-B20F-29326CF0F4C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04812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7240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137040" y="645156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 Gothic MT"/>
                <a:ea typeface="新細明體"/>
              </a:rPr>
              <a:t>Prevent Cartilage Break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44360" y="19810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新細明體"/>
              </a:rPr>
              <a:t>Be Aware of Traps from Occupations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新細明體"/>
              </a:rPr>
              <a:t>Be Alerted to Joint Health NOW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Dr. Henry Ho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Orthopedic Specialist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17 November, 2005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42920" y="198360"/>
            <a:ext cx="6227640" cy="99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Joint Pains o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Back and Lumbar Vertebra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  <a:ea typeface="新細明體"/>
              </a:rPr>
              <a:t>Symptoms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Pains on the Back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Stiffed joints at lumbar vertebras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Numbed and painful legs</a:t>
            </a:r>
            <a:r>
              <a:rPr b="1" lang="zh-TW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(Neuropathic pain on ischium)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8208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  <a:ea typeface="新細明體"/>
              </a:rPr>
              <a:t>People at Higher Risk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Improper sitting posture (e.g. office workers, drivers)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Misuse of strengths and improper posture when lifting/carrying goods (e.g. carriers or carriers at the airports)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Prolonged standing people (e.g. flight attendants, waiters, salespeople)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People who frequently bend their bodies (e.g. construction site workers)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Ladies (due to prolonged wearing of high-heal shoes)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410920" y="126720"/>
            <a:ext cx="6696360" cy="99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Joint Pains o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Back and Lumbar Vertebra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16000" y="188640"/>
            <a:ext cx="6227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Joint Problems o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 Neck Vertebra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  <a:ea typeface="新細明體"/>
              </a:rPr>
              <a:t>Symptoms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Neck pains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Numbed joints at neck vertebras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  <a:ea typeface="新細明體"/>
              </a:rPr>
              <a:t>People at Higher Risk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Improper sitting posture 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People who keep on lowering their head, or keep a prolonged gesture (e.g. clerks, typists, computer operators)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People who keep on lifting up their head (e.g. teachers, painter workers)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Physical laborers (e.g. carriers)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916000" y="188640"/>
            <a:ext cx="6227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Joint Problems o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 Neck Vertebra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7760" y="404280"/>
            <a:ext cx="609588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Knee Join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757520"/>
            <a:ext cx="4416480" cy="4483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4640040" cy="4184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1989000"/>
            <a:ext cx="3960720" cy="489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  <a:ea typeface="新細明體"/>
              </a:rPr>
              <a:t>Normal Knee Joi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29160" y="1984320"/>
            <a:ext cx="30639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新細明體"/>
              </a:rPr>
              <a:t>Knee joints with Arthri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0" y="445608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新細明體"/>
              </a:rPr>
              <a:t>menis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2637000"/>
            <a:ext cx="792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新細明體"/>
              </a:rPr>
              <a:t>Fem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4152960"/>
            <a:ext cx="7923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新細明體"/>
              </a:rPr>
              <a:t>Femur Cartil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537080"/>
            <a:ext cx="115272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新細明體"/>
              </a:rPr>
              <a:t>Tibia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新細明體"/>
              </a:rPr>
              <a:t> Cartilag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6080" y="479736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新細明體"/>
              </a:rPr>
              <a:t>Lig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1240" y="5168880"/>
            <a:ext cx="525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新細明體"/>
              </a:rPr>
              <a:t>Ti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5080" y="5443560"/>
            <a:ext cx="653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新細明體"/>
              </a:rPr>
              <a:t>Fibula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85520" y="4003560"/>
            <a:ext cx="703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新細明體"/>
              </a:rPr>
              <a:t>Patel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06680" y="3576600"/>
            <a:ext cx="8049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新細明體"/>
              </a:rPr>
              <a:t>Patella</a:t>
            </a:r>
            <a:r>
              <a:rPr b="1" lang="en-US" sz="1100" spc="-1" strike="noStrike">
                <a:solidFill>
                  <a:srgbClr val="ffffff"/>
                </a:solidFill>
                <a:latin typeface="Tahoma"/>
                <a:ea typeface="新細明體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新細明體"/>
              </a:rPr>
              <a:t>Liga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3573360"/>
            <a:ext cx="107964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新細明體"/>
              </a:rPr>
              <a:t>Femur  Osteophy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8000" y="4724280"/>
            <a:ext cx="93672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新細明體"/>
              </a:rPr>
              <a:t>Inclined inwards; angulations deform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72360" y="3573360"/>
            <a:ext cx="79236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新細明體"/>
              </a:rPr>
              <a:t>Narrowed joint seg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22720" y="188640"/>
            <a:ext cx="5021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Knee Arthriti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  <a:ea typeface="新細明體"/>
              </a:rPr>
              <a:t>Symptoms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Feeling weak and painful at the knees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Difficult to stand up after squatting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Numbed and inflexible knee joints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Feeling weak going up- or down-stairs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  <a:ea typeface="新細明體"/>
              </a:rPr>
              <a:t>People at Higher Risk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People with obesity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Prolonged squatting, kneeling or bending of knees (e.g. clerks, drivers, decorating workers, cleaning staff, construction workers)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122720" y="188640"/>
            <a:ext cx="5021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Knee Arthriti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34920" y="2219400"/>
            <a:ext cx="2952720" cy="4017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156280" y="2287440"/>
            <a:ext cx="2442960" cy="3949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00000" y="15746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新細明體"/>
              </a:rPr>
              <a:t>Symptoms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新細明體"/>
              </a:rPr>
              <a:t>an earlier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164772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新細明體"/>
              </a:rPr>
              <a:t>Symptoms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新細明體"/>
              </a:rPr>
              <a:t>a later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19520" y="349200"/>
            <a:ext cx="632448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Knees with Arthriti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520" y="349200"/>
            <a:ext cx="632448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Knees with Arthriti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19320" y="1731960"/>
            <a:ext cx="7010280" cy="460548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2666880" y="2895480"/>
            <a:ext cx="5562720" cy="1905120"/>
            <a:chOff x="2666880" y="2895480"/>
            <a:chExt cx="5562720" cy="1905120"/>
          </a:xfrm>
        </p:grpSpPr>
        <p:sp>
          <p:nvSpPr>
            <p:cNvPr id="128" name=""/>
            <p:cNvSpPr/>
            <p:nvPr/>
          </p:nvSpPr>
          <p:spPr>
            <a:xfrm>
              <a:off x="2666880" y="2895480"/>
              <a:ext cx="2438640" cy="1676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43600" y="2971800"/>
              <a:ext cx="2286000" cy="18288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6094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Tahoma"/>
                <a:ea typeface="新細明體"/>
              </a:rPr>
              <a:t>Curing of Arthritis</a:t>
            </a:r>
            <a:endParaRPr b="1" lang="en-US" sz="4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56000" y="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Causes of Joint P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1773360"/>
            <a:ext cx="2951280" cy="128268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Cartilage degener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Joint wear-and-tear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muscular dystroph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80000" y="4653000"/>
            <a:ext cx="3095640" cy="129528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新細明體"/>
              </a:rPr>
              <a:t>Arthritis</a:t>
            </a:r>
            <a:r>
              <a:rPr b="1" lang="zh-TW" sz="2400" spc="-1" strike="noStrike">
                <a:solidFill>
                  <a:srgbClr val="ffffff"/>
                </a:solidFill>
                <a:latin typeface="Tahoma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新細明體"/>
              </a:rPr>
              <a:t>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新細明體"/>
              </a:rPr>
              <a:t>Joint de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5157720"/>
            <a:ext cx="3384720" cy="11509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  <a:ea typeface="新細明體"/>
              </a:rPr>
              <a:t>Medication or Surg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1844640"/>
            <a:ext cx="3384720" cy="113976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新細明體"/>
              </a:rPr>
              <a:t>Over 200 j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新細明體"/>
              </a:rPr>
              <a:t>in on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55960" y="2192400"/>
            <a:ext cx="1440000" cy="431640"/>
          </a:xfrm>
          <a:custGeom>
            <a:avLst/>
            <a:gdLst>
              <a:gd name="textAreaLeft" fmla="*/ 252000 w 1440000"/>
              <a:gd name="textAreaRight" fmla="*/ 1044000 w 1440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3779640" y="5300640"/>
            <a:ext cx="1439640" cy="432000"/>
          </a:xfrm>
          <a:custGeom>
            <a:avLst/>
            <a:gdLst>
              <a:gd name="textAreaLeft" fmla="*/ 252000 w 1439640"/>
              <a:gd name="textAreaRight" fmla="*/ 1044000 w 143964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5356440" y="3669480"/>
            <a:ext cx="1440000" cy="431640"/>
          </a:xfrm>
          <a:custGeom>
            <a:avLst/>
            <a:gdLst>
              <a:gd name="textAreaLeft" fmla="*/ 252000 w 1440000"/>
              <a:gd name="textAreaRight" fmla="*/ 1044000 w 1440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20000" y="3141720"/>
            <a:ext cx="865080" cy="43164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3716280"/>
            <a:ext cx="2016360" cy="79236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Impact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work and tem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4211280" y="4076280"/>
            <a:ext cx="1081080" cy="576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3357720"/>
            <a:ext cx="3168720" cy="720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Deteriorating living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in the long 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4149360"/>
            <a:ext cx="0" cy="86508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7760" y="333000"/>
            <a:ext cx="609588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Curing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91856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Suitable training and exercises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Physiotherapy 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Medication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Surgical operations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708280"/>
            <a:ext cx="91440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Tahoma"/>
                <a:ea typeface="新細明體"/>
              </a:rPr>
              <a:t>Importance of Advanced Alert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Tahoma"/>
                <a:ea typeface="新細明體"/>
              </a:rPr>
              <a:t>to Joint Car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8120" y="342720"/>
            <a:ext cx="64008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  <a:ea typeface="新細明體"/>
              </a:rPr>
              <a:t>Tips on Joint Protection for Working Clas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新細明體"/>
              </a:rPr>
              <a:t>Weight control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新細明體"/>
              </a:rPr>
              <a:t>Pay attention to proper postures at work or exercise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新細明體"/>
              </a:rPr>
              <a:t>Don’t keep the same posture for a prolonged time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新細明體"/>
              </a:rPr>
              <a:t>Prevent over-loaded activities: repeated sitting and squatting, up and down-stairs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新細明體"/>
              </a:rPr>
              <a:t>Develop proper sitting posture, lifting methods and don’t bend your back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新細明體"/>
              </a:rPr>
              <a:t>Do proper exercises (e.g. swimming, tai-chi, extension exercises)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新細明體"/>
              </a:rPr>
              <a:t>Having a proper diet and taking appropriate health supplements</a:t>
            </a:r>
            <a:endParaRPr b="1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71680" y="169056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224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  <a:ea typeface="新細明體"/>
              </a:rPr>
              <a:t>The first clinical study, led by Professor Caterson of Cardiff University, that conducted clinical studies on humans with arthriti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  <a:ea typeface="新細明體"/>
              </a:rPr>
              <a:t>31 UK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  <a:ea typeface="新細明體"/>
              </a:rPr>
              <a:t>patients with arthritis underwent the clinical studies 10-12 weeks prior to their joint replacement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6666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ahoma"/>
                <a:ea typeface="新細明體"/>
              </a:rPr>
              <a:t>Half of them took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  <a:ea typeface="新細明體"/>
              </a:rPr>
              <a:t>Triomega – extra high strength cod liver oil capsules daily; while the other half took placebo oil capsu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6666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ahoma"/>
                <a:ea typeface="新細明體"/>
              </a:rPr>
              <a:t>Before the operation, their cartilage and joint tissues were examined to study the degree of cartilage degener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  <a:ea typeface="新細明體"/>
              </a:rPr>
              <a:t>86% of the pre-operative patients with arthritis who took Triomega – extra high strength cod liver oil capsules daily had absent or significantly reduced level of  enzymes that cause cartilage degeneration, compared with the 25% of those given a placebo oil capsu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5805360"/>
            <a:ext cx="746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Source of Information: Study on “High Strength Cod Liver Oil on Arthritis patients” in United Kingdom, Cardiff University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15228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新細明體"/>
              </a:rPr>
              <a:t>Benefits of Triomega to Patients with Knee Join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3333cc"/>
                </a:solidFill>
                <a:latin typeface="Tahoma"/>
                <a:ea typeface="新細明體"/>
              </a:rPr>
              <a:t>　</a:t>
            </a:r>
            <a:r>
              <a:rPr b="1" lang="en-US" sz="5400" spc="-1" strike="noStrike">
                <a:solidFill>
                  <a:srgbClr val="3333cc"/>
                </a:solidFill>
                <a:latin typeface="Tahoma"/>
                <a:ea typeface="新細明體"/>
              </a:rPr>
              <a:t>Thank you !</a:t>
            </a:r>
            <a:endParaRPr b="1" lang="en-US" sz="5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9396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Risk Factors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Arthritis / Joint Degenerat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58920" y="1773360"/>
          <a:ext cx="6854760" cy="4728960"/>
        </p:xfrm>
        <a:graphic>
          <a:graphicData uri="http://schemas.openxmlformats.org/drawingml/2006/table">
            <a:tbl>
              <a:tblPr/>
              <a:tblGrid>
                <a:gridCol w="2030400"/>
                <a:gridCol w="2303280"/>
                <a:gridCol w="252108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新細明體"/>
                        </a:rPr>
                        <a:t>Individual’s living ha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新細明體"/>
                        </a:rPr>
                        <a:t>Hav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新細明體"/>
                        </a:rPr>
                        <a:t>Acquired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新細明體"/>
                        </a:rPr>
                        <a:t>Hav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新細明體"/>
                        </a:rPr>
                        <a:t>Congenital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9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Obe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Destroyed j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Prolonged pressure on joints developed from work or leisure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Ligament or meniscus injuries caused by spor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Former inju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Nerve system 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Diab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AVN (Avascular Necrosis)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Congenital deficiencies of j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Congenital and Inherited bone dise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Acromeg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Hemophilia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900000" y="3284640"/>
            <a:ext cx="2448000" cy="16570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0" y="1773360"/>
            <a:ext cx="4197240" cy="42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-2486160" y="18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4040280" cy="4267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20720" y="189000"/>
            <a:ext cx="4822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Shoulder Join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55640" y="1828800"/>
            <a:ext cx="590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新細明體"/>
              </a:rPr>
              <a:t>Symptoms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Movement restriction on shoulders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Disability of shoulder abduction/ elbow flexion/ arm rotation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Pains at shoulder “sleeves”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020000" y="2421000"/>
            <a:ext cx="1776240" cy="27352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262728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Frozen Shoulder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Shoulder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P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eriarthriti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Frozen Shoulder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Shoulder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P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eriarthriti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280" y="1828440"/>
            <a:ext cx="83883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新細明體"/>
              </a:rPr>
              <a:t>People at Higher Risk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Former wounds or injuries at the shoulder “sleeves”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Improper postures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People who always lift heavy things (e.g. carriers)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Prolonged and repeated gesture of raising up the hands (e.g. teachers, librarians)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People who repeatedly pose the same gestures (e.g. flight attendants, waiters, clerks, typists)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74480" y="43920"/>
            <a:ext cx="686916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Tennis Elbow</a:t>
            </a:r>
            <a:br>
              <a:rPr sz="32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  <a:ea typeface="新細明體"/>
              </a:rPr>
              <a:t>(External Humeral Epicondylitis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6240" y="18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635280" y="1557360"/>
            <a:ext cx="5184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新細明體"/>
              </a:rPr>
              <a:t>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Feeing pressure and pains around the lateral epicondyle of humerus; sometimes pains are reflected on forearms, wrists or upper 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Unable to pick up heavy things, feel weak when holding things; or in the worst the hands are unable to grip hold of any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84360" y="177336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148428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 Gothic MT"/>
                <a:ea typeface="新細明體"/>
              </a:rPr>
              <a:t>Humer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437000"/>
            <a:ext cx="1008000" cy="428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News Gothic MT"/>
                <a:ea typeface="新細明體"/>
              </a:rPr>
              <a:t>lateral epicondy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5013360"/>
            <a:ext cx="1728720" cy="261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News Gothic MT"/>
                <a:ea typeface="新細明體"/>
              </a:rPr>
              <a:t>extensor tendon</a:t>
            </a:r>
            <a:r>
              <a:rPr b="0" lang="en-US" sz="1100" spc="-1" strike="noStrike">
                <a:solidFill>
                  <a:srgbClr val="ffffff"/>
                </a:solidFill>
                <a:latin typeface="News Gothic MT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5640" y="1844640"/>
            <a:ext cx="7920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  <a:ea typeface="新細明體"/>
              </a:rPr>
              <a:t>People at Higher Risk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Housewives (such as frequent actions of slicing, frying, cleaning, sweeping and holding babies</a:t>
            </a:r>
            <a:r>
              <a:rPr b="1" lang="zh-TW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in arms)</a:t>
            </a:r>
            <a:r>
              <a:rPr b="1" lang="zh-TW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People whose jobs may require frequent exertion of pressure on rotating forearms, repeated tapping or carrying of heavy goods (e.g. hotel servants, waiters, carriers, typists, painters or other decorating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laborers)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626920" y="75960"/>
            <a:ext cx="667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Tennis Elbow</a:t>
            </a:r>
            <a:br>
              <a:rPr sz="32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  <a:ea typeface="新細明體"/>
              </a:rPr>
              <a:t>(External Humeral Epicondylitis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87880" cy="630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5546520" y="189216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Vertebral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25120" y="270036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Intervertebral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809520" y="2133720"/>
            <a:ext cx="1770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343400" y="3048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93840" y="5326200"/>
            <a:ext cx="19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Facet j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923120" y="3831120"/>
            <a:ext cx="2958840" cy="176076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43280" y="188640"/>
            <a:ext cx="450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Facet Joint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(Lumbar &amp; Cervical Vertebra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7:18:41Z</dcterms:created>
  <dc:creator>Philip Davies</dc:creator>
  <dc:description/>
  <dc:language>en-US</dc:language>
  <cp:lastModifiedBy>HKUPOP</cp:lastModifiedBy>
  <cp:lastPrinted>2004-05-19T09:03:44Z</cp:lastPrinted>
  <dcterms:modified xsi:type="dcterms:W3CDTF">2005-11-18T04:07:57Z</dcterms:modified>
  <cp:revision>770</cp:revision>
  <dc:subject/>
  <dc:title>No Slide Title</dc:title>
</cp:coreProperties>
</file>