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532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5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7160" y="-36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1160" y="73944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224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7160" y="937224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A4D25D0-FE13-4FE1-A038-F0D037C230DD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4308-248B-48DA-ADD1-FCC1F8430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80E4-4430-4419-9735-4044D6D34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B912-EAF8-4AB8-B321-7476455D6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6A9C-6226-42D2-BE7B-F0AC88C6E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D5CF-C107-4681-8662-84AB18F57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22AE-B267-4B6A-9F7C-ADFBDF35B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ED2A-BA70-4888-834A-1F1B4B26E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D7F7-9418-4251-B34D-7EE5A8755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EEE2-10E6-46A2-81FC-61CB78C7B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E805-D284-4E6D-9238-973C7B12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922C-FB1A-4CA9-A302-41F4528C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7205-A93F-4208-B426-C55F0C22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2AACD-C35C-4DE8-A765-4ED8FCA4F28E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4191120"/>
            <a:ext cx="91440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Hong Kong Working Class</a:t>
            </a:r>
            <a:br>
              <a:rPr sz="3200"/>
            </a:b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Joint Health Survey 2005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Dr. Robert Chung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0" i="1" lang="en-US" sz="3200" spc="-1" strike="noStrike">
                <a:solidFill>
                  <a:srgbClr val="ffff99"/>
                </a:solidFill>
                <a:latin typeface="Arial"/>
              </a:rPr>
              <a:t>17 November, 2005</a:t>
            </a:r>
            <a:br>
              <a:rPr sz="3200"/>
            </a:b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9880" y="121932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The Public Opinion Program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990720" y="762120"/>
          <a:ext cx="1828800" cy="190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762120"/>
                    <a:ext cx="182880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Joint Pains and Stiffness Affect Work Efficiency and Performance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33360" y="1944720"/>
          <a:ext cx="8085240" cy="3686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1944720"/>
                    <a:ext cx="8085240" cy="36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7315200" y="60958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N= </a:t>
            </a: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517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Joint Pains and Stiffness Affect Family / Social Activities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65120" y="2017800"/>
          <a:ext cx="8432640" cy="400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2017800"/>
                    <a:ext cx="8432640" cy="40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7315200" y="60958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N= </a:t>
            </a: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517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Acknowledgement of Nutritional Supplements can Help in Protecting</a:t>
            </a:r>
            <a:br>
              <a:rPr sz="3600"/>
            </a:b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Joints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65120" y="2017800"/>
          <a:ext cx="8432640" cy="473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2017800"/>
                    <a:ext cx="8432640" cy="473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7315200" y="60958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N= </a:t>
            </a: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513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Result Summary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Most of the interviewees feel that their joint pains are from the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joints of</a:t>
            </a: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houlder and wrists</a:t>
            </a: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 (49%) and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ower back and middle back </a:t>
            </a: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(46%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bove 70% of</a:t>
            </a: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 interviewees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eel stress from work </a:t>
            </a: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(77%) and are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oo tired to exercise</a:t>
            </a: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 (72%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55% think that joint pains and stiffness, directly / indirectly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ffect </a:t>
            </a: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negatively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on their work efficiency and performance.  </a:t>
            </a: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Around 40% of interviewees think that it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affects their family / social activities </a:t>
            </a: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(36%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45% of interviewees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cknowledge</a:t>
            </a: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 that taking nutritional supplements can help in protecting the joint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terviewees Background Information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Sex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79520" y="1379520"/>
          <a:ext cx="8142120" cy="393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520" y="1379520"/>
                    <a:ext cx="8142120" cy="39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6858000" y="5943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Arial"/>
              </a:rPr>
              <a:t>N= 517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Age Group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50800" y="1450800"/>
          <a:ext cx="817236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1450800"/>
                    <a:ext cx="8172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6858000" y="6172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Arial"/>
              </a:rPr>
              <a:t>N= 458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Education Level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36400" y="1436760"/>
          <a:ext cx="8142480" cy="352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" y="1436760"/>
                    <a:ext cx="8142480" cy="35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6858000" y="5943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Arial"/>
              </a:rPr>
              <a:t>N= 510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Occupation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78000" y="1523880"/>
          <a:ext cx="8300880" cy="465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" y="1523880"/>
                    <a:ext cx="8300880" cy="46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6858000" y="5943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N= </a:t>
            </a:r>
            <a:r>
              <a:rPr b="1" lang="en-US" sz="1800" spc="-1" strike="noStrike">
                <a:solidFill>
                  <a:srgbClr val="ccecff"/>
                </a:solidFill>
                <a:latin typeface="Arial"/>
              </a:rPr>
              <a:t>503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838080" y="30456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Industry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04920" y="1295280"/>
          <a:ext cx="8592840" cy="466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95280"/>
                    <a:ext cx="8592840" cy="46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6858000" y="5943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Arial"/>
              </a:rPr>
              <a:t>N= 506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Arial"/>
              </a:rPr>
              <a:t>Research Method</a:t>
            </a:r>
            <a:endParaRPr b="0" lang="en-US" sz="48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ial"/>
                <a:ea typeface="Aial"/>
              </a:rPr>
              <a:t>Thank You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0" y="41911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Arial"/>
                <a:ea typeface="細明體"/>
              </a:rPr>
              <a:t>For details, please visit http://hkupop.hku.hk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3276720"/>
            <a:ext cx="80769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Sample Data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1560" indent="-17715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Interview Date:</a:t>
            </a: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31 May – 9 June,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771560" indent="-1771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771560" indent="-1771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Research Target: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771560" indent="-1771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Working class who can speak Cantonese, aged between 25-45 who have experienced joint pain (including joints of the knees, middle back, back of the neck, toe and ankles, fingers and wrists, shoulder…etc)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771560" indent="-1771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771560" indent="-1771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Research method: Telephone survey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Sample Data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86040" indent="-1886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ample Data: 517 successful cas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886040" indent="-1886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Response Rate: 79.2%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886040" indent="-1886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(the target audience who fulfilled our criteria)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Arial"/>
              </a:rPr>
              <a:t>Survey Results </a:t>
            </a:r>
            <a:endParaRPr b="0" lang="en-US" sz="48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Joints that frequently felt uncomfortable for the interviewees </a:t>
            </a:r>
            <a:br>
              <a:rPr sz="3600"/>
            </a:br>
            <a:r>
              <a:rPr b="1" lang="en-US" sz="3600" spc="-1" strike="noStrike">
                <a:solidFill>
                  <a:srgbClr val="ffff99"/>
                </a:solidFill>
                <a:latin typeface="新細明體"/>
              </a:rPr>
              <a:t> </a:t>
            </a:r>
            <a:r>
              <a:rPr b="1" lang="zh-CN" sz="1800" spc="-1" strike="noStrike">
                <a:solidFill>
                  <a:srgbClr val="ffff99"/>
                </a:solidFill>
                <a:latin typeface="Arial"/>
              </a:rPr>
              <a:t>（</a:t>
            </a: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Percentage of responses, frequently means more than 5 times </a:t>
            </a:r>
            <a:br>
              <a:rPr sz="1800"/>
            </a:b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within 12 months)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01520" y="2062080"/>
          <a:ext cx="8955000" cy="3465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20" y="2062080"/>
                    <a:ext cx="8955000" cy="34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1676520" y="5773680"/>
            <a:ext cx="746748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N= 517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* </a:t>
            </a:r>
            <a:r>
              <a:rPr b="1" lang="en-US" sz="1800" spc="-1" strike="noStrike">
                <a:solidFill>
                  <a:srgbClr val="ccecff"/>
                </a:solidFill>
                <a:latin typeface="Arial"/>
              </a:rPr>
              <a:t>None of the joints felt tired, sore, stiff or even painful in the past 12 months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king Activities / Job Situation that are Related to Interviewees </a:t>
            </a: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(1/3)</a:t>
            </a:r>
            <a:br>
              <a:rPr sz="36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ffff99"/>
                </a:solidFill>
                <a:latin typeface="Arial"/>
              </a:rPr>
              <a:t>（</a:t>
            </a: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Percentage of Responses</a:t>
            </a:r>
            <a:r>
              <a:rPr b="1" lang="zh-CN" sz="1800" spc="-1" strike="noStrike">
                <a:solidFill>
                  <a:srgbClr val="ffff99"/>
                </a:solidFill>
                <a:latin typeface="Arial"/>
              </a:rPr>
              <a:t>）</a:t>
            </a:r>
            <a:r>
              <a:rPr b="0" lang="en-US" sz="36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800280" y="2286000"/>
          <a:ext cx="7543800" cy="3506760"/>
        </p:xfrm>
        <a:graphic>
          <a:graphicData uri="http://schemas.openxmlformats.org/drawingml/2006/table">
            <a:tbl>
              <a:tblPr/>
              <a:tblGrid>
                <a:gridCol w="6035400"/>
                <a:gridCol w="15084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Working Style and Environment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Percentage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(N=517) 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Stress from work 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ecff"/>
                          </a:solidFill>
                          <a:latin typeface="Arial"/>
                          <a:ea typeface="Times New Roman"/>
                        </a:rPr>
                        <a:t>77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Too tired to exercise 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ecff"/>
                          </a:solidFill>
                          <a:latin typeface="Arial"/>
                          <a:ea typeface="Times New Roman"/>
                        </a:rPr>
                        <a:t>72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Repeat the same motion / action continuously 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ecff"/>
                          </a:solidFill>
                          <a:latin typeface="Arial"/>
                          <a:ea typeface="Times New Roman"/>
                        </a:rPr>
                        <a:t>58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Unbalanced sitting posture 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ecff"/>
                          </a:solidFill>
                          <a:latin typeface="Arial"/>
                          <a:ea typeface="Times New Roman"/>
                        </a:rPr>
                        <a:t>51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Not enough breaks throughout the day at work 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ecff"/>
                          </a:solidFill>
                          <a:latin typeface="Arial"/>
                          <a:ea typeface="Times New Roman"/>
                        </a:rPr>
                        <a:t>48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Sitting in a fixed position for a long time throughout the day (long time means more than 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4.5 hours) 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ecff"/>
                          </a:solidFill>
                          <a:latin typeface="Arial"/>
                          <a:ea typeface="Times New Roman"/>
                        </a:rPr>
                        <a:t>47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king Activities / Job Situation that are Related to Interviewees </a:t>
            </a: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(2/3)</a:t>
            </a:r>
            <a:r>
              <a:rPr b="1" lang="en-US" sz="3600" spc="-1" strike="noStrike">
                <a:solidFill>
                  <a:srgbClr val="ffff99"/>
                </a:solidFill>
                <a:latin typeface="新細明體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99"/>
                </a:solidFill>
                <a:latin typeface="新細明體"/>
              </a:rPr>
              <a:t> </a:t>
            </a:r>
            <a:r>
              <a:rPr b="1" lang="zh-CN" sz="1800" spc="-1" strike="noStrike">
                <a:solidFill>
                  <a:srgbClr val="ffff99"/>
                </a:solidFill>
                <a:latin typeface="Arial"/>
              </a:rPr>
              <a:t>（</a:t>
            </a: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Percentage of Responses</a:t>
            </a:r>
            <a:r>
              <a:rPr b="1" lang="zh-CN" sz="1800" spc="-1" strike="noStrike">
                <a:solidFill>
                  <a:srgbClr val="ffff99"/>
                </a:solidFill>
                <a:latin typeface="Arial"/>
              </a:rPr>
              <a:t>）</a:t>
            </a:r>
            <a:r>
              <a:rPr b="0" lang="en-US" sz="36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800280" y="2057400"/>
          <a:ext cx="7543800" cy="4052880"/>
        </p:xfrm>
        <a:graphic>
          <a:graphicData uri="http://schemas.openxmlformats.org/drawingml/2006/table">
            <a:tbl>
              <a:tblPr/>
              <a:tblGrid>
                <a:gridCol w="6035400"/>
                <a:gridCol w="15084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Working Style and Environment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Percentage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(N=517) 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Long hours working at computer (including facing computer screen / typing continuously throughout the day, long hour means more than 4.5 hours</a:t>
                      </a:r>
                      <a:r>
                        <a:rPr b="0" lang="zh-CN" sz="18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46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Long time standing (long time means more than 2 hours) 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42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Long time walking (long time means more than 2 hours) 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41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Over 10 hours a day working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37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Injury 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31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Long time talking on the telephone or holding up the phone by hand or shoulder (long hour means more than 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3 minutes everytime) 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30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king Activities / Job Situation that are Related to Interviewees </a:t>
            </a: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(3/3)</a:t>
            </a:r>
            <a:r>
              <a:rPr b="1" lang="en-US" sz="3600" spc="-1" strike="noStrike">
                <a:solidFill>
                  <a:srgbClr val="ffff99"/>
                </a:solidFill>
                <a:latin typeface="新細明體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99"/>
                </a:solidFill>
                <a:latin typeface="新細明體"/>
              </a:rPr>
              <a:t> </a:t>
            </a:r>
            <a:r>
              <a:rPr b="1" lang="zh-CN" sz="1800" spc="-1" strike="noStrike">
                <a:solidFill>
                  <a:srgbClr val="ffff99"/>
                </a:solidFill>
                <a:latin typeface="Arial"/>
              </a:rPr>
              <a:t>（</a:t>
            </a: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Percentage of Responses</a:t>
            </a:r>
            <a:r>
              <a:rPr b="1" lang="zh-CN" sz="1800" spc="-1" strike="noStrike">
                <a:solidFill>
                  <a:srgbClr val="ffff99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800280" y="2397240"/>
          <a:ext cx="7543800" cy="3546360"/>
        </p:xfrm>
        <a:graphic>
          <a:graphicData uri="http://schemas.openxmlformats.org/drawingml/2006/table">
            <a:tbl>
              <a:tblPr/>
              <a:tblGrid>
                <a:gridCol w="6035400"/>
                <a:gridCol w="15084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Working Style and Environment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Percentage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(N=517) 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Limited working space (unable to move around) 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28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Carrying materials (e.g. cooking utensils, sales materials etc) 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24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Chairs that do not fulfill an ergonomic design 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24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Carrying heavy materials 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22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Wearing high heels 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12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Chairs that are too high 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8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None of the above 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1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HKUPOP</cp:lastModifiedBy>
  <cp:lastPrinted>2001-04-04T10:00:24Z</cp:lastPrinted>
  <dcterms:modified xsi:type="dcterms:W3CDTF">2005-11-18T04:06:49Z</dcterms:modified>
  <cp:revision>764</cp:revision>
  <dc:subject/>
  <dc:title>無投影片標題</dc:title>
</cp:coreProperties>
</file>