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3DA456-95BD-4FF7-AA43-87FD41C291D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C6F-5644-4AAF-A72C-AC3CDCD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C67-F646-4562-A8B8-46748D1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A6B-E09F-408B-A9E4-CB33467C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7FD-9D44-4ABC-8498-84162F0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146F-9D34-43D0-A9C9-CE866B0F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F48C-8927-4BB2-8997-CFB5592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2506-1333-4ED4-80ED-6FA4056C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DF43-F16B-4ED3-928A-0E38547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838-73F3-4BE9-BC66-B0210B11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A22E-CCFE-4D7D-85B9-32D0FE92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1189-4075-4EA7-8340-D3174A6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AAD-ABFC-4C71-B082-211CD00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946F-2B8F-44C1-8BE4-D9FFB5D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260B-171D-4730-89EA-050CEBF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6F01-01BB-4F1A-B73D-550A2911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5E6B-7535-450A-845D-90B3B91F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EC8B-8FCF-4585-A613-BE1C1A37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FAA-A5DC-45BF-A512-822E5951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1A1-7C4A-4C58-ADFC-8427BB80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AA4-D671-4718-8879-1B69CB58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6F6-0971-433C-BBB5-ACCD34DF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0CB-4EB8-478D-8804-A8675C8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086-EFDC-4E3D-B86A-0E0CA25A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11C-2551-4C19-BB4E-F184F3FD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F507-98F5-4704-8A56-F24D4CB77D1B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447920"/>
            <a:ext cx="79250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3C0C-429B-4D9F-9D88-65F8964926FB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124080"/>
            <a:ext cx="914400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Arial Narrow"/>
              </a:rPr>
              <a:t>香港青年人上網情況及對互聯網的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Arial Narrow"/>
              </a:rPr>
              <a:t>觀感意見調查 </a:t>
            </a:r>
            <a:br>
              <a:rPr sz="3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zh-TW" sz="2400" spc="-1" strike="noStrike">
                <a:solidFill>
                  <a:srgbClr val="ffff99"/>
                </a:solidFill>
                <a:latin typeface="Arial Narrow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Arial Narrow"/>
              </a:rPr>
              <a:t>鍾庭耀博士</a:t>
            </a:r>
            <a:br>
              <a:rPr sz="2400"/>
            </a:br>
            <a:br>
              <a:rPr sz="2400"/>
            </a:b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2005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年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10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月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11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25909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4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閱讀新聞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74760" y="1965240"/>
          <a:ext cx="8543880" cy="39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65240"/>
                    <a:ext cx="85438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6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08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7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5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網上遊戲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2255760"/>
          <a:ext cx="8534520" cy="34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55760"/>
                    <a:ext cx="853452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4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38560" y="167652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7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6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blog</a:t>
            </a: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／網上討論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74760" y="1963800"/>
          <a:ext cx="8543880" cy="39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63800"/>
                    <a:ext cx="854388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2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3640" y="175248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7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7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購物／拍賣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74760" y="2124000"/>
          <a:ext cx="854388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124000"/>
                    <a:ext cx="85438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23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5.8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8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自創網站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74760" y="2124000"/>
          <a:ext cx="854388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124000"/>
                    <a:ext cx="85438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18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29080" y="13716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6.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你在網上最常做既活動是什麼？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30040" y="2252520"/>
          <a:ext cx="8977320" cy="36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252520"/>
                    <a:ext cx="897732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962520" y="5867280"/>
            <a:ext cx="12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800" y="16002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百分比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209680"/>
            <a:ext cx="5867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青年人在網上世界最最常做的活動是</a:t>
            </a: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cc99"/>
                </a:solidFill>
                <a:latin typeface="Times New Roman"/>
              </a:rPr>
              <a:t>互動溝通（網上聊天／電郵／結交新</a:t>
            </a:r>
            <a:r>
              <a:rPr b="1" lang="zh-TW" sz="2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朋友）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青年人在網上最常做的活動 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綜合平均排名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682640"/>
          <a:ext cx="8380440" cy="35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82640"/>
                    <a:ext cx="838044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09480" y="533412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活動排列次序為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，平均排名越低代表越普遍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(  )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為該活動最多被訪者選擇的排名。</a:t>
            </a:r>
            <a:r>
              <a:rPr b="0" lang="zh-TW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你認為投入網上世界有助提升或者改善以下邊種人際關係？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133720"/>
          <a:ext cx="9488520" cy="41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948852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914400" y="18288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佔總樣本百分比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502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   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你認為網上世界最重要的功能是甚麼？請依重要次序排列，最重要功能排第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1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，其次既排第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2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，如此類推。</a:t>
            </a:r>
            <a:br>
              <a:rPr sz="3400"/>
            </a:br>
            <a:r>
              <a:rPr b="1" lang="zh-TW" sz="3400" spc="-1" strike="noStrike">
                <a:solidFill>
                  <a:srgbClr val="ffff99"/>
                </a:solidFill>
                <a:latin typeface="細明體"/>
                <a:ea typeface="細明體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67080"/>
            <a:ext cx="7924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1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消閒娛樂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2222640"/>
          <a:ext cx="8534520" cy="34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2640"/>
                    <a:ext cx="8534520" cy="34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6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 Narrow"/>
              </a:rPr>
              <a:t>簡報大綱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 Narrow"/>
              </a:rPr>
              <a:t>調查方法及樣本資料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調查結果：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青年人在網上最常做的活動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認為投入網上世界有助提升或改善的人際關係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認為網上世界最重要的功能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除了工作或學習時間，以及睡眠和休息時間，青年人最希望的每日上網時間</a:t>
            </a:r>
            <a:r>
              <a:rPr b="1" lang="zh-TW" sz="2400" spc="-1" strike="noStrike">
                <a:solidFill>
                  <a:srgbClr val="eaeaea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青年人選擇陪伴上網的家人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 Narrow"/>
              </a:rPr>
              <a:t>被訪者個人背景資料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2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掌握全球資訊、國際時事等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2340000"/>
          <a:ext cx="8534520" cy="33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40000"/>
                    <a:ext cx="853452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3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9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3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減壓</a:t>
            </a: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4760" y="2124000"/>
          <a:ext cx="8543880" cy="36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124000"/>
                    <a:ext cx="85438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0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4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訓練蒐集資料及整理的能力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74760" y="2203560"/>
          <a:ext cx="8543880" cy="36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203560"/>
                    <a:ext cx="85438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0" y="1600200"/>
            <a:ext cx="24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6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5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參考各方不同意見同時抒發己見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2438280"/>
          <a:ext cx="8543880" cy="35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54388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7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8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6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工餘網上進修或學習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2438280"/>
          <a:ext cx="8534520" cy="382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534520" cy="38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5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60958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4.3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7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啟發創造力、個人潛能及思維發展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74760" y="2203560"/>
          <a:ext cx="8543880" cy="36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203560"/>
                    <a:ext cx="85438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5240" y="1600200"/>
            <a:ext cx="24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4.7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6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青少年認為網上世界最重要的功能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44520" y="2389320"/>
          <a:ext cx="8848800" cy="34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2389320"/>
                    <a:ext cx="884880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657600" y="586728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7800" y="16002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百分比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2057400"/>
            <a:ext cx="58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青年人認為網上世界最重要的功能是</a:t>
            </a: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消閒娛樂</a:t>
            </a:r>
            <a:r>
              <a:rPr b="1" lang="zh-TW" sz="2200" spc="-1" strike="noStrike">
                <a:solidFill>
                  <a:srgbClr val="ffcc99"/>
                </a:solidFill>
                <a:latin typeface="Times New Roman"/>
              </a:rPr>
              <a:t>，其次是掌握全球資訊、國際時事等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網上世界最重要的功能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綜合平均排名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1981080"/>
          <a:ext cx="800100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0010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09480" y="495288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功能排列次序為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，平均排名越低代表越重要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(  )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為該功能最多被訪者選擇的排名。</a:t>
            </a:r>
            <a:r>
              <a:rPr b="0" lang="zh-TW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青少年每日的時間分配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1)</a:t>
            </a:r>
            <a:br>
              <a:rPr sz="3200"/>
            </a:b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工作或學習時間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-228600" y="3048120"/>
          <a:ext cx="8763120" cy="34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3048120"/>
                    <a:ext cx="876312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04920" y="1828800"/>
          <a:ext cx="4098960" cy="90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4098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青少年每日的時間分配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2)</a:t>
            </a:r>
            <a:br>
              <a:rPr sz="3200"/>
            </a:b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睡眠</a:t>
            </a: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/</a:t>
            </a: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休息既時間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828800"/>
          <a:ext cx="8918640" cy="596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91864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828800"/>
          <a:ext cx="4098960" cy="90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4098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2925360"/>
            <a:ext cx="77724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新細明體"/>
              </a:rPr>
              <a:t>調查方法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青少年每日的時間分配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3)</a:t>
            </a:r>
            <a:br>
              <a:rPr sz="3200"/>
            </a:b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青少年最希望的每日上網時間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3048120"/>
          <a:ext cx="86374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8637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920" y="1828800"/>
          <a:ext cx="4098960" cy="90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4098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假如你必須選擇與一位家人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(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必須為直系親屬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)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一齊上網，你會選擇邊一位？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-1905120" y="914400"/>
          <a:ext cx="11354040" cy="64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914400"/>
                    <a:ext cx="1135404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580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85800" y="3016080"/>
            <a:ext cx="777240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新細明體"/>
              </a:rPr>
              <a:t>被訪者個人背景資料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838080" y="410760"/>
            <a:ext cx="792504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 Narrow"/>
              </a:rPr>
              <a:t>性別</a:t>
            </a:r>
            <a:r>
              <a:rPr b="0" lang="zh-TW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81040" y="1754280"/>
          <a:ext cx="8182080" cy="41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754280"/>
                    <a:ext cx="81820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838080" y="410760"/>
            <a:ext cx="792504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 Narrow"/>
              </a:rPr>
              <a:t>年齡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8080" y="410760"/>
            <a:ext cx="792504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 Narrow"/>
              </a:rPr>
              <a:t>教育程度</a:t>
            </a:r>
            <a:r>
              <a:rPr b="0" lang="zh-TW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731960"/>
          <a:ext cx="8254800" cy="42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31960"/>
                    <a:ext cx="825480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學生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/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在職人士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3520" y="1731960"/>
          <a:ext cx="8254800" cy="42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31960"/>
                    <a:ext cx="825480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58920" y="1635120"/>
          <a:ext cx="8143560" cy="444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920" y="1635120"/>
                    <a:ext cx="81435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 Narrow"/>
              </a:rPr>
              <a:t>總結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是次被訪的青少年在網上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最常做的活動是互動溝通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（網上聊天／電郵／結交新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朋友）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而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較少做的活動是購物／拍賣及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自創網站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超過八成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被訪青少年認為投入網上世界有助提升或改善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細明體"/>
              </a:rPr>
              <a:t>自己與已相識朋友或同學的聯繫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81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其次是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細明體"/>
              </a:rPr>
              <a:t>自己與非日常接觸的人與事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45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青少年認為網上世界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最重要的功能是消閒娛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，其次是掌握全球資訊、國際時事等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被訪青少年每日的工作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學習時間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平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佔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8.2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小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而睡眠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休息時間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平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佔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7.4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小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最希望的每日上網時間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平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佔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2.8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小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假如被訪青少年必須選擇與一位家人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必須為直系親屬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一同上網，大多數會選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兄弟姊妹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69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其次是母親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20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和父親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9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90560"/>
            <a:ext cx="7772400" cy="14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Arial Narrow"/>
                <a:ea typeface="細明體"/>
              </a:rPr>
              <a:t>報 告 完 畢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Arial Narrow"/>
                <a:ea typeface="細明體"/>
              </a:rPr>
              <a:t>詳細報告結果，請瀏覽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http://hkupop.hku.hk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Arial Narrow"/>
              </a:rPr>
              <a:t>樣本資料</a:t>
            </a:r>
            <a:endParaRPr b="0" lang="en-US" sz="4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3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7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日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訪問對象：年齡介乎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16 - 22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歲，在過去十二個月內曾經使用互聯網並操粵語的青年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調查方法：由訪問員直接進行電話訪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502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個成功個案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84.2% 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（以符合資格的目標對象計算 ）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.2%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2925360"/>
            <a:ext cx="77724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新細明體"/>
              </a:rPr>
              <a:t>調查結果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你在網上最常做既活動是什麼？請排列次序，最常玩既排第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，少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既排第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，如此類推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。</a:t>
            </a:r>
            <a:br>
              <a:rPr sz="20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724280"/>
            <a:ext cx="784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1)</a:t>
            </a:r>
            <a:br>
              <a:rPr sz="2800"/>
            </a:br>
            <a:r>
              <a:rPr b="1" lang="zh-TW" sz="3500" spc="-1" strike="noStrike">
                <a:solidFill>
                  <a:srgbClr val="eaeaea"/>
                </a:solidFill>
                <a:latin typeface="細明體"/>
                <a:ea typeface="細明體"/>
              </a:rPr>
              <a:t>互動溝通（網上聊天／電郵／結交新朋友）</a:t>
            </a:r>
            <a:br>
              <a:rPr sz="3500"/>
            </a:br>
            <a:endParaRPr b="0" lang="en-US" sz="35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2057400"/>
          <a:ext cx="8534520" cy="39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85345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5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9080" y="20574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2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2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找資料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74760" y="1990800"/>
          <a:ext cx="8543880" cy="39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90800"/>
                    <a:ext cx="854388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1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29080" y="20574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9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3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下載／聽音樂或看電視／電影／短片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2130480"/>
          <a:ext cx="8534520" cy="38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0480"/>
                    <a:ext cx="85345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7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29080" y="20574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10-12T03:11:22Z</dcterms:modified>
  <cp:revision>853</cp:revision>
  <dc:subject/>
  <dc:title>無投影片標題</dc:title>
</cp:coreProperties>
</file>