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CCA-8ED7-44F0-9E6C-8BB724CA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841-E3CD-4AC7-AE12-31EE2F50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C8A-EEB8-47FB-86F5-BBDAA813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202-B39E-4338-96D9-A0078088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9D0-F952-43DA-9E1F-329CF99F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075-EC75-4E6B-B115-C4E7883C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687-019C-4488-AD50-6C8B8C86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18F-CEF0-475A-A9A0-E006D370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35D-C6B8-4855-8014-A456B7E2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CC8F-4E7C-4D06-B4C6-983FCF99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463-A945-4DEB-842B-6C220102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4D29-DB68-4EAD-81E9-E820925B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F2A7-A5D3-4E68-9259-DA3F71FB1AD7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3410-8384-41E2-9B96-920B6329AC8C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脫髮與及早治療意見調查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4343400"/>
            <a:ext cx="78483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7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8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內一切內容與香港大學立場無關，內容由民意研究計劃主任鍾庭耀博士負責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70866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你現在有沒有脫髮的問題？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8600" y="2120760"/>
          <a:ext cx="8721720" cy="389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20760"/>
                    <a:ext cx="8721720" cy="38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265880" y="556272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63B-B292-4846-9660-DF680E7D96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915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同三年前比較，你的頭髮有沒有出現以下改變？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2280" y="1562040"/>
          <a:ext cx="8788680" cy="430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62040"/>
                    <a:ext cx="87886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692000" y="1600200"/>
            <a:ext cx="23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5 (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可選多項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143000" y="5638680"/>
            <a:ext cx="7696080" cy="542160"/>
            <a:chOff x="1143000" y="5638680"/>
            <a:chExt cx="7696080" cy="542160"/>
          </a:xfrm>
        </p:grpSpPr>
        <p:sp>
          <p:nvSpPr>
            <p:cNvPr id="125" name=""/>
            <p:cNvSpPr/>
            <p:nvPr/>
          </p:nvSpPr>
          <p:spPr>
            <a:xfrm>
              <a:off x="1143000" y="5641560"/>
              <a:ext cx="106668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髮線位置</a:t>
              </a:r>
              <a:br>
                <a:rPr sz="1300"/>
              </a:b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後移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5651280"/>
              <a:ext cx="91440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頭髮稀疏至可見頭皮／肉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0" y="5638680"/>
              <a:ext cx="9907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沒有改變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72400" y="5641560"/>
              <a:ext cx="106668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無留意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/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唔知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/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難講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67280" y="5638680"/>
              <a:ext cx="106704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其他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:</a:t>
              </a:r>
              <a:br>
                <a:rPr sz="1300"/>
              </a:b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白頭髮增加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52880" y="5638680"/>
              <a:ext cx="91440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頭頂髮旋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(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俗稱轉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)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變大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38480" y="5638680"/>
              <a:ext cx="9144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頭髮變幼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5638680"/>
              <a:ext cx="10666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甩多左頭髮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159-8BAC-4C65-8377-B1B2E122291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當你的頭髮出現上述問題時，你會首先用什麼方法處理？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1523880"/>
          <a:ext cx="9207360" cy="408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207360" cy="40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780480" y="5943600"/>
            <a:ext cx="129024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20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只問頭髮出現改變者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14400" y="5334120"/>
            <a:ext cx="8153280" cy="529560"/>
            <a:chOff x="914400" y="5334120"/>
            <a:chExt cx="8153280" cy="529560"/>
          </a:xfrm>
        </p:grpSpPr>
        <p:sp>
          <p:nvSpPr>
            <p:cNvPr id="139" name=""/>
            <p:cNvSpPr/>
            <p:nvPr/>
          </p:nvSpPr>
          <p:spPr>
            <a:xfrm>
              <a:off x="914400" y="5334120"/>
              <a:ext cx="12952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轉換洗髮產品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57400" y="5334120"/>
              <a:ext cx="12193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改變生活習慣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00400" y="5334120"/>
              <a:ext cx="9144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改變髮型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5334120"/>
              <a:ext cx="10666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唔知／難講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86600" y="5334120"/>
              <a:ext cx="91440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順其自然／不理會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19920" y="5334120"/>
              <a:ext cx="9144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其他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05520" y="5334120"/>
              <a:ext cx="9144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求醫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38480" y="5334120"/>
              <a:ext cx="12193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選用生髮產品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763-943D-44A1-9CD6-FE19FC9720A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你會等多久才採取行動？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0666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-685800" y="1371600"/>
          <a:ext cx="10210680" cy="49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5800" y="1371600"/>
                    <a:ext cx="102106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21520" y="6033960"/>
            <a:ext cx="1665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總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8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只問頭髮出現改變並會採取行動者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9760" y="259092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*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撇除「唔知／難講／唔記得」者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019920" y="1523880"/>
          <a:ext cx="2666520" cy="1051200"/>
        </p:xfrm>
        <a:graphic>
          <a:graphicData uri="http://schemas.openxmlformats.org/drawingml/2006/table">
            <a:tbl>
              <a:tblPr/>
              <a:tblGrid>
                <a:gridCol w="1515240"/>
                <a:gridCol w="1151280"/>
              </a:tblGrid>
              <a:tr h="3765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3.5</a:t>
                      </a: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月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0.9</a:t>
                      </a: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月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74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7F3-187C-4159-9584-D3729454966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800100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假如你有需要選用生髮產品或療程，你會最主要考慮哪些因素？或者根據什麼準則去選擇？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12952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03040" y="1295280"/>
          <a:ext cx="8699760" cy="42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1295280"/>
                    <a:ext cx="86997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692000" y="1447920"/>
            <a:ext cx="22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4 (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可選多項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38080" y="5334120"/>
            <a:ext cx="8001000" cy="605880"/>
            <a:chOff x="838080" y="5334120"/>
            <a:chExt cx="8001000" cy="605880"/>
          </a:xfrm>
        </p:grpSpPr>
        <p:sp>
          <p:nvSpPr>
            <p:cNvPr id="160" name=""/>
            <p:cNvSpPr/>
            <p:nvPr/>
          </p:nvSpPr>
          <p:spPr>
            <a:xfrm>
              <a:off x="838080" y="5334120"/>
              <a:ext cx="990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口碑：朋友／同事／其他人的推薦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6720" y="5410440"/>
              <a:ext cx="6858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價錢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38880" y="5410440"/>
              <a:ext cx="990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唔會使用生髮產品／療程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77320" y="5410440"/>
              <a:ext cx="76176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唔知／</a:t>
              </a:r>
              <a:br>
                <a:rPr sz="1300"/>
              </a:b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難講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76520" y="5334120"/>
              <a:ext cx="99036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口碑：醫生／藥劑師／專業醫護人員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14600" y="5410440"/>
              <a:ext cx="8380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有醫學證明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05720" y="5410440"/>
              <a:ext cx="6858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其他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920" y="5410440"/>
              <a:ext cx="6858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品牌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4120" y="5410440"/>
              <a:ext cx="6858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成效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48320" y="5410440"/>
              <a:ext cx="6858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副作用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5410440"/>
              <a:ext cx="6858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廣告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09200" y="6400800"/>
            <a:ext cx="197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* </a:t>
            </a:r>
            <a:r>
              <a:rPr b="0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因篇幅所限，只列出</a:t>
            </a:r>
            <a:r>
              <a:rPr b="0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3%</a:t>
            </a:r>
            <a:r>
              <a:rPr b="0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632-30A3-4AA5-BC9B-5810A2C7B11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一般而論，當你選用一個生髮產品或療程，你預期什麼時候開始見效？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2952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676520"/>
          <a:ext cx="853452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113600" y="160020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1FE-EFF2-493B-A3AE-D959CAFC17A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915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如果你覺得所用的生髮產品或療程過了你預期的時間仍未見成效，你會：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4479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1663560"/>
          <a:ext cx="876312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63560"/>
                    <a:ext cx="876312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265880" y="175248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295280" y="5486400"/>
            <a:ext cx="7391520" cy="324360"/>
            <a:chOff x="1295280" y="5486400"/>
            <a:chExt cx="7391520" cy="324360"/>
          </a:xfrm>
        </p:grpSpPr>
        <p:sp>
          <p:nvSpPr>
            <p:cNvPr id="183" name=""/>
            <p:cNvSpPr/>
            <p:nvPr/>
          </p:nvSpPr>
          <p:spPr>
            <a:xfrm>
              <a:off x="1295280" y="5489280"/>
              <a:ext cx="7621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求醫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2320" y="5499000"/>
              <a:ext cx="9144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繼續使用並再觀察一段時間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20120" y="5489280"/>
              <a:ext cx="10666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唔知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/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難講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53080" y="5486400"/>
              <a:ext cx="106704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其他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2720" y="5486400"/>
              <a:ext cx="9144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放棄治療脫髮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43400" y="5486400"/>
              <a:ext cx="12193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轉用其他產品／療程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52680" y="5486400"/>
              <a:ext cx="9907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立即停止使用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772-BFE3-4630-B6D7-916F9C6FAEC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121932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8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大部分有關男士都認為治療脫髮沒有迫切性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8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四分一的被訪者自稱出現脫髮問題，主要是髮線後移，其次是頭髮變得稀疏和增加脫落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8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超過半數自稱出現脫髮徵狀的被訪者謂會順其自然和不加理會。只有極少數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4%)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會首先選擇求醫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8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三成被訪者期望一個生髮產品或療程會於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3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個月內成效驟見。另共有兩成七預期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個月內，甚至一星期內見效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8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本調查所得數據和皮膚專科醫生的回應，或可對有關人士提供有用的知識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B71-C6B2-4110-B638-61E6389ABB8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被訪者個人背景資料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160-9446-437C-BEE7-BB01C44D81C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齡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55480" y="1447920"/>
          <a:ext cx="8033040" cy="448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1447920"/>
                    <a:ext cx="8033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762120" y="152388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838-188C-40E2-AD4D-416771EFD7A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ecff"/>
                </a:solidFill>
                <a:latin typeface="標楷體"/>
                <a:ea typeface="標楷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研究背景及調查方法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調查結果：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標楷體"/>
                <a:ea typeface="標楷體"/>
              </a:rPr>
              <a:t>受訪者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脫髮的認知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標楷體"/>
                <a:ea typeface="標楷體"/>
              </a:rPr>
              <a:t>他們脫髮的情況 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  <a:ea typeface="標楷體"/>
              </a:rPr>
              <a:t>他們處理脫髮問題的方法 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簡單總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F11-BF2C-4A8E-BC43-C6BC3B7B2F9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教育程度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14400" y="1828800"/>
          <a:ext cx="8032680" cy="448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803268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838080" y="160020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B35-DBF9-4956-9D74-BB6FB769696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職業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91960" y="1905120"/>
          <a:ext cx="862344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1905120"/>
                    <a:ext cx="862344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838080" y="152388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2A5-6598-469B-A594-E0F66BDD5D5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每月個人收入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1968480"/>
          <a:ext cx="867384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68480"/>
                    <a:ext cx="867384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838080" y="160020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FCE6-F95A-4EE4-B63C-82D694204E3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ecff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E5A-2CF4-4576-8FF7-C40370B8C94D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ecff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75438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10000"/>
              </a:lnSpc>
              <a:spcBef>
                <a:spcPts val="649"/>
              </a:spcBef>
              <a:spcAft>
                <a:spcPts val="1624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調查目的：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瞭解</a:t>
            </a:r>
            <a:r>
              <a:rPr b="1" lang="zh-TW" sz="2600" spc="-1" strike="noStrike">
                <a:solidFill>
                  <a:srgbClr val="ccecff"/>
                </a:solidFill>
                <a:latin typeface="新細明體"/>
                <a:ea typeface="標楷體"/>
              </a:rPr>
              <a:t>被訪者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脫髮的認知</a:t>
            </a:r>
            <a:r>
              <a:rPr b="1" lang="zh-TW" sz="2600" spc="-1" strike="noStrike">
                <a:solidFill>
                  <a:srgbClr val="ccecff"/>
                </a:solidFill>
                <a:latin typeface="新細明體"/>
                <a:ea typeface="標楷體"/>
              </a:rPr>
              <a:t>、他們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脫髮的情況</a:t>
            </a:r>
            <a:r>
              <a:rPr b="1" lang="zh-TW" sz="2600" spc="-1" strike="noStrike">
                <a:solidFill>
                  <a:srgbClr val="ccecff"/>
                </a:solidFill>
                <a:latin typeface="新細明體"/>
                <a:ea typeface="標楷體"/>
              </a:rPr>
              <a:t>及其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處理脫髮問題的方法</a:t>
            </a: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 。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649"/>
              </a:spcBef>
              <a:spcAft>
                <a:spcPts val="1624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強生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(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香港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有限公司</a:t>
            </a: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後獨立設計，所有操作、數據收集及分析由民研計劃獨立進行，結果亦由民研計劃全面負責。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649"/>
              </a:spcBef>
              <a:spcAft>
                <a:spcPts val="1624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調查方法和結果全面公開。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66DE-1878-482A-BCB0-9768F60634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ecff"/>
                </a:solidFill>
                <a:latin typeface="標楷體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160020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03240" indent="-18032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日期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：  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7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4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13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至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17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日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對象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：  年齡介乎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25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至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49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歲，並操粵語的男士 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調查方法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：  由訪問員直接進行電話訪問，訪問員在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     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成功接觸目標住戶後，再從住戶內找出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                               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符合條件的人接受訪問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樣本數目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： 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505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個成功個案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有效回應比率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： 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77.8% </a:t>
            </a:r>
            <a:r>
              <a:rPr b="1" lang="zh-TW" sz="2200" spc="-1" strike="noStrike">
                <a:solidFill>
                  <a:srgbClr val="ccffff"/>
                </a:solidFill>
                <a:latin typeface="標楷體"/>
                <a:ea typeface="標楷體"/>
              </a:rPr>
              <a:t>(</a:t>
            </a:r>
            <a:r>
              <a:rPr b="1" lang="zh-TW" sz="2200" spc="-1" strike="noStrike">
                <a:solidFill>
                  <a:srgbClr val="ccffff"/>
                </a:solidFill>
                <a:latin typeface="標楷體"/>
                <a:ea typeface="標楷體"/>
              </a:rPr>
              <a:t>以符合資格的目標對象計算</a:t>
            </a:r>
            <a:r>
              <a:rPr b="1" lang="zh-TW" sz="2200" spc="-1" strike="noStrike">
                <a:solidFill>
                  <a:srgbClr val="ccffff"/>
                </a:solidFill>
                <a:latin typeface="標楷體"/>
                <a:ea typeface="標楷體"/>
              </a:rPr>
              <a:t>)</a:t>
            </a:r>
            <a:r>
              <a:rPr b="1" lang="zh-TW" sz="26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： 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少於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+/- 2.2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亦即在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95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下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                              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各個百分比的抽樣誤差為少於正負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4.4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                               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個百分比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295280"/>
            <a:ext cx="7848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828-7554-49D9-81A7-EFAE675FD6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72520"/>
            <a:ext cx="8001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你認為脫髮最主要既原因是：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1219320"/>
          <a:ext cx="895356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19320"/>
                    <a:ext cx="89535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914400" y="12193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94480" y="152388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49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14400" y="5584680"/>
            <a:ext cx="8077320" cy="747360"/>
            <a:chOff x="914400" y="5584680"/>
            <a:chExt cx="8077320" cy="747360"/>
          </a:xfrm>
        </p:grpSpPr>
        <p:sp>
          <p:nvSpPr>
            <p:cNvPr id="65" name=""/>
            <p:cNvSpPr/>
            <p:nvPr/>
          </p:nvSpPr>
          <p:spPr>
            <a:xfrm>
              <a:off x="914400" y="5661000"/>
              <a:ext cx="9144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遺傳因素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5661000"/>
              <a:ext cx="9144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電髮或染髮過度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81680" y="5661000"/>
              <a:ext cx="9144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過量使用定型啫喱、髮泥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96080" y="5661000"/>
              <a:ext cx="5335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其他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1880" y="5664240"/>
              <a:ext cx="60984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唔知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/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難講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57800" y="5661000"/>
              <a:ext cx="91440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使用不適合洗頭水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95680" y="5661000"/>
              <a:ext cx="9907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油性頭皮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33920" y="5661000"/>
              <a:ext cx="99036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營養不良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76720" y="5661000"/>
              <a:ext cx="6094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年紀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5584680"/>
              <a:ext cx="99036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生活習慣不當 （例如飲食及作息習慣） 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28800" y="5654520"/>
              <a:ext cx="6094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壓力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DDFD-8A80-474E-9239-E05417DB1A1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3152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你認為脫髮問題可否治療到？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14400" y="1600200"/>
          <a:ext cx="7962840" cy="46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96284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7265880" y="556272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A61-B612-4E2C-B4B0-70DA66182B9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0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你認為治療脫髮是否有迫切性？請以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1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至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評價，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1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為完全沒有迫切性，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3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為一般／一半半，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代表非常有迫切性。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6320" y="1143000"/>
          <a:ext cx="899136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43000"/>
                    <a:ext cx="8991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" name=""/>
          <p:cNvGrpSpPr/>
          <p:nvPr/>
        </p:nvGrpSpPr>
        <p:grpSpPr>
          <a:xfrm>
            <a:off x="1219320" y="5334120"/>
            <a:ext cx="7319520" cy="529560"/>
            <a:chOff x="1219320" y="5334120"/>
            <a:chExt cx="7319520" cy="529560"/>
          </a:xfrm>
        </p:grpSpPr>
        <p:sp>
          <p:nvSpPr>
            <p:cNvPr id="86" name=""/>
            <p:cNvSpPr/>
            <p:nvPr/>
          </p:nvSpPr>
          <p:spPr>
            <a:xfrm>
              <a:off x="1219320" y="5334120"/>
              <a:ext cx="96048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非常急切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(5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分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)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56000" y="5334120"/>
              <a:ext cx="8431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幾急切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(4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分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)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56440" y="5334120"/>
              <a:ext cx="12906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一般／一半半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(3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分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)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21640" y="5334120"/>
              <a:ext cx="96840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幾唔急切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(2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分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)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48520" y="5334120"/>
              <a:ext cx="103680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完全唔急切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(1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分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)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55400" y="5335920"/>
              <a:ext cx="88344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唔知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/ 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難講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6478560" y="19303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0" y="1722600"/>
          <a:ext cx="1905120" cy="1096920"/>
        </p:xfrm>
        <a:graphic>
          <a:graphicData uri="http://schemas.openxmlformats.org/drawingml/2006/table">
            <a:tbl>
              <a:tblPr/>
              <a:tblGrid>
                <a:gridCol w="1082880"/>
                <a:gridCol w="822240"/>
              </a:tblGrid>
              <a:tr h="3956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平均分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2.71</a:t>
                      </a: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0.05</a:t>
                      </a: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496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59000" y="609588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總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E69-92DE-4493-913C-B1D7D4F3DC6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28240"/>
            <a:ext cx="81356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你認為以下哪些情況顯示一個人有脫髮問題呢？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371600"/>
          <a:ext cx="8991720" cy="491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99172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416640" y="1600200"/>
            <a:ext cx="22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5 (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可選多項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95400" y="5486400"/>
            <a:ext cx="7683480" cy="753480"/>
            <a:chOff x="995400" y="5486400"/>
            <a:chExt cx="7683480" cy="753480"/>
          </a:xfrm>
        </p:grpSpPr>
        <p:sp>
          <p:nvSpPr>
            <p:cNvPr id="101" name=""/>
            <p:cNvSpPr/>
            <p:nvPr/>
          </p:nvSpPr>
          <p:spPr>
            <a:xfrm>
              <a:off x="995400" y="5492520"/>
              <a:ext cx="909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頭髮稀疏至可見頭皮／肉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24440" y="5494320"/>
              <a:ext cx="57708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髮線位置</a:t>
              </a:r>
              <a:br>
                <a:rPr sz="1300"/>
              </a:b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後移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1800" y="5492520"/>
              <a:ext cx="9349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甩頭髮數量增加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86200" y="5492520"/>
              <a:ext cx="101592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頭頂髮旋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(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俗稱轉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)</a:t>
              </a:r>
              <a:br>
                <a:rPr sz="1300"/>
              </a:b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變大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72040" y="5486400"/>
              <a:ext cx="6760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頭髮變幼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51360" y="5492520"/>
              <a:ext cx="10159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家族中有人有脫髮問題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15240" y="5492520"/>
              <a:ext cx="6760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以上皆否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03800" y="5492520"/>
              <a:ext cx="7750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唔知／難講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F88-A7AD-49E1-A8D6-5E326DE1E3A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你會否留意著自己每日脫髮的數量是否有顯著改變？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47920" y="2235240"/>
          <a:ext cx="6602400" cy="37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35240"/>
                    <a:ext cx="660240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7342200" y="556272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42B4-262D-497F-8EED-19198F2FBA5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Alex Lin</cp:lastModifiedBy>
  <cp:lastPrinted>2001-04-04T10:00:24Z</cp:lastPrinted>
  <dcterms:modified xsi:type="dcterms:W3CDTF">2007-05-10T03:40:43Z</dcterms:modified>
  <cp:revision>1201</cp:revision>
  <dc:subject/>
  <dc:title>無投影片標題</dc:title>
</cp:coreProperties>
</file>