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6.png" ContentType="image/png"/>
  <Override PartName="/ppt/media/image5.png" ContentType="image/png"/>
  <Override PartName="/ppt/media/image8.jpeg" ContentType="image/jpeg"/>
  <Override PartName="/ppt/media/image14.png" ContentType="image/png"/>
  <Override PartName="/ppt/media/image10.jpeg" ContentType="image/jpeg"/>
  <Override PartName="/ppt/media/image13.png" ContentType="image/png"/>
  <Override PartName="/ppt/media/image37.jpeg" ContentType="image/jpeg"/>
  <Override PartName="/ppt/media/image9.jpeg" ContentType="image/jpeg"/>
  <Override PartName="/ppt/media/image23.wmf" ContentType="image/x-wmf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wmf" ContentType="image/x-wmf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3720" y="303948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584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432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528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372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432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528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1280" y="252360"/>
            <a:ext cx="77994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584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20" y="303948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584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432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5280" y="161244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9372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432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5280" y="3039480"/>
            <a:ext cx="251460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1280" y="252360"/>
            <a:ext cx="77994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5840" y="303948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840" y="1612440"/>
            <a:ext cx="381132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3720" y="3039480"/>
            <a:ext cx="78105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324400"/>
            <a:ext cx="9144000" cy="152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71000"/>
          </a:bodyPr>
          <a:p>
            <a:pPr marL="243360" indent="-24336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1" marL="531720" indent="-2070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2" marL="811440" indent="-1980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3" marL="1090800" indent="-1980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4" marL="1638720" indent="-162000"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5" marL="1638720" indent="-162000"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6" marL="1638720" indent="-16200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Click to edit the title text format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3" name=""/>
          <p:cNvSpPr/>
          <p:nvPr/>
        </p:nvSpPr>
        <p:spPr>
          <a:xfrm>
            <a:off x="501480" y="6000840"/>
            <a:ext cx="2054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8960" y="6037200"/>
            <a:ext cx="2254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9040" y="4659480"/>
            <a:ext cx="1941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50800" y="6043680"/>
            <a:ext cx="1979640" cy="63972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361040" y="6372360"/>
            <a:ext cx="4471920" cy="3268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47640" y="1333440"/>
            <a:ext cx="7867800" cy="8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ab57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新細明體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新細明體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新細明體"/>
            </a:endParaRPr>
          </a:p>
          <a:p>
            <a:pPr lvl="1" marL="190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673200" indent="190440" algn="ctr">
              <a:spcBef>
                <a:spcPts val="601"/>
              </a:spcBef>
              <a:buClr>
                <a:srgbClr val="0077be"/>
              </a:buClr>
              <a:buSzPct val="90000"/>
              <a:buFont typeface="ScheringSymbolsArrowsPositive"/>
              <a:buChar char="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3" marL="1155600" indent="101880" algn="ctr">
              <a:spcBef>
                <a:spcPts val="499"/>
              </a:spcBef>
              <a:buClr>
                <a:srgbClr val="000000"/>
              </a:buClr>
              <a:buFont typeface="新細明體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4" marL="1828800" indent="250920" algn="ctr">
              <a:spcBef>
                <a:spcPts val="400"/>
              </a:spcBef>
              <a:buClr>
                <a:srgbClr val="000000"/>
              </a:buClr>
              <a:buFont typeface="新細明體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新細明體"/>
            </a:endParaRPr>
          </a:p>
          <a:p>
            <a:pPr lvl="5" marL="1828800" indent="250920">
              <a:spcBef>
                <a:spcPts val="400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新細明體"/>
            </a:endParaRPr>
          </a:p>
          <a:p>
            <a:pPr lvl="6" marL="1828800" indent="250920">
              <a:spcBef>
                <a:spcPts val="400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aser-hair-removal-site.com/images/iStock_000000134104Small.jpg&amp;imgrefurl=http://laser-hair-removal-site.com/&amp;h=565&amp;w=849&amp;sz=218&amp;tbnid=M0UCNfxXRsmI7M:&amp;tbnh=95&amp;tbnw=144&amp;hl=en&amp;start=12&amp;prev=/images%3Fq%3Dhair%2Bremoval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img.photobucket.com/albums/v157/lal65_us/permanent-body-hair-removal.jpg&amp;imgrefurl=http://hairremoval.tblog.com/&amp;h=192&amp;w=150&amp;sz=8&amp;tbnid=Q3fVExL-6FtvwM:&amp;tbnh=98&amp;tbnw=76&amp;hl=en&amp;start=13&amp;prev=/images%3Fq%3Dhair%2Bremoval%26svnum%3D10%26hl%3Den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skincareguide.ca/images/art/cosmetic_6.jpg&amp;imgrefurl=http://www.skincareguide.ca/articles/general_skin_care/laser_hair_removal.html&amp;h=200&amp;w=150&amp;sz=6&amp;tbnid=sK9jYK81j_HwCM:&amp;tbnh=99&amp;tbnw=74&amp;hl=en&amp;start=116&amp;prev=/images%3Fq%3Dhair%2Bremoval%26start%3D100%26svnum%3D10%26hl%3Den%26lr%3D%26sa%3D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martinveinclinic.on.ca/images/legs2.jpg&amp;imgrefurl=http://www.martinveinclinic.on.ca/staff.cfm&amp;h=333&amp;w=270&amp;sz=6&amp;tbnid=GRzYxy2_jKVjwM:&amp;tbnh=115&amp;tbnw=93&amp;hl=en&amp;start=157&amp;prev=/images%3Fq%3Dhair%2Bremoval%26start%3D140%26svnum%3D10%26hl%3Den%26lr%3D%26sa%3D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institutebeaute.com/images/index_r3_c4.jpg&amp;imgrefurl=http://www.institutebeaute.com/&amp;h=253&amp;w=155&amp;sz=10&amp;tbnid=LUP3KerePnUNwM:&amp;tbnh=106&amp;tbnw=64&amp;hl=en&amp;start=210&amp;prev=/images%3Fq%3Dhair%2Bremoval%26start%3D200%26svnum%3D10%26hl%3Den%26lr%3D%26sa%3DN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http://images.google.com/imgres?imgurl=http://www.hindu.com/thehindu/mp/2003/01/30/images/2003013001050301.jpg&amp;imgrefurl=http://www.hindu.com/thehindu/mp/2003/01/30/stories/2003013001050300.htm&amp;h=300&amp;w=186&amp;sz=8&amp;tbnid=vwIpd_j1CXZk9M:&amp;tbnh=111&amp;tbnw=68&amp;hl=en&amp;start=53&amp;prev=/images%3Fq%3Dunwanted%2Bhair%26start%3D40%26svnum%3D10%26hl%3Den%26lr%3D%26sa%3DN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9844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2984400"/>
            <a:ext cx="1003320" cy="12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2984400"/>
            <a:ext cx="1044720" cy="129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2984400"/>
            <a:ext cx="1047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162920" y="2984400"/>
            <a:ext cx="990360" cy="1295280"/>
            <a:chOff x="7162920" y="2984400"/>
            <a:chExt cx="990360" cy="1295280"/>
          </a:xfrm>
        </p:grpSpPr>
        <p:pic>
          <p:nvPicPr>
            <p:cNvPr id="88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162920" y="2984400"/>
              <a:ext cx="990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38880" y="4051080"/>
              <a:ext cx="762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305080" y="4295880"/>
            <a:ext cx="4572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Trebuchet MS"/>
                <a:ea typeface="新細明體"/>
              </a:rPr>
              <a:t>馮偉傑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Trebuchet MS"/>
                <a:ea typeface="新細明體"/>
              </a:rPr>
              <a:t>皮膚科專科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rebuchet MS"/>
                <a:ea typeface="新細明體"/>
              </a:rPr>
              <a:t>200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  <a:ea typeface="SimSun"/>
              </a:rPr>
              <a:t>6</a:t>
            </a:r>
            <a:r>
              <a:rPr b="1" lang="zh-TW" sz="2400" spc="-1" strike="noStrike">
                <a:solidFill>
                  <a:srgbClr val="ff3300"/>
                </a:solidFill>
                <a:latin typeface="Trebuchet MS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  <a:ea typeface="SimSun"/>
              </a:rPr>
              <a:t>5</a:t>
            </a:r>
            <a:r>
              <a:rPr b="1" lang="zh-TW" sz="2400" spc="-1" strike="noStrike">
                <a:solidFill>
                  <a:srgbClr val="ff3300"/>
                </a:solidFill>
                <a:latin typeface="Trebuchet MS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  <a:ea typeface="新細明體"/>
              </a:rPr>
              <a:t>8</a:t>
            </a:r>
            <a:r>
              <a:rPr b="1" lang="zh-TW" sz="2400" spc="-1" strike="noStrike">
                <a:solidFill>
                  <a:srgbClr val="ff3300"/>
                </a:solidFill>
                <a:latin typeface="Trebuchet MS"/>
                <a:ea typeface="新細明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136600" y="940680"/>
            <a:ext cx="4632120" cy="2029680"/>
            <a:chOff x="2136600" y="940680"/>
            <a:chExt cx="4632120" cy="2029680"/>
          </a:xfrm>
        </p:grpSpPr>
        <p:sp>
          <p:nvSpPr>
            <p:cNvPr id="92" name=""/>
            <p:cNvSpPr/>
            <p:nvPr/>
          </p:nvSpPr>
          <p:spPr>
            <a:xfrm>
              <a:off x="2136600" y="2513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6720" y="1779480"/>
              <a:ext cx="45720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6200" spc="-1" strike="noStrike">
                  <a:solidFill>
                    <a:srgbClr val="ff3300"/>
                  </a:solidFill>
                  <a:latin typeface="Trebuchet MS"/>
                  <a:ea typeface="新細明體"/>
                </a:rPr>
                <a:t>脫    全面睇</a:t>
              </a:r>
              <a:endParaRPr b="0" lang="en-US" sz="6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176200">
              <a:off x="3278880" y="1142640"/>
              <a:ext cx="10141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6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毛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961000" y="304920"/>
            <a:ext cx="33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817000">
            <a:off x="3970080" y="361800"/>
            <a:ext cx="33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092600">
            <a:off x="2284200" y="269640"/>
            <a:ext cx="302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毛囊炎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438200"/>
            <a:ext cx="4417920" cy="3140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73600" y="2835360"/>
            <a:ext cx="527040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罕有併發症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: 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蜂窩組織炎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3720" y="1596960"/>
            <a:ext cx="7491600" cy="3022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234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新細明體"/>
              </a:rPr>
              <a:t>皮膚傷口的細菌感染已經侵犯到皮下脂肪層</a:t>
            </a:r>
            <a:r>
              <a:rPr b="1" lang="en-US" sz="25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新細明體"/>
              </a:rPr>
              <a:t>皮下脂肪的排列有點像蜂窩</a:t>
            </a:r>
            <a:r>
              <a:rPr b="1" lang="en-US" sz="25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234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新細明體"/>
              </a:rPr>
              <a:t>病人會出現局部灼熱感、壓痛和局部水腫等情況</a:t>
            </a: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23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新細明體"/>
              </a:rPr>
              <a:t>也會有發燒、畏寒、頭痛等徵狀</a:t>
            </a: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罕有併發症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: 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蜂窩組織炎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16990"/>
          <a:stretch/>
        </p:blipFill>
        <p:spPr>
          <a:xfrm>
            <a:off x="860400" y="1441440"/>
            <a:ext cx="705168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1280" y="52200"/>
            <a:ext cx="77994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四成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三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受訪者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誤以為</a:t>
            </a:r>
            <a:br>
              <a:rPr sz="4200"/>
            </a:b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彩光脫毛較安全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95160" y="1779480"/>
          <a:ext cx="7805880" cy="43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779480"/>
                    <a:ext cx="780588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162400" y="6227640"/>
            <a:ext cx="34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4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0800" y="1590120"/>
            <a:ext cx="7551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2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認爲彩光脫毛同埋激光脫毛邊種脫毛方法較安全</a:t>
            </a: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19419" b="0"/>
          <a:stretch/>
        </p:blipFill>
        <p:spPr>
          <a:xfrm>
            <a:off x="749160" y="2022480"/>
            <a:ext cx="466920" cy="561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0" r="19419" b="0"/>
          <a:stretch/>
        </p:blipFill>
        <p:spPr>
          <a:xfrm>
            <a:off x="376200" y="3352680"/>
            <a:ext cx="4669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0" r="19419" b="0"/>
          <a:stretch/>
        </p:blipFill>
        <p:spPr>
          <a:xfrm>
            <a:off x="596880" y="4013280"/>
            <a:ext cx="466920" cy="5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1280" y="95040"/>
            <a:ext cx="77994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四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成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六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受訪者認爲</a:t>
            </a:r>
            <a:br>
              <a:rPr sz="4200"/>
            </a:b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激光脫毛效果較持久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5160" y="1851120"/>
          <a:ext cx="780588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0588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162400" y="6227640"/>
            <a:ext cx="34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4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" y="1590120"/>
            <a:ext cx="7551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2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認爲彩光脫毛同埋激光脫毛邊種脫毛方法可以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持久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脫毛</a:t>
            </a: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0" t="0" r="19419" b="0"/>
          <a:stretch/>
        </p:blipFill>
        <p:spPr>
          <a:xfrm>
            <a:off x="817560" y="411480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0" r="19419" b="0"/>
          <a:stretch/>
        </p:blipFill>
        <p:spPr>
          <a:xfrm>
            <a:off x="1243080" y="338148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0" t="0" r="19419" b="0"/>
          <a:stretch/>
        </p:blipFill>
        <p:spPr>
          <a:xfrm>
            <a:off x="344520" y="2752560"/>
            <a:ext cx="466560" cy="56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1280" y="10944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只有一成受訪者認爲激光脫毛要做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4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次療程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(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腋毛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)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效果才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會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持久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66" name=""/>
          <p:cNvSpPr/>
          <p:nvPr/>
        </p:nvSpPr>
        <p:spPr>
          <a:xfrm>
            <a:off x="5162400" y="6227640"/>
            <a:ext cx="34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4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" y="1590120"/>
            <a:ext cx="7551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2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就您所知，激光脫腋下毛要做幾多次療程先可以達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持久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效果</a:t>
            </a:r>
            <a:r>
              <a:rPr b="1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73080" y="2198880"/>
            <a:ext cx="7333920" cy="3745440"/>
            <a:chOff x="973080" y="2198880"/>
            <a:chExt cx="7333920" cy="3745440"/>
          </a:xfrm>
        </p:grpSpPr>
        <p:grpSp>
          <p:nvGrpSpPr>
            <p:cNvPr id="169" name=""/>
            <p:cNvGrpSpPr/>
            <p:nvPr/>
          </p:nvGrpSpPr>
          <p:grpSpPr>
            <a:xfrm>
              <a:off x="2265480" y="2198880"/>
              <a:ext cx="5846760" cy="3371760"/>
              <a:chOff x="2265480" y="2198880"/>
              <a:chExt cx="5846760" cy="337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2322360" y="2198880"/>
                <a:ext cx="5788080" cy="330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51080" y="219888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79800" y="219888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7080" y="219888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26080" y="219888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54800" y="219888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81720" y="219888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110440" y="219888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22360" y="2198880"/>
                <a:ext cx="5788080" cy="330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22360" y="5013360"/>
                <a:ext cx="5092920" cy="936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22360" y="5022720"/>
                <a:ext cx="509292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22360" y="5030640"/>
                <a:ext cx="5092920" cy="97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22360" y="5040360"/>
                <a:ext cx="509292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22360" y="5048280"/>
                <a:ext cx="5092920" cy="936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22360" y="5057640"/>
                <a:ext cx="509292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2360" y="5065560"/>
                <a:ext cx="5092920" cy="972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22360" y="5075280"/>
                <a:ext cx="509292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22360" y="5083200"/>
                <a:ext cx="5092920" cy="936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22360" y="5092560"/>
                <a:ext cx="509292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22360" y="5100480"/>
                <a:ext cx="5092920" cy="972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22360" y="5110200"/>
                <a:ext cx="509292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22360" y="5118120"/>
                <a:ext cx="5092920" cy="936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22360" y="5127480"/>
                <a:ext cx="509292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22360" y="5135400"/>
                <a:ext cx="5092920" cy="972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22360" y="5145120"/>
                <a:ext cx="509292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22360" y="5153040"/>
                <a:ext cx="5092920" cy="936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22360" y="5162400"/>
                <a:ext cx="5092920" cy="1620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22360" y="5178600"/>
                <a:ext cx="5092920" cy="936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22360" y="5187960"/>
                <a:ext cx="509292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22360" y="5195880"/>
                <a:ext cx="5092920" cy="972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22360" y="5205600"/>
                <a:ext cx="509292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22360" y="5213520"/>
                <a:ext cx="5092920" cy="936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22360" y="5222880"/>
                <a:ext cx="509292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2360" y="5230800"/>
                <a:ext cx="5092920" cy="972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22360" y="5240520"/>
                <a:ext cx="509292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22360" y="5248440"/>
                <a:ext cx="5092920" cy="936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22360" y="5257800"/>
                <a:ext cx="509292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22360" y="5265720"/>
                <a:ext cx="5092920" cy="972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22360" y="5275440"/>
                <a:ext cx="509292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22360" y="5283360"/>
                <a:ext cx="5092920" cy="936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22360" y="5292720"/>
                <a:ext cx="509292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22360" y="5300640"/>
                <a:ext cx="5092920" cy="97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22360" y="5310360"/>
                <a:ext cx="509292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360" y="5318280"/>
                <a:ext cx="5092920" cy="936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22360" y="5013360"/>
                <a:ext cx="5092920" cy="314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22360" y="4354560"/>
                <a:ext cx="4132440" cy="7920"/>
              </a:xfrm>
              <a:prstGeom prst="rect">
                <a:avLst/>
              </a:prstGeom>
              <a:solidFill>
                <a:srgbClr val="ff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22360" y="4362480"/>
                <a:ext cx="4132440" cy="7920"/>
              </a:xfrm>
              <a:prstGeom prst="rect">
                <a:avLst/>
              </a:prstGeom>
              <a:solidFill>
                <a:srgbClr val="ff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22360" y="4370400"/>
                <a:ext cx="4132440" cy="93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22360" y="4379760"/>
                <a:ext cx="4132440" cy="8280"/>
              </a:xfrm>
              <a:prstGeom prst="rect">
                <a:avLst/>
              </a:prstGeom>
              <a:solidFill>
                <a:srgbClr val="ff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22360" y="4388040"/>
                <a:ext cx="4132440" cy="9360"/>
              </a:xfrm>
              <a:prstGeom prst="rect">
                <a:avLst/>
              </a:prstGeom>
              <a:solidFill>
                <a:srgbClr val="ff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22360" y="4397400"/>
                <a:ext cx="4132440" cy="7920"/>
              </a:xfrm>
              <a:prstGeom prst="rect">
                <a:avLst/>
              </a:prstGeom>
              <a:solidFill>
                <a:srgbClr val="ff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2360" y="4405320"/>
                <a:ext cx="4132440" cy="9360"/>
              </a:xfrm>
              <a:prstGeom prst="rect">
                <a:avLst/>
              </a:prstGeom>
              <a:solidFill>
                <a:srgbClr val="f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22360" y="4414680"/>
                <a:ext cx="4132440" cy="8280"/>
              </a:xfrm>
              <a:prstGeom prst="rect">
                <a:avLst/>
              </a:prstGeom>
              <a:solidFill>
                <a:srgbClr val="f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22360" y="4422960"/>
                <a:ext cx="4132440" cy="9360"/>
              </a:xfrm>
              <a:prstGeom prst="rect">
                <a:avLst/>
              </a:prstGeom>
              <a:solidFill>
                <a:srgbClr val="ff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2360" y="4432320"/>
                <a:ext cx="4132440" cy="7920"/>
              </a:xfrm>
              <a:prstGeom prst="rect">
                <a:avLst/>
              </a:prstGeom>
              <a:solidFill>
                <a:srgbClr val="ff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360" y="4440240"/>
                <a:ext cx="4132440" cy="9360"/>
              </a:xfrm>
              <a:prstGeom prst="rect">
                <a:avLst/>
              </a:prstGeom>
              <a:solidFill>
                <a:srgbClr val="f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2360" y="4449600"/>
                <a:ext cx="4132440" cy="8280"/>
              </a:xfrm>
              <a:prstGeom prst="rect">
                <a:avLst/>
              </a:prstGeom>
              <a:solidFill>
                <a:srgbClr val="f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2360" y="4457880"/>
                <a:ext cx="4132440" cy="9360"/>
              </a:xfrm>
              <a:prstGeom prst="rect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22360" y="4467240"/>
                <a:ext cx="4132440" cy="79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22360" y="4475160"/>
                <a:ext cx="4132440" cy="9720"/>
              </a:xfrm>
              <a:prstGeom prst="rect">
                <a:avLst/>
              </a:pr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22360" y="4484880"/>
                <a:ext cx="4132440" cy="792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22360" y="4492800"/>
                <a:ext cx="4132440" cy="9360"/>
              </a:xfrm>
              <a:prstGeom prst="rect">
                <a:avLst/>
              </a:pr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2360" y="4502160"/>
                <a:ext cx="4132440" cy="1764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22360" y="4519800"/>
                <a:ext cx="4132440" cy="7920"/>
              </a:xfrm>
              <a:prstGeom prst="rect">
                <a:avLst/>
              </a:pr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4527720"/>
                <a:ext cx="4132440" cy="792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22360" y="4535640"/>
                <a:ext cx="4132440" cy="9360"/>
              </a:xfrm>
              <a:prstGeom prst="rect">
                <a:avLst/>
              </a:pr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22360" y="4545000"/>
                <a:ext cx="4132440" cy="79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360" y="4552920"/>
                <a:ext cx="4132440" cy="9720"/>
              </a:xfrm>
              <a:prstGeom prst="rect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22360" y="4562640"/>
                <a:ext cx="4132440" cy="7920"/>
              </a:xfrm>
              <a:prstGeom prst="rect">
                <a:avLst/>
              </a:prstGeom>
              <a:solidFill>
                <a:srgbClr val="f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360" y="4570560"/>
                <a:ext cx="4132440" cy="9360"/>
              </a:xfrm>
              <a:prstGeom prst="rect">
                <a:avLst/>
              </a:prstGeom>
              <a:solidFill>
                <a:srgbClr val="f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22360" y="4579920"/>
                <a:ext cx="4132440" cy="7920"/>
              </a:xfrm>
              <a:prstGeom prst="rect">
                <a:avLst/>
              </a:prstGeom>
              <a:solidFill>
                <a:srgbClr val="ff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22360" y="4587840"/>
                <a:ext cx="4132440" cy="9720"/>
              </a:xfrm>
              <a:prstGeom prst="rect">
                <a:avLst/>
              </a:prstGeom>
              <a:solidFill>
                <a:srgbClr val="ff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22360" y="4597560"/>
                <a:ext cx="4132440" cy="7920"/>
              </a:xfrm>
              <a:prstGeom prst="rect">
                <a:avLst/>
              </a:prstGeom>
              <a:solidFill>
                <a:srgbClr val="f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22360" y="4605480"/>
                <a:ext cx="4132440" cy="9360"/>
              </a:xfrm>
              <a:prstGeom prst="rect">
                <a:avLst/>
              </a:prstGeom>
              <a:solidFill>
                <a:srgbClr val="f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22360" y="4614840"/>
                <a:ext cx="4132440" cy="7920"/>
              </a:xfrm>
              <a:prstGeom prst="rect">
                <a:avLst/>
              </a:prstGeom>
              <a:solidFill>
                <a:srgbClr val="ff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22360" y="4622760"/>
                <a:ext cx="4132440" cy="9720"/>
              </a:xfrm>
              <a:prstGeom prst="rect">
                <a:avLst/>
              </a:prstGeom>
              <a:solidFill>
                <a:srgbClr val="ff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22360" y="4632480"/>
                <a:ext cx="4132440" cy="7920"/>
              </a:xfrm>
              <a:prstGeom prst="rect">
                <a:avLst/>
              </a:prstGeom>
              <a:solidFill>
                <a:srgbClr val="ff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22360" y="4640400"/>
                <a:ext cx="4132440" cy="93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22360" y="4649760"/>
                <a:ext cx="4132440" cy="7920"/>
              </a:xfrm>
              <a:prstGeom prst="rect">
                <a:avLst/>
              </a:prstGeom>
              <a:solidFill>
                <a:srgbClr val="ff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360" y="4657680"/>
                <a:ext cx="4132440" cy="9720"/>
              </a:xfrm>
              <a:prstGeom prst="rect">
                <a:avLst/>
              </a:prstGeom>
              <a:solidFill>
                <a:srgbClr val="ff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22360" y="4354560"/>
                <a:ext cx="4132440" cy="312840"/>
              </a:xfrm>
              <a:prstGeom prst="rect">
                <a:avLst/>
              </a:prstGeom>
              <a:gradFill rotWithShape="0">
                <a:gsLst>
                  <a:gs pos="0">
                    <a:srgbClr val="ffab57"/>
                  </a:gs>
                  <a:gs pos="50000">
                    <a:srgbClr val="ffffff"/>
                  </a:gs>
                  <a:gs pos="100000">
                    <a:srgbClr val="ffab5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360" y="3693960"/>
                <a:ext cx="1838520" cy="828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22360" y="3702240"/>
                <a:ext cx="183852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22360" y="3710160"/>
                <a:ext cx="1838520" cy="936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22360" y="3719520"/>
                <a:ext cx="183852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2360" y="3727440"/>
                <a:ext cx="1838520" cy="972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22360" y="3737160"/>
                <a:ext cx="183852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22360" y="3745080"/>
                <a:ext cx="1838520" cy="936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22360" y="3754440"/>
                <a:ext cx="183852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22360" y="3762360"/>
                <a:ext cx="1838520" cy="972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22360" y="3772080"/>
                <a:ext cx="183852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360" y="3780000"/>
                <a:ext cx="1838520" cy="936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22360" y="3789360"/>
                <a:ext cx="183852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360" y="3797280"/>
                <a:ext cx="1838520" cy="972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22360" y="3807000"/>
                <a:ext cx="183852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22360" y="3814920"/>
                <a:ext cx="1838520" cy="936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322360" y="3824280"/>
                <a:ext cx="183852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22360" y="3832200"/>
                <a:ext cx="1838520" cy="972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3841920"/>
                <a:ext cx="1838520" cy="172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22360" y="3859200"/>
                <a:ext cx="1838520" cy="792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22360" y="3867120"/>
                <a:ext cx="183852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22360" y="3875040"/>
                <a:ext cx="1838520" cy="972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22360" y="3884760"/>
                <a:ext cx="183852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360" y="3892680"/>
                <a:ext cx="1838520" cy="936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22360" y="3902040"/>
                <a:ext cx="183852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360" y="3909960"/>
                <a:ext cx="1838520" cy="972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322360" y="3919680"/>
                <a:ext cx="183852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22360" y="3927600"/>
                <a:ext cx="1838520" cy="936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22360" y="3936960"/>
                <a:ext cx="183852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360" y="3944880"/>
                <a:ext cx="1838520" cy="972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22360" y="3954600"/>
                <a:ext cx="183852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22360" y="3962520"/>
                <a:ext cx="1838520" cy="936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22360" y="3971880"/>
                <a:ext cx="183852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22360" y="3979800"/>
                <a:ext cx="1838520" cy="97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22360" y="3989520"/>
                <a:ext cx="183852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22360" y="3997440"/>
                <a:ext cx="1838520" cy="936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22360" y="3693960"/>
                <a:ext cx="1838520" cy="3128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360" y="3033720"/>
                <a:ext cx="4465800" cy="792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22360" y="3041640"/>
                <a:ext cx="446580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22360" y="3049560"/>
                <a:ext cx="4465800" cy="97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22360" y="3059280"/>
                <a:ext cx="446580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22360" y="3067200"/>
                <a:ext cx="4465800" cy="936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22360" y="3076560"/>
                <a:ext cx="446580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22360" y="3084480"/>
                <a:ext cx="4465800" cy="972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22360" y="3094200"/>
                <a:ext cx="446580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22360" y="3102120"/>
                <a:ext cx="4465800" cy="936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22360" y="3111480"/>
                <a:ext cx="446580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360" y="3119400"/>
                <a:ext cx="4465800" cy="972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22360" y="3129120"/>
                <a:ext cx="446580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360" y="3137040"/>
                <a:ext cx="4465800" cy="936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2360" y="3146400"/>
                <a:ext cx="446580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22360" y="3154320"/>
                <a:ext cx="4465800" cy="972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22360" y="3164040"/>
                <a:ext cx="446580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322360" y="3171960"/>
                <a:ext cx="4465800" cy="936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322360" y="3181320"/>
                <a:ext cx="4465800" cy="1764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360" y="3198960"/>
                <a:ext cx="4465800" cy="792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22360" y="3206880"/>
                <a:ext cx="4465800" cy="7920"/>
              </a:xfrm>
              <a:prstGeom prst="rect">
                <a:avLst/>
              </a:prstGeom>
              <a:solidFill>
                <a:srgbClr val="fffc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22360" y="3214800"/>
                <a:ext cx="4465800" cy="936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22360" y="3224160"/>
                <a:ext cx="446580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22360" y="3232080"/>
                <a:ext cx="4465800" cy="972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22360" y="3241800"/>
                <a:ext cx="446580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22360" y="3249720"/>
                <a:ext cx="4465800" cy="936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22360" y="3259080"/>
                <a:ext cx="446580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22360" y="3267000"/>
                <a:ext cx="4465800" cy="972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22360" y="3276720"/>
                <a:ext cx="446580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322360" y="3284640"/>
                <a:ext cx="4465800" cy="936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22360" y="3294000"/>
                <a:ext cx="446580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22360" y="3301920"/>
                <a:ext cx="4465800" cy="972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22360" y="3311640"/>
                <a:ext cx="446580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22360" y="3319560"/>
                <a:ext cx="4465800" cy="936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22360" y="3328920"/>
                <a:ext cx="446580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360" y="3336840"/>
                <a:ext cx="4465800" cy="972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22360" y="3033720"/>
                <a:ext cx="4465800" cy="312840"/>
              </a:xfrm>
              <a:prstGeom prst="rect">
                <a:avLst/>
              </a:prstGeom>
              <a:gradFill rotWithShape="0">
                <a:gsLst>
                  <a:gs pos="0">
                    <a:srgbClr val="ffab57"/>
                  </a:gs>
                  <a:gs pos="50000">
                    <a:srgbClr val="ffffff"/>
                  </a:gs>
                  <a:gs pos="100000">
                    <a:srgbClr val="ffab5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360" y="2373480"/>
                <a:ext cx="1028880" cy="792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22360" y="2381400"/>
                <a:ext cx="1028880" cy="936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322360" y="2390760"/>
                <a:ext cx="1028880" cy="79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22360" y="2398680"/>
                <a:ext cx="102888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360" y="2406600"/>
                <a:ext cx="1028880" cy="972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22360" y="2416320"/>
                <a:ext cx="102888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22360" y="2424240"/>
                <a:ext cx="1028880" cy="936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22360" y="2433600"/>
                <a:ext cx="102888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22360" y="2441520"/>
                <a:ext cx="1028880" cy="972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2360" y="2451240"/>
                <a:ext cx="102888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22360" y="2459160"/>
                <a:ext cx="1028880" cy="936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322360" y="2468520"/>
                <a:ext cx="102888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22360" y="2476440"/>
                <a:ext cx="1028880" cy="972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22360" y="2486160"/>
                <a:ext cx="102888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22360" y="2494080"/>
                <a:ext cx="1028880" cy="936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22360" y="2503440"/>
                <a:ext cx="1028880" cy="79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22360" y="2511360"/>
                <a:ext cx="1028880" cy="972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22360" y="2521080"/>
                <a:ext cx="1028880" cy="172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22360" y="2538360"/>
                <a:ext cx="1028880" cy="7920"/>
              </a:xfrm>
              <a:prstGeom prst="rect">
                <a:avLst/>
              </a:prstGeom>
              <a:solidFill>
                <a:srgbClr val="fffe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22360" y="2546280"/>
                <a:ext cx="1028880" cy="97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22360" y="2556000"/>
                <a:ext cx="1028880" cy="7920"/>
              </a:xfrm>
              <a:prstGeom prst="rect">
                <a:avLst/>
              </a:pr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22360" y="2563920"/>
                <a:ext cx="1028880" cy="79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22360" y="2571840"/>
                <a:ext cx="1028880" cy="9360"/>
              </a:xfrm>
              <a:prstGeom prst="rect">
                <a:avLst/>
              </a:prstGeom>
              <a:solidFill>
                <a:srgbClr val="fff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22360" y="2581200"/>
                <a:ext cx="1028880" cy="7920"/>
              </a:xfrm>
              <a:prstGeom prst="rect">
                <a:avLst/>
              </a:pr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360" y="2589120"/>
                <a:ext cx="1028880" cy="9720"/>
              </a:xfrm>
              <a:prstGeom prst="rect">
                <a:avLst/>
              </a:prstGeom>
              <a:solidFill>
                <a:srgbClr val="ffe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22360" y="2598840"/>
                <a:ext cx="1028880" cy="7920"/>
              </a:xfrm>
              <a:prstGeom prst="rect">
                <a:avLst/>
              </a:prstGeom>
              <a:solidFill>
                <a:srgbClr val="ff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322360" y="2606760"/>
                <a:ext cx="1028880" cy="9360"/>
              </a:xfrm>
              <a:prstGeom prst="rect">
                <a:avLst/>
              </a:prstGeom>
              <a:solidFill>
                <a:srgbClr val="ffe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22360" y="2616120"/>
                <a:ext cx="1028880" cy="7920"/>
              </a:xfrm>
              <a:prstGeom prst="rect">
                <a:avLst/>
              </a:prstGeom>
              <a:solidFill>
                <a:srgbClr val="ffe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22360" y="2624040"/>
                <a:ext cx="1028880" cy="9720"/>
              </a:xfrm>
              <a:prstGeom prst="rect">
                <a:avLst/>
              </a:prstGeom>
              <a:solidFill>
                <a:srgbClr val="ffd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22360" y="2633760"/>
                <a:ext cx="1028880" cy="7920"/>
              </a:xfrm>
              <a:prstGeom prst="rect">
                <a:avLst/>
              </a:prstGeom>
              <a:solidFill>
                <a:srgbClr val="ffd8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360" y="2641680"/>
                <a:ext cx="1028880" cy="9360"/>
              </a:xfrm>
              <a:prstGeom prst="rect">
                <a:avLst/>
              </a:prstGeom>
              <a:solidFill>
                <a:srgbClr val="ff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322360" y="2651040"/>
                <a:ext cx="1028880" cy="7920"/>
              </a:xfrm>
              <a:prstGeom prst="rect">
                <a:avLst/>
              </a:prstGeom>
              <a:solidFill>
                <a:srgbClr val="ffd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22360" y="2658960"/>
                <a:ext cx="1028880" cy="9720"/>
              </a:xfrm>
              <a:prstGeom prst="rect">
                <a:avLst/>
              </a:prstGeom>
              <a:solidFill>
                <a:srgbClr val="ff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322360" y="2668680"/>
                <a:ext cx="1028880" cy="7920"/>
              </a:xfrm>
              <a:prstGeom prst="rect">
                <a:avLst/>
              </a:prstGeom>
              <a:solidFill>
                <a:srgbClr val="ffc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22360" y="2676600"/>
                <a:ext cx="1028880" cy="9360"/>
              </a:xfrm>
              <a:prstGeom prst="rect">
                <a:avLst/>
              </a:prstGeom>
              <a:solidFill>
                <a:srgbClr val="ffc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22360" y="2373480"/>
                <a:ext cx="1028880" cy="31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22360" y="5500800"/>
                <a:ext cx="5788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2322360" y="5500800"/>
                <a:ext cx="1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151080" y="5500800"/>
                <a:ext cx="1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3979800" y="5500800"/>
                <a:ext cx="1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807080" y="5500800"/>
                <a:ext cx="14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5626080" y="5500800"/>
                <a:ext cx="14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6454800" y="5500800"/>
                <a:ext cx="144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281720" y="5500800"/>
                <a:ext cx="1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8110440" y="5500800"/>
                <a:ext cx="1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22360" y="219888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5480" y="5500800"/>
                <a:ext cx="56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265480" y="4840200"/>
              <a:ext cx="5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65480" y="4179960"/>
              <a:ext cx="5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65480" y="3519360"/>
              <a:ext cx="5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65480" y="2859120"/>
              <a:ext cx="5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65480" y="2198880"/>
              <a:ext cx="5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1960" y="3067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54440" y="50482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9960" y="4388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27240" y="3727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93880" y="24066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79800" y="57006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08160" y="57006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7028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9756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1656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528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400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00920" y="5700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3080" y="50752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不知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947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50752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很難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320" y="4405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85000" y="441468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次或以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6880" y="374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07000" y="37544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5440" y="30844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7000" y="30942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6880" y="242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07000" y="2433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SimSun"/>
                  <a:ea typeface="新細明體"/>
                </a:rPr>
                <a:t>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1"/>
          <a:srcRect l="0" t="0" r="19419" b="0"/>
          <a:stretch/>
        </p:blipFill>
        <p:spPr>
          <a:xfrm>
            <a:off x="1347840" y="228924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rcRect l="0" t="0" r="19419" b="0"/>
          <a:stretch/>
        </p:blipFill>
        <p:spPr>
          <a:xfrm>
            <a:off x="1189080" y="294156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rcRect l="0" t="0" r="19419" b="0"/>
          <a:stretch/>
        </p:blipFill>
        <p:spPr>
          <a:xfrm>
            <a:off x="739800" y="4238640"/>
            <a:ext cx="466560" cy="5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76360" y="5978520"/>
            <a:ext cx="2057400" cy="692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1800" y="6396120"/>
            <a:ext cx="4618080" cy="260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03360" y="6022800"/>
            <a:ext cx="2273040" cy="746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40040" y="6303960"/>
            <a:ext cx="6303960" cy="5540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彩光脫毛與激光脫毛的分別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93720" y="1612800"/>
          <a:ext cx="7810560" cy="3738600"/>
        </p:xfrm>
        <a:graphic>
          <a:graphicData uri="http://schemas.openxmlformats.org/drawingml/2006/table">
            <a:tbl>
              <a:tblPr/>
              <a:tblGrid>
                <a:gridCol w="3905280"/>
                <a:gridCol w="390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彩光脫毛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(I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激光脫毛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(Las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療程次數較多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15-30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療程次數較少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但彩光的光源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强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不均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而分散，只能打進皮膚表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光源較強而集中，能打進深層皮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多組強光能量不一，較難操控，勉強調高能量便容易導致皮膚灼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輸出能量穩定，操作時較安全，不容易弄傷皮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不能有較地脫去幼毛，而且效果因人而異，未必成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有效地脫去粗毛及幼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1120680" y="59450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* </a:t>
            </a:r>
            <a:r>
              <a:rPr b="1" lang="zh-TW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以腋下脫毛作比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彩光脫毛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灼傷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725400" y="1527120"/>
            <a:ext cx="75297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890748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新細明體"/>
              </a:rPr>
              <a:t>治療後</a:t>
            </a:r>
            <a:endParaRPr b="1" lang="en-US" sz="3800" spc="-1" strike="noStrike">
              <a:solidFill>
                <a:srgbClr val="ff3300"/>
              </a:solidFill>
              <a:latin typeface="新細明體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61920" y="1486080"/>
            <a:ext cx="731520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毛髮的分類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rebuchet MS"/>
              </a:rPr>
              <a:t>每個成人約有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30 </a:t>
            </a:r>
            <a:r>
              <a:rPr b="1" lang="zh-TW" sz="2600" spc="-1" strike="noStrike">
                <a:solidFill>
                  <a:srgbClr val="000000"/>
                </a:solidFill>
                <a:latin typeface="Trebuchet MS"/>
              </a:rPr>
              <a:t>至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40 </a:t>
            </a:r>
            <a:r>
              <a:rPr b="1" lang="zh-TW" sz="2600" spc="-1" strike="noStrike">
                <a:solidFill>
                  <a:srgbClr val="000000"/>
                </a:solidFill>
                <a:latin typeface="Trebuchet MS"/>
              </a:rPr>
              <a:t>萬根毛髮</a:t>
            </a: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  <a:p>
            <a:pPr marL="277560" indent="-2775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rebuchet MS"/>
              </a:rPr>
              <a:t>因生長位置不同可分三大類 ：</a:t>
            </a: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  <a:p>
            <a:pPr lvl="1" marL="606600" indent="-23616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</a:rPr>
              <a:t>長毛  </a:t>
            </a:r>
            <a:endParaRPr b="1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25560" indent="-22608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rebuchet MS"/>
              </a:rPr>
              <a:t>頭髮、鬍鬚、腋毛、陰毛</a:t>
            </a:r>
            <a:endParaRPr b="1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606600" indent="-23616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</a:rPr>
              <a:t>短毛  </a:t>
            </a:r>
            <a:endParaRPr b="1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25560" indent="-22608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rebuchet MS"/>
              </a:rPr>
              <a:t>鼻毛、眉毛、睫毛 </a:t>
            </a:r>
            <a:endParaRPr b="1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606600" indent="-23616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rebuchet MS"/>
              </a:rPr>
              <a:t>汗毛  </a:t>
            </a:r>
            <a:endParaRPr b="1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25560" indent="-22608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rebuchet MS"/>
              </a:rPr>
              <a:t>長在手腳 、臉等較幼細的體毛 </a:t>
            </a:r>
            <a:endParaRPr b="1" lang="en-US" sz="2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00" name=""/>
          <p:cNvSpPr/>
          <p:nvPr/>
        </p:nvSpPr>
        <p:spPr>
          <a:xfrm>
            <a:off x="968400" y="5143680"/>
            <a:ext cx="7277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生長速度</a:t>
            </a:r>
            <a:r>
              <a:rPr b="0" i="1" lang="en-US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: </a:t>
            </a:r>
            <a:r>
              <a:rPr b="0" i="1" lang="zh-TW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每日</a:t>
            </a:r>
            <a:r>
              <a:rPr b="0" i="1" lang="zh-TW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0.4</a:t>
            </a:r>
            <a:r>
              <a:rPr b="0" i="1" lang="en-US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mm (</a:t>
            </a:r>
            <a:r>
              <a:rPr b="0" i="1" lang="zh-TW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即每月</a:t>
            </a:r>
            <a:r>
              <a:rPr b="0" i="1" lang="zh-TW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1.2</a:t>
            </a:r>
            <a:r>
              <a:rPr b="0" i="1" lang="en-US" sz="3200" spc="-1" strike="noStrike">
                <a:solidFill>
                  <a:srgbClr val="ff3300"/>
                </a:solidFill>
                <a:latin typeface="Trebuchet MS"/>
                <a:ea typeface="新細明體"/>
              </a:rPr>
              <a:t>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96120" y="0"/>
            <a:ext cx="121932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625840" y="6353280"/>
            <a:ext cx="6303960" cy="287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63400" y="5991120"/>
            <a:ext cx="2057400" cy="692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3760" y="413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40e02"/>
                </a:solidFill>
                <a:latin typeface="ScheringSansBold"/>
                <a:ea typeface="SimSun"/>
              </a:rPr>
              <a:t>活躍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675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63680" y="5996160"/>
            <a:ext cx="2433600" cy="66672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20880" y="6264360"/>
            <a:ext cx="5959440" cy="4046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6640" y="4178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840e02"/>
                </a:solidFill>
                <a:latin typeface="ScheringSansBold"/>
                <a:ea typeface="新細明體"/>
              </a:rPr>
              <a:t>活躍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15800" y="5407200"/>
            <a:ext cx="2495520" cy="947160"/>
          </a:xfrm>
          <a:prstGeom prst="rect">
            <a:avLst/>
          </a:prstGeom>
          <a:solidFill>
            <a:srgbClr val="86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激光治療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78280" y="5388120"/>
            <a:ext cx="4076640" cy="947160"/>
          </a:xfrm>
          <a:prstGeom prst="rect">
            <a:avLst/>
          </a:prstGeom>
          <a:solidFill>
            <a:srgbClr val="86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完成六次</a:t>
            </a:r>
            <a:r>
              <a:rPr b="1" lang="zh-CN" sz="2800" spc="-1" strike="noStrike">
                <a:solidFill>
                  <a:srgbClr val="ffff00"/>
                </a:solidFill>
                <a:latin typeface="ScheringSansBold"/>
                <a:ea typeface="新細明體"/>
              </a:rPr>
              <a:t>激光療程</a:t>
            </a: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一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82480" y="5459400"/>
            <a:ext cx="2495520" cy="947160"/>
          </a:xfrm>
          <a:prstGeom prst="rect">
            <a:avLst/>
          </a:prstGeom>
          <a:solidFill>
            <a:srgbClr val="86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激光治療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44880" y="5411880"/>
            <a:ext cx="4077000" cy="1373760"/>
          </a:xfrm>
          <a:prstGeom prst="rect">
            <a:avLst/>
          </a:prstGeom>
          <a:solidFill>
            <a:srgbClr val="86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完成六次</a:t>
            </a:r>
            <a:r>
              <a:rPr b="1" lang="zh-CN" sz="2800" spc="-1" strike="noStrike">
                <a:solidFill>
                  <a:srgbClr val="ffff00"/>
                </a:solidFill>
                <a:latin typeface="ScheringSansBold"/>
                <a:ea typeface="新細明體"/>
              </a:rPr>
              <a:t>激光療程</a:t>
            </a: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新細明體"/>
                <a:ea typeface="新細明體"/>
              </a:rPr>
              <a:t>一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35320" y="5330880"/>
            <a:ext cx="2495520" cy="519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73240" y="1844640"/>
            <a:ext cx="249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經治療的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02320" y="1482840"/>
            <a:ext cx="4076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完成五次</a:t>
            </a:r>
            <a:r>
              <a:rPr b="1" lang="zh-CN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激光療程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一年</a:t>
            </a:r>
            <a:r>
              <a:rPr b="1" lang="zh-CN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的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225520" y="1996920"/>
            <a:ext cx="249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經治療的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54600" y="1563840"/>
            <a:ext cx="400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完成五次</a:t>
            </a:r>
            <a:r>
              <a:rPr b="1" lang="zh-CN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激光療程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一年</a:t>
            </a:r>
            <a:r>
              <a:rPr b="1" lang="zh-CN" sz="24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的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87600" y="5383080"/>
            <a:ext cx="2495520" cy="519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31920" y="1577880"/>
            <a:ext cx="4066920" cy="4277160"/>
            <a:chOff x="331920" y="1577880"/>
            <a:chExt cx="4066920" cy="42771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331920" y="1577880"/>
              <a:ext cx="4066920" cy="38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1920" y="5456160"/>
              <a:ext cx="4044960" cy="398880"/>
            </a:xfrm>
            <a:prstGeom prst="rect">
              <a:avLst/>
            </a:prstGeom>
            <a:solidFill>
              <a:srgbClr val="ff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使用</a:t>
              </a: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激光脫毛</a:t>
              </a:r>
              <a:r>
                <a:rPr b="1" lang="zh-CN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之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656240" y="1616040"/>
            <a:ext cx="4008240" cy="4258080"/>
            <a:chOff x="4656240" y="1616040"/>
            <a:chExt cx="4008240" cy="425808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4659480" y="1616040"/>
              <a:ext cx="4005000" cy="38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656240" y="5475240"/>
              <a:ext cx="4006800" cy="398880"/>
            </a:xfrm>
            <a:prstGeom prst="rect">
              <a:avLst/>
            </a:prstGeom>
            <a:solidFill>
              <a:srgbClr val="ff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使用四次</a:t>
              </a: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激光脫毛</a:t>
              </a:r>
              <a:r>
                <a:rPr b="1" lang="zh-CN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療程後</a:t>
              </a:r>
              <a:r>
                <a:rPr b="1" lang="en-US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個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治療前後對比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脫毛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的效果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是否永久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? 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激光</a:t>
            </a:r>
            <a:r>
              <a:rPr b="1" lang="zh-CN" sz="3000" spc="-1" strike="noStrike">
                <a:solidFill>
                  <a:srgbClr val="000000"/>
                </a:solidFill>
                <a:latin typeface="Trebuchet MS"/>
              </a:rPr>
              <a:t>只</a:t>
            </a: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對處於生長期的毛髮產生作用 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1" marL="644040" indent="-2509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rebuchet MS"/>
              </a:rPr>
              <a:t>抑制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及</a:t>
            </a:r>
            <a:r>
              <a:rPr b="1" lang="zh-TW" sz="2800" spc="-1" strike="noStrike">
                <a:solidFill>
                  <a:srgbClr val="000000"/>
                </a:solidFill>
                <a:latin typeface="Trebuchet MS"/>
              </a:rPr>
              <a:t>破壞活躍毛囊之生髮功能</a:t>
            </a:r>
            <a:endParaRPr b="1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每次激光脫毛療程可有效地</a:t>
            </a:r>
            <a:r>
              <a:rPr b="1" lang="zh-CN" sz="3000" spc="-1" strike="noStrike">
                <a:solidFill>
                  <a:srgbClr val="000000"/>
                </a:solidFill>
                <a:latin typeface="Trebuchet MS"/>
              </a:rPr>
              <a:t>處理</a:t>
            </a: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20-30%</a:t>
            </a: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的毛囊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建議進行最少四次激光療程，以達</a:t>
            </a:r>
            <a:r>
              <a:rPr b="1" lang="zh-CN" sz="3000" spc="-1" strike="noStrike">
                <a:solidFill>
                  <a:srgbClr val="000000"/>
                </a:solidFill>
                <a:latin typeface="Trebuchet MS"/>
              </a:rPr>
              <a:t>致</a:t>
            </a:r>
            <a:r>
              <a:rPr b="1" lang="zh-TW" sz="3000" spc="-1" strike="noStrike">
                <a:solidFill>
                  <a:srgbClr val="000000"/>
                </a:solidFill>
                <a:latin typeface="Trebuchet MS"/>
              </a:rPr>
              <a:t>理想的脫毛效果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lvl="1" marL="644040" indent="-2509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rebuchet MS"/>
              </a:rPr>
              <a:t>因應個別人士情況，或需進行較多次的療程</a:t>
            </a:r>
            <a:endParaRPr b="1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644040" indent="-2509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rebuchet MS"/>
              </a:rPr>
              <a:t>療程後仍可能餘下約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-10%</a:t>
            </a:r>
            <a:r>
              <a:rPr b="1" lang="zh-TW" sz="2800" spc="-1" strike="noStrike">
                <a:solidFill>
                  <a:srgbClr val="000000"/>
                </a:solidFill>
                <a:latin typeface="Trebuchet MS"/>
              </a:rPr>
              <a:t>的幼細毛髮</a:t>
            </a:r>
            <a:endParaRPr b="1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59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新細明體"/>
              </a:rPr>
              <a:t>激光脫毛需要</a:t>
            </a:r>
            <a:r>
              <a:rPr b="1" lang="zh-TW" sz="4600" spc="-1" strike="noStrike">
                <a:solidFill>
                  <a:srgbClr val="ffffff"/>
                </a:solidFill>
                <a:latin typeface="新細明體"/>
              </a:rPr>
              <a:t>注意</a:t>
            </a:r>
            <a:r>
              <a:rPr b="1" lang="zh-CN" sz="4600" spc="-1" strike="noStrike">
                <a:solidFill>
                  <a:srgbClr val="ffffff"/>
                </a:solidFill>
                <a:latin typeface="新細明體"/>
              </a:rPr>
              <a:t>的</a:t>
            </a:r>
            <a:r>
              <a:rPr b="1" lang="zh-TW" sz="4600" spc="-1" strike="noStrike">
                <a:solidFill>
                  <a:srgbClr val="ffffff"/>
                </a:solidFill>
                <a:latin typeface="新細明體"/>
              </a:rPr>
              <a:t>事項</a:t>
            </a:r>
            <a:endParaRPr b="1" lang="en-US" sz="46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脫毛的過程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1440" y="1426680"/>
            <a:ext cx="3573720" cy="3427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由醫生</a:t>
            </a:r>
            <a:r>
              <a:rPr b="1" lang="zh-CN" sz="2600" spc="-1" strike="noStrike">
                <a:solidFill>
                  <a:srgbClr val="000000"/>
                </a:solidFill>
                <a:latin typeface="新細明體"/>
              </a:rPr>
              <a:t>或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專業治療師評估皮膚狀況，以了解是否適合進行激光脫毛</a:t>
            </a: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清潔皮膚、剃除表面毛髮及塗上冷凍啫喱以作保護</a:t>
            </a: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脫毛需同時配合冷風系統以防止皮膚受過量熱能灼傷</a:t>
            </a: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46" name=""/>
          <p:cNvSpPr/>
          <p:nvPr/>
        </p:nvSpPr>
        <p:spPr>
          <a:xfrm>
            <a:off x="907920" y="5124600"/>
            <a:ext cx="7656480" cy="1015920"/>
          </a:xfrm>
          <a:prstGeom prst="rect">
            <a:avLst/>
          </a:prstGeom>
          <a:solidFill>
            <a:srgbClr val="ff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脫腋下毛（兩邊）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每次需時約十多分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一般需進行最少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次療程，以達致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90-95%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脫毛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7480" y="1187280"/>
            <a:ext cx="1805040" cy="18720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5842080" y="1174680"/>
            <a:ext cx="2803320" cy="1874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4938840" y="3103560"/>
            <a:ext cx="267624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脫毛後的護理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6920" y="2451240"/>
            <a:ext cx="7315200" cy="2712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日曬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使用含香料或酒精的護膚品 </a:t>
            </a:r>
            <a:r>
              <a:rPr b="1" lang="en-US" sz="3000" spc="-1" strike="noStrike">
                <a:solidFill>
                  <a:srgbClr val="000000"/>
                </a:solidFill>
                <a:latin typeface="新細明體"/>
              </a:rPr>
              <a:t>/ </a:t>
            </a: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止汗劑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細明體"/>
              </a:rPr>
              <a:t>進行磨砂或使用含果酸産品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用熱水沖洗脫毛後的皮膚或進行桑拿 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穿著緊身或不透氣的衣服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52" name=""/>
          <p:cNvSpPr/>
          <p:nvPr/>
        </p:nvSpPr>
        <p:spPr>
          <a:xfrm>
            <a:off x="814320" y="1692360"/>
            <a:ext cx="7290000" cy="587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脫毛後應避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7605720" y="2652840"/>
            <a:ext cx="1019160" cy="11127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878600" y="27972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ScheringSansBold"/>
                <a:ea typeface="新細明體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7667640" y="4272120"/>
            <a:ext cx="1009800" cy="9428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840440" y="4302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ScheringSansBold"/>
                <a:ea typeface="新細明體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6195960" y="4708440"/>
            <a:ext cx="1076400" cy="1440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526080" y="489276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cheringSansBold"/>
                <a:ea typeface="新細明體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不適宜接受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脫毛的人士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78105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糖尿病患者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暗瘡皮膚或有傷口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皮膚病患者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</a:rPr>
              <a:t>靜脈曲張患者</a:t>
            </a:r>
            <a:endParaRPr b="1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61" name=""/>
          <p:cNvSpPr/>
          <p:nvPr/>
        </p:nvSpPr>
        <p:spPr>
          <a:xfrm>
            <a:off x="4938840" y="2157480"/>
            <a:ext cx="44431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如何選擇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</a:rPr>
              <a:t>專業的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激光脫毛服務</a:t>
            </a:r>
            <a:r>
              <a:rPr b="1" lang="en-US" sz="4200" spc="-1" strike="noStrike">
                <a:solidFill>
                  <a:srgbClr val="ff3300"/>
                </a:solidFill>
                <a:latin typeface="新細明體"/>
              </a:rPr>
              <a:t>? 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33800" y="1536840"/>
          <a:ext cx="3714840" cy="47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3800" y="1536840"/>
                    <a:ext cx="371484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76120" y="1636560"/>
            <a:ext cx="42530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使用獲</a:t>
            </a:r>
            <a:r>
              <a:rPr b="1" lang="en-US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FDA (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美國食品及藥物管理局</a:t>
            </a:r>
            <a:r>
              <a:rPr b="1" lang="en-US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)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及</a:t>
            </a:r>
            <a:r>
              <a:rPr b="1" lang="en-US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CE(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歐盟</a:t>
            </a:r>
            <a:r>
              <a:rPr b="1" lang="en-US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28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個國家</a:t>
            </a:r>
            <a:r>
              <a:rPr b="1" lang="en-US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)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所認可的激光脫毛儀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操作人士需經專業訓練，並有豐富的操作經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選擇</a:t>
            </a:r>
            <a:r>
              <a:rPr b="1" lang="zh-CN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已接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受激光脫毛訓練的</a:t>
            </a:r>
            <a:r>
              <a:rPr b="1" lang="zh-CN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醫生或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專業</a:t>
            </a:r>
            <a:r>
              <a:rPr b="1" lang="zh-CN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治療師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，</a:t>
            </a:r>
            <a:r>
              <a:rPr b="1" lang="zh-CN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或</a:t>
            </a: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信譽良好的專業脫毛服務中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毛髮的構造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38320" y="1673280"/>
            <a:ext cx="652464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0280" y="5894280"/>
            <a:ext cx="2562120" cy="96372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0040" y="6303960"/>
            <a:ext cx="6303960" cy="5540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3240" y="824040"/>
            <a:ext cx="7261200" cy="4647240"/>
            <a:chOff x="903240" y="824040"/>
            <a:chExt cx="7261200" cy="4647240"/>
          </a:xfrm>
        </p:grpSpPr>
        <p:sp>
          <p:nvSpPr>
            <p:cNvPr id="107" name=""/>
            <p:cNvSpPr/>
            <p:nvPr/>
          </p:nvSpPr>
          <p:spPr>
            <a:xfrm>
              <a:off x="907920" y="824040"/>
              <a:ext cx="724248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毛髮的生長是以週期計算，共分為</a:t>
              </a:r>
              <a:r>
                <a:rPr b="1" lang="en-US" sz="24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1" lang="zh-TW" sz="24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個階段</a:t>
              </a:r>
              <a:r>
                <a:rPr b="1" lang="en-US" sz="24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3240" y="5011560"/>
              <a:ext cx="7261200" cy="459720"/>
            </a:xfrm>
            <a:prstGeom prst="rect">
              <a:avLst/>
            </a:prstGeom>
            <a:solidFill>
              <a:srgbClr val="ffa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大概</a:t>
              </a: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20%-30%</a:t>
              </a:r>
              <a:r>
                <a:rPr b="1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之毛髮屬於生長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86000" y="1581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生長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9680" y="1590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生長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30480" y="1590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過度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4080" y="1579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ScheringSansBold"/>
                  <a:ea typeface="新細明體"/>
                </a:rPr>
                <a:t>休止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429800" y="32767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ScheringSansBold"/>
                <a:ea typeface="SimSun"/>
              </a:rPr>
              <a:t>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9800" y="32767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ScheringSansBold"/>
                <a:ea typeface="SimSun"/>
              </a:rPr>
              <a:t>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50920"/>
            <a:ext cx="9144000" cy="7108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4880" y="6012000"/>
            <a:ext cx="2287800" cy="78876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8560" y="6465960"/>
            <a:ext cx="5564160" cy="34920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1280" y="455760"/>
            <a:ext cx="77994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新細明體"/>
              </a:rPr>
              <a:t>超過六成受訪者主要使用</a:t>
            </a:r>
            <a:r>
              <a:rPr b="1" lang="zh-TW" sz="3800" spc="-1" strike="noStrike">
                <a:solidFill>
                  <a:srgbClr val="ff3300"/>
                </a:solidFill>
                <a:latin typeface="新細明體"/>
              </a:rPr>
              <a:t>剃刀脫毛</a:t>
            </a:r>
            <a:r>
              <a:rPr b="1" lang="en-US" sz="3800" spc="-1" strike="noStrike">
                <a:solidFill>
                  <a:srgbClr val="ff3300"/>
                </a:solidFill>
                <a:latin typeface="新細明體"/>
              </a:rPr>
              <a:t>:</a:t>
            </a:r>
            <a:endParaRPr b="1" lang="en-US" sz="38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95160" y="1881360"/>
          <a:ext cx="78058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81360"/>
                    <a:ext cx="780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162400" y="6227640"/>
            <a:ext cx="34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3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r>
              <a:rPr b="0" lang="en-US" sz="1400" spc="-1" strike="noStrike">
                <a:solidFill>
                  <a:srgbClr val="000000"/>
                </a:solidFill>
                <a:latin typeface="ScheringSansBold"/>
                <a:ea typeface="SimSu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ScheringSansBold"/>
                <a:ea typeface="SimSun"/>
              </a:rPr>
              <a:t>可答多項</a:t>
            </a:r>
            <a:r>
              <a:rPr b="0" lang="en-US" sz="1400" spc="-1" strike="noStrike">
                <a:solidFill>
                  <a:srgbClr val="000000"/>
                </a:solidFill>
                <a:latin typeface="ScheringSansBold"/>
                <a:ea typeface="SimSu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9880" y="1434240"/>
            <a:ext cx="75517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2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試過用啲乜嘢方法脫毛？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51560" y="241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用脫毛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1480" y="3243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用電動脫毛器脫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41840" y="4032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用手去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02400" y="482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用彩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新細明體"/>
                <a:ea typeface="SimSun"/>
              </a:rPr>
              <a:t>熱門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的脫毛方法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  <a:ea typeface="SimSun"/>
              </a:rPr>
              <a:t>利弊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36520" y="1590840"/>
          <a:ext cx="8788320" cy="4635360"/>
        </p:xfrm>
        <a:graphic>
          <a:graphicData uri="http://schemas.openxmlformats.org/drawingml/2006/table">
            <a:tbl>
              <a:tblPr/>
              <a:tblGrid>
                <a:gridCol w="1109520"/>
                <a:gridCol w="1266840"/>
                <a:gridCol w="689040"/>
                <a:gridCol w="1073160"/>
                <a:gridCol w="1123920"/>
                <a:gridCol w="1206720"/>
                <a:gridCol w="23191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效果持久性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療程次數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適用範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痛楚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好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缺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剃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剃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電脫毛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電剃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無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眉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唇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無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方便快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不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容易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割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皮膚表面有毛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囊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黑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容易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致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髮倒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可能出現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囊發炎、感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不持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及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不夠徹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拔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眉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3-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無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眉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腋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輕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方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便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非常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疼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刺激皮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容易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致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髮倒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可能出現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囊發炎、感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花時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不持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蜜蠟脫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2-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無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腋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、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手、腳 或比堅尼位等大面積的毛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非常疼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效果較剃刀、脫毛膏等徹底，相對持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非常疼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容易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致皮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敏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可能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致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囊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蜜蠟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難以清理，易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留下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63680" y="6384960"/>
            <a:ext cx="500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*</a:t>
            </a:r>
            <a:r>
              <a:rPr b="1" lang="zh-TW" sz="16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以脫腋毛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新細明體"/>
                <a:ea typeface="SimSun"/>
              </a:rPr>
              <a:t>熱門</a:t>
            </a:r>
            <a:r>
              <a:rPr b="1" lang="zh-TW" sz="4200" spc="-1" strike="noStrike">
                <a:solidFill>
                  <a:srgbClr val="ff3300"/>
                </a:solidFill>
                <a:latin typeface="新細明體"/>
              </a:rPr>
              <a:t>的脫毛方法</a:t>
            </a:r>
            <a:r>
              <a:rPr b="1" lang="zh-CN" sz="4200" spc="-1" strike="noStrike">
                <a:solidFill>
                  <a:srgbClr val="ff3300"/>
                </a:solidFill>
                <a:latin typeface="新細明體"/>
                <a:ea typeface="SimSun"/>
              </a:rPr>
              <a:t>利弊</a:t>
            </a:r>
            <a:endParaRPr b="1" lang="en-US" sz="4200" spc="-1" strike="noStrike">
              <a:solidFill>
                <a:srgbClr val="ff3300"/>
              </a:solidFill>
              <a:latin typeface="新細明體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1280" y="1611360"/>
          <a:ext cx="8955360" cy="3398760"/>
        </p:xfrm>
        <a:graphic>
          <a:graphicData uri="http://schemas.openxmlformats.org/drawingml/2006/table">
            <a:tbl>
              <a:tblPr/>
              <a:tblGrid>
                <a:gridCol w="858960"/>
                <a:gridCol w="1371600"/>
                <a:gridCol w="746280"/>
                <a:gridCol w="1452600"/>
                <a:gridCol w="1166760"/>
                <a:gridCol w="1249200"/>
                <a:gridCol w="21099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方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效果持久性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療程次數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適用範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痛楚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好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缺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</a:tr>
              <a:tr h="9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脫毛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（噴霧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或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泡沫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3-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無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腋下、手、腳等大面積的毛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無痛（部分人士可能有刺痛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方便快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不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刺激性化學劑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容易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致皮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敏感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或日後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毛髮倒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不持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彩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完成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3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療程後，兩至三年間毛髮可能會再完全長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15-3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唇毛、 腋下、手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腳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背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胸及比堅尼位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輕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相對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剃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毛、拔毛、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蜜蠟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等方法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持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毛囊破壞不夠徹底，可能會再次長出毛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痛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療程後會皮膚發熱、發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激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高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達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90-95%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毛髮停止生長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療程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唇毛、 腋下、手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腳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背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、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胸及比堅尼位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輕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效果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最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徹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非常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持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rebuchet MS"/>
                          <a:ea typeface="新細明體"/>
                        </a:rPr>
                        <a:t>療程後皮膚會有輕微發熱、發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63680" y="6384960"/>
            <a:ext cx="500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*</a:t>
            </a:r>
            <a:r>
              <a:rPr b="1" lang="zh-TW" sz="16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以脫腋毛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50800" y="6043680"/>
            <a:ext cx="1979640" cy="63972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6378480"/>
            <a:ext cx="6002280" cy="3128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9520" y="303120"/>
            <a:ext cx="51512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24160" y="6450120"/>
            <a:ext cx="5649840" cy="3794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960" y="5996160"/>
            <a:ext cx="2346480" cy="83340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1280" y="252360"/>
            <a:ext cx="77994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新細明體"/>
              </a:rPr>
              <a:t>毛囊炎</a:t>
            </a:r>
            <a:r>
              <a:rPr b="1" lang="zh-CN" sz="4400" spc="-1" strike="noStrike">
                <a:solidFill>
                  <a:srgbClr val="ff3300"/>
                </a:solidFill>
                <a:latin typeface="新細明體"/>
              </a:rPr>
              <a:t>紅腫化膿膚色變深</a:t>
            </a:r>
            <a:endParaRPr b="1" lang="en-US" sz="4400" spc="-1" strike="noStrike">
              <a:solidFill>
                <a:srgbClr val="ff3300"/>
              </a:solidFill>
              <a:latin typeface="新細明體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3720" y="1612440"/>
            <a:ext cx="81597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234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新細明體"/>
              </a:rPr>
              <a:t>初起時如粟</a:t>
            </a:r>
            <a:r>
              <a:rPr b="1" lang="zh-TW" sz="2500" spc="-1" strike="noStrike">
                <a:solidFill>
                  <a:srgbClr val="000000"/>
                </a:solidFill>
                <a:latin typeface="新細明體"/>
              </a:rPr>
              <a:t>米</a:t>
            </a:r>
            <a:r>
              <a:rPr b="1" lang="zh-CN" sz="2500" spc="-1" strike="noStrike">
                <a:solidFill>
                  <a:srgbClr val="000000"/>
                </a:solidFill>
                <a:latin typeface="新細明體"/>
              </a:rPr>
              <a:t>粒大、毛囊丘疹呈鮮紅色、周圍有炎性紅暈</a:t>
            </a: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234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新細明體"/>
              </a:rPr>
              <a:t>可迅速化膿及呈膿疱結痂，處理不當不單膚色會變深，更可能引致蜂窩組織炎</a:t>
            </a:r>
            <a:endParaRPr b="1" lang="en-US" sz="25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897200" y="3192480"/>
            <a:ext cx="55054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2:02:24Z</dcterms:created>
  <dc:creator>Candy Wan</dc:creator>
  <dc:description/>
  <dc:language>en-US</dc:language>
  <cp:lastModifiedBy>HKUPOP</cp:lastModifiedBy>
  <cp:lastPrinted>2001-06-22T16:19:55Z</cp:lastPrinted>
  <dcterms:modified xsi:type="dcterms:W3CDTF">2006-05-08T07:39:28Z</dcterms:modified>
  <cp:revision>407</cp:revision>
  <dc:subject/>
  <dc:title>Diane Survey </dc:title>
</cp:coreProperties>
</file>