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7B9-E7F4-4630-B4AC-1786705A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1BB2-1E05-40E2-BFF2-677EA448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828-558B-46E3-B722-97769644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394A-8ECB-48BD-AF90-95E7FE55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01E-5D23-4F28-976D-69848022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769-058E-47A6-A538-137FF6BE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5DB-6BF5-404F-A0F5-E98C0113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C1C-61BF-453E-B025-639E3761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3948-347C-4655-89C3-2B378E74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0DAB-CF12-4023-93AF-EBD41069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968-AA69-44A9-8B7D-7576F3E5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1D37-6C0C-4DCC-AB56-5DEAFEB3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B438-D0F2-418D-9FE6-EEBB2C4AA73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11280"/>
            <a:ext cx="7848720" cy="41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香港更美好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NG KONG ALTERNATIV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ww.hkalternative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511280"/>
            <a:ext cx="78487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西九龍及維港發展計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民意調查結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贊助機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香港更美好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共創我們的海港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ng Kong Alternative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signing HK Harbour Distri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1066680"/>
            <a:ext cx="716256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1143000"/>
            <a:ext cx="70106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1800360"/>
            <a:ext cx="77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是一群關心和熱愛香港的市民。我們無任何政治，商業或個人的目的。但因為對於西九龍這塊土地的用途，我們有一個共同的意念，就是從香港市民長遠的利益出發，希望政府把這塊面對海港中心最珍貴的土地，公開給市民世世代代的享用，所謂「取之於民，用之於民，還富於民」達到「以民為本」的真正目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「香港更美好」宣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824040"/>
            <a:ext cx="7620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以下是香港更美好對西九龍提出的建議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一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興建文化公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認為西九龍這塊從維港填出來的土地，是香港市民共同擁有的寶貴產業，應該全部公開，用作文化設施和綠化公園，讓市民享用。構思正如十年前地政規劃署的目的，以填海增加的土地作興建綠化公園用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99072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二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反對私人參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反對政府在西九龍讓發展商興建私人商業、住宅樓宇，以「地產養文化」的經營方法，不但違反了城市規劃的原則和程序，更可產生很多不必要的流弊。所以我們懇請政府擱置目前的與地產商投標方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990720"/>
            <a:ext cx="7772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三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刪除天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極力反對在西九興建一個龐大的玻璃天篷，此「疊床架屋」之「地標」既昂貴亦不切實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功能方面不能擂擋風遮雨遮太陽，但可以養蟲蟻，禽鳥及細菌，後患無窮。價錢方面，建築造價，維修保養費用高至無法估計，將會為環境及財政帶來嚴重的後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18908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四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成立文化管理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認同大部份立法局西九發展調查委員會的報告結果，如成立一個西九文化管理局用以籌劃，興建及管理西九文娛區，經費由政府直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23516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五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綠化維港兩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最後，我們希望政府每當規劃及發展維港兩岸的土地時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應考慮到保留適當的綠化和公共設施，讓市民能共享這「東方之珠」或「世界都會」的天然美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838080"/>
            <a:ext cx="77724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民意調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認為香港政府的西九方案民調，志在推銷，有誤導的成份，不盡不實。因此有必要請一獨立機構作客觀詳盡的民意調查，讓市民可以作一比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2T07:29:42Z</dcterms:created>
  <dc:creator>user</dc:creator>
  <dc:description/>
  <dc:language>en-US</dc:language>
  <cp:lastModifiedBy>HKUPOP</cp:lastModifiedBy>
  <dcterms:modified xsi:type="dcterms:W3CDTF">2006-01-23T06:54:52Z</dcterms:modified>
  <cp:revision>9</cp:revision>
  <dc:subject/>
  <dc:title>PowerPoint Presentation</dc:title>
</cp:coreProperties>
</file>