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37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682501-6156-4B79-B77C-EA9450325C7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653-7541-4E96-B06A-02749D41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D02-B870-4E56-9934-D06928DD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E3B-2FAC-4B91-91FA-1DA670CB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B53-F70F-4893-A8B3-8DB88A52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EAF-274E-41CC-B316-15530AFE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342-D40E-4165-8825-CD0529F7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FA50-3A4A-4DB3-AE94-F49F542F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3FF-9922-4684-A4ED-C26F4057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612-BED5-4EFA-BC06-4D26C661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7FB-70F5-449A-8D98-4FC6A211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C86-51B6-405B-9DD2-45D312EC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DB8-779D-4776-888E-1E7DC16C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FD96-FD93-4040-8E83-807917914464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《</a:t>
            </a: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西九龍及維港發展計劃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》</a:t>
            </a:r>
            <a:br>
              <a:rPr sz="3600"/>
            </a:b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民意調查結果</a:t>
            </a:r>
            <a:br>
              <a:rPr sz="3600"/>
            </a:br>
            <a:br>
              <a:rPr sz="4000"/>
            </a:b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鍾庭耀博士</a:t>
            </a:r>
            <a:br>
              <a:rPr sz="3600"/>
            </a:br>
            <a:br>
              <a:rPr sz="2800"/>
            </a:br>
            <a:r>
              <a:rPr b="0" i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2006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2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日</a:t>
            </a:r>
            <a:r>
              <a:rPr b="0" i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br>
              <a:rPr sz="3200"/>
            </a:br>
            <a:br>
              <a:rPr sz="3200"/>
            </a:b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內一切內容與香港大學立場無關，內容由民意研究計劃主任鍾庭耀博士負責。</a:t>
            </a:r>
            <a:br>
              <a:rPr sz="2000"/>
            </a:b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457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你對香港發展成為一個環保綠色城市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有幾喜歡或者不喜歡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04160" y="449568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-304920" y="1600200"/>
          <a:ext cx="10444320" cy="408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600200"/>
                    <a:ext cx="1044432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0" y="2057400"/>
          <a:ext cx="8610480" cy="4510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57400"/>
                    <a:ext cx="86104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你覺得現時香港從維港填海得出黎既地方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屬於太多、太少抑或恰到好處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93720" y="25146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920" y="2101680"/>
          <a:ext cx="815328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01680"/>
                    <a:ext cx="815328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你有幾贊成或者反對政府將近年及未來</a:t>
            </a:r>
            <a:br>
              <a:rPr sz="3200"/>
            </a:b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從維港填海得出既空地，用作：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666880"/>
            <a:ext cx="6324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商業及住宅發展用途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興建道路和天橋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興建政府辦公室和機構設施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提供文化、運動和消閒設施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提供露天空間和綠化公園，包括海濱長廊、步行及單車徑等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6021360"/>
            <a:ext cx="743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*</a:t>
            </a:r>
            <a:r>
              <a:rPr b="1" i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時以上項目在各張問卷出現的次序由電腦隨機安排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商業及住宅發展用途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2057400"/>
          <a:ext cx="8318520" cy="43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831852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0" y="1447920"/>
          <a:ext cx="7319880" cy="302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47920"/>
                    <a:ext cx="7319880" cy="30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080120" y="23623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興建道路和天橋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2057400"/>
          <a:ext cx="8318520" cy="43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831852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-228600" y="1295280"/>
          <a:ext cx="7288200" cy="3362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28600" y="1295280"/>
                    <a:ext cx="72882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699240" y="27432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興建政府辦公室和機構設施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2286000"/>
          <a:ext cx="8915400" cy="43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891540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-304920" y="1295280"/>
          <a:ext cx="7288200" cy="3362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04920" y="1295280"/>
                    <a:ext cx="72882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7004160" y="25146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提供文化、運動和消閒設施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2514600"/>
          <a:ext cx="89186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918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048120" y="1752480"/>
          <a:ext cx="7302240" cy="274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752480"/>
                    <a:ext cx="730224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050920" y="23623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提供露天空間和綠化公園，包括</a:t>
            </a:r>
            <a:br>
              <a:rPr sz="2800"/>
            </a:b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海濱長廊、步行及單車徑等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2133720"/>
          <a:ext cx="891864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8918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133720" y="380880"/>
          <a:ext cx="9453600" cy="5137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80880"/>
                    <a:ext cx="945360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898640" y="22860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按平均數排列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2286000"/>
          <a:ext cx="7619760" cy="38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761976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762120" y="1828800"/>
            <a:ext cx="76197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838080" y="60948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你是否知道西九龍文娛藝術區本來係劃作興建</a:t>
            </a:r>
            <a:br>
              <a:rPr sz="2800"/>
            </a:b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一個設有文化設施既綠化公園，作為赤鱲角</a:t>
            </a:r>
            <a:br>
              <a:rPr sz="2800"/>
            </a:b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機場發展計劃的其中一個項目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14400" y="2112840"/>
          <a:ext cx="7391520" cy="367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12840"/>
                    <a:ext cx="7391520" cy="36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6934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=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51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2860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研究背景及調查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結果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香港居住環境的健康程度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巿民對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維港發展的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意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巿民對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西九龍文娛藝術區發展的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意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總結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被訪者個人背景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你贊成定反對政府返回原先既規劃，把西九龍文娛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藝術區發展成為一個設有文化設施既綠化公園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17760" y="21337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1752480"/>
          <a:ext cx="10155240" cy="390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1015524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0" y="2209680"/>
          <a:ext cx="8763120" cy="459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09680"/>
                    <a:ext cx="876312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如果只有兩個選擇，你認為以下哪一個方案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較適合西九龍文娛藝術區既發展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95280" y="2209680"/>
          <a:ext cx="7417080" cy="380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09680"/>
                    <a:ext cx="741708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52388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0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你在原則上贊成定反對係西九龍文娛</a:t>
            </a:r>
            <a:br>
              <a:rPr sz="3200"/>
            </a:b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藝術區興建一個大型天幕？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55840" y="243828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295280" y="1219320"/>
          <a:ext cx="9753840" cy="40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9753840" cy="40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0" y="1981080"/>
          <a:ext cx="8991720" cy="4710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81080"/>
                    <a:ext cx="899172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你贊成定反對係西九龍文娛藝術區興建一個約有三十層高，覆蓋半個西九龍文娛藝術區，並佔地二十畂既天幕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94320" y="243828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-2590920" y="914400"/>
          <a:ext cx="10515600" cy="434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90920" y="914400"/>
                    <a:ext cx="1051560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04920" y="2286000"/>
          <a:ext cx="8318520" cy="43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86000"/>
                    <a:ext cx="831852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你贊成定反對係西九龍文娛藝術區興建一個預計費用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超過四十億港元、每年維修費用數千萬港元既天幕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0120" y="220968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-1905120" y="1371600"/>
          <a:ext cx="9225000" cy="380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5120" y="1371600"/>
                    <a:ext cx="922500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0" y="1828800"/>
          <a:ext cx="883908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883908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6840" y="6094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總結關於興建天幕意見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30040" y="1600200"/>
          <a:ext cx="1011744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600200"/>
                    <a:ext cx="101174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你贊成定反對政府將西九龍文娛藝術區的地皮賣給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地產發展商作為商用和住宅物業發展，然後把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資金用以興建西九文化設施同埋天幕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75560" y="25146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-1405080" y="1773360"/>
          <a:ext cx="9225000" cy="380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05080" y="1773360"/>
                    <a:ext cx="922500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39640" y="2133720"/>
          <a:ext cx="8345520" cy="4510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133720"/>
                    <a:ext cx="834552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 flipV="1">
            <a:off x="1042920" y="1904760"/>
            <a:ext cx="7491600" cy="1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你覺得西九龍文娛藝術區的計劃和發展最好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由以下邊一個單位負責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2438280"/>
          <a:ext cx="7531200" cy="378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531200" cy="37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68580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0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20574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整體來說，就西九龍文娛藝術區既發展，</a:t>
            </a:r>
            <a:br>
              <a:rPr sz="3200"/>
            </a:b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你認為香港特區政府有幾尊重民意？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27240" y="22860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00200" y="1447920"/>
          <a:ext cx="9225000" cy="380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922500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228600" y="2496960"/>
          <a:ext cx="8516880" cy="413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496960"/>
                    <a:ext cx="8516880" cy="41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ccecff"/>
                </a:solidFill>
                <a:uFillTx/>
                <a:latin typeface="標楷體"/>
                <a:ea typeface="標楷體"/>
              </a:rPr>
              <a:t>整體環境方面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認為香港的整體居住環境屬於健康及不健康的比率是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35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：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9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36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則認為是一半半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62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認為香港露天空間和綠化公園不足，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64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認為香港不及其他國際城市，認為香港比中國主要城市較佳及較差的則各有四成左右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90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希望香港可以發展成為一個環保綠色城市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391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「香港更美好」及「共創我們的海港區」於</a:t>
            </a: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2005</a:t>
            </a: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11</a:t>
            </a: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月委託香港大學民意研究計劃進行《西九龍及維港發展計劃》民意調查，以了解市民對西九龍及維港發展計劃的意願及期望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調查由香港大學民意研究計劃獨立設計及進行，結果由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港大民研計劃全面負責</a:t>
            </a: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調查問卷由民研計劃諮詢「香港更美好」及「共創我們的海港區」後獨立設計，所有操作、數據收集及分析均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不受任何機構影響</a:t>
            </a: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620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ccecff"/>
                </a:solidFill>
                <a:uFillTx/>
                <a:latin typeface="標楷體"/>
                <a:ea typeface="標楷體"/>
              </a:rPr>
              <a:t>維港發展方面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65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認為現時維港填海太多，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6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認為恰到好處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政府將近年及未來從維港填海得出空地的用途，超過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76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支持用作提供露天空間和綠化公園，包括海濱長廊、步行及單車徑等 ，是五項選擇中最被大眾支持的建議。而用作商業及住宅發展用途則排列最後，有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72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反對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ccecff"/>
                </a:solidFill>
                <a:uFillTx/>
                <a:latin typeface="標楷體"/>
                <a:ea typeface="標楷體"/>
              </a:rPr>
              <a:t>西九龍文娛藝術區方面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81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贊成把西九還原劃作興建一個設有文化設施的綠化公園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42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原則上贊成興建天幕，但當得悉具體設計和費用後，支持比率跌至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2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9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反對政府把西九地皮賣給地產發展商作為商用和住宅物業發展，然後把資金用以興建西九文化設施和天幕。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0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認為西九龍計劃應由有公眾代表參與的獨立監管機構負責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2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認為政府在西九的發展是尊重民意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2193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整體結論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從香港巿民的角度看，香港的居住環境和綠化程度</a:t>
            </a:r>
            <a:r>
              <a:rPr b="1" lang="zh-TW" sz="32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遠遠不及</a:t>
            </a: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其他國際城市，充其量只能與中國城市比較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就維多利亞港的發展和西九龍文娛藝術區的規劃，政府的發展方向和方案與巿民的要求</a:t>
            </a:r>
            <a:r>
              <a:rPr b="1" lang="zh-TW" sz="32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相去甚遠</a:t>
            </a: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標楷體"/>
                <a:ea typeface="標楷體"/>
              </a:rPr>
              <a:t>被訪者個人</a:t>
            </a:r>
            <a:br>
              <a:rPr sz="4400"/>
            </a:br>
            <a:r>
              <a:rPr b="1" lang="zh-TW" sz="4400" spc="-1" strike="noStrike">
                <a:solidFill>
                  <a:srgbClr val="ccffff"/>
                </a:solidFill>
                <a:latin typeface="標楷體"/>
                <a:ea typeface="標楷體"/>
              </a:rPr>
              <a:t>背景資料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標楷體"/>
                <a:ea typeface="標楷體"/>
              </a:rPr>
              <a:t>性別</a:t>
            </a:r>
            <a:r>
              <a:rPr b="0" lang="zh-TW" sz="4400" spc="-1" strike="noStrike">
                <a:solidFill>
                  <a:srgbClr val="ccffff"/>
                </a:solidFill>
                <a:latin typeface="標楷體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38080" y="1828800"/>
          <a:ext cx="77248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724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85800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標楷體"/>
                <a:ea typeface="標楷體"/>
              </a:rPr>
              <a:t>年齡組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838080" y="1604880"/>
          <a:ext cx="7750440" cy="43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4880"/>
                    <a:ext cx="775044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8580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Webdings"/>
                <a:ea typeface="Webdings"/>
              </a:rPr>
              <a:t>教育程度</a:t>
            </a:r>
            <a:r>
              <a:rPr b="0" lang="zh-TW" sz="4400" spc="-1" strike="noStrike">
                <a:solidFill>
                  <a:srgbClr val="ccffff"/>
                </a:solidFill>
                <a:latin typeface="標楷體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33520" y="1219320"/>
          <a:ext cx="8153280" cy="47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815328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29528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0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標楷體"/>
                <a:ea typeface="標楷體"/>
              </a:rPr>
              <a:t>職業</a:t>
            </a:r>
            <a:r>
              <a:rPr b="0" lang="zh-TW" sz="4400" spc="-1" strike="noStrike">
                <a:solidFill>
                  <a:srgbClr val="ccffff"/>
                </a:solidFill>
                <a:latin typeface="標楷體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5800" y="1576440"/>
          <a:ext cx="7772400" cy="427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6440"/>
                    <a:ext cx="777240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172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0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標楷體"/>
                <a:ea typeface="標楷體"/>
              </a:rPr>
              <a:t>家庭每月總收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74760" y="1219320"/>
          <a:ext cx="812628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219320"/>
                    <a:ext cx="81262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678168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49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0" y="3581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3124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99036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286000"/>
            <a:ext cx="7239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1560" indent="-1771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日期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6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1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月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12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日至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18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日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71560" indent="-1771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對象：年齡為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18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歲或以上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操粵語、國語或英語的香港居民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71560" indent="-1771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方法：由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訪問員直接進行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電話訪問，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訪問員在成功接觸目標住戶後，再從住戶內符合條件的成員中以出生日期抽取一人接受訪問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99036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0"/>
            <a:ext cx="7620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標楷體"/>
                <a:ea typeface="標楷體"/>
              </a:rPr>
              <a:t>樣本數目：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510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59.6% (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符合資格的目標對象計算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少於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+/-2.2%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數據調整：調查數字已經按照政府統計處提供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	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5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中全港人口年齡及性別分佈初步統計數字，以「加權」方法作出調整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你覺得香港既整體居住環境</a:t>
            </a:r>
            <a:br>
              <a:rPr sz="3200"/>
            </a:b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有幾健康或者不健康？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98640" y="243828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971800" y="1523880"/>
          <a:ext cx="678168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523880"/>
                    <a:ext cx="67816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04920" y="2286000"/>
          <a:ext cx="8318520" cy="43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86000"/>
                    <a:ext cx="831852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你覺得香港都市地區是否有足夠既露天空間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同埋綠化公園讓市民享受健康生活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98640" y="243828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86200" y="1371600"/>
          <a:ext cx="60958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371600"/>
                    <a:ext cx="6095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57200" y="2286000"/>
          <a:ext cx="7772400" cy="423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286000"/>
                    <a:ext cx="777240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以都市地區露天空間和綠化公園的狀況而論，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你認為香港與其他主要國際城市比較，例如紐約、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倫敦、温哥華、悉尼等，屬於好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D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定係差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D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1520" y="28195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-1143000" y="1523880"/>
          <a:ext cx="7772400" cy="42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3000" y="1523880"/>
                    <a:ext cx="777240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24000" y="2060640"/>
          <a:ext cx="8623080" cy="43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060640"/>
                    <a:ext cx="862308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以都市地區露天空間和綠化公園的狀況而論，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你認為的香港與其他主要中國城市比較，例如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廣州、上海、北京等，屬於好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D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定係差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D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2160" y="28195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05120" y="1295280"/>
          <a:ext cx="8386560" cy="36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83865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79280" y="2060640"/>
          <a:ext cx="8699760" cy="4647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060640"/>
                    <a:ext cx="86997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1-23T05:04:43Z</dcterms:modified>
  <cp:revision>831</cp:revision>
  <dc:subject/>
  <dc:title>無投影片標題</dc:title>
</cp:coreProperties>
</file>