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9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986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-360"/>
            <a:ext cx="2971800" cy="4986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34920" y="749160"/>
            <a:ext cx="4991040" cy="374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738680"/>
            <a:ext cx="5029200" cy="4492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81680"/>
            <a:ext cx="2971800" cy="4986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9481680"/>
            <a:ext cx="2971800" cy="4986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6C94039A-933C-4661-A3DF-B8F48F077509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body"/>
          </p:nvPr>
        </p:nvSpPr>
        <p:spPr>
          <a:xfrm>
            <a:off x="914400" y="4738680"/>
            <a:ext cx="5029200" cy="449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body"/>
          </p:nvPr>
        </p:nvSpPr>
        <p:spPr>
          <a:xfrm>
            <a:off x="914400" y="4738680"/>
            <a:ext cx="5029200" cy="449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914400" y="4738680"/>
            <a:ext cx="5029200" cy="449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914400" y="4738680"/>
            <a:ext cx="5029200" cy="449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body"/>
          </p:nvPr>
        </p:nvSpPr>
        <p:spPr>
          <a:xfrm>
            <a:off x="914400" y="4738680"/>
            <a:ext cx="5029200" cy="449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body"/>
          </p:nvPr>
        </p:nvSpPr>
        <p:spPr>
          <a:xfrm>
            <a:off x="914400" y="4738680"/>
            <a:ext cx="5029200" cy="449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body"/>
          </p:nvPr>
        </p:nvSpPr>
        <p:spPr>
          <a:xfrm>
            <a:off x="914400" y="4738680"/>
            <a:ext cx="5029200" cy="449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body"/>
          </p:nvPr>
        </p:nvSpPr>
        <p:spPr>
          <a:xfrm>
            <a:off x="914400" y="4738680"/>
            <a:ext cx="5029200" cy="449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3348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5840" y="4740120"/>
            <a:ext cx="5026320" cy="449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各位新聞界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既朋友大家好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首先十分多謝各位出席我們“簡栢家居生活質素指標” 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既調查結果發布會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我想首先簡介一下今次調查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既背景同我地煤氣公司的角色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今次嘅調查係我地煤氣公司旗下的一個爐具品牌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SIMPA(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簡栢）委託香港大學民意調查中心進行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既。整個問卷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既設計係由港大與我地傾過之後得出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既，而有關指標同問卷的統計方法同埋數據分析，就係由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Dr. Chung 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既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team 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獨立負責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3348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5840" y="4740120"/>
            <a:ext cx="5026320" cy="449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各位新聞界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既朋友大家好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首先十分多謝各位出席我們“簡栢家居生活質素指標” 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既調查結果發布會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我想首先簡介一下今次調查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既背景同我地煤氣公司的角色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今次嘅調查係我地煤氣公司旗下的一個爐具品牌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SIMPA(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簡栢）委託香港大學民意調查中心進行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既。整個問卷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既設計係由港大與我地傾過之後得出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既，而有關指標同問卷的統計方法同埋數據分析，就係由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Dr. Chung 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既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team 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獨立負責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46BD-8BF8-46C1-BC54-FE1FEC264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65FC-1BD9-410E-80DE-0055114D1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E437-3AB3-43C7-AEF4-BAFD786BB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570D-F486-45D3-93A8-EF250E37D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4A5D-2BDC-4C2C-ABF4-A5831D433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F854-E766-46C3-B13F-B66E8EE95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AC64-F909-469E-9EC0-7CD15F528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357E-4DBC-4694-AAC6-F1DCE726C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6634-3CF5-408A-A0DE-7921DDD32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9BFF-315F-48CB-9D04-2081FFEE5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7AFB-44CD-4262-B4F5-04E102B1F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41C2-D5A7-4E46-BF39-2D875B431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3DCF7-F6F8-4659-A3F7-456A49F3F40C}" type="slidenum"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2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2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2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2895120"/>
            <a:ext cx="9144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99"/>
                </a:solidFill>
                <a:latin typeface="Times New Roman"/>
                <a:ea typeface="細明體"/>
              </a:rPr>
              <a:t>Opinion Survey on the Public Ranking of</a:t>
            </a:r>
            <a:br>
              <a:rPr sz="3200"/>
            </a:br>
            <a:r>
              <a:rPr b="1" i="1" lang="en-US" sz="3200" spc="-1" strike="noStrike">
                <a:solidFill>
                  <a:srgbClr val="ffff99"/>
                </a:solidFill>
                <a:latin typeface="Times New Roman"/>
                <a:ea typeface="細明體"/>
              </a:rPr>
              <a:t>Universities in Hong Kong 2005</a:t>
            </a:r>
            <a:r>
              <a:rPr b="1" i="1" lang="en-US" sz="3600" spc="-1" strike="noStrike">
                <a:solidFill>
                  <a:srgbClr val="ffff99"/>
                </a:solidFill>
                <a:latin typeface="Times New Roman"/>
              </a:rPr>
              <a:t> </a:t>
            </a:r>
            <a:br>
              <a:rPr sz="3600"/>
            </a:br>
            <a:br>
              <a:rPr sz="2800"/>
            </a:br>
            <a:r>
              <a:rPr b="1" i="1" lang="en-US" sz="2800" spc="-1" strike="noStrike">
                <a:solidFill>
                  <a:srgbClr val="ffff99"/>
                </a:solidFill>
                <a:latin typeface="Times New Roman"/>
              </a:rPr>
              <a:t>Presentation of Findings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-1447920" y="54860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838080"/>
            <a:ext cx="4648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99"/>
                </a:solidFill>
                <a:latin typeface="Times New Roman"/>
              </a:rPr>
              <a:t>香港大學民意研究計劃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99"/>
                </a:solidFill>
                <a:latin typeface="Times New Roman"/>
              </a:rPr>
              <a:t>The University of Hong Kong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99"/>
                </a:solidFill>
                <a:latin typeface="Times New Roman"/>
              </a:rPr>
              <a:t>Public Opinion Programm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219320" y="685800"/>
          <a:ext cx="1609560" cy="167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685800"/>
                    <a:ext cx="160956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3809880" y="5105520"/>
            <a:ext cx="464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99"/>
                </a:solidFill>
                <a:latin typeface="Times New Roman"/>
              </a:rPr>
              <a:t>Dr Robert CHUNG Ting-yiu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99"/>
                </a:solidFill>
                <a:latin typeface="Times New Roman"/>
              </a:rPr>
              <a:t>22 July 2005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5800" y="2743200"/>
            <a:ext cx="7772400" cy="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4800600"/>
            <a:ext cx="7772400" cy="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8088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Times New Roman"/>
                <a:ea typeface="細明體"/>
              </a:rPr>
              <a:t>Education Attainment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-304920" y="838080"/>
          <a:ext cx="10211040" cy="585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04920" y="838080"/>
                    <a:ext cx="10211040" cy="585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5486400" y="5943600"/>
            <a:ext cx="307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ccecff"/>
                </a:solidFill>
                <a:latin typeface="Times New Roman"/>
              </a:rPr>
              <a:t>Valid samples</a:t>
            </a:r>
            <a:r>
              <a:rPr b="1" lang="zh-TW" sz="1600" spc="-1" strike="noStrike">
                <a:solidFill>
                  <a:srgbClr val="ccecff"/>
                </a:solidFill>
                <a:latin typeface="Times New Roman"/>
              </a:rPr>
              <a:t>：</a:t>
            </a:r>
            <a:r>
              <a:rPr b="1" lang="en-GB" sz="1600" spc="-1" strike="noStrike">
                <a:solidFill>
                  <a:srgbClr val="ccecff"/>
                </a:solidFill>
                <a:latin typeface="Times New Roman"/>
              </a:rPr>
              <a:t>1,504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33520" y="1371600"/>
            <a:ext cx="8076960" cy="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80880" y="68580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Times New Roman"/>
                <a:ea typeface="細明體"/>
              </a:rPr>
              <a:t>Occupation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-1066680" y="380880"/>
          <a:ext cx="11353680" cy="647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066680" y="380880"/>
                    <a:ext cx="11353680" cy="647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"/>
          <p:cNvSpPr/>
          <p:nvPr/>
        </p:nvSpPr>
        <p:spPr>
          <a:xfrm>
            <a:off x="5486400" y="5943600"/>
            <a:ext cx="307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ccecff"/>
                </a:solidFill>
                <a:latin typeface="Times New Roman"/>
              </a:rPr>
              <a:t>Valid samples</a:t>
            </a:r>
            <a:r>
              <a:rPr b="1" lang="zh-TW" sz="1600" spc="-1" strike="noStrike">
                <a:solidFill>
                  <a:srgbClr val="ccecff"/>
                </a:solidFill>
                <a:latin typeface="Times New Roman"/>
              </a:rPr>
              <a:t>：</a:t>
            </a:r>
            <a:r>
              <a:rPr b="1" lang="en-GB" sz="1600" spc="-1" strike="noStrike">
                <a:solidFill>
                  <a:srgbClr val="ccecff"/>
                </a:solidFill>
                <a:latin typeface="Times New Roman"/>
              </a:rPr>
              <a:t>1,482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480" y="1600200"/>
            <a:ext cx="8077320" cy="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762120" y="25909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cc"/>
                </a:solidFill>
                <a:latin typeface="Times New Roman"/>
              </a:rPr>
              <a:t>Public Ratings of Universities</a:t>
            </a:r>
            <a:endParaRPr b="0" lang="en-US" sz="3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cc"/>
                </a:solidFill>
                <a:latin typeface="Times New Roman"/>
              </a:rPr>
              <a:t>and their Heads</a:t>
            </a:r>
            <a:endParaRPr b="0" lang="en-US" sz="3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228600" y="763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Times New Roman"/>
              </a:rPr>
              <a:t>Overall Performance of University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914400"/>
          <a:ext cx="9144000" cy="513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14400"/>
                    <a:ext cx="9144000" cy="513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5334120" y="6248520"/>
            <a:ext cx="352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ccecff"/>
                </a:solidFill>
                <a:latin typeface="Times New Roman"/>
              </a:rPr>
              <a:t>Valid samples (2005)</a:t>
            </a:r>
            <a:r>
              <a:rPr b="1" lang="zh-TW" sz="1400" spc="-1" strike="noStrike">
                <a:solidFill>
                  <a:srgbClr val="ccecff"/>
                </a:solidFill>
                <a:latin typeface="Times New Roman"/>
              </a:rPr>
              <a:t>：</a:t>
            </a:r>
            <a:r>
              <a:rPr b="1" lang="en-GB" sz="1400" spc="-1" strike="noStrike">
                <a:solidFill>
                  <a:srgbClr val="ccecff"/>
                </a:solidFill>
                <a:latin typeface="Times New Roman"/>
              </a:rPr>
              <a:t>1,072 - 1,314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0" y="2514600"/>
          <a:ext cx="9144000" cy="513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2514600"/>
                    <a:ext cx="9144000" cy="513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914400" y="5867280"/>
            <a:ext cx="6934320" cy="307080"/>
          </a:xfrm>
          <a:prstGeom prst="rect">
            <a:avLst/>
          </a:prstGeom>
          <a:noFill/>
          <a:ln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173160"/>
                <a:tab algn="l" pos="966960"/>
                <a:tab algn="l" pos="1833480"/>
                <a:tab algn="l" pos="2800440"/>
                <a:tab algn="l" pos="3651120"/>
                <a:tab algn="l" pos="4516560"/>
                <a:tab algn="l" pos="5369040"/>
                <a:tab algn="l" pos="6234120"/>
                <a:tab algn="l" pos="714384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400" spc="-1" strike="noStrike">
                <a:solidFill>
                  <a:srgbClr val="ffff99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ffff99"/>
                </a:solidFill>
                <a:latin typeface="Times New Roman"/>
              </a:rPr>
              <a:t>87%</a:t>
            </a:r>
            <a:r>
              <a:rPr b="1" lang="en-US" sz="1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ffff99"/>
                </a:solidFill>
                <a:latin typeface="Times New Roman"/>
              </a:rPr>
              <a:t>86%</a:t>
            </a:r>
            <a:r>
              <a:rPr b="1" lang="en-US" sz="1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ffff99"/>
                </a:solidFill>
                <a:latin typeface="Times New Roman"/>
              </a:rPr>
              <a:t>80%</a:t>
            </a:r>
            <a:r>
              <a:rPr b="1" lang="en-US" sz="1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ffff99"/>
                </a:solidFill>
                <a:latin typeface="Times New Roman"/>
              </a:rPr>
              <a:t>84%</a:t>
            </a:r>
            <a:r>
              <a:rPr b="1" lang="en-US" sz="1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ffff99"/>
                </a:solidFill>
                <a:latin typeface="Times New Roman"/>
              </a:rPr>
              <a:t>80%</a:t>
            </a:r>
            <a:r>
              <a:rPr b="1" lang="en-US" sz="1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ffff99"/>
                </a:solidFill>
                <a:latin typeface="Times New Roman"/>
              </a:rPr>
              <a:t>78%</a:t>
            </a:r>
            <a:r>
              <a:rPr b="1" lang="en-US" sz="1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ffff99"/>
                </a:solidFill>
                <a:latin typeface="Times New Roman"/>
              </a:rPr>
              <a:t>71%</a:t>
            </a:r>
            <a:r>
              <a:rPr b="1" lang="en-US" sz="1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ffff99"/>
                </a:solidFill>
                <a:latin typeface="Times New Roman"/>
              </a:rPr>
              <a:t>75%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001000" y="571500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772400" y="57150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80880" y="624852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ecff"/>
                </a:solidFill>
                <a:latin typeface="Times New Roman"/>
              </a:rPr>
              <a:t>* </a:t>
            </a:r>
            <a:r>
              <a:rPr b="1" i="1" lang="zh-TW" sz="1200" spc="-1" strike="noStrike">
                <a:solidFill>
                  <a:srgbClr val="ccecff"/>
                </a:solidFill>
                <a:latin typeface="Times New Roman"/>
              </a:rPr>
              <a:t>Recognition rate = No. of raters/total sample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04920" y="838080"/>
            <a:ext cx="8534160" cy="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75960" y="759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99"/>
                </a:solidFill>
                <a:latin typeface="Times New Roman"/>
              </a:rPr>
              <a:t>Cross-tabulation Analyses: </a:t>
            </a:r>
            <a:br>
              <a:rPr sz="2400"/>
            </a:br>
            <a:r>
              <a:rPr b="1" lang="zh-TW" sz="2400" spc="-1" strike="noStrike">
                <a:solidFill>
                  <a:srgbClr val="ffff99"/>
                </a:solidFill>
                <a:latin typeface="Times New Roman"/>
              </a:rPr>
              <a:t>University Ratings vs Respondents’ Education Attainment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76320" y="1219320"/>
          <a:ext cx="9753480" cy="536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1219320"/>
                    <a:ext cx="9753480" cy="536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"/>
          <p:cNvSpPr/>
          <p:nvPr/>
        </p:nvSpPr>
        <p:spPr>
          <a:xfrm>
            <a:off x="8001000" y="571500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62120" y="6400800"/>
            <a:ext cx="640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ccecff"/>
                </a:solidFill>
                <a:latin typeface="Times New Roman"/>
              </a:rPr>
              <a:t>^ </a:t>
            </a:r>
            <a:r>
              <a:rPr b="0" i="1" lang="zh-TW" sz="1200" spc="-1" strike="noStrike">
                <a:solidFill>
                  <a:srgbClr val="ccecff"/>
                </a:solidFill>
                <a:latin typeface="Times New Roman"/>
              </a:rPr>
              <a:t>Differences among sub-groups tested to be statistically </a:t>
            </a:r>
            <a:r>
              <a:rPr b="1" i="1" lang="zh-TW" sz="1200" spc="-1" strike="noStrike" u="sng">
                <a:solidFill>
                  <a:srgbClr val="ccecff"/>
                </a:solidFill>
                <a:uFillTx/>
                <a:latin typeface="Times New Roman"/>
              </a:rPr>
              <a:t>insignificant </a:t>
            </a:r>
            <a:r>
              <a:rPr b="1" i="1" lang="zh-TW" sz="1200" spc="-1" strike="noStrike">
                <a:solidFill>
                  <a:srgbClr val="ccecff"/>
                </a:solidFill>
                <a:latin typeface="Times New Roman"/>
              </a:rPr>
              <a:t>at 95% confidence level.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80880" y="1219320"/>
            <a:ext cx="8382240" cy="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-360" y="759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99"/>
                </a:solidFill>
                <a:latin typeface="Times New Roman"/>
              </a:rPr>
              <a:t>Cross-tabulation Analyses: </a:t>
            </a:r>
            <a:br>
              <a:rPr sz="2400"/>
            </a:br>
            <a:r>
              <a:rPr b="1" lang="zh-TW" sz="2400" spc="-1" strike="noStrike">
                <a:solidFill>
                  <a:srgbClr val="ffff99"/>
                </a:solidFill>
                <a:latin typeface="Times New Roman"/>
              </a:rPr>
              <a:t>University Ratings vs Respondents’ Occupational Background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1219320"/>
          <a:ext cx="10134720" cy="538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19320"/>
                    <a:ext cx="10134720" cy="538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8001000" y="571500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62120" y="6354720"/>
            <a:ext cx="640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ccecff"/>
                </a:solidFill>
                <a:latin typeface="Times New Roman"/>
              </a:rPr>
              <a:t>^ </a:t>
            </a:r>
            <a:r>
              <a:rPr b="0" i="1" lang="zh-TW" sz="1200" spc="-1" strike="noStrike">
                <a:solidFill>
                  <a:srgbClr val="ccecff"/>
                </a:solidFill>
                <a:latin typeface="Times New Roman"/>
              </a:rPr>
              <a:t>Differences among sub-groups tested to be statistically </a:t>
            </a:r>
            <a:r>
              <a:rPr b="1" i="1" lang="zh-TW" sz="1200" spc="-1" strike="noStrike" u="sng">
                <a:solidFill>
                  <a:srgbClr val="ccecff"/>
                </a:solidFill>
                <a:uFillTx/>
                <a:latin typeface="Times New Roman"/>
              </a:rPr>
              <a:t>insignificant</a:t>
            </a:r>
            <a:r>
              <a:rPr b="1" i="1" lang="zh-TW" sz="1200" spc="-1" strike="noStrike">
                <a:solidFill>
                  <a:srgbClr val="ccecff"/>
                </a:solidFill>
                <a:latin typeface="Times New Roman"/>
              </a:rPr>
              <a:t> at 95% confidence level.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80880" y="1219320"/>
            <a:ext cx="8382240" cy="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Public Ratings of University Heads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-457200" y="838080"/>
          <a:ext cx="9829800" cy="539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457200" y="838080"/>
                    <a:ext cx="9829800" cy="539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"/>
          <p:cNvSpPr/>
          <p:nvPr/>
        </p:nvSpPr>
        <p:spPr>
          <a:xfrm>
            <a:off x="5767560" y="6400800"/>
            <a:ext cx="307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ccecff"/>
                </a:solidFill>
                <a:latin typeface="Times New Roman"/>
              </a:rPr>
              <a:t>Valid samples (2005)</a:t>
            </a:r>
            <a:r>
              <a:rPr b="1" lang="zh-TW" sz="1400" spc="-1" strike="noStrike">
                <a:solidFill>
                  <a:srgbClr val="ccecff"/>
                </a:solidFill>
                <a:latin typeface="Times New Roman"/>
              </a:rPr>
              <a:t>：</a:t>
            </a:r>
            <a:r>
              <a:rPr b="1" lang="en-GB" sz="1400" spc="-1" strike="noStrike">
                <a:solidFill>
                  <a:srgbClr val="ccecff"/>
                </a:solidFill>
                <a:latin typeface="Times New Roman"/>
              </a:rPr>
              <a:t>523 - 898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120" y="5943600"/>
            <a:ext cx="6933960" cy="307080"/>
          </a:xfrm>
          <a:prstGeom prst="rect">
            <a:avLst/>
          </a:prstGeom>
          <a:noFill/>
          <a:ln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173160"/>
                <a:tab algn="l" pos="966960"/>
                <a:tab algn="l" pos="1833480"/>
                <a:tab algn="l" pos="2800440"/>
                <a:tab algn="l" pos="3651120"/>
                <a:tab algn="l" pos="4516560"/>
                <a:tab algn="l" pos="5369040"/>
                <a:tab algn="l" pos="6234120"/>
                <a:tab algn="l" pos="714384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400" spc="-1" strike="noStrike">
                <a:solidFill>
                  <a:srgbClr val="ffff99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ffff99"/>
                </a:solidFill>
                <a:latin typeface="Times New Roman"/>
              </a:rPr>
              <a:t>59%</a:t>
            </a:r>
            <a:r>
              <a:rPr b="1" lang="en-US" sz="1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ffff99"/>
                </a:solidFill>
                <a:latin typeface="Times New Roman"/>
              </a:rPr>
              <a:t>59%</a:t>
            </a:r>
            <a:r>
              <a:rPr b="1" lang="en-US" sz="1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ffff99"/>
                </a:solidFill>
                <a:latin typeface="Times New Roman"/>
              </a:rPr>
              <a:t>47%</a:t>
            </a:r>
            <a:r>
              <a:rPr b="1" lang="en-US" sz="1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ffff99"/>
                </a:solidFill>
                <a:latin typeface="Times New Roman"/>
              </a:rPr>
              <a:t>54%</a:t>
            </a:r>
            <a:r>
              <a:rPr b="1" lang="en-US" sz="1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ffff99"/>
                </a:solidFill>
                <a:latin typeface="Times New Roman"/>
              </a:rPr>
              <a:t>58%</a:t>
            </a:r>
            <a:r>
              <a:rPr b="1" lang="en-US" sz="1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ffff99"/>
                </a:solidFill>
                <a:latin typeface="Times New Roman"/>
              </a:rPr>
              <a:t>48%</a:t>
            </a:r>
            <a:r>
              <a:rPr b="1" lang="en-US" sz="1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ffff99"/>
                </a:solidFill>
                <a:latin typeface="Times New Roman"/>
              </a:rPr>
              <a:t>40%</a:t>
            </a:r>
            <a:r>
              <a:rPr b="1" lang="en-US" sz="1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ffff99"/>
                </a:solidFill>
                <a:latin typeface="Times New Roman"/>
              </a:rPr>
              <a:t>35%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696080" y="57913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624852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ecff"/>
                </a:solidFill>
                <a:latin typeface="Times New Roman"/>
              </a:rPr>
              <a:t>* </a:t>
            </a:r>
            <a:r>
              <a:rPr b="1" i="1" lang="zh-TW" sz="1200" spc="-1" strike="noStrike">
                <a:solidFill>
                  <a:srgbClr val="ccecff"/>
                </a:solidFill>
                <a:latin typeface="Times New Roman"/>
              </a:rPr>
              <a:t>Recognition rate = No. of raters/total sample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200400" y="1295280"/>
            <a:ext cx="556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Times New Roman"/>
              </a:rPr>
              <a:t>^The only change being statistically significant at 99% confidence level.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80880" y="838080"/>
            <a:ext cx="8382240" cy="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762120" y="2514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cc"/>
                </a:solidFill>
                <a:latin typeface="Times New Roman"/>
              </a:rPr>
              <a:t>Public Perception</a:t>
            </a:r>
            <a:endParaRPr b="0" lang="en-US" sz="3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cc"/>
                </a:solidFill>
                <a:latin typeface="Times New Roman"/>
              </a:rPr>
              <a:t>of Graduates</a:t>
            </a:r>
            <a:endParaRPr b="0" lang="en-US" sz="3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210200" y="315756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99"/>
                </a:solidFill>
                <a:latin typeface="Times New Roman"/>
              </a:rPr>
              <a:t>Perceived Deficiencies of  Graduates (I)</a:t>
            </a:r>
            <a:endParaRPr b="0" lang="en-US" sz="26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-1066680" y="990720"/>
          <a:ext cx="10820160" cy="58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066680" y="990720"/>
                    <a:ext cx="1082016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"/>
          <p:cNvSpPr/>
          <p:nvPr/>
        </p:nvSpPr>
        <p:spPr>
          <a:xfrm>
            <a:off x="5638680" y="6324480"/>
            <a:ext cx="307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ccecff"/>
                </a:solidFill>
                <a:latin typeface="Times New Roman"/>
              </a:rPr>
              <a:t>Valid samples (2005)</a:t>
            </a:r>
            <a:r>
              <a:rPr b="1" lang="zh-TW" sz="1400" spc="-1" strike="noStrike">
                <a:solidFill>
                  <a:srgbClr val="ccecff"/>
                </a:solidFill>
                <a:latin typeface="Times New Roman"/>
              </a:rPr>
              <a:t>：</a:t>
            </a:r>
            <a:r>
              <a:rPr b="1" lang="en-GB" sz="1400" spc="-1" strike="noStrike">
                <a:solidFill>
                  <a:srgbClr val="ccecff"/>
                </a:solidFill>
                <a:latin typeface="Times New Roman"/>
              </a:rPr>
              <a:t>1,510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886200" y="1981080"/>
            <a:ext cx="4876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Times New Roman"/>
              </a:rPr>
              <a:t>*Changes being statistically significant at 99% confidence level.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990720"/>
            <a:ext cx="8382240" cy="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210200" y="315756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99"/>
                </a:solidFill>
                <a:latin typeface="Times New Roman"/>
              </a:rPr>
              <a:t>Perceived Deficiencies of Graduates (II)</a:t>
            </a:r>
            <a:endParaRPr b="0" lang="en-US" sz="26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-609480" y="990720"/>
          <a:ext cx="9982080" cy="548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609480" y="990720"/>
                    <a:ext cx="998208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"/>
          <p:cNvSpPr/>
          <p:nvPr/>
        </p:nvSpPr>
        <p:spPr>
          <a:xfrm>
            <a:off x="5638680" y="6324480"/>
            <a:ext cx="307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ccecff"/>
                </a:solidFill>
                <a:latin typeface="Times New Roman"/>
              </a:rPr>
              <a:t>Valid samples (2005)</a:t>
            </a:r>
            <a:r>
              <a:rPr b="1" lang="zh-TW" sz="1400" spc="-1" strike="noStrike">
                <a:solidFill>
                  <a:srgbClr val="ccecff"/>
                </a:solidFill>
                <a:latin typeface="Times New Roman"/>
              </a:rPr>
              <a:t>：</a:t>
            </a:r>
            <a:r>
              <a:rPr b="1" lang="en-GB" sz="1400" spc="-1" strike="noStrike">
                <a:solidFill>
                  <a:srgbClr val="ccecff"/>
                </a:solidFill>
                <a:latin typeface="Times New Roman"/>
              </a:rPr>
              <a:t>1,510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80880" y="6400800"/>
            <a:ext cx="573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ccecff"/>
                </a:solidFill>
                <a:latin typeface="Times New Roman"/>
              </a:rPr>
              <a:t>Note: Attributes registering less than 1% for all years are not shown here.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356120" y="3048120"/>
            <a:ext cx="49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Times New Roman"/>
              </a:rPr>
              <a:t>* Changes being statistically significant at 99% confidence level.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04920" y="838080"/>
            <a:ext cx="8381880" cy="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1676520" y="2057040"/>
            <a:ext cx="6400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975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ccecff"/>
                </a:solidFill>
                <a:latin typeface="Times New Roman"/>
              </a:rPr>
              <a:t>Background information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-339480">
              <a:lnSpc>
                <a:spcPct val="110000"/>
              </a:lnSpc>
              <a:spcBef>
                <a:spcPts val="975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ccecff"/>
                </a:solidFill>
                <a:latin typeface="Times New Roman"/>
              </a:rPr>
              <a:t>Demographic profile of respondents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-339480">
              <a:lnSpc>
                <a:spcPct val="110000"/>
              </a:lnSpc>
              <a:spcBef>
                <a:spcPts val="975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ccecff"/>
                </a:solidFill>
                <a:latin typeface="Times New Roman"/>
              </a:rPr>
              <a:t>Ratings of universities and their heads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-339480">
              <a:lnSpc>
                <a:spcPct val="110000"/>
              </a:lnSpc>
              <a:spcBef>
                <a:spcPts val="975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ccecff"/>
                </a:solidFill>
                <a:latin typeface="Times New Roman"/>
              </a:rPr>
              <a:t>Public perception of graduates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-339480">
              <a:lnSpc>
                <a:spcPct val="110000"/>
              </a:lnSpc>
              <a:spcBef>
                <a:spcPts val="975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ccecff"/>
                </a:solidFill>
                <a:latin typeface="Times New Roman"/>
              </a:rPr>
              <a:t>Opinions on Selected Education Policies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-339480">
              <a:lnSpc>
                <a:spcPct val="110000"/>
              </a:lnSpc>
              <a:spcBef>
                <a:spcPts val="975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ccecff"/>
                </a:solidFill>
                <a:latin typeface="Times New Roman"/>
              </a:rPr>
              <a:t>Conclusion and FAQs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-339480">
              <a:lnSpc>
                <a:spcPct val="110000"/>
              </a:lnSpc>
              <a:spcBef>
                <a:spcPts val="975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ccecff"/>
                </a:solidFill>
                <a:latin typeface="Times New Roman"/>
              </a:rPr>
              <a:t>Q &amp; A session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609480"/>
            <a:ext cx="80010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99"/>
                </a:solidFill>
                <a:latin typeface="Times New Roman"/>
              </a:rPr>
              <a:t>Outline of Presentation</a:t>
            </a:r>
            <a:endParaRPr b="0" lang="en-US" sz="4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1676520"/>
            <a:ext cx="7848720" cy="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Most Preferred University Graduates</a:t>
            </a:r>
            <a:br>
              <a:rPr sz="3200"/>
            </a:b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[Only for respondents involved in recruiting new staffs]</a:t>
            </a:r>
            <a:endParaRPr b="0" lang="en-US" sz="20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-304920" y="1371600"/>
          <a:ext cx="94489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04920" y="1371600"/>
                    <a:ext cx="94489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"/>
          <p:cNvSpPr/>
          <p:nvPr/>
        </p:nvSpPr>
        <p:spPr>
          <a:xfrm>
            <a:off x="4038480" y="6172200"/>
            <a:ext cx="4724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ccecff"/>
                </a:solidFill>
                <a:latin typeface="Times New Roman"/>
              </a:rPr>
              <a:t>Valid samples (2005): </a:t>
            </a:r>
            <a:r>
              <a:rPr b="1" lang="en-GB" sz="1400" spc="-1" strike="noStrike">
                <a:solidFill>
                  <a:srgbClr val="ccecff"/>
                </a:solidFill>
                <a:latin typeface="Times New Roman"/>
              </a:rPr>
              <a:t>261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ecff"/>
                </a:solidFill>
                <a:latin typeface="Times New Roman"/>
              </a:rPr>
              <a:t>Standard error (for 2005 at 95% confidence level): +/-6.2%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2209680" y="533520"/>
          <a:ext cx="5791320" cy="3862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09680" y="533520"/>
                    <a:ext cx="5791320" cy="38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"/>
          <p:cNvSpPr/>
          <p:nvPr/>
        </p:nvSpPr>
        <p:spPr>
          <a:xfrm>
            <a:off x="380880" y="1219320"/>
            <a:ext cx="8382240" cy="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Reasons for Graduate Preferences</a:t>
            </a:r>
            <a:br>
              <a:rPr sz="3200"/>
            </a:b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[Only for respondents involved in recruiting new staffs]</a:t>
            </a:r>
            <a:endParaRPr b="0" lang="en-US" sz="20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-457200" y="1143000"/>
          <a:ext cx="9677520" cy="548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457200" y="1143000"/>
                    <a:ext cx="967752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" name=""/>
          <p:cNvSpPr/>
          <p:nvPr/>
        </p:nvSpPr>
        <p:spPr>
          <a:xfrm>
            <a:off x="457200" y="6431040"/>
            <a:ext cx="672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ccecff"/>
                </a:solidFill>
                <a:latin typeface="Times New Roman"/>
              </a:rPr>
              <a:t>Note: Reasons registering less than 5% for all years are not shown here.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3048120" y="533520"/>
          <a:ext cx="5790960" cy="3862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8120" y="533520"/>
                    <a:ext cx="5790960" cy="38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"/>
          <p:cNvSpPr/>
          <p:nvPr/>
        </p:nvSpPr>
        <p:spPr>
          <a:xfrm>
            <a:off x="4648320" y="5943600"/>
            <a:ext cx="4114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Valid samples (2005): </a:t>
            </a:r>
            <a:r>
              <a:rPr b="0" lang="en-GB" sz="1400" spc="-1" strike="noStrike">
                <a:solidFill>
                  <a:srgbClr val="ccecff"/>
                </a:solidFill>
                <a:latin typeface="Times New Roman"/>
              </a:rPr>
              <a:t>187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ecff"/>
                </a:solidFill>
                <a:latin typeface="Times New Roman"/>
              </a:rPr>
              <a:t>Standard Error (for 2005 at 95% conf. level): +/-7.4% (not 6.2% as shown in the original slide)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1219320"/>
            <a:ext cx="8382240" cy="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98560" y="1566720"/>
            <a:ext cx="7483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62120" y="2133720"/>
            <a:ext cx="73152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Times New Roman"/>
              </a:rPr>
              <a:t>Opinions on Selected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Times New Roman"/>
              </a:rPr>
              <a:t>Education Policies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380880" y="68580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  <a:ea typeface="細明體"/>
              </a:rPr>
              <a:t>Government Funding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  <a:ea typeface="細明體"/>
              </a:rPr>
              <a:t>to Local Universities</a:t>
            </a: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-1600200" y="838080"/>
          <a:ext cx="12192120" cy="5100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600200" y="838080"/>
                    <a:ext cx="12192120" cy="510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533520" y="1371600"/>
            <a:ext cx="8001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486400" y="5943600"/>
            <a:ext cx="307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ccecff"/>
                </a:solidFill>
                <a:latin typeface="Times New Roman"/>
              </a:rPr>
              <a:t>Valid samples</a:t>
            </a:r>
            <a:r>
              <a:rPr b="1" lang="zh-TW" sz="1600" spc="-1" strike="noStrike">
                <a:solidFill>
                  <a:srgbClr val="ccecff"/>
                </a:solidFill>
                <a:latin typeface="Times New Roman"/>
              </a:rPr>
              <a:t>：</a:t>
            </a:r>
            <a:r>
              <a:rPr b="1" lang="en-GB" sz="1600" spc="-1" strike="noStrike">
                <a:solidFill>
                  <a:srgbClr val="ccecff"/>
                </a:solidFill>
                <a:latin typeface="Times New Roman"/>
              </a:rPr>
              <a:t>1,512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80880" y="1828800"/>
            <a:ext cx="8382240" cy="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457200" y="7621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  <a:ea typeface="細明體"/>
              </a:rPr>
              <a:t>Number of Local Universities</a:t>
            </a: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-1752480" y="914400"/>
          <a:ext cx="12573000" cy="5046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752480" y="914400"/>
                    <a:ext cx="12573000" cy="504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"/>
          <p:cNvSpPr/>
          <p:nvPr/>
        </p:nvSpPr>
        <p:spPr>
          <a:xfrm>
            <a:off x="533520" y="1371600"/>
            <a:ext cx="8001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86400" y="5943600"/>
            <a:ext cx="307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ccecff"/>
                </a:solidFill>
                <a:latin typeface="Times New Roman"/>
              </a:rPr>
              <a:t>Valid samples</a:t>
            </a:r>
            <a:r>
              <a:rPr b="1" lang="zh-TW" sz="1600" spc="-1" strike="noStrike">
                <a:solidFill>
                  <a:srgbClr val="ccecff"/>
                </a:solidFill>
                <a:latin typeface="Times New Roman"/>
              </a:rPr>
              <a:t>：</a:t>
            </a:r>
            <a:r>
              <a:rPr b="1" lang="en-GB" sz="1600" spc="-1" strike="noStrike">
                <a:solidFill>
                  <a:srgbClr val="ccecff"/>
                </a:solidFill>
                <a:latin typeface="Times New Roman"/>
              </a:rPr>
              <a:t>1,514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880" y="1752480"/>
            <a:ext cx="8382240" cy="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380880" y="68580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  <a:ea typeface="細明體"/>
              </a:rPr>
              <a:t>Direction for Admission of Non-local Students</a:t>
            </a: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-1371600" y="1219320"/>
          <a:ext cx="12344400" cy="4713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371600" y="1219320"/>
                    <a:ext cx="12344400" cy="471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"/>
          <p:cNvSpPr/>
          <p:nvPr/>
        </p:nvSpPr>
        <p:spPr>
          <a:xfrm>
            <a:off x="533520" y="1371600"/>
            <a:ext cx="8001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486400" y="5943600"/>
            <a:ext cx="307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ccecff"/>
                </a:solidFill>
                <a:latin typeface="Times New Roman"/>
              </a:rPr>
              <a:t>Valid samples</a:t>
            </a:r>
            <a:r>
              <a:rPr b="1" lang="zh-TW" sz="1600" spc="-1" strike="noStrike">
                <a:solidFill>
                  <a:srgbClr val="ccecff"/>
                </a:solidFill>
                <a:latin typeface="Times New Roman"/>
              </a:rPr>
              <a:t>：</a:t>
            </a:r>
            <a:r>
              <a:rPr b="1" lang="en-GB" sz="1600" spc="-1" strike="noStrike">
                <a:solidFill>
                  <a:srgbClr val="ccecff"/>
                </a:solidFill>
                <a:latin typeface="Times New Roman"/>
              </a:rPr>
              <a:t>1,503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80880" y="1676520"/>
            <a:ext cx="8382240" cy="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380880" y="68580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  <a:ea typeface="細明體"/>
              </a:rPr>
              <a:t>Effect of Admitting more Non-local Student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-1447920" y="533520"/>
          <a:ext cx="12192120" cy="5405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447920" y="533520"/>
                    <a:ext cx="12192120" cy="540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"/>
          <p:cNvSpPr/>
          <p:nvPr/>
        </p:nvSpPr>
        <p:spPr>
          <a:xfrm>
            <a:off x="533520" y="1371600"/>
            <a:ext cx="8001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486400" y="5943600"/>
            <a:ext cx="307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ccecff"/>
                </a:solidFill>
                <a:latin typeface="Times New Roman"/>
              </a:rPr>
              <a:t>Valid samples</a:t>
            </a:r>
            <a:r>
              <a:rPr b="1" lang="zh-TW" sz="1600" spc="-1" strike="noStrike">
                <a:solidFill>
                  <a:srgbClr val="ccecff"/>
                </a:solidFill>
                <a:latin typeface="Times New Roman"/>
              </a:rPr>
              <a:t>：</a:t>
            </a:r>
            <a:r>
              <a:rPr b="1" lang="en-GB" sz="1600" spc="-1" strike="noStrike">
                <a:solidFill>
                  <a:srgbClr val="ccecff"/>
                </a:solidFill>
                <a:latin typeface="Times New Roman"/>
              </a:rPr>
              <a:t>1,511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80880" y="68580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  <a:ea typeface="細明體"/>
              </a:rPr>
              <a:t>The Proposed “3+3+4” Academic Structure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-1600200" y="1066680"/>
          <a:ext cx="12725280" cy="5176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600200" y="1066680"/>
                    <a:ext cx="12725280" cy="517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7" name=""/>
          <p:cNvSpPr/>
          <p:nvPr/>
        </p:nvSpPr>
        <p:spPr>
          <a:xfrm>
            <a:off x="533520" y="1371600"/>
            <a:ext cx="8001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486400" y="5943600"/>
            <a:ext cx="307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ccecff"/>
                </a:solidFill>
                <a:latin typeface="Times New Roman"/>
              </a:rPr>
              <a:t>Valid samples</a:t>
            </a:r>
            <a:r>
              <a:rPr b="1" lang="zh-TW" sz="1600" spc="-1" strike="noStrike">
                <a:solidFill>
                  <a:srgbClr val="ccecff"/>
                </a:solidFill>
                <a:latin typeface="Times New Roman"/>
              </a:rPr>
              <a:t>：</a:t>
            </a:r>
            <a:r>
              <a:rPr b="1" lang="en-GB" sz="1600" spc="-1" strike="noStrike">
                <a:solidFill>
                  <a:srgbClr val="ccecff"/>
                </a:solidFill>
                <a:latin typeface="Times New Roman"/>
              </a:rPr>
              <a:t>1,505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04920" y="1676520"/>
            <a:ext cx="8381880" cy="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828800" y="2666880"/>
            <a:ext cx="563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imes New Roman"/>
              </a:rPr>
              <a:t>Conclusion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Times New Roman"/>
              </a:rPr>
              <a:t>Conclusions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275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ccecff"/>
                </a:solidFill>
                <a:latin typeface="Times New Roman"/>
              </a:rPr>
              <a:t>Between 2001 and 2005, HKU continued to be perceived by the public as the best performing university, with CUHK &amp; HKUST consistently taking the 2</a:t>
            </a:r>
            <a:r>
              <a:rPr b="1" lang="zh-TW" sz="2200" spc="-1" strike="noStrike" baseline="30000">
                <a:solidFill>
                  <a:srgbClr val="ccecff"/>
                </a:solidFill>
                <a:latin typeface="Times New Roman"/>
              </a:rPr>
              <a:t>nd</a:t>
            </a:r>
            <a:r>
              <a:rPr b="1" lang="zh-TW" sz="2200" spc="-1" strike="noStrike">
                <a:solidFill>
                  <a:srgbClr val="ccecff"/>
                </a:solidFill>
                <a:latin typeface="Times New Roman"/>
              </a:rPr>
              <a:t> &amp; 3</a:t>
            </a:r>
            <a:r>
              <a:rPr b="1" lang="zh-TW" sz="2200" spc="-1" strike="noStrike" baseline="30000">
                <a:solidFill>
                  <a:srgbClr val="ccecff"/>
                </a:solidFill>
                <a:latin typeface="Times New Roman"/>
              </a:rPr>
              <a:t>rd</a:t>
            </a:r>
            <a:r>
              <a:rPr b="1" lang="zh-TW" sz="2200" spc="-1" strike="noStrike">
                <a:solidFill>
                  <a:srgbClr val="ccecff"/>
                </a:solidFill>
                <a:latin typeface="Times New Roman"/>
              </a:rPr>
              <a:t> ranks.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-339480">
              <a:lnSpc>
                <a:spcPct val="85000"/>
              </a:lnSpc>
              <a:spcBef>
                <a:spcPts val="275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ccecff"/>
                </a:solidFill>
                <a:latin typeface="Times New Roman"/>
                <a:ea typeface="細明體"/>
              </a:rPr>
              <a:t>Professor Lap-chee Tsui of HKU and Professor Paul Chu of HKUST are perceived as the best performing university heads.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-339480">
              <a:lnSpc>
                <a:spcPct val="85000"/>
              </a:lnSpc>
              <a:spcBef>
                <a:spcPts val="275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ccecff"/>
                </a:solidFill>
                <a:latin typeface="Times New Roman"/>
                <a:ea typeface="細明體"/>
              </a:rPr>
              <a:t>“</a:t>
            </a:r>
            <a:r>
              <a:rPr b="1" lang="zh-TW" sz="2200" spc="-1" strike="noStrike">
                <a:solidFill>
                  <a:srgbClr val="ccecff"/>
                </a:solidFill>
                <a:latin typeface="Times New Roman"/>
                <a:ea typeface="細明體"/>
              </a:rPr>
              <a:t>Language proficiency”, “social/work experience” and “work attitude” are perceived to be important qualities which most Hong Kong university graduates lack of.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-339480">
              <a:lnSpc>
                <a:spcPct val="85000"/>
              </a:lnSpc>
              <a:spcBef>
                <a:spcPts val="275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ccecff"/>
                </a:solidFill>
                <a:latin typeface="Times New Roman"/>
                <a:ea typeface="細明體"/>
              </a:rPr>
              <a:t>Of the 264 employers interviewed, most preferred employing HKU, CUHK &amp; PolyU graduates. 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-339480">
              <a:lnSpc>
                <a:spcPct val="85000"/>
              </a:lnSpc>
              <a:spcBef>
                <a:spcPts val="275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ccecff"/>
                </a:solidFill>
                <a:latin typeface="Times New Roman"/>
                <a:ea typeface="細明體"/>
              </a:rPr>
              <a:t>Main reasons for their preference were “good knowledge of job-related areas” and “good performance of previous graduates. 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33520" y="1371600"/>
            <a:ext cx="8076960" cy="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762120" y="2742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Background</a:t>
            </a:r>
            <a:endParaRPr b="0" lang="en-US" sz="4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19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Some Frequently Asked Questions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762120" y="2209320"/>
            <a:ext cx="76197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326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ccecff"/>
                </a:solidFill>
                <a:latin typeface="Times New Roman"/>
              </a:rPr>
              <a:t>To enhance rational and educational discussions of university ranking surveys, a list of frequently asked questions (FAQ) and answers has been prepared,  distributed, as well as uploaded onto the HKU POP Site at </a:t>
            </a:r>
            <a:r>
              <a:rPr b="1" lang="zh-TW" sz="2600" spc="-1" strike="noStrike" u="sng">
                <a:solidFill>
                  <a:srgbClr val="ffff99"/>
                </a:solidFill>
                <a:uFillTx/>
                <a:latin typeface="Times New Roman"/>
              </a:rPr>
              <a:t>http://hkupop.hku.hk</a:t>
            </a:r>
            <a:r>
              <a:rPr b="1" lang="zh-TW" sz="2600" spc="-1" strike="noStrike">
                <a:solidFill>
                  <a:srgbClr val="ccecff"/>
                </a:solidFill>
                <a:latin typeface="Times New Roman"/>
              </a:rPr>
              <a:t> .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lnSpc>
                <a:spcPct val="85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326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ccecff"/>
                </a:solidFill>
                <a:latin typeface="Times New Roman"/>
                <a:ea typeface="細明體"/>
              </a:rPr>
              <a:t>Journalists and members of the general public are welcome to contribute questions to the FAQ list, all answers to these FAQs will be open to public reference.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09480" y="1676520"/>
            <a:ext cx="8077320" cy="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1447920" y="2819520"/>
            <a:ext cx="6324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End of Presentation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Times New Roman"/>
              </a:rPr>
              <a:t>History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Commissioned by 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細明體"/>
              </a:rPr>
              <a:t>Media Education Info-tech Co. Ltd. (which owns “Education18.com”) </a:t>
            </a:r>
            <a:r>
              <a:rPr b="1" lang="zh-TW" sz="2000" spc="-1" strike="noStrike" u="sng">
                <a:solidFill>
                  <a:srgbClr val="ffff99"/>
                </a:solidFill>
                <a:uFillTx/>
                <a:latin typeface="Times New Roman"/>
                <a:ea typeface="細明體"/>
              </a:rPr>
              <a:t>since 2001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細明體"/>
              </a:rPr>
              <a:t>, this is the 5</a:t>
            </a:r>
            <a:r>
              <a:rPr b="1" lang="zh-TW" sz="2000" spc="-1" strike="noStrike" baseline="30000">
                <a:solidFill>
                  <a:srgbClr val="ccecff"/>
                </a:solidFill>
                <a:latin typeface="Times New Roman"/>
                <a:ea typeface="細明體"/>
              </a:rPr>
              <a:t>th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細明體"/>
              </a:rPr>
              <a:t> survey in the row.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125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Key objective is to gauge the general </a:t>
            </a:r>
            <a:r>
              <a:rPr b="1" lang="zh-TW" sz="2000" spc="-1" strike="noStrike" u="sng">
                <a:solidFill>
                  <a:srgbClr val="ffff99"/>
                </a:solidFill>
                <a:uFillTx/>
                <a:latin typeface="Times New Roman"/>
              </a:rPr>
              <a:t>public’s perception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 of local universities and their opinions on selected education issues.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細明體"/>
              </a:rPr>
              <a:t>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125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The survey questionnaire was designed by HKU POP after consulting the client.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125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Fieldwork and data analysis conducted independently by POP, but </a:t>
            </a:r>
            <a:r>
              <a:rPr b="1" lang="zh-TW" sz="2000" spc="-1" strike="noStrike">
                <a:solidFill>
                  <a:srgbClr val="ffff99"/>
                </a:solidFill>
                <a:latin typeface="Times New Roman"/>
              </a:rPr>
              <a:t>final rankings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 wholly or partly based on perception figures are </a:t>
            </a:r>
            <a:r>
              <a:rPr b="1" lang="zh-TW" sz="2000" spc="-1" strike="noStrike">
                <a:solidFill>
                  <a:srgbClr val="ffff99"/>
                </a:solidFill>
                <a:latin typeface="Times New Roman"/>
              </a:rPr>
              <a:t>compiled independently by </a:t>
            </a:r>
            <a:r>
              <a:rPr b="1" lang="zh-TW" sz="2000" spc="-1" strike="noStrike">
                <a:solidFill>
                  <a:srgbClr val="ffff99"/>
                </a:solidFill>
                <a:latin typeface="Times New Roman"/>
                <a:ea typeface="細明體"/>
              </a:rPr>
              <a:t>Media Education Info-tech Co. Ltd.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125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Survey reports of public opinion surveys for all years are available at </a:t>
            </a:r>
            <a:r>
              <a:rPr b="1" lang="zh-TW" sz="2000" spc="-1" strike="noStrike" u="sng">
                <a:solidFill>
                  <a:srgbClr val="ffff99"/>
                </a:solidFill>
                <a:uFillTx/>
                <a:latin typeface="Times New Roman"/>
              </a:rPr>
              <a:t>HKU POP SITE (http://hkupop.hku.hk)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 for public consumption.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3111480"/>
            <a:ext cx="762012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2120" y="1523880"/>
            <a:ext cx="7772400" cy="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Times New Roman"/>
              </a:rPr>
              <a:t>Contact Information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2800440"/>
                <a:tab algn="l" pos="2921040"/>
                <a:tab algn="l" pos="3048120"/>
                <a:tab algn="l" pos="3174840"/>
                <a:tab algn="l" pos="3301920"/>
                <a:tab algn="l" pos="3429000"/>
                <a:tab algn="l" pos="3556080"/>
                <a:tab algn="l" pos="3683160"/>
                <a:tab algn="l" pos="3809880"/>
                <a:tab algn="l" pos="3936960"/>
                <a:tab algn="l" pos="4064040"/>
                <a:tab algn="l" pos="4191120"/>
                <a:tab algn="l" pos="4317840"/>
                <a:tab algn="l" pos="4444920"/>
                <a:tab algn="l" pos="4572000"/>
                <a:tab algn="l" pos="4699080"/>
                <a:tab algn="l" pos="4826160"/>
                <a:tab algn="l" pos="4952880"/>
                <a:tab algn="l" pos="5079960"/>
                <a:tab algn="l" pos="5207040"/>
                <a:tab algn="l" pos="533412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Date of survey:</a:t>
            </a: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23-30 March 2005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2800440"/>
                <a:tab algn="l" pos="2921040"/>
                <a:tab algn="l" pos="3048120"/>
                <a:tab algn="l" pos="3174840"/>
                <a:tab algn="l" pos="3301920"/>
                <a:tab algn="l" pos="3429000"/>
                <a:tab algn="l" pos="3556080"/>
                <a:tab algn="l" pos="3683160"/>
                <a:tab algn="l" pos="3809880"/>
                <a:tab algn="l" pos="3936960"/>
                <a:tab algn="l" pos="4064040"/>
                <a:tab algn="l" pos="4191120"/>
                <a:tab algn="l" pos="4317840"/>
                <a:tab algn="l" pos="4444920"/>
                <a:tab algn="l" pos="4572000"/>
                <a:tab algn="l" pos="4699080"/>
                <a:tab algn="l" pos="4826160"/>
                <a:tab algn="l" pos="4952880"/>
                <a:tab algn="l" pos="5079960"/>
                <a:tab algn="l" pos="5207040"/>
                <a:tab algn="l" pos="533412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Target population:</a:t>
            </a: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Cantonese-speaking</a:t>
            </a: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population of </a:t>
            </a: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Hong Kong of age 18 or abov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2800440"/>
                <a:tab algn="l" pos="2921040"/>
                <a:tab algn="l" pos="3048120"/>
                <a:tab algn="l" pos="3174840"/>
                <a:tab algn="l" pos="3301920"/>
                <a:tab algn="l" pos="3429000"/>
                <a:tab algn="l" pos="3556080"/>
                <a:tab algn="l" pos="3683160"/>
                <a:tab algn="l" pos="3809880"/>
                <a:tab algn="l" pos="3936960"/>
                <a:tab algn="l" pos="4064040"/>
                <a:tab algn="l" pos="4191120"/>
                <a:tab algn="l" pos="4317840"/>
                <a:tab algn="l" pos="4444920"/>
                <a:tab algn="l" pos="4572000"/>
                <a:tab algn="l" pos="4699080"/>
                <a:tab algn="l" pos="4826160"/>
                <a:tab algn="l" pos="4952880"/>
                <a:tab algn="l" pos="5079960"/>
                <a:tab algn="l" pos="5207040"/>
                <a:tab algn="l" pos="533412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Survey method:</a:t>
            </a: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Telephone survey with </a:t>
            </a: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interviewers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2800440"/>
                <a:tab algn="l" pos="2921040"/>
                <a:tab algn="l" pos="3048120"/>
                <a:tab algn="l" pos="3174840"/>
                <a:tab algn="l" pos="3301920"/>
                <a:tab algn="l" pos="3429000"/>
                <a:tab algn="l" pos="3556080"/>
                <a:tab algn="l" pos="3683160"/>
                <a:tab algn="l" pos="3809880"/>
                <a:tab algn="l" pos="3936960"/>
                <a:tab algn="l" pos="4064040"/>
                <a:tab algn="l" pos="4191120"/>
                <a:tab algn="l" pos="4317840"/>
                <a:tab algn="l" pos="4444920"/>
                <a:tab algn="l" pos="4572000"/>
                <a:tab algn="l" pos="4699080"/>
                <a:tab algn="l" pos="4826160"/>
                <a:tab algn="l" pos="4952880"/>
                <a:tab algn="l" pos="5079960"/>
                <a:tab algn="l" pos="5207040"/>
                <a:tab algn="l" pos="533412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Sample size:</a:t>
            </a: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1,517 successful case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2800440"/>
                <a:tab algn="l" pos="2921040"/>
                <a:tab algn="l" pos="3048120"/>
                <a:tab algn="l" pos="3174840"/>
                <a:tab algn="l" pos="3301920"/>
                <a:tab algn="l" pos="3429000"/>
                <a:tab algn="l" pos="3556080"/>
                <a:tab algn="l" pos="3683160"/>
                <a:tab algn="l" pos="3809880"/>
                <a:tab algn="l" pos="3936960"/>
                <a:tab algn="l" pos="4064040"/>
                <a:tab algn="l" pos="4191120"/>
                <a:tab algn="l" pos="4317840"/>
                <a:tab algn="l" pos="4444920"/>
                <a:tab algn="l" pos="4572000"/>
                <a:tab algn="l" pos="4699080"/>
                <a:tab algn="l" pos="4826160"/>
                <a:tab algn="l" pos="4952880"/>
                <a:tab algn="l" pos="5079960"/>
                <a:tab algn="l" pos="5207040"/>
                <a:tab algn="l" pos="533412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Response rate:</a:t>
            </a: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60.5%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2800440"/>
                <a:tab algn="l" pos="2921040"/>
                <a:tab algn="l" pos="3048120"/>
                <a:tab algn="l" pos="3174840"/>
                <a:tab algn="l" pos="3301920"/>
                <a:tab algn="l" pos="3429000"/>
                <a:tab algn="l" pos="3556080"/>
                <a:tab algn="l" pos="3683160"/>
                <a:tab algn="l" pos="3809880"/>
                <a:tab algn="l" pos="3936960"/>
                <a:tab algn="l" pos="4064040"/>
                <a:tab algn="l" pos="4191120"/>
                <a:tab algn="l" pos="4317840"/>
                <a:tab algn="l" pos="4444920"/>
                <a:tab algn="l" pos="4572000"/>
                <a:tab algn="l" pos="4699080"/>
                <a:tab algn="l" pos="4826160"/>
                <a:tab algn="l" pos="4952880"/>
                <a:tab algn="l" pos="5079960"/>
                <a:tab algn="l" pos="5207040"/>
                <a:tab algn="l" pos="533412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Sampling error:</a:t>
            </a: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Less than 1.3%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2800440"/>
                <a:tab algn="l" pos="2921040"/>
                <a:tab algn="l" pos="3048120"/>
                <a:tab algn="l" pos="3174840"/>
                <a:tab algn="l" pos="3301920"/>
                <a:tab algn="l" pos="3429000"/>
                <a:tab algn="l" pos="3556080"/>
                <a:tab algn="l" pos="3683160"/>
                <a:tab algn="l" pos="3809880"/>
                <a:tab algn="l" pos="3936960"/>
                <a:tab algn="l" pos="4064040"/>
                <a:tab algn="l" pos="4191120"/>
                <a:tab algn="l" pos="4317840"/>
                <a:tab algn="l" pos="4444920"/>
                <a:tab algn="l" pos="4572000"/>
                <a:tab algn="l" pos="4699080"/>
                <a:tab algn="l" pos="4826160"/>
                <a:tab algn="l" pos="4952880"/>
                <a:tab algn="l" pos="5079960"/>
                <a:tab algn="l" pos="5207040"/>
                <a:tab algn="l" pos="533412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Weighting method:</a:t>
            </a: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Data adjusted according to the </a:t>
            </a: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gender-age distribution of 2001 </a:t>
            </a: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population censu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600200"/>
            <a:ext cx="7772400" cy="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Times New Roman"/>
              </a:rPr>
              <a:t>Notes of Caution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  <a:ea typeface="細明體"/>
              </a:rPr>
              <a:t>Findings only reflect </a:t>
            </a:r>
            <a:r>
              <a:rPr b="1" lang="en-US" sz="2400" spc="-1" strike="noStrike" u="sng">
                <a:solidFill>
                  <a:srgbClr val="ffff99"/>
                </a:solidFill>
                <a:uFillTx/>
                <a:latin typeface="Times New Roman"/>
                <a:ea typeface="細明體"/>
              </a:rPr>
              <a:t>general public perception</a:t>
            </a:r>
            <a:r>
              <a:rPr b="1" lang="en-US" sz="2400" spc="-1" strike="noStrike">
                <a:solidFill>
                  <a:srgbClr val="ccecff"/>
                </a:solidFill>
                <a:latin typeface="Times New Roman"/>
                <a:ea typeface="細明體"/>
              </a:rPr>
              <a:t> of local universities, but not results of objective appraisals or professional assessments.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99"/>
                </a:solidFill>
                <a:uFillTx/>
                <a:latin typeface="Times New Roman"/>
                <a:ea typeface="細明體"/>
              </a:rPr>
              <a:t>Absolute rating (i.e. 0-10)</a:t>
            </a: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 according to individual attributes was used, and thus relative ranking of universities should not be over-emphasized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All respondents were told at the beginning of the interview that POP was an </a:t>
            </a:r>
            <a:r>
              <a:rPr b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independent research body</a:t>
            </a: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Sequence of prompting respondents with the name of eight institutions was </a:t>
            </a:r>
            <a:r>
              <a:rPr b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randomly rotated</a:t>
            </a: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 to avoid possible bias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3111480"/>
            <a:ext cx="762012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33520" y="1371600"/>
            <a:ext cx="8076960" cy="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98560" y="1566720"/>
            <a:ext cx="7483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14400" y="2209680"/>
            <a:ext cx="73152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Times New Roman"/>
              </a:rPr>
              <a:t>Demographic Profil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Times New Roman"/>
              </a:rPr>
              <a:t>of Respondents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80880" y="6858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Times New Roman"/>
                <a:ea typeface="細明體"/>
              </a:rPr>
              <a:t>Gender</a:t>
            </a:r>
            <a:r>
              <a:rPr b="1" lang="en-US" sz="4000" spc="-1" strike="noStrike">
                <a:solidFill>
                  <a:srgbClr val="ffff99"/>
                </a:solidFill>
                <a:latin typeface="Times New Roman"/>
              </a:rPr>
              <a:t> </a:t>
            </a:r>
            <a:br>
              <a:rPr sz="3600"/>
            </a:b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-1371600" y="609480"/>
          <a:ext cx="12555360" cy="5037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371600" y="609480"/>
                    <a:ext cx="12555360" cy="503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33520" y="1371600"/>
            <a:ext cx="8001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486400" y="5943600"/>
            <a:ext cx="307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ccecff"/>
                </a:solidFill>
                <a:latin typeface="Times New Roman"/>
              </a:rPr>
              <a:t>Valid samples</a:t>
            </a:r>
            <a:r>
              <a:rPr b="1" lang="zh-TW" sz="1600" spc="-1" strike="noStrike">
                <a:solidFill>
                  <a:srgbClr val="ccecff"/>
                </a:solidFill>
                <a:latin typeface="Times New Roman"/>
              </a:rPr>
              <a:t>：</a:t>
            </a:r>
            <a:r>
              <a:rPr b="1" lang="en-GB" sz="1600" spc="-1" strike="noStrike">
                <a:solidFill>
                  <a:srgbClr val="ccecff"/>
                </a:solidFill>
                <a:latin typeface="Times New Roman"/>
              </a:rPr>
              <a:t>1,517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33520" y="1600200"/>
            <a:ext cx="8076960" cy="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80880" y="6858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Times New Roman"/>
                <a:ea typeface="細明體"/>
              </a:rPr>
              <a:t>Age Distribution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-533520" y="998640"/>
          <a:ext cx="10211040" cy="585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533520" y="998640"/>
                    <a:ext cx="10211040" cy="585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5486400" y="5943600"/>
            <a:ext cx="307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ccecff"/>
                </a:solidFill>
                <a:latin typeface="Times New Roman"/>
              </a:rPr>
              <a:t>Valid samples</a:t>
            </a:r>
            <a:r>
              <a:rPr b="1" lang="zh-TW" sz="1600" spc="-1" strike="noStrike">
                <a:solidFill>
                  <a:srgbClr val="ccecff"/>
                </a:solidFill>
                <a:latin typeface="Times New Roman"/>
              </a:rPr>
              <a:t>：</a:t>
            </a:r>
            <a:r>
              <a:rPr b="1" lang="en-GB" sz="1600" spc="-1" strike="noStrike">
                <a:solidFill>
                  <a:srgbClr val="ccecff"/>
                </a:solidFill>
                <a:latin typeface="Times New Roman"/>
              </a:rPr>
              <a:t>1,435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33520" y="1752480"/>
            <a:ext cx="8076960" cy="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4T10:00:10Z</dcterms:created>
  <dc:creator>lee</dc:creator>
  <dc:description/>
  <dc:language>en-US</dc:language>
  <cp:lastModifiedBy>frank</cp:lastModifiedBy>
  <cp:lastPrinted>2001-04-04T10:00:24Z</cp:lastPrinted>
  <dcterms:modified xsi:type="dcterms:W3CDTF">2006-07-26T03:21:03Z</dcterms:modified>
  <cp:revision>657</cp:revision>
  <dc:subject/>
  <dc:title>無投影片標題</dc:title>
</cp:coreProperties>
</file>