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248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E14892-2CD7-42E1-BB7C-5B151B2DF2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2480" cy="374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投影片編號版面配置區 3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85D056-9291-4E8C-B078-D252CFEF6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899-D88A-44F2-A2DD-BAC50B36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1A3-0371-4EBF-9FC1-3700C5D3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34D-8B04-4829-95D1-2602DA57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6F3-3692-4699-BE9E-AB4903E5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817F-7CB3-4D17-BEFC-8901A3B1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B37C-857E-4122-A898-B48AF792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9BD2-02E3-4705-8FCF-23F46C75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7EEC-CD02-47AA-BFE3-1DF8597A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7AFA-5341-489E-A585-905D74C9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E960-568A-4A62-AA2D-A35EA85B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5CA5-E46E-4FBE-8EA0-F674D29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E58-3E25-43BA-8305-17E99F9E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DFFC-6111-4ED7-895D-8EFD18B4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35A3-BC8E-4BE3-90BA-E621A33A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9B73-883F-4DEF-A10E-99780530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0EE3-65E2-40E4-AC58-0407025E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9293-184E-4447-B34A-467F231B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0C9C-43DF-42AE-BB03-3EA67DB8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FD25-8F9A-4FE9-8AF5-609282CA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953C-49E1-4BB0-A0CE-2C147E2F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DFB8-E404-407C-9481-C25B862B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E44C-D285-4091-9406-7D57741A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673-236E-4F3A-AA6D-8F3B87B4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94FB9-EFB9-42F4-92B1-8FFFA0F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B65C-7982-42F9-9BB2-E24E4412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5F15A-8679-4E6F-90EB-9FFD81CD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3056-A1FE-4C81-A52B-A1F385D1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930E-30E9-40BC-BA94-0397E649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76A1-1F17-4476-AAF8-EAE8D6D9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5027F-1CD0-4852-84B8-4C6AB9FF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48465-AC88-464D-A51C-038A2BFB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0338-F83C-4536-8887-E26AB949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F3F6-9EA5-435B-AC4B-0DC143AC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363-D21E-45EA-ABFC-8F16E9EA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6D4E0-F0BB-468B-B4BA-3126B403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5B95-5F01-4279-A713-4E664DEB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00CA-8F5D-43CD-B757-74048CA2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0FA5-A78C-43A4-8C3C-211FE23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FE85-4072-4B14-A991-6C199C5B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3DC5-97C1-4978-A0EE-A55422CB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1D819-22AE-49DD-B79F-FB13D312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F08E-1222-479F-8F9D-1AE91796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CD4C-CACB-4A1A-8693-B1F07E68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EED8-8D9D-401B-B77F-604DDF40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4FD-BF4B-4F72-8976-41778A5B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088D1-0AB1-4883-A6E7-1334FDF3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02291-3963-4313-8462-5C929516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EE664-0D0E-416E-8C1C-EAA0BF30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6F30-766A-4D14-8AB9-76EB6110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84527-F11C-47CF-B052-D1847FBF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F071-9F87-40DC-9372-7B4C58A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83264-471F-49F3-B307-B5FCB418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FBECC-E977-4187-AE3A-B01F60F2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8E2ED-08B4-4A56-90EC-F69B59D2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BEF87-B8A5-4D55-A070-27BA4420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608-0FB0-4652-82DA-FE1AA9A2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7264F-A910-44AC-ACFB-BC6583A3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93724-9B74-4684-A513-8614ECFC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576A6-E74F-417A-9BBE-5076BB58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E6108-E07D-4F19-A31B-192DFDE6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2147E-BCBD-4672-9C05-74A289DB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8C7B-C46C-43EB-BEC4-1520C154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698C1-B3F7-4F36-96F3-9AC17C0C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12B27-D24C-4DEA-BFC0-E5F6E1AF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3A347-AB8E-4CD1-9785-6C856B84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94708-B2C0-4E11-8588-65E604ED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B27-DCB0-4946-9046-3EF9BFFD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6F3F-F3D1-4C10-9822-D46FB77E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8995-AEB6-46C5-B1D7-3E91EF10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262FC-3918-47AC-9945-93921A1E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038BD-06DD-4D3A-9E09-0DCB1FE6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DE3CC-8404-4452-898A-EF2EBA7B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33B9F-27F9-4753-9356-50120C56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7E316-8D65-4DC1-925C-32F2B94E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BE2BC-1556-46FF-B364-AF93EABB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0399F-CC55-45EB-AB8A-1FEA2713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9782A-2567-40C5-8052-E94793E7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A09-DB55-47FA-8448-42A374B4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4DDD9-7E74-4157-B81B-1AA75AAE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13A67-B5EC-4A55-8E68-6B38A80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04DC1-5616-4E68-8366-D93B896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BA1E9-FC84-4320-A254-B59264A6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703D6-1753-41E9-B3ED-F11DDA18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DF5-F654-4694-8C27-310A89D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圓形圖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f">
              <a:alpha val="33000"/>
            </a:srgbClr>
          </a:solidFill>
          <a:ln cap="rnd" w="3240">
            <a:solidFill>
              <a:srgbClr val="d0d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橢圓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7f7ff"/>
            </a:solidFill>
            <a:miter/>
          </a:ln>
          <a:effectLst>
            <a:outerShdw dist="12600" dir="5400000" blurRad="0" rotWithShape="0">
              <a:srgbClr val="b4b4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甜甜圈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甜甜圈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buClr>
                  <a:srgbClr val="ffff00"/>
                </a:buClr>
                <a:buFont typeface="Gill Sans MT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DC41-2070-4842-848E-D636B4532668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7777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圓形圖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f">
              <a:alpha val="33000"/>
            </a:srgbClr>
          </a:solidFill>
          <a:ln cap="rnd" w="3240">
            <a:solidFill>
              <a:srgbClr val="d0d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橢圓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7f7ff"/>
            </a:solidFill>
            <a:miter/>
          </a:ln>
          <a:effectLst>
            <a:outerShdw dist="12600" dir="5400000" blurRad="0" rotWithShape="0">
              <a:srgbClr val="b4b4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甜甜圈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甜甜圈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buClr>
                  <a:srgbClr val="ffff00"/>
                </a:buClr>
                <a:buFont typeface="Gill Sans MT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7777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橢圓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橢圓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buClr>
                  <a:srgbClr val="ffff00"/>
                </a:buClr>
                <a:buFont typeface="Gill Sans MT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橢圓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05cd1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E0A6-4206-40AF-BB37-AEC1AB85B6AE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7777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橢圓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橢圓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buClr>
                  <a:srgbClr val="ffff00"/>
                </a:buClr>
                <a:buFont typeface="Gill Sans MT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橢圓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05cd1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49D2-43E4-4572-8759-678C4E2CDB43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8666-F5EE-43AE-846F-118251CA01DD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7777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3BA5-885F-4C49-9865-FC28E050C5A2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DD87-730E-4D4E-AD29-2EEFF13F453C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流程圖: 程序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8e8f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流程圖: 程序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7f7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7D4A-7B62-48FC-8A54-298F090B5694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2"/>
          <p:cNvGraphicFramePr/>
          <p:nvPr/>
        </p:nvGraphicFramePr>
        <p:xfrm>
          <a:off x="588960" y="836640"/>
          <a:ext cx="84312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36640"/>
                    <a:ext cx="8431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4"/>
          <p:cNvSpPr/>
          <p:nvPr/>
        </p:nvSpPr>
        <p:spPr>
          <a:xfrm>
            <a:off x="1476360" y="836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香港大學民意研究計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ublic Opinion Program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University of Hong Ko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文字方塊 7"/>
          <p:cNvSpPr/>
          <p:nvPr/>
        </p:nvSpPr>
        <p:spPr>
          <a:xfrm>
            <a:off x="1549440" y="6021360"/>
            <a:ext cx="6912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300" spc="-1" strike="noStrike">
                <a:solidFill>
                  <a:srgbClr val="000000"/>
                </a:solidFill>
                <a:latin typeface="標楷體"/>
              </a:rPr>
              <a:t>本報告內一切內容與香港大學立場無關，內容由民意研究計劃總監鍾庭耀博士負責。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矩形 8"/>
          <p:cNvSpPr/>
          <p:nvPr/>
        </p:nvSpPr>
        <p:spPr>
          <a:xfrm>
            <a:off x="468360" y="2060640"/>
            <a:ext cx="792000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《</a:t>
            </a:r>
            <a:r>
              <a:rPr b="1" lang="zh-TW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港人缺牙情況及健康修復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牙齒意見調查</a:t>
            </a:r>
            <a:r>
              <a:rPr b="1" lang="en-US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11</a:t>
            </a:r>
            <a:r>
              <a:rPr b="1" lang="en-US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結果簡報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矩形 9"/>
          <p:cNvSpPr/>
          <p:nvPr/>
        </p:nvSpPr>
        <p:spPr>
          <a:xfrm>
            <a:off x="2197080" y="4149720"/>
            <a:ext cx="45720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彭嘉麗小姐</a:t>
            </a:r>
            <a:br>
              <a:rPr sz="3200"/>
            </a:br>
            <a:r>
              <a:rPr b="1" lang="zh-TW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香港大學民意研究計劃助理總監</a:t>
            </a:r>
            <a:br>
              <a:rPr sz="2000"/>
            </a:br>
            <a:r>
              <a:rPr b="1" i="1" lang="zh-TW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11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年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月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3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投影片編號版面配置區 7"/>
          <p:cNvSpPr/>
          <p:nvPr/>
        </p:nvSpPr>
        <p:spPr>
          <a:xfrm>
            <a:off x="8532720" y="6093000"/>
            <a:ext cx="4572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1178-F35C-43ED-B770-10C5CB63B50C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圖片 11" descr="logo.bmp"/>
          <p:cNvPicPr/>
          <p:nvPr/>
        </p:nvPicPr>
        <p:blipFill>
          <a:blip r:embed="rId3"/>
          <a:stretch/>
        </p:blipFill>
        <p:spPr>
          <a:xfrm>
            <a:off x="6516720" y="836640"/>
            <a:ext cx="158436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字方塊 8"/>
          <p:cNvSpPr/>
          <p:nvPr/>
        </p:nvSpPr>
        <p:spPr>
          <a:xfrm>
            <a:off x="1116000" y="5877000"/>
            <a:ext cx="7201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4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要揀用乜野方法黎處理你既缺牙問題時，你主要會考慮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乜野因素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讀答案，可選多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百分比不足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選項沒有顯示於圖表內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標題 1"/>
          <p:cNvSpPr/>
          <p:nvPr/>
        </p:nvSpPr>
        <p:spPr>
          <a:xfrm>
            <a:off x="147636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三成有缺牙的被訪者指出處理缺牙問題時會先考慮牙醫的建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81C2-4BCB-4CEF-8ED2-9C2987C48EBF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內容版面配置區 11" descr=""/>
          <p:cNvPicPr/>
          <p:nvPr/>
        </p:nvPicPr>
        <p:blipFill>
          <a:blip r:embed="rId1"/>
          <a:stretch/>
        </p:blipFill>
        <p:spPr>
          <a:xfrm>
            <a:off x="1289160" y="1549440"/>
            <a:ext cx="7119720" cy="4276800"/>
          </a:xfrm>
          <a:prstGeom prst="rect">
            <a:avLst/>
          </a:prstGeom>
          <a:ln w="0">
            <a:noFill/>
          </a:ln>
        </p:spPr>
      </p:pic>
      <p:sp>
        <p:nvSpPr>
          <p:cNvPr id="373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標題 1"/>
          <p:cNvSpPr/>
          <p:nvPr/>
        </p:nvSpPr>
        <p:spPr>
          <a:xfrm>
            <a:off x="147636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近半被訪者沒有處理缺牙問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9C1D-1DCF-4BE0-A00F-3585C97E540B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圖表 7" descr=""/>
          <p:cNvPicPr/>
          <p:nvPr/>
        </p:nvPicPr>
        <p:blipFill>
          <a:blip r:embed="rId1"/>
          <a:stretch/>
        </p:blipFill>
        <p:spPr>
          <a:xfrm>
            <a:off x="1289160" y="1498680"/>
            <a:ext cx="6926040" cy="4255920"/>
          </a:xfrm>
          <a:prstGeom prst="rect">
            <a:avLst/>
          </a:prstGeom>
          <a:ln w="0">
            <a:noFill/>
          </a:ln>
        </p:spPr>
      </p:pic>
      <p:sp>
        <p:nvSpPr>
          <p:cNvPr id="377" name="文字方塊 5"/>
          <p:cNvSpPr/>
          <p:nvPr/>
        </p:nvSpPr>
        <p:spPr>
          <a:xfrm>
            <a:off x="1116000" y="5877000"/>
            <a:ext cx="7201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5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請問你而家點樣處理你既缺牙問題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讀答案，可選多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百分比不足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選項沒有顯示於圖表內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標題 1"/>
          <p:cNvSpPr/>
          <p:nvPr/>
        </p:nvSpPr>
        <p:spPr>
          <a:xfrm>
            <a:off x="1547640" y="476280"/>
            <a:ext cx="62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逾八成半有聽過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新細明體"/>
              </a:rPr>
              <a:t>「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植牙／種牙治療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8A6A-8294-4B43-A50F-63445D00B51B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文字方塊 5"/>
          <p:cNvSpPr/>
          <p:nvPr/>
        </p:nvSpPr>
        <p:spPr>
          <a:xfrm>
            <a:off x="1116000" y="5877000"/>
            <a:ext cx="72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6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係呢個訪問之前，請問你有冇聽過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植牙／種牙治療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」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圖表 6" descr=""/>
          <p:cNvPicPr/>
          <p:nvPr/>
        </p:nvPicPr>
        <p:blipFill>
          <a:blip r:embed="rId1"/>
          <a:stretch/>
        </p:blipFill>
        <p:spPr>
          <a:xfrm>
            <a:off x="1625760" y="1498680"/>
            <a:ext cx="6640200" cy="4182840"/>
          </a:xfrm>
          <a:prstGeom prst="rect">
            <a:avLst/>
          </a:prstGeom>
          <a:ln w="0">
            <a:noFill/>
          </a:ln>
        </p:spPr>
      </p:pic>
      <p:sp>
        <p:nvSpPr>
          <p:cNvPr id="383" name="文字方塊 12"/>
          <p:cNvSpPr/>
          <p:nvPr/>
        </p:nvSpPr>
        <p:spPr>
          <a:xfrm>
            <a:off x="7308720" y="4941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34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標題 1"/>
          <p:cNvSpPr/>
          <p:nvPr/>
        </p:nvSpPr>
        <p:spPr>
          <a:xfrm>
            <a:off x="147636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四分三未有以植牙處理缺牙的被訪者沒有考慮過接受植牙治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EFDC-785C-4217-BE08-A8394D15BC12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文字方塊 5"/>
          <p:cNvSpPr/>
          <p:nvPr/>
        </p:nvSpPr>
        <p:spPr>
          <a:xfrm>
            <a:off x="1116000" y="5950080"/>
            <a:ext cx="72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沒有選植牙／種牙者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27)]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7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請問你有冇曾經考慮過接受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植牙治療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」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圖表 6" descr=""/>
          <p:cNvPicPr/>
          <p:nvPr/>
        </p:nvPicPr>
        <p:blipFill>
          <a:blip r:embed="rId1"/>
          <a:stretch/>
        </p:blipFill>
        <p:spPr>
          <a:xfrm>
            <a:off x="1625760" y="1498680"/>
            <a:ext cx="6876720" cy="4182840"/>
          </a:xfrm>
          <a:prstGeom prst="rect">
            <a:avLst/>
          </a:prstGeom>
          <a:ln w="0">
            <a:noFill/>
          </a:ln>
        </p:spPr>
      </p:pic>
      <p:sp>
        <p:nvSpPr>
          <p:cNvPr id="389" name="文字方塊 12"/>
          <p:cNvSpPr/>
          <p:nvPr/>
        </p:nvSpPr>
        <p:spPr>
          <a:xfrm>
            <a:off x="7308720" y="4941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32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文字方塊 8"/>
          <p:cNvSpPr/>
          <p:nvPr/>
        </p:nvSpPr>
        <p:spPr>
          <a:xfrm>
            <a:off x="1116000" y="6021360"/>
            <a:ext cx="72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沒有選植牙／種牙者及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7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選冇者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49)]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8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咁點解冇考慮過呢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讀答案，可選多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標題 1"/>
          <p:cNvSpPr/>
          <p:nvPr/>
        </p:nvSpPr>
        <p:spPr>
          <a:xfrm>
            <a:off x="147636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四成不考慮植牙的被訪者認為治療太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F632-A895-40C1-9DAC-EDADACE89C58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內容版面配置區 11" descr=""/>
          <p:cNvPicPr/>
          <p:nvPr/>
        </p:nvPicPr>
        <p:blipFill>
          <a:blip r:embed="rId1"/>
          <a:stretch/>
        </p:blipFill>
        <p:spPr>
          <a:xfrm>
            <a:off x="1289160" y="1463760"/>
            <a:ext cx="7264440" cy="4506840"/>
          </a:xfrm>
          <a:prstGeom prst="rect">
            <a:avLst/>
          </a:prstGeom>
          <a:ln w="0">
            <a:noFill/>
          </a:ln>
        </p:spPr>
      </p:pic>
      <p:sp>
        <p:nvSpPr>
          <p:cNvPr id="395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文字方塊 8"/>
          <p:cNvSpPr/>
          <p:nvPr/>
        </p:nvSpPr>
        <p:spPr>
          <a:xfrm>
            <a:off x="1042920" y="5877000"/>
            <a:ext cx="7632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9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決定接唔接受「植牙治療」既時候，以下既因素對你黎講有幾重要？請用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評價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完全唔重要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一半半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非常重要。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- 1) 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價錢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標題 1"/>
          <p:cNvSpPr/>
          <p:nvPr/>
        </p:nvSpPr>
        <p:spPr>
          <a:xfrm>
            <a:off x="1258920" y="333360"/>
            <a:ext cx="69134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逾四成認為植牙治療的價錢是非常重要的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F155-4F79-4ECC-AADE-BB2CDF30163D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內容版面配置區 13" descr=""/>
          <p:cNvPicPr/>
          <p:nvPr/>
        </p:nvPicPr>
        <p:blipFill>
          <a:blip r:embed="rId1"/>
          <a:stretch/>
        </p:blipFill>
        <p:spPr>
          <a:xfrm>
            <a:off x="1270080" y="1650960"/>
            <a:ext cx="6923160" cy="4435560"/>
          </a:xfrm>
          <a:prstGeom prst="rect">
            <a:avLst/>
          </a:prstGeom>
          <a:ln w="0">
            <a:noFill/>
          </a:ln>
        </p:spPr>
      </p:pic>
      <p:sp>
        <p:nvSpPr>
          <p:cNvPr id="400" name="文字方塊 14"/>
          <p:cNvSpPr/>
          <p:nvPr/>
        </p:nvSpPr>
        <p:spPr>
          <a:xfrm>
            <a:off x="2514600" y="1905120"/>
            <a:ext cx="165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8.4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0.2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字方塊 8"/>
          <p:cNvSpPr/>
          <p:nvPr/>
        </p:nvSpPr>
        <p:spPr>
          <a:xfrm>
            <a:off x="1042920" y="5877000"/>
            <a:ext cx="7632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9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決定接唔接受「植牙治療」既時候，以下既因素對你黎講有幾重要？請用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評價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完全唔重要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一半半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非常重要。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- 2) 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植牙的壽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標題 1"/>
          <p:cNvSpPr/>
          <p:nvPr/>
        </p:nvSpPr>
        <p:spPr>
          <a:xfrm>
            <a:off x="1258920" y="333360"/>
            <a:ext cx="69134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近四成認為植牙的壽命是非常重要的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F02D-6EDA-4D8B-96D9-E163F97DB1F8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內容版面配置區 13" descr=""/>
          <p:cNvPicPr/>
          <p:nvPr/>
        </p:nvPicPr>
        <p:blipFill>
          <a:blip r:embed="rId1"/>
          <a:stretch/>
        </p:blipFill>
        <p:spPr>
          <a:xfrm>
            <a:off x="1339920" y="1565280"/>
            <a:ext cx="7018200" cy="4210200"/>
          </a:xfrm>
          <a:prstGeom prst="rect">
            <a:avLst/>
          </a:prstGeom>
          <a:ln w="0">
            <a:noFill/>
          </a:ln>
        </p:spPr>
      </p:pic>
      <p:sp>
        <p:nvSpPr>
          <p:cNvPr id="406" name="文字方塊 14"/>
          <p:cNvSpPr/>
          <p:nvPr/>
        </p:nvSpPr>
        <p:spPr>
          <a:xfrm>
            <a:off x="2484360" y="2060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8.3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0.2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28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文字方塊 8"/>
          <p:cNvSpPr/>
          <p:nvPr/>
        </p:nvSpPr>
        <p:spPr>
          <a:xfrm>
            <a:off x="1042920" y="5877000"/>
            <a:ext cx="7632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9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決定接唔接受「植牙治療」既時候，以下既因素對你黎講有幾重要？請用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評價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完全唔重要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一半半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非常重要。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- 3) 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舒適程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標題 1"/>
          <p:cNvSpPr/>
          <p:nvPr/>
        </p:nvSpPr>
        <p:spPr>
          <a:xfrm>
            <a:off x="1258920" y="333360"/>
            <a:ext cx="7058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樣地，近四成認為舒適程度是非常重要的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DA26-4A93-46DD-B628-F673DC8AA4B0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內容版面配置區 13" descr=""/>
          <p:cNvPicPr/>
          <p:nvPr/>
        </p:nvPicPr>
        <p:blipFill>
          <a:blip r:embed="rId1"/>
          <a:stretch/>
        </p:blipFill>
        <p:spPr>
          <a:xfrm>
            <a:off x="1339920" y="1565280"/>
            <a:ext cx="6659640" cy="4210200"/>
          </a:xfrm>
          <a:prstGeom prst="rect">
            <a:avLst/>
          </a:prstGeom>
          <a:ln w="0">
            <a:noFill/>
          </a:ln>
        </p:spPr>
      </p:pic>
      <p:sp>
        <p:nvSpPr>
          <p:cNvPr id="412" name="文字方塊 14"/>
          <p:cNvSpPr/>
          <p:nvPr/>
        </p:nvSpPr>
        <p:spPr>
          <a:xfrm>
            <a:off x="2700360" y="2060640"/>
            <a:ext cx="14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8.2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0.2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0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文字方塊 8"/>
          <p:cNvSpPr/>
          <p:nvPr/>
        </p:nvSpPr>
        <p:spPr>
          <a:xfrm>
            <a:off x="1042920" y="5877000"/>
            <a:ext cx="7561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9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決定接唔接受「植牙治療」既時候，以下既因素對你黎講有幾重要？請用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評價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完全唔重要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一半半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非常重要。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- 4) 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牙醫推薦／口碑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標題 1"/>
          <p:cNvSpPr/>
          <p:nvPr/>
        </p:nvSpPr>
        <p:spPr>
          <a:xfrm>
            <a:off x="1258920" y="333360"/>
            <a:ext cx="6842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分二認為牙醫推薦／口碑是重要的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8CF0-4C9E-4312-B243-EDBF87878FBA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內容版面配置區 13" descr=""/>
          <p:cNvPicPr/>
          <p:nvPr/>
        </p:nvPicPr>
        <p:blipFill>
          <a:blip r:embed="rId1"/>
          <a:stretch/>
        </p:blipFill>
        <p:spPr>
          <a:xfrm>
            <a:off x="1238400" y="1585800"/>
            <a:ext cx="6883200" cy="4240440"/>
          </a:xfrm>
          <a:prstGeom prst="rect">
            <a:avLst/>
          </a:prstGeom>
          <a:ln w="0">
            <a:noFill/>
          </a:ln>
        </p:spPr>
      </p:pic>
      <p:sp>
        <p:nvSpPr>
          <p:cNvPr id="418" name="文字方塊 14"/>
          <p:cNvSpPr/>
          <p:nvPr/>
        </p:nvSpPr>
        <p:spPr>
          <a:xfrm>
            <a:off x="2627280" y="1827360"/>
            <a:ext cx="14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7.2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0.2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文字方塊 8"/>
          <p:cNvSpPr/>
          <p:nvPr/>
        </p:nvSpPr>
        <p:spPr>
          <a:xfrm>
            <a:off x="1042920" y="5877000"/>
            <a:ext cx="7777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9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決定接唔接受「植牙治療 」既時候，以下既因素對你黎講有幾重要？請用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評價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完全唔重要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一半半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非常重要。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- 5) 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出產國家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標題 1"/>
          <p:cNvSpPr/>
          <p:nvPr/>
        </p:nvSpPr>
        <p:spPr>
          <a:xfrm>
            <a:off x="1258920" y="333360"/>
            <a:ext cx="6842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逾半數認為植牙的出產國家是重要的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697C-5363-4E1D-BC35-BE7E7C523BE9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內容版面配置區 13" descr=""/>
          <p:cNvPicPr/>
          <p:nvPr/>
        </p:nvPicPr>
        <p:blipFill>
          <a:blip r:embed="rId1"/>
          <a:stretch/>
        </p:blipFill>
        <p:spPr>
          <a:xfrm>
            <a:off x="1339920" y="1636560"/>
            <a:ext cx="6730920" cy="4211640"/>
          </a:xfrm>
          <a:prstGeom prst="rect">
            <a:avLst/>
          </a:prstGeom>
          <a:ln w="0">
            <a:noFill/>
          </a:ln>
        </p:spPr>
      </p:pic>
      <p:sp>
        <p:nvSpPr>
          <p:cNvPr id="424" name="文字方塊 14"/>
          <p:cNvSpPr/>
          <p:nvPr/>
        </p:nvSpPr>
        <p:spPr>
          <a:xfrm>
            <a:off x="2556000" y="1773360"/>
            <a:ext cx="144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7.1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0.3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24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簡報大綱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47280" y="1773360"/>
            <a:ext cx="66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25000"/>
              </a:lnSpc>
              <a:spcBef>
                <a:spcPts val="601"/>
              </a:spcBef>
              <a:buClr>
                <a:srgbClr val="1fae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及調查方法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25000"/>
              </a:lnSpc>
              <a:spcBef>
                <a:spcPts val="601"/>
              </a:spcBef>
              <a:buClr>
                <a:srgbClr val="1fae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調查結果：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10000"/>
              </a:lnSpc>
              <a:spcBef>
                <a:spcPts val="550"/>
              </a:spcBef>
              <a:buClr>
                <a:srgbClr val="c618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Gill Sans MT"/>
                <a:ea typeface="標楷體"/>
              </a:rPr>
              <a:t>缺牙的情況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10000"/>
              </a:lnSpc>
              <a:spcBef>
                <a:spcPts val="550"/>
              </a:spcBef>
              <a:buClr>
                <a:srgbClr val="c618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Gill Sans MT"/>
                <a:ea typeface="標楷體"/>
              </a:rPr>
              <a:t>缺牙的處理方法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10000"/>
              </a:lnSpc>
              <a:spcBef>
                <a:spcPts val="550"/>
              </a:spcBef>
              <a:buClr>
                <a:srgbClr val="c618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Gill Sans MT"/>
                <a:ea typeface="標楷體"/>
              </a:rPr>
              <a:t>對植牙的認知及意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25000"/>
              </a:lnSpc>
              <a:spcBef>
                <a:spcPts val="601"/>
              </a:spcBef>
              <a:buClr>
                <a:srgbClr val="1fae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25000"/>
              </a:lnSpc>
              <a:spcBef>
                <a:spcPts val="601"/>
              </a:spcBef>
              <a:buClr>
                <a:srgbClr val="1fae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個人背景資料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投影片編號版面配置區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677E-E89D-4979-8703-D10A0A870909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028"/>
          <p:cNvSpPr/>
          <p:nvPr/>
        </p:nvSpPr>
        <p:spPr>
          <a:xfrm>
            <a:off x="1403280" y="155736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內容版面配置區 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680520" cy="5040360"/>
          </a:xfrm>
          <a:prstGeom prst="rect">
            <a:avLst/>
          </a:prstGeom>
          <a:ln w="0">
            <a:noFill/>
          </a:ln>
        </p:spPr>
      </p:pic>
      <p:sp>
        <p:nvSpPr>
          <p:cNvPr id="427" name="投影片編號版面配置區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DE03-0105-455D-A448-34BDCC825337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標題 1"/>
          <p:cNvSpPr/>
          <p:nvPr/>
        </p:nvSpPr>
        <p:spPr>
          <a:xfrm>
            <a:off x="1258920" y="333360"/>
            <a:ext cx="71294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決定接受植牙治療與否時所考慮因素的重要程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綜合圖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圓角矩形 6"/>
          <p:cNvSpPr/>
          <p:nvPr/>
        </p:nvSpPr>
        <p:spPr>
          <a:xfrm>
            <a:off x="7956720" y="198900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圓角矩形 7"/>
          <p:cNvSpPr/>
          <p:nvPr/>
        </p:nvSpPr>
        <p:spPr>
          <a:xfrm>
            <a:off x="7956720" y="2781360"/>
            <a:ext cx="792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圓角矩形 8"/>
          <p:cNvSpPr/>
          <p:nvPr/>
        </p:nvSpPr>
        <p:spPr>
          <a:xfrm>
            <a:off x="7956720" y="350028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圓角矩形 9"/>
          <p:cNvSpPr/>
          <p:nvPr/>
        </p:nvSpPr>
        <p:spPr>
          <a:xfrm>
            <a:off x="7956720" y="422100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圓角矩形 10"/>
          <p:cNvSpPr/>
          <p:nvPr/>
        </p:nvSpPr>
        <p:spPr>
          <a:xfrm>
            <a:off x="7956720" y="494172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圓角矩形 11"/>
          <p:cNvSpPr/>
          <p:nvPr/>
        </p:nvSpPr>
        <p:spPr>
          <a:xfrm>
            <a:off x="7812000" y="141300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平均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左大括弧 12"/>
          <p:cNvSpPr/>
          <p:nvPr/>
        </p:nvSpPr>
        <p:spPr>
          <a:xfrm rot="5400000">
            <a:off x="5147640" y="-27000"/>
            <a:ext cx="216000" cy="352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3527640"/>
              <a:gd name="textAreaBottom" fmla="*/ 3522240 h 35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"/>
                  <a:pt x="10800" y="110"/>
                </a:cubicBezTo>
                <a:lnTo>
                  <a:pt x="10800" y="10690"/>
                </a:lnTo>
                <a:cubicBezTo>
                  <a:pt x="10800" y="10745"/>
                  <a:pt x="5400" y="10800"/>
                  <a:pt x="0" y="10800"/>
                </a:cubicBezTo>
                <a:cubicBezTo>
                  <a:pt x="5400" y="10800"/>
                  <a:pt x="10800" y="10855"/>
                  <a:pt x="10800" y="10910"/>
                </a:cubicBezTo>
                <a:lnTo>
                  <a:pt x="10800" y="21490"/>
                </a:lnTo>
                <a:cubicBezTo>
                  <a:pt x="10800" y="215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a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文字方塊 1"/>
          <p:cNvSpPr/>
          <p:nvPr/>
        </p:nvSpPr>
        <p:spPr>
          <a:xfrm>
            <a:off x="4643280" y="2276640"/>
            <a:ext cx="649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75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字方塊 1"/>
          <p:cNvSpPr/>
          <p:nvPr/>
        </p:nvSpPr>
        <p:spPr>
          <a:xfrm>
            <a:off x="4427640" y="306864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71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文字方塊 1"/>
          <p:cNvSpPr/>
          <p:nvPr/>
        </p:nvSpPr>
        <p:spPr>
          <a:xfrm>
            <a:off x="4859280" y="3860640"/>
            <a:ext cx="5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66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文字方塊 1"/>
          <p:cNvSpPr/>
          <p:nvPr/>
        </p:nvSpPr>
        <p:spPr>
          <a:xfrm>
            <a:off x="4211640" y="4653000"/>
            <a:ext cx="57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52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標題 1"/>
          <p:cNvSpPr/>
          <p:nvPr/>
        </p:nvSpPr>
        <p:spPr>
          <a:xfrm>
            <a:off x="133200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良好的聲譽及口碑，和良好的售後服務是被訪者選擇植牙供應商時的重要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A808-7306-4DF6-AFBF-7083E94AA1A6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文字方塊 5"/>
          <p:cNvSpPr/>
          <p:nvPr/>
        </p:nvSpPr>
        <p:spPr>
          <a:xfrm>
            <a:off x="1116000" y="5950080"/>
            <a:ext cx="72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0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係選擇植牙供應商既時候，除咗價錢同產品質素，以下邊一項因素對你最重要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訪員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4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，只選一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內容版面配置區 11" descr=""/>
          <p:cNvPicPr/>
          <p:nvPr/>
        </p:nvPicPr>
        <p:blipFill>
          <a:blip r:embed="rId1"/>
          <a:stretch/>
        </p:blipFill>
        <p:spPr>
          <a:xfrm>
            <a:off x="1289160" y="1549440"/>
            <a:ext cx="7335720" cy="4276800"/>
          </a:xfrm>
          <a:prstGeom prst="rect">
            <a:avLst/>
          </a:prstGeom>
          <a:ln w="0">
            <a:noFill/>
          </a:ln>
        </p:spPr>
      </p:pic>
      <p:sp>
        <p:nvSpPr>
          <p:cNvPr id="445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標題 1"/>
          <p:cNvSpPr/>
          <p:nvPr/>
        </p:nvSpPr>
        <p:spPr>
          <a:xfrm>
            <a:off x="133200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分別逾兩成認為美國及歐洲的植牙供應商最可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7109-0910-4CB9-9949-6F17F5637A30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文字方塊 5"/>
          <p:cNvSpPr/>
          <p:nvPr/>
        </p:nvSpPr>
        <p:spPr>
          <a:xfrm>
            <a:off x="1116000" y="6093000"/>
            <a:ext cx="74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1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認為以下邊個地區既植牙供應商最可靠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訪員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，只選一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內容版面配置區 11" descr=""/>
          <p:cNvPicPr/>
          <p:nvPr/>
        </p:nvPicPr>
        <p:blipFill>
          <a:blip r:embed="rId1"/>
          <a:stretch/>
        </p:blipFill>
        <p:spPr>
          <a:xfrm>
            <a:off x="1339920" y="1600200"/>
            <a:ext cx="7162560" cy="4175280"/>
          </a:xfrm>
          <a:prstGeom prst="rect">
            <a:avLst/>
          </a:prstGeom>
          <a:ln w="0">
            <a:noFill/>
          </a:ln>
        </p:spPr>
      </p:pic>
      <p:sp>
        <p:nvSpPr>
          <p:cNvPr id="450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文字方塊 8"/>
          <p:cNvSpPr/>
          <p:nvPr/>
        </p:nvSpPr>
        <p:spPr>
          <a:xfrm>
            <a:off x="1042920" y="5950080"/>
            <a:ext cx="74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2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咁請問你有幾同意或者唔同意以下有關植牙既講法：「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即使比其他治療貴，如果比較耐用，我都會考慮接受植牙治療。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」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訪員追問程度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標題 1"/>
          <p:cNvSpPr/>
          <p:nvPr/>
        </p:nvSpPr>
        <p:spPr>
          <a:xfrm>
            <a:off x="1258920" y="333360"/>
            <a:ext cx="6842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即使比其他治療貴，逾六成同意如果比較耐用，都會考慮接受植牙治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5E00-0BE4-4062-A6A3-167E11722AF5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內容版面配置區 13" descr=""/>
          <p:cNvPicPr/>
          <p:nvPr/>
        </p:nvPicPr>
        <p:blipFill>
          <a:blip r:embed="rId1"/>
          <a:stretch/>
        </p:blipFill>
        <p:spPr>
          <a:xfrm>
            <a:off x="1289160" y="3192480"/>
            <a:ext cx="6976800" cy="2849400"/>
          </a:xfrm>
          <a:prstGeom prst="rect">
            <a:avLst/>
          </a:prstGeom>
          <a:ln w="0">
            <a:noFill/>
          </a:ln>
        </p:spPr>
      </p:pic>
      <p:pic>
        <p:nvPicPr>
          <p:cNvPr id="455" name="圖表 7" descr=""/>
          <p:cNvPicPr/>
          <p:nvPr/>
        </p:nvPicPr>
        <p:blipFill>
          <a:blip r:embed="rId2"/>
          <a:stretch/>
        </p:blipFill>
        <p:spPr>
          <a:xfrm>
            <a:off x="4551480" y="1608120"/>
            <a:ext cx="4002120" cy="2057400"/>
          </a:xfrm>
          <a:prstGeom prst="rect">
            <a:avLst/>
          </a:prstGeom>
          <a:ln w="0">
            <a:noFill/>
          </a:ln>
        </p:spPr>
      </p:pic>
      <p:sp>
        <p:nvSpPr>
          <p:cNvPr id="456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258920" y="148428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188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七成</a:t>
            </a: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的四十歲或以上本港市民現時有缺牙的情況，最多人表示現時有兩隻缺牙，當中，近半數於換牙後第一次缺牙出現於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40</a:t>
            </a: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前，而最普遍的缺牙原因是「蛀牙」。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188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於現時有缺牙的被訪者當中，三成表示在選擇處理缺牙問題時會主要考慮「牙醫建議」。然而，近半數表示現時並沒有處理他們的缺牙問題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188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八成多表示有聽過植牙╱種牙治療，但多數都沒有考慮過接受此治療，主要因為「價錢太貴」，其次是認為「沒有需要」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188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選擇植牙供應商時，除價錢及產品質素，多數被訪者分別認為「良好的聲譽╱口碑」，及「良好的售後服務」是最重要的考慮因素。另外，分別有兩成多認為美國及歐洲的植牙供應商最可靠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投影片編號版面配置區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8EFE-59E4-4B0B-97F3-C39BFAE53565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背景</a:t>
            </a:r>
            <a:br>
              <a:rPr sz="4000"/>
            </a:br>
            <a:endParaRPr b="0" lang="en-US" sz="50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62" name="投影片編號版面配置區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BDCA-2529-4F4A-890A-DD45D3D019D9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內容版面配置區 8" descr=""/>
          <p:cNvPicPr/>
          <p:nvPr/>
        </p:nvPicPr>
        <p:blipFill>
          <a:blip r:embed="rId1"/>
          <a:stretch/>
        </p:blipFill>
        <p:spPr>
          <a:xfrm>
            <a:off x="1536840" y="1549440"/>
            <a:ext cx="6851520" cy="45147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414360"/>
            <a:ext cx="7499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性別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65" name="文字方塊 9"/>
          <p:cNvSpPr/>
          <p:nvPr/>
        </p:nvSpPr>
        <p:spPr>
          <a:xfrm>
            <a:off x="7380360" y="5445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5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投影片編號版面配置區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F6CF-CDC7-4C40-8D3C-50187CB46B27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028"/>
          <p:cNvSpPr/>
          <p:nvPr/>
        </p:nvSpPr>
        <p:spPr>
          <a:xfrm>
            <a:off x="1204920" y="141300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414360"/>
            <a:ext cx="7499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年齡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69" name="文字方塊 9"/>
          <p:cNvSpPr/>
          <p:nvPr/>
        </p:nvSpPr>
        <p:spPr>
          <a:xfrm>
            <a:off x="7380360" y="544500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49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投影片編號版面配置區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9FE2-C5A0-4D48-90B2-1EB6C666BD81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028"/>
          <p:cNvSpPr/>
          <p:nvPr/>
        </p:nvSpPr>
        <p:spPr>
          <a:xfrm>
            <a:off x="1204920" y="141300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內容版面配置區 8" descr=""/>
          <p:cNvPicPr/>
          <p:nvPr/>
        </p:nvPicPr>
        <p:blipFill>
          <a:blip r:embed="rId1"/>
          <a:stretch/>
        </p:blipFill>
        <p:spPr>
          <a:xfrm>
            <a:off x="1289160" y="1549440"/>
            <a:ext cx="735804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414360"/>
            <a:ext cx="7499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教育程度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74" name="文字方塊 9"/>
          <p:cNvSpPr/>
          <p:nvPr/>
        </p:nvSpPr>
        <p:spPr>
          <a:xfrm>
            <a:off x="7380360" y="5445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49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投影片編號版面配置區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D159-225C-4FF9-9823-3854D5C26DE3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內容版面配置區 8" descr=""/>
          <p:cNvPicPr/>
          <p:nvPr/>
        </p:nvPicPr>
        <p:blipFill>
          <a:blip r:embed="rId1"/>
          <a:stretch/>
        </p:blipFill>
        <p:spPr>
          <a:xfrm>
            <a:off x="1536840" y="1549440"/>
            <a:ext cx="7110360" cy="4514760"/>
          </a:xfrm>
          <a:prstGeom prst="rect">
            <a:avLst/>
          </a:prstGeom>
          <a:ln w="0">
            <a:noFill/>
          </a:ln>
        </p:spPr>
      </p:pic>
      <p:sp>
        <p:nvSpPr>
          <p:cNvPr id="477" name="Line 1028"/>
          <p:cNvSpPr/>
          <p:nvPr/>
        </p:nvSpPr>
        <p:spPr>
          <a:xfrm>
            <a:off x="1204920" y="141300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4995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職業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79" name="文字方塊 9"/>
          <p:cNvSpPr/>
          <p:nvPr/>
        </p:nvSpPr>
        <p:spPr>
          <a:xfrm>
            <a:off x="7380360" y="544500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49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投影片編號版面配置區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5105-9DA8-41BB-A682-251772953633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內容版面配置區 8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7110360" cy="4514760"/>
          </a:xfrm>
          <a:prstGeom prst="rect">
            <a:avLst/>
          </a:prstGeom>
          <a:ln w="0">
            <a:noFill/>
          </a:ln>
        </p:spPr>
      </p:pic>
      <p:sp>
        <p:nvSpPr>
          <p:cNvPr id="482" name="Line 1028"/>
          <p:cNvSpPr/>
          <p:nvPr/>
        </p:nvSpPr>
        <p:spPr>
          <a:xfrm>
            <a:off x="1204920" y="141300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258920" y="1916280"/>
            <a:ext cx="7058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375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諾保科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obel Biocare)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委託香港大學民意研究計劃進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《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人缺牙情況及健康修復牙齒意見調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》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是次調查主要旨在了解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本港市民的缺牙情況及處理方法、和對植牙的認知及意見。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375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由香港大學民意研究計劃獨立設計及進行，結果由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民研計劃全面負責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375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問卷由民研計劃諮詢諾保科後獨立設計，所有操作、數據收集及分析均不受任何機構影響，調查方法和結果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全面公開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投影片編號版面配置區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6157-5984-4669-A489-FB5D3D5CE24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028"/>
          <p:cNvSpPr/>
          <p:nvPr/>
        </p:nvSpPr>
        <p:spPr>
          <a:xfrm>
            <a:off x="1403280" y="155736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411280" y="2599920"/>
            <a:ext cx="64008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報 告 完 畢</a:t>
            </a:r>
            <a:br>
              <a:rPr sz="7000"/>
            </a:br>
            <a:br>
              <a:rPr sz="7000"/>
            </a:br>
            <a:endParaRPr b="0" lang="en-US" sz="70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84" name="文字方塊 3"/>
          <p:cNvSpPr/>
          <p:nvPr/>
        </p:nvSpPr>
        <p:spPr>
          <a:xfrm>
            <a:off x="2050920" y="3645000"/>
            <a:ext cx="475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詳細報告結果，請瀏覽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ttp://hkupop.hku.hk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028"/>
          <p:cNvSpPr/>
          <p:nvPr/>
        </p:nvSpPr>
        <p:spPr>
          <a:xfrm>
            <a:off x="2556000" y="3429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投影片編號版面配置區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AAB8-238E-4EB3-92F0-A23CEBB81EB6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0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 年齡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操粵語的香港居民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4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回應比率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68.6% (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符合資格的目標對象計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 少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+/-4.5% (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由訪問員直接進行電話訪問，訪問員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功接觸目標住戶後，再從住戶內符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條件的成員中以出生日期抽取一人接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數據調整：調查數字已經按照政府統計處提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底本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人口之年齡及性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佈初步統計數字，以「加權」方法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出調整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投影片編號版面配置區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FA22-31F3-431A-A55B-678B08F2CD20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缺牙的情況</a:t>
            </a:r>
            <a:br>
              <a:rPr sz="5000"/>
            </a:br>
            <a:endParaRPr b="0" lang="en-US" sz="50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6" name="投影片編號版面配置區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74DA-011F-4EEE-BFBC-662ECD0203D1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5530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近七成被訪者有缺牙情況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文字方塊 7"/>
          <p:cNvSpPr/>
          <p:nvPr/>
        </p:nvSpPr>
        <p:spPr>
          <a:xfrm>
            <a:off x="1116000" y="6093000"/>
            <a:ext cx="75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</a:rPr>
              <a:t>請問你而家有冇 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</a:rPr>
              <a:t>缺牙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」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</a:rPr>
              <a:t>，例如嚴重牙患需要拔除或自動鬆脫？如果有，請問你而家總共冇左幾多隻牙？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投影片編號版面配置區 9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2C88-EEF3-4458-9027-2D88CA9E8B0F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圖表 12" descr=""/>
          <p:cNvPicPr/>
          <p:nvPr/>
        </p:nvPicPr>
        <p:blipFill>
          <a:blip r:embed="rId1"/>
          <a:stretch/>
        </p:blipFill>
        <p:spPr>
          <a:xfrm>
            <a:off x="1360440" y="3408480"/>
            <a:ext cx="6905520" cy="2511360"/>
          </a:xfrm>
          <a:prstGeom prst="rect">
            <a:avLst/>
          </a:prstGeom>
          <a:ln w="0">
            <a:noFill/>
          </a:ln>
        </p:spPr>
      </p:pic>
      <p:pic>
        <p:nvPicPr>
          <p:cNvPr id="351" name="圖表 13" descr=""/>
          <p:cNvPicPr/>
          <p:nvPr/>
        </p:nvPicPr>
        <p:blipFill>
          <a:blip r:embed="rId2"/>
          <a:stretch/>
        </p:blipFill>
        <p:spPr>
          <a:xfrm>
            <a:off x="2025720" y="1176480"/>
            <a:ext cx="3714840" cy="263340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11"/>
          <p:cNvGrpSpPr/>
          <p:nvPr/>
        </p:nvGrpSpPr>
        <p:grpSpPr>
          <a:xfrm>
            <a:off x="6019920" y="1905120"/>
            <a:ext cx="1676160" cy="1295280"/>
            <a:chOff x="6019920" y="1905120"/>
            <a:chExt cx="1676160" cy="1295280"/>
          </a:xfrm>
        </p:grpSpPr>
        <p:sp>
          <p:nvSpPr>
            <p:cNvPr id="353" name="文字方塊 7"/>
            <p:cNvSpPr/>
            <p:nvPr/>
          </p:nvSpPr>
          <p:spPr>
            <a:xfrm>
              <a:off x="6049800" y="2128680"/>
              <a:ext cx="1584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平均數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: 6.1</a:t>
              </a: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隻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抽樣誤差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: +/-0.8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眾數：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隻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基數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: 33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10"/>
            <p:cNvSpPr/>
            <p:nvPr/>
          </p:nvSpPr>
          <p:spPr>
            <a:xfrm>
              <a:off x="6019920" y="1905120"/>
              <a:ext cx="1676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文字方塊 8"/>
          <p:cNvSpPr/>
          <p:nvPr/>
        </p:nvSpPr>
        <p:spPr>
          <a:xfrm>
            <a:off x="1116000" y="6093000"/>
            <a:ext cx="72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2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過左換牙階段之後，請問你第一次甩牙╱缺牙係幾多歲？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標題 1"/>
          <p:cNvSpPr/>
          <p:nvPr/>
        </p:nvSpPr>
        <p:spPr>
          <a:xfrm>
            <a:off x="1258920" y="333360"/>
            <a:ext cx="7200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近半數於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歲或之前第一次甩牙／缺牙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5A99-A1F0-416C-BE5B-E18EAD669DF7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內容版面配置區 13" descr=""/>
          <p:cNvPicPr/>
          <p:nvPr/>
        </p:nvPicPr>
        <p:blipFill>
          <a:blip r:embed="rId1"/>
          <a:stretch/>
        </p:blipFill>
        <p:spPr>
          <a:xfrm>
            <a:off x="1382760" y="1895400"/>
            <a:ext cx="6800760" cy="4251240"/>
          </a:xfrm>
          <a:prstGeom prst="rect">
            <a:avLst/>
          </a:prstGeom>
          <a:ln w="0">
            <a:noFill/>
          </a:ln>
        </p:spPr>
      </p:pic>
      <p:sp>
        <p:nvSpPr>
          <p:cNvPr id="360" name="文字方塊 14"/>
          <p:cNvSpPr/>
          <p:nvPr/>
        </p:nvSpPr>
        <p:spPr>
          <a:xfrm>
            <a:off x="5219640" y="155736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2.2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抽樣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1.8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22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字方塊 8"/>
          <p:cNvSpPr/>
          <p:nvPr/>
        </p:nvSpPr>
        <p:spPr>
          <a:xfrm>
            <a:off x="1116000" y="6021360"/>
            <a:ext cx="7201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3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之前甩牙╱缺牙既原因係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讀答案，可選多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百分比不足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選項沒有顯示於圖表內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標題 1"/>
          <p:cNvSpPr/>
          <p:nvPr/>
        </p:nvSpPr>
        <p:spPr>
          <a:xfrm>
            <a:off x="147636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逾六成甩牙╱缺牙原因是蛀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8938-186F-41AE-83B6-A0EB7E4D9507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內容版面配置區 13" descr=""/>
          <p:cNvPicPr/>
          <p:nvPr/>
        </p:nvPicPr>
        <p:blipFill>
          <a:blip r:embed="rId1"/>
          <a:stretch/>
        </p:blipFill>
        <p:spPr>
          <a:xfrm>
            <a:off x="1093680" y="1319040"/>
            <a:ext cx="7531200" cy="4597560"/>
          </a:xfrm>
          <a:prstGeom prst="rect">
            <a:avLst/>
          </a:prstGeom>
          <a:ln w="0">
            <a:noFill/>
          </a:ln>
        </p:spPr>
      </p:pic>
      <p:sp>
        <p:nvSpPr>
          <p:cNvPr id="366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缺牙的處理方法</a:t>
            </a:r>
            <a:endParaRPr b="0" lang="en-US" sz="50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8" name="投影片編號版面配置區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8535-0200-4B3F-BD35-8FC16319E784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winnie</cp:lastModifiedBy>
  <cp:lastPrinted>2001-04-04T10:00:24Z</cp:lastPrinted>
  <dcterms:modified xsi:type="dcterms:W3CDTF">2011-05-23T05:58:34Z</dcterms:modified>
  <cp:revision>1101</cp:revision>
  <dc:subject/>
  <dc:title>無投影片標題</dc:title>
</cp:coreProperties>
</file>