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E0A3-6DD7-4566-9CEC-AE8BB286C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EF05-C72D-415F-B387-271956810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90E9-8C54-4E67-A1A3-5EA2E9A30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49F4-9893-433E-997F-96C63922C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E0E-29BB-4421-9808-58792714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97D-44F9-45D4-BF33-910655C6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B82-FA6F-4F78-82FA-976D37B7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BCC-3788-47E1-9E08-D4562AD6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1BF6-2DDA-4541-8FF6-8779C271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45B-8447-468F-ADE6-8834670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1AF-101E-445C-A97E-AF5D981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E55-0826-4D08-AF68-F76C631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6CB-912E-46C3-BE34-82D5A95C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451B-95E5-49CE-B497-E79E163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AED7-8432-4207-BFCE-F89D5EF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3D5-5724-46A3-9995-D38A632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E29-2389-42B2-AE9F-C40FC46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B05-E1A2-4080-BBAC-F3AA75C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865F-4FFF-4B3F-9461-AFB4A7BA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FDD-E90C-40F7-9CFC-C243CD69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B9DC-B978-4103-9384-013E5150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87BB-9EFC-4093-A2AF-2C6FF5E7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D195-6820-4F45-BBA6-1AD8BE4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D7B2-4FAA-4C5C-A562-C2F31E1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823B-F756-4B94-9FE3-EED7922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7345-8028-43D5-9317-22E9AEA8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911-CAED-44AF-9214-D1A5166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0359-3ED1-49DD-94D4-5A93CDD2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EFF5-3F9C-41CA-A3BE-E441CA6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0C5A-217E-428E-B3D0-32530DB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ECDC-88D3-41D1-9CCF-4F34DCC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8395-E037-473F-9BCC-95D5015E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DF56-AE45-48AB-9368-B8EDFE23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13EA-66B0-4F74-9BEF-0B75F49F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BA0-826B-4099-BBD5-0BE969EC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B05-9C0A-4111-9231-1F5236E9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F49-B3E3-4E02-9664-79A65D99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0FB-123C-4847-8886-7B556C3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576-5E33-40DC-ACF5-5F04F83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384-E436-4A1E-B105-BB7AF92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7f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D474-E586-44E6-8531-6C6E3B6EBC00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6371-0BEE-47EC-8F1D-1C99645C089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:\03. GHG\01. Clients\GSK\1. HK\03. Panadol\08. Cold &amp; Flu\03. Info from client\main visual\red bar.jpg"/>
          <p:cNvPicPr/>
          <p:nvPr/>
        </p:nvPicPr>
        <p:blipFill>
          <a:blip r:embed="rId2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W:\03. GHG\01. Clients\GSK\1. HK\03. Panadol\08. Cold &amp; Flu\05. press document\03. survey ppt\Archive\bar.jpg"/>
          <p:cNvPicPr/>
          <p:nvPr/>
        </p:nvPicPr>
        <p:blipFill>
          <a:blip r:embed="rId3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7f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A82A-8DE4-4BA1-B411-DB604879A9BB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F1D-2526-4AE4-83CB-6EA490726AD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W:\03. GHG\01. Clients\GSK\1. HK\03. Panadol\08. Cold &amp; Flu\03. Info from client\main visual\red bar.jpg"/>
          <p:cNvPicPr/>
          <p:nvPr/>
        </p:nvPicPr>
        <p:blipFill>
          <a:blip r:embed="rId2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W:\03. GHG\01. Clients\GSK\1. HK\03. Panadol\08. Cold &amp; Flu\03. Info from client\main visual\c.gif"/>
          <p:cNvPicPr/>
          <p:nvPr/>
        </p:nvPicPr>
        <p:blipFill>
          <a:blip r:embed="rId3"/>
          <a:stretch/>
        </p:blipFill>
        <p:spPr>
          <a:xfrm>
            <a:off x="228600" y="501012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W:\03. GHG\01. Clients\GSK\1. HK\03. Panadol\08. Cold &amp; Flu\05. press document\03. survey ppt\Archive\bar.jpg"/>
          <p:cNvPicPr/>
          <p:nvPr/>
        </p:nvPicPr>
        <p:blipFill>
          <a:blip r:embed="rId4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7f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75A0-DAA9-4E31-8D17-1CBAFB0A02F5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AC8-9C8B-4A31-8A90-698EB6D663D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W:\03. GHG\01. Clients\GSK\1. HK\03. Panadol\08. Cold &amp; Flu\05. press document\03. survey ppt\Archive\survey ppt_20110117.jpg"/>
          <p:cNvPicPr/>
          <p:nvPr/>
        </p:nvPicPr>
        <p:blipFill>
          <a:blip r:embed="rId1"/>
          <a:srcRect l="0" t="0" r="14999" b="40047"/>
          <a:stretch/>
        </p:blipFill>
        <p:spPr>
          <a:xfrm>
            <a:off x="1295280" y="2514600"/>
            <a:ext cx="755676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香港大學民意研究計劃總監鍾庭耀博士</a:t>
            </a:r>
            <a:endParaRPr b="0" lang="en-US" sz="2400" spc="-1" strike="noStrike">
              <a:solidFill>
                <a:srgbClr val="007f3e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2011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年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1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月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24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日</a:t>
            </a:r>
            <a:endParaRPr b="0" lang="en-US" sz="2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299-BA1B-4ED9-8CB8-8BE0B05296A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W:\03. GHG\01. Clients\GSK\1. HK\03. Panadol\08. Cold &amp; Flu\03. Info from client\main visual\c.gif"/>
          <p:cNvPicPr/>
          <p:nvPr/>
        </p:nvPicPr>
        <p:blipFill>
          <a:blip r:embed="rId2"/>
          <a:stretch/>
        </p:blipFill>
        <p:spPr>
          <a:xfrm>
            <a:off x="304920" y="1917720"/>
            <a:ext cx="3429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hart 8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9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受訪者表示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過去</a:t>
            </a: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12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個月沒有注射過流感疫苗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3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過去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2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個月有冇注射過流感疫苗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BEB5-E903-47D4-BDAE-A23E491EA5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Terminator 9"/>
          <p:cNvSpPr/>
          <p:nvPr/>
        </p:nvSpPr>
        <p:spPr>
          <a:xfrm>
            <a:off x="1523880" y="3733920"/>
            <a:ext cx="5486400" cy="11430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8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於過去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12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個月有注射流感疫苗之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受訪者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者中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0" lang="zh-TW" sz="24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表示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患傷風或感冒的次數與未注射流感疫苗時相若</a:t>
            </a:r>
            <a:endParaRPr b="0" lang="en-US" sz="2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4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咁同未注射流感疫苗時相比，你覺得自己患傷風或者感冒既次數係：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1844-34A1-4315-B149-25FCF53F7E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lowchart: Terminator 9"/>
          <p:cNvSpPr/>
          <p:nvPr/>
        </p:nvSpPr>
        <p:spPr>
          <a:xfrm>
            <a:off x="1447920" y="3809880"/>
            <a:ext cx="5257800" cy="106704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在職人士對傷風感冒的看法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D22-4DCD-4791-922C-A4999F07930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304920" y="1752480"/>
            <a:ext cx="3276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81880" cy="4191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2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同意定唔同意以下有關傷風或者感冒嘅描述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66D7-52FD-4B54-A8ED-144F3B3AB5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同意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傷風或感冒菌較數年前厲害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同意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病情很快惡化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609480" y="32767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2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609480" y="4648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2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152280" y="4952880"/>
            <a:ext cx="19051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art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153280" cy="4191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2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同意定唔同意以下有關傷風或者感冒嘅描述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339-2290-42BD-9A62-7B28D989D5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30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0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000" spc="-1" strike="noStrike">
                <a:solidFill>
                  <a:srgbClr val="007f3e"/>
                </a:solidFill>
                <a:latin typeface="新細明體"/>
              </a:rPr>
              <a:t>同意</a:t>
            </a:r>
            <a:r>
              <a:rPr b="0" lang="zh-TW" sz="3000" spc="-1" strike="noStrike">
                <a:solidFill>
                  <a:srgbClr val="ff0000"/>
                </a:solidFill>
                <a:latin typeface="Arial Unicode MS"/>
              </a:rPr>
              <a:t>同事去年患傷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風或感冒次數較前</a:t>
            </a:r>
            <a:r>
              <a:rPr b="0" lang="zh-TW" sz="3000" spc="-1" strike="noStrike">
                <a:solidFill>
                  <a:srgbClr val="ff0000"/>
                </a:solidFill>
                <a:latin typeface="Arial Unicode MS"/>
              </a:rPr>
              <a:t>年多</a:t>
            </a:r>
            <a:r>
              <a:rPr b="0" lang="zh-TW" sz="3000" spc="-1" strike="noStrike">
                <a:solidFill>
                  <a:srgbClr val="007f3e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0" lang="zh-TW" sz="1600" spc="-1" strike="noStrike">
                <a:solidFill>
                  <a:srgbClr val="007f3e"/>
                </a:solidFill>
                <a:latin typeface="Arial Unicode MS"/>
              </a:rPr>
              <a:t>註：去年指</a:t>
            </a:r>
            <a:r>
              <a:rPr b="0" lang="en-US" sz="1600" spc="-1" strike="noStrike">
                <a:solidFill>
                  <a:srgbClr val="007f3e"/>
                </a:solidFill>
                <a:latin typeface="Arial Unicode MS"/>
              </a:rPr>
              <a:t>2010</a:t>
            </a:r>
            <a:r>
              <a:rPr b="0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0" lang="zh-TW" sz="1600" spc="-1" strike="noStrike">
                <a:solidFill>
                  <a:srgbClr val="007f3e"/>
                </a:solidFill>
                <a:latin typeface="Arial Unicode MS"/>
              </a:rPr>
              <a:t>年</a:t>
            </a:r>
            <a:r>
              <a:rPr b="0" lang="en-US" sz="1600" spc="-1" strike="noStrike">
                <a:solidFill>
                  <a:srgbClr val="007f3e"/>
                </a:solidFill>
                <a:latin typeface="Arial Unicode MS"/>
              </a:rPr>
              <a:t>)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港人帶病上班情況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58A9-FE1C-497D-B3EB-5DD0784DFD8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11430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hart 9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4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當你出現咳嗽、流鼻水等傷風或者感冒徵狀時，你通常會唔會返工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F952-F409-4800-8CA7-7C415A126B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出現咳嗽、流鼻水等傷風或感冒徵狀時，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受訪者</a:t>
            </a:r>
            <a:r>
              <a:rPr b="0" lang="zh-TW" sz="3200" spc="-1" strike="noStrike">
                <a:solidFill>
                  <a:srgbClr val="ff0000"/>
                </a:solidFill>
                <a:latin typeface="新細明體"/>
              </a:rPr>
              <a:t>仍會上班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4" name="Flowchart: Terminator 10"/>
          <p:cNvSpPr/>
          <p:nvPr/>
        </p:nvSpPr>
        <p:spPr>
          <a:xfrm>
            <a:off x="2209680" y="2514600"/>
            <a:ext cx="5410440" cy="83808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hart 9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4a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點解你會繼續返工？ 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AB11-2B63-43FB-BAD5-42C9D84058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4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出現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傷風或感冒徵狀時仍會上班的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受訪者中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,</a:t>
            </a:r>
            <a:br>
              <a:rPr sz="26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6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zh-TW" sz="2600" spc="-1" strike="noStrike">
                <a:solidFill>
                  <a:srgbClr val="007f3e"/>
                </a:solidFill>
                <a:latin typeface="Arial Unicode MS"/>
              </a:rPr>
              <a:t>因為覺得病情不太嚴重；</a:t>
            </a:r>
            <a:r>
              <a:rPr b="0" lang="en-US" sz="26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6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6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600" spc="-1" strike="noStrike">
                <a:solidFill>
                  <a:srgbClr val="007f3e"/>
                </a:solidFill>
                <a:latin typeface="Arial Unicode MS"/>
              </a:rPr>
              <a:t>因為太多工作無法請假</a:t>
            </a:r>
            <a:endParaRPr b="0" lang="en-US" sz="26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hart 8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705360" cy="3810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1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1" lang="zh-TW" sz="3200" spc="-1" strike="noStrike">
                <a:solidFill>
                  <a:srgbClr val="007f3e"/>
                </a:solidFill>
                <a:latin typeface="Arial Unicode MS"/>
              </a:rPr>
              <a:t>受訪者與同事的</a:t>
            </a:r>
            <a:r>
              <a:rPr b="1" lang="zh-TW" sz="3200" spc="-1" strike="noStrike">
                <a:solidFill>
                  <a:srgbClr val="ff0000"/>
                </a:solidFill>
                <a:latin typeface="Arial Unicode MS"/>
              </a:rPr>
              <a:t>距離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1" lang="zh-TW" sz="3200" spc="-1" strike="noStrike">
                <a:solidFill>
                  <a:srgbClr val="ff0000"/>
                </a:solidFill>
                <a:latin typeface="Arial Unicode MS"/>
              </a:rPr>
              <a:t>尺或以內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6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坐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/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企得最近你嘅同事大約同你相隔幾多尺？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C834-D080-40F9-8113-0DF4CCD1BD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lowchart: Terminator 9"/>
          <p:cNvSpPr/>
          <p:nvPr/>
        </p:nvSpPr>
        <p:spPr>
          <a:xfrm>
            <a:off x="1143000" y="2438280"/>
            <a:ext cx="6553080" cy="60984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4920" y="220968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f3e"/>
                </a:solidFill>
                <a:latin typeface="Arial Unicode MS"/>
              </a:rPr>
              <a:t>在職人士患傷風</a:t>
            </a:r>
            <a:r>
              <a:rPr b="0" lang="en-US" sz="3600" spc="-1" strike="noStrike">
                <a:solidFill>
                  <a:srgbClr val="007f3e"/>
                </a:solidFill>
                <a:latin typeface="Arial Unicode MS"/>
              </a:rPr>
              <a:t>/</a:t>
            </a:r>
            <a:r>
              <a:rPr b="0" lang="zh-TW" sz="3600" spc="-1" strike="noStrike">
                <a:solidFill>
                  <a:srgbClr val="007f3e"/>
                </a:solidFill>
                <a:latin typeface="Arial Unicode MS"/>
              </a:rPr>
              <a:t>感冒時</a:t>
            </a:r>
            <a:endParaRPr b="0" lang="en-US" sz="3600" spc="-1" strike="noStrike">
              <a:solidFill>
                <a:srgbClr val="007f3e"/>
              </a:solidFill>
              <a:latin typeface="Arial Unicode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f3e"/>
                </a:solidFill>
                <a:latin typeface="Arial Unicode MS"/>
              </a:rPr>
              <a:t>其他人恐怕被傳染的情況</a:t>
            </a:r>
            <a:endParaRPr b="0" lang="en-US" sz="3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541-39F8-4212-AF06-B529F37C46D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1143000" y="1905120"/>
            <a:ext cx="3276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f3e"/>
                </a:solidFill>
                <a:latin typeface="新細明體"/>
              </a:rPr>
              <a:t>調查概況</a:t>
            </a:r>
            <a:endParaRPr b="0" lang="en-US" sz="3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5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9DB5-C6A9-4449-86E4-02692EA7D53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219320"/>
          <a:ext cx="8229600" cy="4803480"/>
        </p:xfrm>
        <a:graphic>
          <a:graphicData uri="http://schemas.openxmlformats.org/drawingml/2006/table">
            <a:tbl>
              <a:tblPr/>
              <a:tblGrid>
                <a:gridCol w="2133720"/>
                <a:gridCol w="6095880"/>
              </a:tblGrid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透視本港在職人士患傷風感冒及避免傳染他人的情況、因出現傷風感冒病徵而被歧視的</a:t>
                      </a:r>
                      <a:r>
                        <a:rPr b="0" lang="zh-CN" sz="1800" spc="-1" strike="noStrike">
                          <a:solidFill>
                            <a:srgbClr val="007f3e"/>
                          </a:solidFill>
                          <a:latin typeface="Calibri"/>
                          <a:ea typeface="宋体"/>
                        </a:rPr>
                        <a:t>經歷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、從而建議港人</a:t>
                      </a:r>
                      <a:r>
                        <a:rPr b="0" lang="zh-CN" sz="1800" spc="-1" strike="noStrike">
                          <a:solidFill>
                            <a:srgbClr val="007f3e"/>
                          </a:solidFill>
                          <a:latin typeface="Calibri"/>
                          <a:ea typeface="宋体"/>
                        </a:rPr>
                        <a:t>如何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正確</a:t>
                      </a:r>
                      <a:r>
                        <a:rPr b="0" lang="zh-CN" sz="1800" spc="-1" strike="noStrike">
                          <a:solidFill>
                            <a:srgbClr val="007f3e"/>
                          </a:solidFill>
                          <a:latin typeface="Calibri"/>
                          <a:ea typeface="宋体"/>
                        </a:rPr>
                        <a:t>面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對傷風感冒及停止傷風感冒傳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2011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3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日至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12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由訪問員直接進行電話訪問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</a:t>
                      </a:r>
                      <a:r>
                        <a:rPr b="1" lang="zh-TW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Times New Roman"/>
                          <a:ea typeface="新細明體"/>
                        </a:rPr>
                        <a:t>年齡 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Times New Roman"/>
                          <a:ea typeface="新細明體"/>
                        </a:rPr>
                        <a:t>25-50 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Times New Roman"/>
                          <a:ea typeface="新細明體"/>
                        </a:rPr>
                        <a:t>歲並操粵語的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在職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香港大學民意研究計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7f3e"/>
                          </a:solidFill>
                          <a:latin typeface="Century Gothic"/>
                          <a:ea typeface="新細明體"/>
                        </a:rPr>
                        <a:t>抽樣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entury Gothic"/>
                          <a:ea typeface="新細明體"/>
                        </a:rPr>
                        <a:t>以電腦從住宅電話簿中隨機抽出電話號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509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有效回應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74.1% (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以符合資格的目標對象計算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百分比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少於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2.2%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，亦即在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的置信水平下，各個百分比的抽樣誤差為少於正負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4.4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個百分比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W:\03. GHG\01. Clients\GSK\1. HK\03. Panadol\08. Cold &amp; Flu\03. Info from client\main visual\red bar.jpg"/>
          <p:cNvPicPr/>
          <p:nvPr/>
        </p:nvPicPr>
        <p:blipFill>
          <a:blip r:embed="rId1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W:\03. GHG\01. Clients\GSK\1. HK\03. Panadol\08. Cold &amp; Flu\05. press document\03. survey ppt\Archive\bar.jpg"/>
          <p:cNvPicPr/>
          <p:nvPr/>
        </p:nvPicPr>
        <p:blipFill>
          <a:blip r:embed="rId2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Chart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7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如果有同事患傷風或者感冒仲返工，結果傳染俾其他同事，下列情況有冇出現過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22E5-1FB7-485B-B77E-112E28C1C7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當有患傷風或感冒的同事上班並傳染其他同事時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指帶菌者曾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被同事或上司埋怨散播病菌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Chart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7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如果有同事患傷風或者感冒仲返工，結果傳染俾其他同事，下列情況有冇出現過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C4D-5B81-4856-A13C-7621EA2A9E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當有患傷風或感冒的同事上班並傳染其他同事時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表示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其他同事怕被傳染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Chart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7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如果有同事患傷風或者感冒仲返工，結果傳染俾其他同事，下列情況有冇出現過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EDC0-5B64-4F0D-AD52-D39462F214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當有患傷風或感冒的同事上班並傳染其他同事時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指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有同事被傳染而請假，影響工作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Chart 7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696440" cy="38862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當受訪者自己或同事在工作期間出現傷風或感冒病徵時，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會主動戴口罩</a:t>
            </a:r>
            <a:r>
              <a:rPr b="0" lang="en-US" sz="2800" spc="-1" strike="noStrike">
                <a:solidFill>
                  <a:srgbClr val="007f3e"/>
                </a:solidFill>
                <a:latin typeface="Arial Unicode MS"/>
              </a:rPr>
              <a:t>;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曾被要求回家休息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8. 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當你或你身邊嘅人係工作期間出現傷風或者感冒病徵時，有冇遇過以下情況？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EDB-4BA7-409B-8E6E-53A60E3D68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Terminator 9"/>
          <p:cNvSpPr/>
          <p:nvPr/>
        </p:nvSpPr>
        <p:spPr>
          <a:xfrm>
            <a:off x="1981080" y="3581280"/>
            <a:ext cx="426744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Terminator 10"/>
          <p:cNvSpPr/>
          <p:nvPr/>
        </p:nvSpPr>
        <p:spPr>
          <a:xfrm>
            <a:off x="762120" y="4038480"/>
            <a:ext cx="5105160" cy="53352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Chart 8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781680" cy="3962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9.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如果係交通工具上有人出現傷風或者感冒病徵，如咳或者打乞嚏時，你有冇見過以下情況？ 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E89E-23BA-423F-BC57-94CF793BEE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當有人在</a:t>
            </a:r>
            <a:r>
              <a:rPr b="0" lang="zh-TW" sz="2400" spc="-1" strike="noStrike">
                <a:solidFill>
                  <a:srgbClr val="ff0000"/>
                </a:solidFill>
                <a:latin typeface="新細明體"/>
              </a:rPr>
              <a:t>交通工具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上出現傷風或感冒病徵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見過會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遭人白眼</a:t>
            </a:r>
            <a:r>
              <a:rPr b="0" lang="en-US" sz="2800" spc="-1" strike="noStrike">
                <a:solidFill>
                  <a:srgbClr val="007f3e"/>
                </a:solidFill>
                <a:latin typeface="新細明體"/>
              </a:rPr>
              <a:t>;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及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見過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其他人立即掩鼻及</a:t>
            </a:r>
            <a:br>
              <a:rPr sz="2800"/>
            </a:b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刻意保持距離</a:t>
            </a:r>
            <a:r>
              <a:rPr b="0" lang="en-US" sz="2800" spc="-1" strike="noStrike">
                <a:solidFill>
                  <a:srgbClr val="007f3e"/>
                </a:solidFill>
                <a:latin typeface="新細明體"/>
              </a:rPr>
              <a:t>;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更見過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家長立即帶小朋友走開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hart 8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162560" cy="3657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受訪者曾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試過於人多擠擁的公眾地方</a:t>
            </a:r>
            <a:br>
              <a:rPr sz="2800"/>
            </a:b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刻意忍著不咳嗽及打噴嚏 ，以免遭人白眼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0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有冇試過係人多擠擁嘅公眾地方，就算想咳、打噴嚏等，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都會盡量忍住以免被人眼望望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7B96-7EFE-4A14-BFA1-F13BFF9AC9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Terminator 9"/>
          <p:cNvSpPr/>
          <p:nvPr/>
        </p:nvSpPr>
        <p:spPr>
          <a:xfrm>
            <a:off x="1066680" y="2819520"/>
            <a:ext cx="6858000" cy="83808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7f3e"/>
                </a:solidFill>
                <a:latin typeface="Arial Unicode MS"/>
              </a:rPr>
              <a:t>出現傷風感冒對在職人士</a:t>
            </a:r>
            <a:endParaRPr b="0" lang="en-US" sz="4000" spc="-1" strike="noStrike">
              <a:solidFill>
                <a:srgbClr val="007f3e"/>
              </a:solidFill>
              <a:latin typeface="Arial Unicode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7f3e"/>
                </a:solidFill>
                <a:latin typeface="Arial Unicode MS"/>
              </a:rPr>
              <a:t>生活的影響</a:t>
            </a:r>
            <a:endParaRPr b="0" lang="en-US" sz="40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993-C223-401D-88A7-E4379D1DB8A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685800" y="22096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hart 7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當受訪者患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傷風或感冒時，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選擇在家自我隔離，減少接觸家人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11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患上傷風或者感冒時，有冇試過：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92DF-F317-4525-90C3-6A24966DF1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lowchart: Terminator 8"/>
          <p:cNvSpPr/>
          <p:nvPr/>
        </p:nvSpPr>
        <p:spPr>
          <a:xfrm>
            <a:off x="2438280" y="4191120"/>
            <a:ext cx="327672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Chart 8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7f3e"/>
                </a:solidFill>
                <a:latin typeface="新細明體"/>
              </a:rPr>
              <a:t>當受訪者</a:t>
            </a:r>
            <a:r>
              <a:rPr b="0" lang="zh-TW" sz="2900" spc="-1" strike="noStrike">
                <a:solidFill>
                  <a:srgbClr val="007f3e"/>
                </a:solidFill>
                <a:latin typeface="Arial Unicode MS"/>
              </a:rPr>
              <a:t>患上傷風或感冒時，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900" spc="-1" strike="noStrike">
                <a:solidFill>
                  <a:srgbClr val="007f3e"/>
                </a:solidFill>
                <a:latin typeface="Arial Unicode MS"/>
              </a:rPr>
              <a:t>曾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主動決定缺席朋友聚會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, 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以免傳染給朋友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1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2900" spc="-1" strike="noStrike">
                <a:solidFill>
                  <a:srgbClr val="007f3e"/>
                </a:solidFill>
                <a:latin typeface="新細明體"/>
              </a:rPr>
              <a:t>被要求不要出席聚會</a:t>
            </a:r>
            <a:endParaRPr b="0" lang="en-US" sz="29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12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患上傷風或者感冒但約咗朋友聚會時，有冇試過：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CFC-9D96-4E53-A0B9-1F4695883D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9"/>
          <p:cNvSpPr/>
          <p:nvPr/>
        </p:nvSpPr>
        <p:spPr>
          <a:xfrm>
            <a:off x="990720" y="2209680"/>
            <a:ext cx="7086600" cy="6858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0"/>
          <p:cNvSpPr/>
          <p:nvPr/>
        </p:nvSpPr>
        <p:spPr>
          <a:xfrm>
            <a:off x="1752480" y="4038480"/>
            <a:ext cx="320040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受訪者個人資料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4A4-8212-4C91-8C09-27CF3EF8484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18288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2514600" y="1752480"/>
            <a:ext cx="3276720" cy="2171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7f3e"/>
                </a:solidFill>
                <a:latin typeface="Arial Unicode MS"/>
              </a:rPr>
              <a:t>調查結果</a:t>
            </a:r>
            <a:endParaRPr b="0" lang="en-US" sz="50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D6F-B570-48A6-9B9D-F8721D7FAB7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性別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4D74-EF4B-41A0-ADAD-F448CE1E32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Content Placeholder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Chart 6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0384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年齡組別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A48-8953-441C-8F68-C701A2F2C9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教育程度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49D7-CD1E-478E-BEC0-725E740D18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Chart 6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hart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職業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DFA-23AB-469C-A4E4-0B4F480657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大部分時間的工作環境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EF0A-87E7-4B2D-BD0D-3E2159D6F0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Chart 6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hart 6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每月個人收入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8049-6B8A-44B2-A75B-6AAF1EDC65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2096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- </a:t>
            </a: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完 </a:t>
            </a: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-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198-12B1-419B-88EB-361EAE06E8B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7f3e"/>
                </a:solidFill>
                <a:latin typeface="Arial Unicode MS"/>
              </a:rPr>
              <a:t>在職人士患傷風感冒及傳染情況</a:t>
            </a:r>
            <a:endParaRPr b="0" lang="en-US" sz="40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107-8302-48BD-A4F8-506131C78B0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2286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9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038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喺過去嘅一年，患過幾多次傷風或者感冒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2" name="Slide Number Placeholder 8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6FD1-01BA-434E-9DA3-21983A7359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054760" y="3911760"/>
            <a:ext cx="2819160" cy="94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受訪者過去一年</a:t>
            </a:r>
            <a:br>
              <a:rPr sz="1800"/>
            </a:br>
            <a:r>
              <a:rPr b="1" lang="zh-CN" sz="1800" spc="-1" strike="noStrike">
                <a:solidFill>
                  <a:srgbClr val="007f3e"/>
                </a:solidFill>
                <a:latin typeface="宋体"/>
                <a:ea typeface="宋体"/>
              </a:rPr>
              <a:t>平均</a:t>
            </a: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曾患</a:t>
            </a:r>
            <a:r>
              <a:rPr b="1" lang="en-US" sz="2000" spc="-1" strike="noStrike">
                <a:solidFill>
                  <a:srgbClr val="ff0000"/>
                </a:solidFill>
                <a:latin typeface="新細明體"/>
              </a:rPr>
              <a:t>3</a:t>
            </a:r>
            <a:r>
              <a:rPr b="1" lang="zh-TW" sz="2000" spc="-1" strike="noStrike">
                <a:solidFill>
                  <a:srgbClr val="ff0000"/>
                </a:solidFill>
                <a:latin typeface="新細明體"/>
              </a:rPr>
              <a:t>次</a:t>
            </a:r>
            <a:r>
              <a:rPr b="1" lang="zh-TW" sz="2000" spc="-1" strike="noStrike">
                <a:solidFill>
                  <a:srgbClr val="007f3e"/>
                </a:solidFill>
                <a:latin typeface="新細明體"/>
              </a:rPr>
              <a:t>傷風</a:t>
            </a:r>
            <a:r>
              <a:rPr b="1" lang="en-US" sz="2000" spc="-1" strike="noStrike">
                <a:solidFill>
                  <a:srgbClr val="007f3e"/>
                </a:solidFill>
                <a:latin typeface="新細明體"/>
              </a:rPr>
              <a:t>/</a:t>
            </a:r>
            <a:r>
              <a:rPr b="1" lang="zh-TW" sz="2000" spc="-1" strike="noStrike">
                <a:solidFill>
                  <a:srgbClr val="007f3e"/>
                </a:solidFill>
                <a:latin typeface="新細明體"/>
              </a:rPr>
              <a:t>感冒</a:t>
            </a:r>
            <a:br>
              <a:rPr sz="2000"/>
            </a:br>
            <a:r>
              <a:rPr b="1" lang="en-US" sz="1800" spc="-1" strike="noStrike">
                <a:solidFill>
                  <a:srgbClr val="007f3e"/>
                </a:solidFill>
                <a:latin typeface="新細明體"/>
              </a:rPr>
              <a:t> 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(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基數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=</a:t>
            </a:r>
            <a:r>
              <a:rPr b="0" lang="en-US" sz="1200" spc="-1" strike="noStrike">
                <a:solidFill>
                  <a:srgbClr val="007f3e"/>
                </a:solidFill>
                <a:latin typeface="新細明體"/>
              </a:rPr>
              <a:t>503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7f3e"/>
                </a:solidFill>
                <a:latin typeface="新細明體"/>
              </a:rPr>
              <a:t>於過去一年，受訪者平均曾患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500" spc="-1" strike="noStrike">
                <a:solidFill>
                  <a:srgbClr val="007f3e"/>
                </a:solidFill>
                <a:latin typeface="新細明體"/>
              </a:rPr>
              <a:t>次傷風或感冒</a:t>
            </a:r>
            <a:endParaRPr b="0" lang="en-US" sz="35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當受訪者患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傷風或感冒時，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曾於一、兩日內傳染給家人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11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患上傷風或者感冒時，有冇試過：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E297-BF17-444A-A286-96938A7E0B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8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Flowchart: Terminator 9"/>
          <p:cNvSpPr/>
          <p:nvPr/>
        </p:nvSpPr>
        <p:spPr>
          <a:xfrm>
            <a:off x="2286000" y="3657600"/>
            <a:ext cx="426708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Chart 8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去年曾患傷風或感冒的受訪者中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,</a:t>
            </a:r>
            <a:br>
              <a:rPr sz="2400"/>
            </a:b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近半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試過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被同事傳染患病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5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過去一年，你有冇試過俾同事傳染而患上傷風或者感冒？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850F-2B65-4BF0-AD56-E0B60F0022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owchart: Terminator 9"/>
          <p:cNvSpPr/>
          <p:nvPr/>
        </p:nvSpPr>
        <p:spPr>
          <a:xfrm>
            <a:off x="2971800" y="2362320"/>
            <a:ext cx="5105520" cy="83808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9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381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5a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咁大約有幾多次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4D0C-AA5C-49E0-A780-42676447F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952880" y="3733920"/>
            <a:ext cx="28195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受訪者過去一年</a:t>
            </a:r>
            <a:br>
              <a:rPr sz="1800"/>
            </a:b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平均被同事傳染</a:t>
            </a:r>
            <a:r>
              <a:rPr b="1" lang="en-US" sz="1800" spc="-1" strike="noStrike">
                <a:solidFill>
                  <a:srgbClr val="ff0000"/>
                </a:solidFill>
                <a:latin typeface="新細明體"/>
              </a:rPr>
              <a:t>2</a:t>
            </a:r>
            <a:r>
              <a:rPr b="1" lang="zh-TW" sz="1800" spc="-1" strike="noStrike">
                <a:solidFill>
                  <a:srgbClr val="ff0000"/>
                </a:solidFill>
                <a:latin typeface="新細明體"/>
              </a:rPr>
              <a:t>次</a:t>
            </a:r>
            <a:br>
              <a:rPr sz="1800"/>
            </a:b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而患傷風</a:t>
            </a:r>
            <a:r>
              <a:rPr b="1" lang="en-US" sz="1800" spc="-1" strike="noStrike">
                <a:solidFill>
                  <a:srgbClr val="007f3e"/>
                </a:solidFill>
                <a:latin typeface="新細明體"/>
              </a:rPr>
              <a:t>/</a:t>
            </a: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感冒 </a:t>
            </a:r>
            <a:br>
              <a:rPr sz="2000"/>
            </a:br>
            <a:r>
              <a:rPr b="1" lang="en-US" sz="1800" spc="-1" strike="noStrike">
                <a:solidFill>
                  <a:srgbClr val="007f3e"/>
                </a:solidFill>
                <a:latin typeface="新細明體"/>
              </a:rPr>
              <a:t> 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(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基數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=</a:t>
            </a:r>
            <a:r>
              <a:rPr b="0" lang="en-US" sz="1200" spc="-1" strike="noStrike">
                <a:solidFill>
                  <a:srgbClr val="007f3e"/>
                </a:solidFill>
                <a:latin typeface="新細明體"/>
              </a:rPr>
              <a:t>215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2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去年曾因被同事傳染而患病的受訪者中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,</a:t>
            </a:r>
            <a:br>
              <a:rPr sz="4000"/>
            </a:br>
            <a:r>
              <a:rPr b="0" lang="zh-TW" sz="3400" spc="-1" strike="noStrike">
                <a:solidFill>
                  <a:srgbClr val="ff0000"/>
                </a:solidFill>
                <a:latin typeface="新細明體"/>
              </a:rPr>
              <a:t>過去一年</a:t>
            </a:r>
            <a:r>
              <a:rPr b="0" lang="zh-TW" sz="3400" spc="-1" strike="noStrike">
                <a:solidFill>
                  <a:srgbClr val="ff0000"/>
                </a:solidFill>
                <a:latin typeface="Arial Unicode MS"/>
              </a:rPr>
              <a:t>平均被同事傳染</a:t>
            </a:r>
            <a:r>
              <a:rPr b="0" lang="en-US" sz="34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3400" spc="-1" strike="noStrike">
                <a:solidFill>
                  <a:srgbClr val="ff0000"/>
                </a:solidFill>
                <a:latin typeface="Arial Unicode MS"/>
              </a:rPr>
              <a:t>次</a:t>
            </a:r>
            <a:endParaRPr b="0" lang="en-US" sz="34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hart 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93432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出現傷風或感冒病徵時，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受訪者會向西醫求診，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會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食西成藥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3. 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當你一出現傷風或者感冒嘅病徵時，你通常會做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D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咩令自己快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D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好返？（可選多項）</a:t>
            </a: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781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C626-EA99-496F-ABAA-49063081CE0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7:19:53Z</dcterms:created>
  <dc:creator>angus.mak</dc:creator>
  <dc:description/>
  <dc:language>en-US</dc:language>
  <cp:lastModifiedBy>frank</cp:lastModifiedBy>
  <dcterms:modified xsi:type="dcterms:W3CDTF">2011-01-24T07:59:49Z</dcterms:modified>
  <cp:revision>113</cp:revision>
  <dc:subject/>
  <dc:title>Slide 1</dc:title>
</cp:coreProperties>
</file>