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972-C8F5-4377-8451-CBCB921EA97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A026-6836-411E-9257-B4385C3B673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560" y="4726080"/>
            <a:ext cx="510084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8376-7584-4912-8E90-3A89B9006CF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2040" y="75240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97520" cy="44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D42-9657-4362-8E1B-F4DE8642E51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120" y="4724280"/>
            <a:ext cx="5000760" cy="11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A45-4736-4B7D-831B-87DA09224E2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30240" y="754200"/>
            <a:ext cx="4952880" cy="3714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9752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5A4-5AA6-4FE3-BB92-F0D27348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FA9-D603-44A2-8A17-EF052C68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719-C7B8-463C-9F12-CB66556E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EDC-E294-49BB-A533-3DA1DA27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A34-381E-4CDD-BC7F-E040E64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A89-9AF2-49DB-B485-C293DD0F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027-AC0D-4629-A311-4B1124B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6E8-5FD3-4EF0-9AB0-9405FAFB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DCF-AD76-4511-B170-F9416B8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BAA-F654-46D0-B1DA-E038F6EA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90E-AF39-409E-8146-A06A269F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38-428E-45DB-9CB1-5C205B1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5794200"/>
          <a:ext cx="9144000" cy="10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794200"/>
                    <a:ext cx="9144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2CC-7319-4C08-BE3F-3CEAA9E4D63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677000" y="139680"/>
            <a:ext cx="1403640" cy="738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14480" y="244440"/>
            <a:ext cx="275400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80"/>
                </a:solidFill>
                <a:latin typeface="Times New Roman"/>
              </a:rPr>
              <a:t>注重膽固醇健康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0200" y="3573000"/>
            <a:ext cx="8101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008080"/>
                </a:solidFill>
                <a:latin typeface="Times New Roman"/>
              </a:rPr>
              <a:t>陳穎斌醫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80"/>
                </a:solidFill>
                <a:latin typeface="Arial"/>
              </a:rPr>
              <a:t>內分泌及糖尿專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8080"/>
                </a:solidFill>
                <a:latin typeface="Arial"/>
              </a:rPr>
              <a:t>MB ChB (CUHK), MRCP (London), FHKCP, FHKAM (Endocrin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80"/>
                </a:solidFill>
                <a:latin typeface="Arial"/>
              </a:rPr>
              <a:t>2005</a:t>
            </a:r>
            <a:r>
              <a:rPr b="1" lang="zh-TW" sz="2800" spc="-1" strike="noStrike">
                <a:solidFill>
                  <a:srgbClr val="008080"/>
                </a:solidFill>
                <a:latin typeface="Arial"/>
              </a:rPr>
              <a:t>年</a:t>
            </a:r>
            <a:r>
              <a:rPr b="1" lang="zh-TW" sz="2800" spc="-1" strike="noStrike">
                <a:solidFill>
                  <a:srgbClr val="008080"/>
                </a:solidFill>
                <a:latin typeface="Arial"/>
              </a:rPr>
              <a:t>9</a:t>
            </a:r>
            <a:r>
              <a:rPr b="1" lang="zh-TW" sz="2800" spc="-1" strike="noStrike">
                <a:solidFill>
                  <a:srgbClr val="008080"/>
                </a:solidFill>
                <a:latin typeface="Arial"/>
              </a:rPr>
              <a:t>月</a:t>
            </a:r>
            <a:r>
              <a:rPr b="1" lang="zh-TW" sz="2800" spc="-1" strike="noStrike">
                <a:solidFill>
                  <a:srgbClr val="008080"/>
                </a:solidFill>
                <a:latin typeface="Arial"/>
              </a:rPr>
              <a:t>5</a:t>
            </a:r>
            <a:r>
              <a:rPr b="1" lang="zh-TW" sz="2800" spc="-1" strike="noStrike">
                <a:solidFill>
                  <a:srgbClr val="00808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6480" y="19008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2880" y="1008000"/>
            <a:ext cx="860436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「壞」膽回醇過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73560" y="1519200"/>
            <a:ext cx="603360" cy="355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2880" y="1938240"/>
            <a:ext cx="860436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動脈粥樣硬化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血管被堵塞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0960" y="2473200"/>
            <a:ext cx="603000" cy="355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0280" y="2914560"/>
            <a:ext cx="860436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心血管病影響心臟、腦及血液循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22360" y="4525920"/>
            <a:ext cx="175104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心臟病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4525920"/>
            <a:ext cx="168912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心絞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9120" y="5226120"/>
            <a:ext cx="233028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心臟暴斃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31840" y="4073400"/>
            <a:ext cx="0" cy="3477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564000"/>
            <a:ext cx="251316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冠心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32000" y="4076640"/>
            <a:ext cx="0" cy="1079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17920" y="4078440"/>
            <a:ext cx="0" cy="3474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40240" y="5224320"/>
            <a:ext cx="181296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中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35400" y="4057560"/>
            <a:ext cx="0" cy="1079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4510080"/>
            <a:ext cx="200340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經常性小型中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1520" y="3562200"/>
            <a:ext cx="252576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腦血管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4105440"/>
            <a:ext cx="0" cy="3474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69000" y="5224320"/>
            <a:ext cx="204768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斷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89600" y="4510080"/>
            <a:ext cx="203040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Verdana"/>
              </a:rPr>
              <a:t>腿部血液循環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7800" y="3576600"/>
            <a:ext cx="2659320" cy="425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2b2b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週邊動脈疾病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7400" y="4095720"/>
            <a:ext cx="0" cy="3477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9560" y="4089240"/>
            <a:ext cx="0" cy="1079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-3275" t="0" r="24197" b="16165"/>
          <a:stretch/>
        </p:blipFill>
        <p:spPr>
          <a:xfrm>
            <a:off x="-396720" y="981000"/>
            <a:ext cx="9540720" cy="5877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211720" y="1028880"/>
            <a:ext cx="24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8080"/>
                </a:solidFill>
                <a:latin typeface="Arial"/>
              </a:rPr>
              <a:t>Normal artery </a:t>
            </a:r>
            <a:r>
              <a:rPr b="1" lang="zh-TW" sz="1400" spc="-1" strike="noStrike">
                <a:solidFill>
                  <a:srgbClr val="808080"/>
                </a:solidFill>
                <a:latin typeface="Arial"/>
              </a:rPr>
              <a:t>正常血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75160" y="4933800"/>
            <a:ext cx="287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8080"/>
                </a:solidFill>
                <a:latin typeface="Arial"/>
              </a:rPr>
              <a:t>Atherosclerosis </a:t>
            </a:r>
            <a:r>
              <a:rPr b="1" lang="zh-TW" sz="1400" spc="-1" strike="noStrike">
                <a:solidFill>
                  <a:srgbClr val="808080"/>
                </a:solidFill>
                <a:latin typeface="Arial"/>
              </a:rPr>
              <a:t>動脈粥樣硬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85960" y="134928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421000"/>
            <a:ext cx="317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油脂或纖維沉積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亦稱為脂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動脈內壁積聚成斑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斑塊積聚令動脈收窄，使輸送到身體重要器官如心臟及大腦的血液供應減少，令器官無法得到充足的氧氣和必需的營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8000" y="134604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血管外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09040" y="1679400"/>
            <a:ext cx="11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血管中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23080" y="1984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血管內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42040" y="22748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血管內壁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51560" y="3676680"/>
            <a:ext cx="22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脂肪積聚</a:t>
            </a: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斑塊</a:t>
            </a: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3880" y="5719680"/>
            <a:ext cx="22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Arial"/>
              </a:rPr>
              <a:t>嚴重粥樣硬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1052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80"/>
                </a:solidFill>
                <a:latin typeface="Times New Roman"/>
              </a:rPr>
              <a:t>血管內動脈粥樣硬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71320" y="278100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80"/>
                </a:solidFill>
                <a:latin typeface="Times New Roman"/>
              </a:rPr>
              <a:t>必須及早保持膽固醇健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5480" y="877680"/>
            <a:ext cx="83822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改變膽固醇之好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4940640"/>
            <a:ext cx="59101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18288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Report of the NCEP Expert Panel. NIH Publication No. 01-3670 2001. http://hin.nhlbi.nih.gov/ncep_slds/men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76440" y="2484360"/>
            <a:ext cx="3886200" cy="2833560"/>
            <a:chOff x="676440" y="2484360"/>
            <a:chExt cx="3886200" cy="2833560"/>
          </a:xfrm>
        </p:grpSpPr>
        <p:sp>
          <p:nvSpPr>
            <p:cNvPr id="271" name=""/>
            <p:cNvSpPr/>
            <p:nvPr/>
          </p:nvSpPr>
          <p:spPr>
            <a:xfrm>
              <a:off x="676440" y="2484360"/>
              <a:ext cx="3886200" cy="2833560"/>
            </a:xfrm>
            <a:prstGeom prst="downArrow">
              <a:avLst>
                <a:gd name="adj1" fmla="val 74509"/>
                <a:gd name="adj2" fmla="val 66694"/>
              </a:avLst>
            </a:prstGeom>
            <a:gradFill rotWithShape="0">
              <a:gsLst>
                <a:gs pos="0">
                  <a:srgbClr val="fecd65"/>
                </a:gs>
                <a:gs pos="100000">
                  <a:srgbClr val="ffb31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90600" y="2678040"/>
              <a:ext cx="2629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Verdana"/>
                </a:rPr>
                <a:t>降</a:t>
              </a:r>
              <a:r>
                <a:rPr b="1" lang="zh-TW" sz="20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r>
                <a:rPr b="1" lang="zh-TW" sz="2000" spc="-1" strike="noStrike">
                  <a:solidFill>
                    <a:srgbClr val="ffffff"/>
                  </a:solidFill>
                  <a:latin typeface="Verdana"/>
                </a:rPr>
                <a:t>「壞」膽固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Verdana"/>
                </a:rPr>
                <a:t>心血管病風險減</a:t>
              </a:r>
              <a:r>
                <a:rPr b="1" lang="zh-TW" sz="20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 rot="10800000">
            <a:off x="4312800" y="1757520"/>
            <a:ext cx="3886200" cy="2962080"/>
          </a:xfrm>
          <a:prstGeom prst="downArrow">
            <a:avLst>
              <a:gd name="adj1" fmla="val 74509"/>
              <a:gd name="adj2" fmla="val 66694"/>
            </a:avLst>
          </a:prstGeom>
          <a:gradFill rotWithShape="0">
            <a:gsLst>
              <a:gs pos="0">
                <a:srgbClr val="3333cc"/>
              </a:gs>
              <a:gs pos="100000">
                <a:srgbClr val="8f8fe2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59280" y="3019320"/>
            <a:ext cx="2832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增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1%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「好」膽固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心血管病風險減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TW" sz="2000" spc="-1" strike="noStrike">
                <a:solidFill>
                  <a:srgbClr val="ffffff"/>
                </a:solidFill>
                <a:latin typeface="Verdana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3141720"/>
            <a:ext cx="0" cy="503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6960" y="3459240"/>
            <a:ext cx="0" cy="503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3200" y="87804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預防膽固醇過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定期檢查身體及進行膽固醇水平測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建立健康的飲食習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其他健康生活習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戒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減壓，盡量保持心境輕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適當運動 （每周運動二至三次，每次最少二十分鐘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32400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脂肪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蛋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肥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牛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動物內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516720" y="1484280"/>
            <a:ext cx="2270160" cy="2270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2735280" cy="1801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03600" y="1916280"/>
            <a:ext cx="1812960" cy="2233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5800" y="878040"/>
            <a:ext cx="7772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減少不良飲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2778120" y="3645000"/>
            <a:ext cx="17938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蔬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水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燕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綠茶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2421000"/>
            <a:ext cx="2158920" cy="14349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3200" y="878040"/>
            <a:ext cx="7772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進食有益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804000" y="1009800"/>
            <a:ext cx="2158920" cy="1422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804000" y="3860640"/>
            <a:ext cx="21258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78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茶葉的種類多達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多種，是以其發酵程度來分類，發酵過程會改變茶葉內茶多酚的含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綠茶＝未經發酵的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紅茶＝完全發酵的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878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茶與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西方醫學文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茶具改善血脂及抗動脈硬化等功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關注膽固醇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心血管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膽固醇過高正是患心血管疾病之其中一個主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根據聯合醫院於九九年進行的一項涉及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7,716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本港市民的調查，當中過半數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(54.2%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的總膽固醇量高於標準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&gt;5.2 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每年有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0,0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名香港人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歲以上）死於心血管疾病，約佔死亡總數的四分之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心血管疾病是香港及全球頭號殺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冠心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年代起，冠心病一直是本港第二號殺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據本港衛生署的數據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年每天平均有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人死於冠心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男性對比女性死亡率為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1.3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*2003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年資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78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綠茶之功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抗氧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改善高血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降低膽固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7240" y="87804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最新臨床研究綠茶與膽固醇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774440"/>
            <a:ext cx="792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年，美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rchive of Internal Medicine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刊載了一項有關茶多酚的臨床研究，進一步確認綠茶對改善膽固醇水平有幫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茶多酚為綠茶內主要成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研究設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名患有膽固醇偏高的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歲以上的男女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在中國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間城市醫院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參與雙盲、自由配組、為期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星期的研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當中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14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名每天服用含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毫克茶黃素、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毫克兒茶素及其他茶多酚的茶多酚膠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其餘的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名則服用安慰劑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</a:rPr>
              <a:t>研究針對四方面﹕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與開始時相比，病人的總膽固醇量的差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與開始時相比，病人的「壞」膽固醇量的差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與開始時相比，病人的「好」膽固醇量的差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與開始時相比，病人的三酸甘油脂量的差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Maron et al.  (2003) Cholesterol-lowering Effect of a Theaflavin-Enriched Green Tea Extract.  Arch. Intern. Med. Vol 163:1448-14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3200" y="87804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臨床證實綠茶對膽固醇健康的好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研究結果顯示，連續食用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星期含茶黃素和兒茶素的茶多酚膠囊，並配合低飽和脂肪的膳食，對減少壞膽固醇及保持心血管健康有顯著幫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總膽固醇：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-11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壞膽固醇：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-16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ron et al.  (2003) Cholesterol-lowering Effect of a Theaflavin-Enriched Green Tea Extract.  Arch. Intern. Med. Vol 163:1448-14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總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4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香港人知易行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認知高膽固醇之危疾，但過半數從未積極進行自身膽固醇測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忽略生活模式對膽固醇健康之影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未完全解構綠茶對健康的好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建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79640" y="1557360"/>
            <a:ext cx="2160360" cy="2087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即時行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（定期進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膽固醇健康測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90920" y="1557360"/>
            <a:ext cx="2160720" cy="20876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健康生活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（適量運動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保持適當體重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戒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0360" y="1557360"/>
            <a:ext cx="2160720" cy="20876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均衡飲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（蔬果、燕麥、綠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76360" y="3789360"/>
            <a:ext cx="1079640" cy="792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7080" y="3789360"/>
            <a:ext cx="1079640" cy="719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378936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4797360"/>
            <a:ext cx="460872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imes New Roman"/>
              </a:rPr>
              <a:t>健康人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80"/>
                </a:solidFill>
                <a:latin typeface="Times New Roman"/>
              </a:rPr>
              <a:t>謝 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836640"/>
            <a:ext cx="7603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心臟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病</a:t>
            </a: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與膽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固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3240" y="339840"/>
            <a:ext cx="85374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9400" y="1916280"/>
            <a:ext cx="643680" cy="3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4840" y="4935600"/>
            <a:ext cx="1440" cy="61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08480" y="4935600"/>
            <a:ext cx="9360" cy="61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1480" y="4935600"/>
            <a:ext cx="1440" cy="61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935600"/>
            <a:ext cx="7920" cy="61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4935600"/>
            <a:ext cx="1440" cy="61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4840" y="4935600"/>
            <a:ext cx="347508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7760" y="5097600"/>
            <a:ext cx="235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632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90760" y="5097600"/>
            <a:ext cx="235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8932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65560" y="5097600"/>
            <a:ext cx="233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6412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5097600"/>
            <a:ext cx="235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776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6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02200" y="5097600"/>
            <a:ext cx="236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076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5760" y="5391000"/>
            <a:ext cx="5682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60480" y="5445000"/>
            <a:ext cx="363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Mean usual total cholesterol (mmol/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328480" y="4843440"/>
            <a:ext cx="7164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328480" y="3454560"/>
            <a:ext cx="7164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28480" y="2736720"/>
            <a:ext cx="71640" cy="64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328480" y="1925640"/>
            <a:ext cx="71640" cy="7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4724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8200" y="40053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97120" y="4125960"/>
            <a:ext cx="972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97120" y="412596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96760" y="4125960"/>
            <a:ext cx="972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71760" y="3538440"/>
            <a:ext cx="1800" cy="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71760" y="3538440"/>
            <a:ext cx="1800" cy="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71400" y="3530520"/>
            <a:ext cx="9720" cy="180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3429000"/>
            <a:ext cx="1440" cy="6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360" y="3213000"/>
            <a:ext cx="180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87760" y="3530520"/>
            <a:ext cx="711000" cy="6177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48000" y="3429000"/>
            <a:ext cx="720720" cy="10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084560" y="3082680"/>
            <a:ext cx="719280" cy="35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89480" y="3346200"/>
            <a:ext cx="539640" cy="16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38480" y="2736720"/>
            <a:ext cx="7653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42760" y="4079880"/>
            <a:ext cx="118080" cy="108000"/>
            <a:chOff x="2642760" y="4079880"/>
            <a:chExt cx="118080" cy="108000"/>
          </a:xfrm>
        </p:grpSpPr>
        <p:sp>
          <p:nvSpPr>
            <p:cNvPr id="97" name=""/>
            <p:cNvSpPr/>
            <p:nvPr/>
          </p:nvSpPr>
          <p:spPr>
            <a:xfrm>
              <a:off x="2643120" y="4079880"/>
              <a:ext cx="11772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642760" y="4079880"/>
              <a:ext cx="11772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417760" y="4079880"/>
            <a:ext cx="108000" cy="84240"/>
          </a:xfrm>
          <a:prstGeom prst="ellipse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03480" y="3724200"/>
            <a:ext cx="98640" cy="84240"/>
          </a:xfrm>
          <a:prstGeom prst="ellipse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44840" y="3462480"/>
            <a:ext cx="98640" cy="83880"/>
          </a:xfrm>
          <a:prstGeom prst="ellipse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41920" y="2689200"/>
            <a:ext cx="98280" cy="85680"/>
          </a:xfrm>
          <a:prstGeom prst="ellipse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7760" y="1925640"/>
            <a:ext cx="1440" cy="291780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0200" y="3524400"/>
            <a:ext cx="449280" cy="245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00360" y="3357720"/>
            <a:ext cx="61920" cy="1550520"/>
            <a:chOff x="2700360" y="3357720"/>
            <a:chExt cx="61920" cy="1550520"/>
          </a:xfrm>
        </p:grpSpPr>
        <p:sp>
          <p:nvSpPr>
            <p:cNvPr id="106" name=""/>
            <p:cNvSpPr/>
            <p:nvPr/>
          </p:nvSpPr>
          <p:spPr>
            <a:xfrm>
              <a:off x="2727000" y="3357720"/>
              <a:ext cx="1080" cy="151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00360" y="4854600"/>
              <a:ext cx="61920" cy="536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lnTo>
                    <a:pt x="24" y="42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067280" y="2924280"/>
            <a:ext cx="1440" cy="847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1120" y="3724200"/>
            <a:ext cx="1800" cy="809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421000"/>
            <a:ext cx="1440" cy="8031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4935600"/>
            <a:ext cx="1440" cy="619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08480" y="4935600"/>
            <a:ext cx="9360" cy="619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480" y="4935600"/>
            <a:ext cx="1440" cy="619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6560" y="4935600"/>
            <a:ext cx="7920" cy="619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935600"/>
            <a:ext cx="1440" cy="619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4840" y="4935600"/>
            <a:ext cx="3475080" cy="14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7760" y="5097600"/>
            <a:ext cx="235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632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0760" y="5097600"/>
            <a:ext cx="235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8932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65560" y="5097600"/>
            <a:ext cx="233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6412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097600"/>
            <a:ext cx="235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776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6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02200" y="5097600"/>
            <a:ext cx="236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00760" y="5113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40720" y="314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isk of heart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25760" y="5391000"/>
            <a:ext cx="5682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60480" y="5445000"/>
            <a:ext cx="363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ean usual total cholesterol (mmol/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3480" y="4335480"/>
            <a:ext cx="95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 = 0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28480" y="4843440"/>
            <a:ext cx="71640" cy="14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28480" y="3454560"/>
            <a:ext cx="71640" cy="14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28480" y="2736720"/>
            <a:ext cx="71640" cy="648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28480" y="1925640"/>
            <a:ext cx="71640" cy="79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8200" y="26370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8200" y="1916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7120" y="4125960"/>
            <a:ext cx="972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97120" y="412596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96760" y="4125960"/>
            <a:ext cx="972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71760" y="3538440"/>
            <a:ext cx="1800" cy="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71760" y="3538440"/>
            <a:ext cx="1800" cy="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71400" y="3530520"/>
            <a:ext cx="9720" cy="180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489480" y="3346200"/>
            <a:ext cx="53964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42760" y="4079880"/>
            <a:ext cx="11772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7760" y="4079880"/>
            <a:ext cx="108000" cy="84240"/>
          </a:xfrm>
          <a:prstGeom prst="ellipse">
            <a:avLst/>
          </a:prstGeom>
          <a:solidFill>
            <a:srgbClr val="cccc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03480" y="3724200"/>
            <a:ext cx="98640" cy="84240"/>
          </a:xfrm>
          <a:prstGeom prst="ellipse">
            <a:avLst/>
          </a:prstGeom>
          <a:solidFill>
            <a:srgbClr val="cccc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3284640"/>
            <a:ext cx="100080" cy="83880"/>
          </a:xfrm>
          <a:prstGeom prst="ellipse">
            <a:avLst/>
          </a:prstGeom>
          <a:solidFill>
            <a:srgbClr val="cccc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41920" y="2689200"/>
            <a:ext cx="98280" cy="85680"/>
          </a:xfrm>
          <a:prstGeom prst="ellipse">
            <a:avLst/>
          </a:prstGeom>
          <a:solidFill>
            <a:srgbClr val="cccc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7760" y="1925640"/>
            <a:ext cx="1440" cy="291780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449280" cy="2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1120" y="3724200"/>
            <a:ext cx="1800" cy="8096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328480" y="4143240"/>
            <a:ext cx="71640" cy="180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044960"/>
            <a:ext cx="133200" cy="11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629400"/>
            <a:ext cx="490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Asia Pacific Cohort Studies Collaboration,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35772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6400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. of Healt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1480" y="878040"/>
            <a:ext cx="75931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甚麼是膽固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2014560"/>
            <a:ext cx="531972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臘狀脂類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脂肪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用來製造膽汁、荷爾蒙及維他命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由肝臟產生或從由動物製成的食物攝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32400" y="1843200"/>
            <a:ext cx="3557520" cy="31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878040"/>
            <a:ext cx="633744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「好」「壞」膽固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7560"/>
            <a:ext cx="849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低密度脂蛋白膽固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LDL-C)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壞」膽固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可引致血管粥樣梗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可導致心血管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密度脂蛋白膽固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HDL-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好」膽固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減低患有心血管病的風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1280" y="87804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膽固醇量水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膽固醇水平必須視乎個別健康狀況而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一般而言，成年人理想的總膽固醇水平為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5.2mmol/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以下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好膽固醇）應高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.5mmol/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壞膽固醇）則應低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.6 mmol/L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略高＝總膽固醇介乎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5.2mmol/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6.2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過高＝總膽固醇等於或高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6.2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*200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年美國膽固醇教育計劃報告建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78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壞膽固醇分解因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41360" y="1959120"/>
            <a:ext cx="503280" cy="50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44640" y="1959120"/>
            <a:ext cx="503280" cy="50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9360" y="1959120"/>
            <a:ext cx="503280" cy="50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1360" y="2463840"/>
            <a:ext cx="503280" cy="50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44640" y="2463840"/>
            <a:ext cx="503280" cy="50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9360" y="2463840"/>
            <a:ext cx="503280" cy="50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43160" y="2965320"/>
            <a:ext cx="503280" cy="50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46440" y="2965320"/>
            <a:ext cx="502920" cy="50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51160" y="2965320"/>
            <a:ext cx="503280" cy="50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2480" y="3645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Puffy LDL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37200" y="19162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53200" y="1914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69200" y="191448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1914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0840" y="1914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16840" y="1914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32840" y="191448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39000" y="21319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54640" y="2130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85040" y="213048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0680" y="2130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2280" y="2130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18280" y="2130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34280" y="2130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40440" y="23479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56440" y="234648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2080" y="2346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88080" y="2346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04080" y="2346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20080" y="234648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35720" y="234648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41880" y="25639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57880" y="2562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3880" y="2562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89880" y="25621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05520" y="2562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21520" y="2562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37520" y="25621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3680" y="2779560"/>
            <a:ext cx="21600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9680" y="27781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5320" y="2778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91320" y="2778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07320" y="27781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22960" y="2778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38960" y="2778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45120" y="299556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61120" y="2994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9941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92760" y="2994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08760" y="2994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24760" y="2994120"/>
            <a:ext cx="21600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40760" y="299412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46920" y="3211560"/>
            <a:ext cx="215640" cy="217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62560" y="3209760"/>
            <a:ext cx="21600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8560" y="3209760"/>
            <a:ext cx="21600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4560" y="3209760"/>
            <a:ext cx="21600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10560" y="3209760"/>
            <a:ext cx="21564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26200" y="3209760"/>
            <a:ext cx="21600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42200" y="3209760"/>
            <a:ext cx="216000" cy="21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33920" y="36464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ense LDL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6480" y="2349360"/>
            <a:ext cx="2089080" cy="719280"/>
          </a:xfrm>
          <a:prstGeom prst="rightArrow">
            <a:avLst>
              <a:gd name="adj1" fmla="val 50000"/>
              <a:gd name="adj2" fmla="val 7261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4437000"/>
            <a:ext cx="842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壞膽固醇分解因子愈細，膽固醇健康情況愈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一般糖尿病及中央肥胖患者體內之壞膽固醇分解因子會較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7240" y="878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80"/>
                </a:solidFill>
                <a:latin typeface="Times New Roman"/>
              </a:rPr>
              <a:t>「壞」膽固醇過高之風險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汲取過量飽和脂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汲取過高熱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過度肥胖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遺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其他疾病引致：腎病、甲狀線功能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纖瘦不等於完全沒有高膽固醇危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08:46:23Z</dcterms:created>
  <dc:creator>Betty Ng</dc:creator>
  <dc:description/>
  <dc:language>en-US</dc:language>
  <cp:lastModifiedBy>HKUPOP</cp:lastModifiedBy>
  <dcterms:modified xsi:type="dcterms:W3CDTF">2005-09-05T11:41:07Z</dcterms:modified>
  <cp:revision>131</cp:revision>
  <dc:subject/>
  <dc:title>膽固醇健康與綠茶之認知</dc:title>
</cp:coreProperties>
</file>