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026-C310-47D7-B1EE-E0BE0E81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20-687A-46A1-8DC9-FD18FC5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83B-4A65-4D5A-BF52-57C4881E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1D6-5EB9-46F2-9DC1-A4FD8644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7AF-2FA6-48CA-B239-F37F669D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E6F-027F-4DA2-8E32-DB8F005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74F-2BFC-48B1-A2EC-2928C870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E1E-3D63-46B0-B474-F2F925E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D48-6BDA-40AE-8A57-7C06CB0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61B-5598-4A9A-877F-D520C3A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18A-3409-4ED9-A8EE-82D245A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E3D-B270-48D1-913B-F050544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D67-6F2C-404D-AB43-D7E8CC67D81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保栢健康指標意見調查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4000"/>
            </a:b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6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7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492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包括有定期做運動之人士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運動類型的分佈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3657600"/>
          <a:ext cx="9207360" cy="40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920736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4920" y="762120"/>
          <a:ext cx="845820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762120"/>
                    <a:ext cx="84582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BD00017_" descr=""/>
          <p:cNvPicPr/>
          <p:nvPr/>
        </p:nvPicPr>
        <p:blipFill>
          <a:blip r:embed="rId5"/>
          <a:stretch/>
        </p:blipFill>
        <p:spPr>
          <a:xfrm>
            <a:off x="533520" y="0"/>
            <a:ext cx="70164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84160" y="6019920"/>
            <a:ext cx="5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6600"/>
                </a:solidFill>
                <a:latin typeface="Times New Roman"/>
                <a:ea typeface="標楷體"/>
              </a:rPr>
              <a:t>* </a:t>
            </a:r>
            <a:r>
              <a:rPr b="0" lang="zh-TW" sz="16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由於樣本人數極小，使抽樣誤差大幅增加，故此有關結果只能作粗略參考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52140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有效基數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=606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，佔總人數的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60.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905120"/>
          <a:ext cx="89726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972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計算身體質量指數，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ody Mass Index(BMI)] BMI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6461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562720" y="1828800"/>
          <a:ext cx="304956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828800"/>
                    <a:ext cx="30495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2" name=""/>
          <p:cNvCxnSpPr/>
          <p:nvPr/>
        </p:nvCxnSpPr>
        <p:spPr>
          <a:xfrm flipH="1" rot="16200000">
            <a:off x="448632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93" name=""/>
          <p:cNvSpPr/>
          <p:nvPr/>
        </p:nvSpPr>
        <p:spPr>
          <a:xfrm>
            <a:off x="3733920" y="2438280"/>
            <a:ext cx="69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905120"/>
          <a:ext cx="89726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972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計算身體質量指數，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ody Mass Index(BMI)] BMI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6461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562720" y="1828800"/>
          <a:ext cx="304956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828800"/>
                    <a:ext cx="30495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2" name=""/>
          <p:cNvCxnSpPr/>
          <p:nvPr/>
        </p:nvCxnSpPr>
        <p:spPr>
          <a:xfrm flipH="1" rot="16200000">
            <a:off x="448632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103" name=""/>
          <p:cNvSpPr/>
          <p:nvPr/>
        </p:nvSpPr>
        <p:spPr>
          <a:xfrm>
            <a:off x="3733920" y="2438280"/>
            <a:ext cx="69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28954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89400" y="3886200"/>
          <a:ext cx="3954600" cy="2440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9400" y="3886200"/>
                    <a:ext cx="3954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14800" y="48769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81480" y="1828800"/>
          <a:ext cx="4114800" cy="205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1828800"/>
                    <a:ext cx="4114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日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幾多時間做以下活動？</a:t>
            </a:r>
            <a:br>
              <a:rPr sz="36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總和不超過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小時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05440" y="6172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4-1,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343400" y="685800"/>
          <a:ext cx="4800600" cy="279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85800"/>
                    <a:ext cx="48006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57240" y="1601640"/>
          <a:ext cx="935208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93520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82120" y="61722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3-99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990720"/>
          <a:ext cx="3809880" cy="243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90720"/>
                    <a:ext cx="380988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-57240" y="1601640"/>
          <a:ext cx="935208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93520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82120" y="61722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3-99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4120" y="990720"/>
          <a:ext cx="3809880" cy="243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90720"/>
                    <a:ext cx="380988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81480" y="914400"/>
          <a:ext cx="4329360" cy="2570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914400"/>
                    <a:ext cx="43293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40760" y="624852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95280"/>
          <a:ext cx="8915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40760" y="624852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295280"/>
          <a:ext cx="9799920" cy="525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979992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-228600" y="1905120"/>
          <a:ext cx="821196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905120"/>
                    <a:ext cx="82119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你用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一下你宜家生理既健康狀况。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俾幾多分自己既身體健康狀况呢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1752480"/>
          <a:ext cx="4190760" cy="2243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752480"/>
                    <a:ext cx="41907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7200" y="220968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與你相同年齡，相同性別的人士作比較，你覺得你既生理健康狀况比佢地好、差、抑或差唔多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7000" y="1371600"/>
          <a:ext cx="884700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371600"/>
                    <a:ext cx="8847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生理健康」的測試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一般的身體狀况及健康習慣的數據，當中包括他們吸煙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/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食雪茄、長期病患、活動能力、身體痛症、睡眠問題、疲累、運動及體重指標等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自己的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身體健康狀况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作出評價，以及與同齡和性別相同的人士作比較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心理健康」的測試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Burckhardt, C. S. 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Anderson, K. L., 2003)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評價自己的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精神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/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心理健康狀况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以及與被訪者相同年齡和性別的人士作比較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「關於心理健康」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1" name="BD07175_" descr=""/>
          <p:cNvPicPr/>
          <p:nvPr/>
        </p:nvPicPr>
        <p:blipFill>
          <a:blip r:embed="rId1"/>
          <a:stretch/>
        </p:blipFill>
        <p:spPr>
          <a:xfrm>
            <a:off x="5029200" y="4219560"/>
            <a:ext cx="342900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 </a:t>
            </a:r>
            <a:br>
              <a:rPr sz="3600"/>
            </a:b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次範疇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sub-scales)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1752480"/>
          <a:ext cx="82836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283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705720" y="3124080"/>
            <a:ext cx="990360" cy="73404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6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 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2]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440" y="259092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7.4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1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93440" y="594360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.6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5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8440" y="457200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2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3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5334120"/>
            <a:ext cx="99036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1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4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Quality of Life Scale)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066680"/>
          <a:ext cx="8756640" cy="51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7566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62481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[ ] 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括號內的數字為排名。請注意，香港數據所列出的排名乃根據未被調整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即四捨五入前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)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之數據而得出。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# 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不同國家的數據亦已按比例轉化為以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0-10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分排列，所有數據的相對排名沒有改變。不過因為民研計劃沒有這些國家的原始數據，故未能提供它們的標準誤差。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-228600" y="1752480"/>
          <a:ext cx="8458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524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你用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一下你宜家</a:t>
            </a:r>
            <a:r>
              <a:rPr b="1" lang="zh-TW" sz="27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或者精神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既健康狀况。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你會俾幾多分自己既</a:t>
            </a:r>
            <a:r>
              <a:rPr b="1" lang="zh-TW" sz="27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或者精神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健康狀况呢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486400" y="1600200"/>
          <a:ext cx="4267080" cy="228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600200"/>
                    <a:ext cx="426708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9840" y="213372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與你相同年齡，相同性別的人士作比較，你覺得你既心理或者精神健康健康狀况比佢地好、差、</a:t>
            </a:r>
            <a:br>
              <a:rPr sz="2800"/>
            </a:b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抑或差唔多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00200"/>
          <a:ext cx="9524880" cy="50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5248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標楷體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標楷體"/>
                <a:ea typeface="標楷體"/>
              </a:rPr>
              <a:t>=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1,01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『生』、『心』健康之比較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6" name="PE01496_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28096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生理及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狀况之比較</a:t>
            </a:r>
            <a:br>
              <a:rPr sz="3200"/>
            </a:b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66680"/>
          <a:ext cx="9178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78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6852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心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40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9200" y="2971800"/>
            <a:ext cx="2172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生理狀况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Times New Roman"/>
                <a:ea typeface="標楷體"/>
              </a:rPr>
              <a:t>心理狀况平均分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指標及身體狀况類別的分佈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3120" y="995400"/>
          <a:ext cx="4388040" cy="163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995400"/>
                    <a:ext cx="438804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666880" y="2438280"/>
          <a:ext cx="647712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438280"/>
                    <a:ext cx="64771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3888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63720" y="2590920"/>
            <a:ext cx="15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健康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指標及身體狀况類別的分佈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990720"/>
          <a:ext cx="4387680" cy="176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438768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514600" y="2514600"/>
          <a:ext cx="641664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14600"/>
                    <a:ext cx="64166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460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3720" y="2590920"/>
            <a:ext cx="15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生活品質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生理狀况類別的分佈</a:t>
            </a:r>
            <a:br>
              <a:rPr sz="3600"/>
            </a:b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066680"/>
          <a:ext cx="4388040" cy="17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38804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2514600"/>
          <a:ext cx="641664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14600"/>
                    <a:ext cx="64166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8460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8195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*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 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p &lt; 0.05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Arial Unicode MS"/>
              </a:rPr>
              <a:t>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**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 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p &lt; 0.01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健康指標調查意義重大。調查結合了不同測量方法，評估香港市民的生理和心理健康狀況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計，成年巿民平均給予自己的生理健康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6.6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心理健康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7.0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換言之，巿民的心理健康程度似乎比生理健康程度較為理想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生理健康方面，調查分析了被訪者的身體質量指數、家務參與、運動參與和一般生活模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顯示，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運動參與者在身心健康都比非參與者高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而病患者和受生理困擾的人士，在身心兩方面的健康都比其他人差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健康方面，調查採用了由外國學者開發的「生活品質問卷調查」問卷，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範疇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6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項目進行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範疇包括「物質生活情況」、「與他人關係」、「公民活動」、「個人發展」和「閒遐活動」。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巿民在「與他人關係」得分最高，在「公民活動」方面得分最低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單項計，得分最高的三項分別是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「與配偶或重要人士的關係」、「獨立自主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和「與好朋友的關係」，而得分最低的三項分別是「參與公共事務」、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「發揮創意」和「參加動態消遣活動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希望有關研究和分析能夠持之以恆，為提升香港巿民的生活質素提供有用的參考數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參考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Williams, P. T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Online National Health Survey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. Lawrence Berkeley National Laboratory, University of California. Information can be obtained from http://www.healthsurvey.or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Duke Health Profile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(1989-2002), copyrighted by the Department of Community and Family Medicine, Duke University Medical Centre, Durham. Additional information can be obtained from http://healthmeasures.mc.duke.edu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EUROQOL EQ-5D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copyrighted by EuroQol Business Management. Additional information can be found at http://www.euroqol.or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Flanagan, J. C. (1978). A research approach to improving our quality of life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American Psychologist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33, 138-147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Flanagan J. C. (1982). Measurement of quality of life: Current state of the art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Archives of  Physical Medicine and Rehabilitation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63, 56-59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Burckhardt, C. S. &amp; Anderson, K. L. (2003). The Quality of Life Scale (QOLS): Reliability, validity, and utilization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ealth and Quality of Life Outcomes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1, 60. The article is available from http://www.hqlo.com/content/1/1/6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Burckhardt, C. S., Anderson, K. L., Archenholtz, B., &amp; Hagg, O. (2003). The Flanagan quality of life scale: Evidence of construct validity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ealth and Quality of Life Outcomes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1, 59. The article is available from http://www.hqlo.com/content/1/1/59.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an, S-H (1995). Quality of life of persons with spinal cord injury living in Taipei: A psychometric study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MS Thesis Oregon Health Sciences University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操粵語的香港居民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6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5.8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少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.6%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95%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下，各個百分比的抽樣誤差為少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+/-3.1%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生理及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狀况之比較</a:t>
            </a:r>
            <a:br>
              <a:rPr sz="3200"/>
            </a:b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78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78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6852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心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440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9200" y="2971800"/>
            <a:ext cx="2172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生理狀况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Times New Roman"/>
                <a:ea typeface="標楷體"/>
              </a:rPr>
              <a:t>心理狀况平均分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生理健康」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5" name="BD06529_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12408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吸煙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食雪茄、長期病患、活動能力、身體痛症、睡眠問題及疲累情況之分佈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371600" y="6248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定期運動情況之分佈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3962520"/>
          <a:ext cx="7101000" cy="226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1010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71600" y="6248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066680"/>
          <a:ext cx="409392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066680"/>
                    <a:ext cx="40939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19720" y="1066680"/>
          <a:ext cx="4343400" cy="2900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066680"/>
                    <a:ext cx="434340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7-20T09:10:33Z</dcterms:modified>
  <cp:revision>910</cp:revision>
  <dc:subject/>
  <dc:title>無投影片標題</dc:title>
</cp:coreProperties>
</file>