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933480" y="747720"/>
            <a:ext cx="4991040" cy="374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584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DAAB24C-1CFF-4759-90AE-9D1E38154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DBE45A4-FFE9-4071-9176-640A345200C5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8E26AA3-AF4F-4C80-A548-2FE43BE4B04D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D07815B-ABE0-4CC6-90FF-2A9ED3D4FD4C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D0216F6-F914-426D-80AD-4360F166781B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018BF26-7BC8-4DD4-92AA-C3BB70A0A858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A513169-39A3-457A-80CD-119C3A2CD769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C88C6F5-5B77-4F2C-BC26-6FA16C1D1D51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7E08C98-EAB9-4042-ADB1-B0EE22CD4EC2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9C0AB72-C7C3-4981-B952-3F31C50D3348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0CAB9CC-8876-4741-A9DE-F0352A3C0EB2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7CE848D-844A-41FD-9936-19CE271C9520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E2A8AA4-FDBB-46EE-9C99-0B39654D0F3D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A6335B2-505A-408B-A530-16A76388E155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B6B4260-41D5-4C60-8042-8DF0EC341BFF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23C5117-F05E-4B77-B336-53B40833A147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EE50DEA-6AA3-4037-8570-6C8A1B438550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58E5AD1-8EE3-420F-B294-432BA531B62A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E32DF16-6F09-40CB-A60E-0D15AD62590B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3ADC226-351C-4888-A017-F5732CFA323A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2F03573-1A79-48D9-8224-37D12F1A4971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94334DF-B804-4CDB-9AA9-35A0859035AB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B28E66B-79A6-4EBA-AA3B-E1C214B19290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B060-B481-46CE-9C12-40DBDF536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8A1B-E2C0-424D-A4FD-30D9AFEC7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16C5-DE71-445F-B7DE-A3E168DB1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59EB-74F5-44D0-83C9-F448CFE52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017BA-5B5D-4FBA-B32F-97D6C6F02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86AE8-9D9C-47DD-8D97-A5D867546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5BFEB-2159-4F10-8169-79DCE8FA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33908-6C41-450C-98DB-D9CBE4177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F40F6-8E11-43D3-876B-48D657903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67EAA-5B23-4C7A-BBF6-95C3AE6B8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8A6B8-CCF6-41DA-AF4F-83490A40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E763-2F83-400C-94C7-26709CCC1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0E6D3-159F-447F-99B8-D1AC9D55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BD52D-A315-4F1B-8FB1-86437BF3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71FF2-A910-442C-BBBA-31CCA6385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36241-E63B-4CFF-9BAE-75A467B7F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F43A0-9DED-4E54-B2B0-C8C020ED3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52C0-FF90-4032-8A18-765139A3C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3FF1-BAC9-44EA-BAEE-31572A2BE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BEC3-D174-4F2E-8FFD-D0F843A2A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C189-5F42-4C14-A94B-262B127D1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F4A9-7446-41A3-BEB8-65DDAF52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C31D-92AF-4039-A148-345B04F5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2DA1-19A6-47EA-877F-8C4538B8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2A336-CA1C-4B1D-9348-9639156758AF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Picture 1035" descr="C:\Documents and Settings\frank\Desktop\index_01.jpg"/>
          <p:cNvPicPr/>
          <p:nvPr/>
        </p:nvPicPr>
        <p:blipFill>
          <a:blip r:embed="rId2"/>
          <a:stretch/>
        </p:blipFill>
        <p:spPr>
          <a:xfrm>
            <a:off x="7391520" y="152280"/>
            <a:ext cx="1504800" cy="363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" name="Object 2053"/>
          <p:cNvGraphicFramePr/>
          <p:nvPr/>
        </p:nvGraphicFramePr>
        <p:xfrm>
          <a:off x="304920" y="152280"/>
          <a:ext cx="43956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" name="Object 205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52280"/>
                    <a:ext cx="4395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314D5-A5E6-4F6E-AE15-D62F795A5A91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052"/>
          <p:cNvSpPr/>
          <p:nvPr/>
        </p:nvSpPr>
        <p:spPr>
          <a:xfrm>
            <a:off x="2286000" y="1127160"/>
            <a:ext cx="373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香港大學 民意研究計劃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Public Opinion Programm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The University of Hong Kong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02" name="Object 2053"/>
          <p:cNvGraphicFramePr/>
          <p:nvPr/>
        </p:nvGraphicFramePr>
        <p:xfrm>
          <a:off x="1407960" y="1143000"/>
          <a:ext cx="878040" cy="91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Object 205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7960" y="1143000"/>
                    <a:ext cx="8780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2895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在職人士對照顧家人及社區支援服務需求</a:t>
            </a:r>
            <a:br>
              <a:rPr sz="2800"/>
            </a:b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意見調查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Rectangle 2057"/>
          <p:cNvSpPr/>
          <p:nvPr/>
        </p:nvSpPr>
        <p:spPr>
          <a:xfrm>
            <a:off x="762120" y="4643280"/>
            <a:ext cx="7848360" cy="15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鍾庭耀博士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香港大學 民意研究計劃 總監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20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2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日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Line 2058"/>
          <p:cNvSpPr/>
          <p:nvPr/>
        </p:nvSpPr>
        <p:spPr>
          <a:xfrm>
            <a:off x="1143000" y="2781360"/>
            <a:ext cx="70866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Line 2059"/>
          <p:cNvSpPr/>
          <p:nvPr/>
        </p:nvSpPr>
        <p:spPr>
          <a:xfrm>
            <a:off x="1143000" y="4149720"/>
            <a:ext cx="70866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8" name="Picture 9" descr="C:\Documents and Settings\frank\Desktop\index_01.jpg"/>
          <p:cNvPicPr/>
          <p:nvPr/>
        </p:nvPicPr>
        <p:blipFill>
          <a:blip r:embed="rId4"/>
          <a:stretch/>
        </p:blipFill>
        <p:spPr>
          <a:xfrm>
            <a:off x="5638680" y="1284120"/>
            <a:ext cx="2571840" cy="621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928800"/>
            <a:ext cx="75103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Q6 (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只問擔心家人者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咁耐以黎，你有冇試過未能及時或者冇妥善照顧呢位屋企人而出現問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4" name="Object 0" descr=""/>
          <p:cNvPicPr/>
          <p:nvPr/>
        </p:nvPicPr>
        <p:blipFill>
          <a:blip r:embed="rId1"/>
          <a:stretch/>
        </p:blipFill>
        <p:spPr>
          <a:xfrm>
            <a:off x="853920" y="2066760"/>
            <a:ext cx="8082000" cy="41580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5"/>
          <p:cNvSpPr/>
          <p:nvPr/>
        </p:nvSpPr>
        <p:spPr>
          <a:xfrm>
            <a:off x="2565720" y="221472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3366"/>
                </a:solidFill>
                <a:latin typeface="Times New Roman"/>
                <a:ea typeface="標楷體"/>
              </a:rPr>
              <a:t>回答人數 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標楷體"/>
              </a:rPr>
              <a:t>= 701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85920" y="928800"/>
            <a:ext cx="71438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Q7 (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只問擔心家人者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整體黎講，你認為現時對呢位屋企人既照顧足唔足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? 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7" name="Object 0" descr=""/>
          <p:cNvPicPr/>
          <p:nvPr/>
        </p:nvPicPr>
        <p:blipFill>
          <a:blip r:embed="rId1"/>
          <a:stretch/>
        </p:blipFill>
        <p:spPr>
          <a:xfrm>
            <a:off x="828720" y="1779480"/>
            <a:ext cx="7961400" cy="476748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5"/>
          <p:cNvSpPr/>
          <p:nvPr/>
        </p:nvSpPr>
        <p:spPr>
          <a:xfrm>
            <a:off x="5985720" y="214308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3366"/>
                </a:solidFill>
                <a:latin typeface="Times New Roman"/>
                <a:ea typeface="標楷體"/>
              </a:rPr>
              <a:t>回答人數 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標楷體"/>
              </a:rPr>
              <a:t>= 700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1720" y="999720"/>
            <a:ext cx="7500960" cy="90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Q8 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知唔知道現時係有社區資源可以協助你照顧屋企人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? 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例如起居照顧、社工服務、緊急支援、接送及復康服務等。</a:t>
            </a: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0" name="Object 0" descr=""/>
          <p:cNvPicPr/>
          <p:nvPr/>
        </p:nvPicPr>
        <p:blipFill>
          <a:blip r:embed="rId1"/>
          <a:stretch/>
        </p:blipFill>
        <p:spPr>
          <a:xfrm>
            <a:off x="853920" y="1852560"/>
            <a:ext cx="7723440" cy="45118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5"/>
          <p:cNvSpPr/>
          <p:nvPr/>
        </p:nvSpPr>
        <p:spPr>
          <a:xfrm>
            <a:off x="6066000" y="2357280"/>
            <a:ext cx="178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3366"/>
                </a:solidFill>
                <a:latin typeface="Times New Roman"/>
                <a:ea typeface="標楷體"/>
              </a:rPr>
              <a:t>回答人數 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標楷體"/>
              </a:rPr>
              <a:t>= 1,001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4280" y="857160"/>
            <a:ext cx="714384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 </a:t>
            </a:r>
            <a:br>
              <a:rPr sz="2000"/>
            </a:b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Q9 (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只問知悉有關服務者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係從乜野途徑得知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D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社區資源同服務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? [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可選多項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]</a:t>
            </a:r>
            <a:br>
              <a:rPr sz="2400"/>
            </a:b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3" name="Object 0" descr=""/>
          <p:cNvPicPr/>
          <p:nvPr/>
        </p:nvPicPr>
        <p:blipFill>
          <a:blip r:embed="rId1"/>
          <a:stretch/>
        </p:blipFill>
        <p:spPr>
          <a:xfrm>
            <a:off x="853920" y="1920960"/>
            <a:ext cx="7796520" cy="435744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5"/>
          <p:cNvSpPr/>
          <p:nvPr/>
        </p:nvSpPr>
        <p:spPr>
          <a:xfrm>
            <a:off x="5923080" y="242892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3366"/>
                </a:solidFill>
                <a:latin typeface="Times New Roman"/>
                <a:ea typeface="標楷體"/>
              </a:rPr>
              <a:t>回答人數 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標楷體"/>
              </a:rPr>
              <a:t>= 705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6030000" y="6286680"/>
            <a:ext cx="191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imes New Roman"/>
                <a:ea typeface="標楷體"/>
              </a:rPr>
              <a:t>* </a:t>
            </a:r>
            <a:r>
              <a:rPr b="1" lang="zh-TW" sz="1200" spc="-1" strike="noStrike">
                <a:solidFill>
                  <a:srgbClr val="003366"/>
                </a:solidFill>
                <a:latin typeface="Times New Roman"/>
                <a:ea typeface="標楷體"/>
              </a:rPr>
              <a:t>篇幅所限，只列出</a:t>
            </a:r>
            <a:r>
              <a:rPr b="1" lang="en-US" sz="1200" spc="-1" strike="noStrike">
                <a:solidFill>
                  <a:srgbClr val="003366"/>
                </a:solidFill>
                <a:latin typeface="Times New Roman"/>
                <a:ea typeface="標楷體"/>
              </a:rPr>
              <a:t>7%</a:t>
            </a:r>
            <a:r>
              <a:rPr b="1" lang="zh-TW" sz="1200" spc="-1" strike="noStrike">
                <a:solidFill>
                  <a:srgbClr val="003366"/>
                </a:solidFill>
                <a:latin typeface="Times New Roman"/>
                <a:ea typeface="標楷體"/>
              </a:rPr>
              <a:t>或以上的答案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3920" y="928800"/>
            <a:ext cx="728676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Q10 (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只問知悉有關服務者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或者你既家人有冇試過使用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D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社區資源協助去照顧你既家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br>
              <a:rPr sz="2000"/>
            </a:b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7" name="Object 0" descr=""/>
          <p:cNvPicPr/>
          <p:nvPr/>
        </p:nvPicPr>
        <p:blipFill>
          <a:blip r:embed="rId1"/>
          <a:stretch/>
        </p:blipFill>
        <p:spPr>
          <a:xfrm>
            <a:off x="871560" y="1852560"/>
            <a:ext cx="7705800" cy="479736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5"/>
          <p:cNvSpPr/>
          <p:nvPr/>
        </p:nvSpPr>
        <p:spPr>
          <a:xfrm>
            <a:off x="3413880" y="242892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3366"/>
                </a:solidFill>
                <a:latin typeface="Times New Roman"/>
                <a:ea typeface="標楷體"/>
              </a:rPr>
              <a:t>回答人數 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標楷體"/>
              </a:rPr>
              <a:t>= 706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3920" y="785880"/>
            <a:ext cx="7734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 </a:t>
            </a:r>
            <a:br>
              <a:rPr sz="2000"/>
            </a:b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Q11 (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只問使用者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認為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D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社區資源同服務可唔可以幫到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br>
              <a:rPr sz="2400"/>
            </a:br>
            <a:br>
              <a:rPr sz="2000"/>
            </a:b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0" name="Object 0" descr=""/>
          <p:cNvPicPr/>
          <p:nvPr/>
        </p:nvPicPr>
        <p:blipFill>
          <a:blip r:embed="rId1"/>
          <a:stretch/>
        </p:blipFill>
        <p:spPr>
          <a:xfrm>
            <a:off x="853920" y="1920960"/>
            <a:ext cx="7869240" cy="435744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5"/>
          <p:cNvSpPr/>
          <p:nvPr/>
        </p:nvSpPr>
        <p:spPr>
          <a:xfrm>
            <a:off x="6558840" y="235728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3366"/>
                </a:solidFill>
                <a:latin typeface="Times New Roman"/>
                <a:ea typeface="標楷體"/>
              </a:rPr>
              <a:t>回答人數 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標楷體"/>
              </a:rPr>
              <a:t>= 112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71360" y="856800"/>
            <a:ext cx="772956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Q12 (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撇除沒有家人需要照顧者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假如日後有需要，你會唔會考慮使用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D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社區資源協助照顧你既家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3" name="Object 0" descr=""/>
          <p:cNvPicPr/>
          <p:nvPr/>
        </p:nvPicPr>
        <p:blipFill>
          <a:blip r:embed="rId1"/>
          <a:stretch/>
        </p:blipFill>
        <p:spPr>
          <a:xfrm>
            <a:off x="901800" y="2066760"/>
            <a:ext cx="7888320" cy="443736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5"/>
          <p:cNvSpPr/>
          <p:nvPr/>
        </p:nvSpPr>
        <p:spPr>
          <a:xfrm>
            <a:off x="6566040" y="242892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3366"/>
                </a:solidFill>
                <a:latin typeface="Times New Roman"/>
                <a:ea typeface="標楷體"/>
              </a:rPr>
              <a:t>回答人數 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標楷體"/>
              </a:rPr>
              <a:t>= 978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85560" y="856800"/>
            <a:ext cx="744372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Q13 (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只問考慮使用者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以每個月計，你大約願意付出幾多錢去獲取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D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社區服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6" name="Object 0" descr=""/>
          <p:cNvPicPr/>
          <p:nvPr/>
        </p:nvPicPr>
        <p:blipFill>
          <a:blip r:embed="rId1"/>
          <a:stretch/>
        </p:blipFill>
        <p:spPr>
          <a:xfrm>
            <a:off x="781200" y="1920960"/>
            <a:ext cx="7729560" cy="44434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5"/>
          <p:cNvSpPr/>
          <p:nvPr/>
        </p:nvSpPr>
        <p:spPr>
          <a:xfrm>
            <a:off x="6057000" y="192888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3366"/>
                </a:solidFill>
                <a:latin typeface="Times New Roman"/>
                <a:ea typeface="標楷體"/>
              </a:rPr>
              <a:t>回答人數 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標楷體"/>
              </a:rPr>
              <a:t>= 768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2357280" y="2428920"/>
          <a:ext cx="2743200" cy="1249200"/>
        </p:xfrm>
        <a:graphic>
          <a:graphicData uri="http://schemas.openxmlformats.org/drawingml/2006/table">
            <a:tbl>
              <a:tblPr/>
              <a:tblGrid>
                <a:gridCol w="1600200"/>
                <a:gridCol w="114300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平均數字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,915</a:t>
                      </a: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抽樣誤差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/-$172</a:t>
                      </a: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回答人數</a:t>
                      </a:r>
                      <a:br>
                        <a:rPr sz="1600"/>
                      </a:b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(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撇除不知者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85920" y="857160"/>
            <a:ext cx="77817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Q14 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被訪者對新服務關愛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OK Link)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的興趣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[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訪員沒有提及「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關愛鈴」，只描述有關服務的內容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]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0" name="Object 0" descr=""/>
          <p:cNvPicPr/>
          <p:nvPr/>
        </p:nvPicPr>
        <p:blipFill>
          <a:blip r:embed="rId1"/>
          <a:stretch/>
        </p:blipFill>
        <p:spPr>
          <a:xfrm>
            <a:off x="920880" y="1566720"/>
            <a:ext cx="7656480" cy="466272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5"/>
          <p:cNvSpPr/>
          <p:nvPr/>
        </p:nvSpPr>
        <p:spPr>
          <a:xfrm>
            <a:off x="6351840" y="207180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3366"/>
                </a:solidFill>
                <a:latin typeface="Times New Roman"/>
                <a:ea typeface="標楷體"/>
              </a:rPr>
              <a:t>回答人數 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標楷體"/>
              </a:rPr>
              <a:t>= 999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13920" y="928800"/>
            <a:ext cx="757260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 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Q15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請問你認為呢項新服務既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D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功能或支援最有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? </a:t>
            </a:r>
            <a:br>
              <a:rPr sz="2400"/>
            </a:b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[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可選多項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]</a:t>
            </a:r>
            <a:br>
              <a:rPr sz="2000"/>
            </a:br>
            <a:br>
              <a:rPr sz="2000"/>
            </a:b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3" name="Object 0" descr=""/>
          <p:cNvPicPr/>
          <p:nvPr/>
        </p:nvPicPr>
        <p:blipFill>
          <a:blip r:embed="rId1"/>
          <a:stretch/>
        </p:blipFill>
        <p:spPr>
          <a:xfrm>
            <a:off x="853920" y="1852560"/>
            <a:ext cx="8008920" cy="44449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5"/>
          <p:cNvSpPr/>
          <p:nvPr/>
        </p:nvSpPr>
        <p:spPr>
          <a:xfrm>
            <a:off x="5923080" y="200016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3366"/>
                </a:solidFill>
                <a:latin typeface="Times New Roman"/>
                <a:ea typeface="標楷體"/>
              </a:rPr>
              <a:t>回答人數 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標楷體"/>
              </a:rPr>
              <a:t>= 993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6172920" y="6286680"/>
            <a:ext cx="191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imes New Roman"/>
                <a:ea typeface="標楷體"/>
              </a:rPr>
              <a:t>* </a:t>
            </a:r>
            <a:r>
              <a:rPr b="1" lang="zh-TW" sz="1200" spc="-1" strike="noStrike">
                <a:solidFill>
                  <a:srgbClr val="003366"/>
                </a:solidFill>
                <a:latin typeface="Times New Roman"/>
                <a:ea typeface="標楷體"/>
              </a:rPr>
              <a:t>篇幅所限，只列出</a:t>
            </a:r>
            <a:r>
              <a:rPr b="1" lang="en-US" sz="1200" spc="-1" strike="noStrike">
                <a:solidFill>
                  <a:srgbClr val="003366"/>
                </a:solidFill>
                <a:latin typeface="Times New Roman"/>
                <a:ea typeface="標楷體"/>
              </a:rPr>
              <a:t>6%</a:t>
            </a:r>
            <a:r>
              <a:rPr b="1" lang="zh-TW" sz="1200" spc="-1" strike="noStrike">
                <a:solidFill>
                  <a:srgbClr val="003366"/>
                </a:solidFill>
                <a:latin typeface="Times New Roman"/>
                <a:ea typeface="標楷體"/>
              </a:rPr>
              <a:t>或以上的答案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9720" y="1143000"/>
            <a:ext cx="79153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研究背景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85920" y="2142720"/>
            <a:ext cx="702000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4760" indent="-37476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調查目的：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探討在職人士對</a:t>
            </a:r>
            <a:r>
              <a:rPr b="1" lang="zh-TW" sz="24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照顧家人的擔憂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、對</a:t>
            </a:r>
            <a:r>
              <a:rPr b="1" lang="zh-TW" sz="24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現時社區支援服務的認知及使用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、及對</a:t>
            </a:r>
            <a:r>
              <a:rPr b="1" lang="zh-TW" sz="24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新服務關愛鈴 </a:t>
            </a:r>
            <a:r>
              <a:rPr b="1" lang="zh-TW" sz="24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(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OK Link) </a:t>
            </a:r>
            <a:r>
              <a:rPr b="1" lang="zh-TW" sz="24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的需求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等意見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74760" indent="-37476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調查問卷由港大民研計劃諮詢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浸會愛羣社會服務處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後獨立設計，所有操作、數據收集及分析由民研計劃獨立進行，結果亦由</a:t>
            </a:r>
            <a:r>
              <a:rPr b="1" lang="zh-TW" sz="24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民研計劃全面負責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74760" indent="-37476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調查方法和結果</a:t>
            </a:r>
            <a:r>
              <a:rPr b="1" lang="zh-TW" sz="24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全面公開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00080" y="1142640"/>
            <a:ext cx="7610400" cy="42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總結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Rectangle 1"/>
          <p:cNvSpPr/>
          <p:nvPr/>
        </p:nvSpPr>
        <p:spPr>
          <a:xfrm>
            <a:off x="1214280" y="2983680"/>
            <a:ext cx="7358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4960" indent="-2649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標楷體"/>
                <a:ea typeface="標楷體"/>
              </a:rPr>
              <a:t>在職人士普遍最擔心的家庭成員是</a:t>
            </a:r>
            <a:r>
              <a:rPr b="0" lang="zh-TW" sz="22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父母</a:t>
            </a:r>
            <a:r>
              <a:rPr b="0" lang="zh-TW" sz="2200" spc="-1" strike="noStrike">
                <a:solidFill>
                  <a:srgbClr val="000000"/>
                </a:solidFill>
                <a:latin typeface="標楷體"/>
                <a:ea typeface="標楷體"/>
              </a:rPr>
              <a:t>，其次是</a:t>
            </a:r>
            <a:r>
              <a:rPr b="0" lang="zh-TW" sz="22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子女和配偶</a:t>
            </a:r>
            <a:r>
              <a:rPr b="0" lang="zh-TW" sz="2200" spc="-1" strike="noStrike">
                <a:solidFill>
                  <a:srgbClr val="000000"/>
                </a:solidFill>
                <a:latin typeface="標楷體"/>
                <a:ea typeface="標楷體"/>
              </a:rPr>
              <a:t>。他們主要擔心家人的</a:t>
            </a:r>
            <a:r>
              <a:rPr b="0" lang="zh-TW" sz="22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健康情況</a:t>
            </a:r>
            <a:r>
              <a:rPr b="0" lang="zh-TW" sz="2200" spc="-1" strike="noStrike">
                <a:solidFill>
                  <a:srgbClr val="000000"/>
                </a:solidFill>
                <a:latin typeface="標楷體"/>
                <a:ea typeface="標楷體"/>
              </a:rPr>
              <a:t>，如長期病患、行動不便等，其次是擔心家人</a:t>
            </a:r>
            <a:r>
              <a:rPr b="0" lang="zh-TW" sz="22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發生意外</a:t>
            </a:r>
            <a:r>
              <a:rPr b="0" lang="zh-TW" sz="2200" spc="-1" strike="noStrike">
                <a:solidFill>
                  <a:srgbClr val="000000"/>
                </a:solidFill>
                <a:latin typeface="標楷體"/>
                <a:ea typeface="標楷體"/>
              </a:rPr>
              <a:t>時缺乏緊急支援和</a:t>
            </a:r>
            <a:r>
              <a:rPr b="0" lang="zh-TW" sz="22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外出安全</a:t>
            </a:r>
            <a:r>
              <a:rPr b="0" lang="zh-TW" sz="2200" spc="-1" strike="noStrike">
                <a:solidFill>
                  <a:srgbClr val="000000"/>
                </a:solidFill>
                <a:latin typeface="標楷體"/>
                <a:ea typeface="標楷體"/>
              </a:rPr>
              <a:t>的問題。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marL="264960" indent="-2649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marL="264960" indent="-2649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標楷體"/>
                <a:ea typeface="標楷體"/>
              </a:rPr>
              <a:t>論到照顧家人的模式，超過四成被訪者表示目前是由「自己親自照顧」，其次是由「其他家人」或「家庭傭工」照顧。整體來說，</a:t>
            </a:r>
            <a:r>
              <a:rPr b="0" lang="zh-TW" sz="22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七成被訪者認為現時對家人的照顧足夠</a:t>
            </a:r>
            <a:r>
              <a:rPr b="0" lang="zh-TW" sz="22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marL="264960" indent="-2649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marL="264960" indent="-2649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標楷體"/>
                <a:ea typeface="標楷體"/>
              </a:rPr>
              <a:t>七成被訪者表示知道現時有社區資源可以協助照顧其家人，但真正有</a:t>
            </a:r>
            <a:r>
              <a:rPr b="0" lang="zh-TW" sz="22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使用過這些資源的卻只有一成半</a:t>
            </a:r>
            <a:r>
              <a:rPr b="0" lang="zh-TW" sz="2200" spc="-1" strike="noStrike">
                <a:solidFill>
                  <a:srgbClr val="000000"/>
                </a:solidFill>
                <a:latin typeface="標楷體"/>
                <a:ea typeface="標楷體"/>
              </a:rPr>
              <a:t>，大部分主要是透過電視、報章及親友等途徑得知。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9720" y="1356840"/>
            <a:ext cx="764388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總結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矩形 3"/>
          <p:cNvSpPr/>
          <p:nvPr/>
        </p:nvSpPr>
        <p:spPr>
          <a:xfrm>
            <a:off x="1214280" y="2143080"/>
            <a:ext cx="7320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近八成表示會考慮使用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這些社區資源協助照顧家人，反映出在職人士對社區支援服務的需求頗大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264960" indent="-2649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264960" indent="-26496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近半數在職人士表示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浸會愛羣社會服務處一項全新服務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「關愛鈴」感到興趣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264960" indent="-2649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264960" indent="-26496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他們最感興趣的服務次序為：「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4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小時緊急支援」、「醫療護理服務」、「護送服務」、「轉介服務」、「以手機短訊通知家人最新情況」和「定期電話慰問」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報 告 完 畢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0" y="3809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詳細報告結果，請瀏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http://hkupop.hku.h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533520" y="3276720"/>
            <a:ext cx="80769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Line 5"/>
          <p:cNvSpPr/>
          <p:nvPr/>
        </p:nvSpPr>
        <p:spPr>
          <a:xfrm>
            <a:off x="990720" y="3276720"/>
            <a:ext cx="7543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00080" y="1071720"/>
            <a:ext cx="78580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000000"/>
                </a:solidFill>
                <a:latin typeface="標楷體"/>
                <a:ea typeface="標楷體"/>
              </a:rPr>
              <a:t>樣本資料</a:t>
            </a:r>
            <a:endParaRPr b="1" lang="en-US" sz="3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4280" y="2143080"/>
            <a:ext cx="7358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16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61604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訪問日期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009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1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7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日至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2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2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日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61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61604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訪問對象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30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至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60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歲操粵語的全職人士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61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61604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調查方法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由</a:t>
            </a:r>
            <a:r>
              <a:rPr b="1" lang="zh-TW" sz="24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訪員直接進行電話訪問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，訪員在成功接觸目標住戶後，再從住戶內找出符合條件的人士接受訪問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616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61604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樣本數目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1,00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個成功個案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616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61604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有效回應比率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79.2%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616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61604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抽樣誤差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95%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置信水平下，少於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+/- 3.2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個百分比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9720" y="785520"/>
            <a:ext cx="7572600" cy="111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Q1.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請問係你既屋企人之中，你現時最擔心邊一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4" name="Object 4"/>
          <p:cNvGraphicFramePr/>
          <p:nvPr/>
        </p:nvGraphicFramePr>
        <p:xfrm>
          <a:off x="928800" y="1714680"/>
          <a:ext cx="7715160" cy="478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800" y="1714680"/>
                    <a:ext cx="7715160" cy="47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Rectangle 5"/>
          <p:cNvSpPr/>
          <p:nvPr/>
        </p:nvSpPr>
        <p:spPr>
          <a:xfrm>
            <a:off x="5780160" y="200016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3366"/>
                </a:solidFill>
                <a:latin typeface="Times New Roman"/>
                <a:ea typeface="標楷體"/>
              </a:rPr>
              <a:t>回答人數 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標楷體"/>
              </a:rPr>
              <a:t>= 999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1360" y="1000080"/>
            <a:ext cx="742932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Q2. (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只問擔心家人者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 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會擔心佢邊方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? [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可選多項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]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8" name="Object 4" descr=""/>
          <p:cNvPicPr/>
          <p:nvPr/>
        </p:nvPicPr>
        <p:blipFill>
          <a:blip r:embed="rId1"/>
          <a:stretch/>
        </p:blipFill>
        <p:spPr>
          <a:xfrm>
            <a:off x="857160" y="1614600"/>
            <a:ext cx="7643880" cy="481464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5"/>
          <p:cNvSpPr/>
          <p:nvPr/>
        </p:nvSpPr>
        <p:spPr>
          <a:xfrm>
            <a:off x="6066000" y="242892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3366"/>
                </a:solidFill>
                <a:latin typeface="Times New Roman"/>
                <a:ea typeface="標楷體"/>
              </a:rPr>
              <a:t>回答人數 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標楷體"/>
              </a:rPr>
              <a:t>= 701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71720" y="1143000"/>
            <a:ext cx="657216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Q3. (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只問擔心家人者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 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係咪同佢一齊住？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1" name="Object 4" descr=""/>
          <p:cNvPicPr/>
          <p:nvPr/>
        </p:nvPicPr>
        <p:blipFill>
          <a:blip r:embed="rId1"/>
          <a:stretch/>
        </p:blipFill>
        <p:spPr>
          <a:xfrm>
            <a:off x="857160" y="1928880"/>
            <a:ext cx="7715520" cy="456552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5"/>
          <p:cNvSpPr/>
          <p:nvPr/>
        </p:nvSpPr>
        <p:spPr>
          <a:xfrm>
            <a:off x="5923080" y="242892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3366"/>
                </a:solidFill>
                <a:latin typeface="Times New Roman"/>
                <a:ea typeface="標楷體"/>
              </a:rPr>
              <a:t>回答人數 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標楷體"/>
              </a:rPr>
              <a:t>= 701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1720" y="1214280"/>
            <a:ext cx="750096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Q4a (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只問與有關家人同住者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如果唔同佢一齊住會唔會令你更加擔心？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4" name="Object 4" descr=""/>
          <p:cNvPicPr/>
          <p:nvPr/>
        </p:nvPicPr>
        <p:blipFill>
          <a:blip r:embed="rId1"/>
          <a:stretch/>
        </p:blipFill>
        <p:spPr>
          <a:xfrm>
            <a:off x="993600" y="2097000"/>
            <a:ext cx="7656840" cy="426744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2"/>
          <p:cNvSpPr/>
          <p:nvPr/>
        </p:nvSpPr>
        <p:spPr>
          <a:xfrm>
            <a:off x="5923080" y="278604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3366"/>
                </a:solidFill>
                <a:latin typeface="Times New Roman"/>
                <a:ea typeface="標楷體"/>
              </a:rPr>
              <a:t>回答人數 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標楷體"/>
              </a:rPr>
              <a:t>= 489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85920" y="1285560"/>
            <a:ext cx="69292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Q4b (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只問沒與有關家人同住者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有冇因為唔同佢一齊住而令你更加擔心？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7" name="Object 4" descr=""/>
          <p:cNvPicPr/>
          <p:nvPr/>
        </p:nvPicPr>
        <p:blipFill>
          <a:blip r:embed="rId1"/>
          <a:stretch/>
        </p:blipFill>
        <p:spPr>
          <a:xfrm>
            <a:off x="1066680" y="2139840"/>
            <a:ext cx="7444080" cy="42004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5"/>
          <p:cNvSpPr/>
          <p:nvPr/>
        </p:nvSpPr>
        <p:spPr>
          <a:xfrm>
            <a:off x="5851800" y="235728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3366"/>
                </a:solidFill>
                <a:latin typeface="Times New Roman"/>
                <a:ea typeface="標楷體"/>
              </a:rPr>
              <a:t>回答人數 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標楷體"/>
              </a:rPr>
              <a:t>= 190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2640" y="1000080"/>
            <a:ext cx="722484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Q5 (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只問擔心家人者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現時主要係用乜野方式照顧呢位屋企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? [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可選多項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]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0" name="Object 4" descr=""/>
          <p:cNvPicPr/>
          <p:nvPr/>
        </p:nvPicPr>
        <p:blipFill>
          <a:blip r:embed="rId1"/>
          <a:stretch/>
        </p:blipFill>
        <p:spPr>
          <a:xfrm>
            <a:off x="1133640" y="1994040"/>
            <a:ext cx="7377120" cy="429732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5494320" y="242892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3366"/>
                </a:solidFill>
                <a:latin typeface="Times New Roman"/>
                <a:ea typeface="標楷體"/>
              </a:rPr>
              <a:t>回答人數 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標楷體"/>
              </a:rPr>
              <a:t>= 699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6030000" y="6215040"/>
            <a:ext cx="191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imes New Roman"/>
                <a:ea typeface="標楷體"/>
              </a:rPr>
              <a:t>* </a:t>
            </a:r>
            <a:r>
              <a:rPr b="1" lang="zh-TW" sz="1200" spc="-1" strike="noStrike">
                <a:solidFill>
                  <a:srgbClr val="003366"/>
                </a:solidFill>
                <a:latin typeface="Times New Roman"/>
                <a:ea typeface="標楷體"/>
              </a:rPr>
              <a:t>篇幅所限，只列出</a:t>
            </a:r>
            <a:r>
              <a:rPr b="1" lang="en-US" sz="1200" spc="-1" strike="noStrike">
                <a:solidFill>
                  <a:srgbClr val="003366"/>
                </a:solidFill>
                <a:latin typeface="Times New Roman"/>
                <a:ea typeface="標楷體"/>
              </a:rPr>
              <a:t>3%</a:t>
            </a:r>
            <a:r>
              <a:rPr b="1" lang="zh-TW" sz="1200" spc="-1" strike="noStrike">
                <a:solidFill>
                  <a:srgbClr val="003366"/>
                </a:solidFill>
                <a:latin typeface="Times New Roman"/>
                <a:ea typeface="標楷體"/>
              </a:rPr>
              <a:t>或以上的答案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frank</cp:lastModifiedBy>
  <cp:lastPrinted>2001-04-04T10:00:24Z</cp:lastPrinted>
  <dcterms:modified xsi:type="dcterms:W3CDTF">2010-01-28T10:20:27Z</dcterms:modified>
  <cp:revision>1512</cp:revision>
  <dc:subject/>
  <dc:title>無投影片標題</dc:title>
</cp:coreProperties>
</file>