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784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0EF1-F523-4DE6-B497-9482194F480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90A9-1031-4F79-B16A-68B957CF2924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3B3E-B035-4E73-8128-9F2CF44E8304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CE98-6FDC-4FBA-A31A-3CA04847F2F8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5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38CA-1937-4FAF-95F4-4FB3D82FC144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2152-2FBA-4930-A447-4BFF5F84990F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3D48-96E8-408B-AB87-2E32D4D63FE8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CB2F-CDA4-4AC9-9101-A8AD7EC5869F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DDC3-CF3B-441B-994C-C0C539D600F8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C46E-B9D8-4F35-B2D4-3811A28FE75C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BE3F-6A19-4CBB-A416-0352B73E2A83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6BF5-36D1-4055-9BF7-173FA238E809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0A39-6AF8-4EFC-9E32-C4813E58EEBC}" type="slidenum">
              <a:rPr b="0" lang="zh-TW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5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644-B940-4BDC-8FD6-95C3E25C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FF5-8F3F-417B-8039-93163254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5F3-EDBF-43D6-B7CE-2F226C21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114-703B-490A-8C3D-2962FC53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475-2994-4429-911E-D6DB5FC8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003-D5A7-44A5-BB28-3FDAA7BD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599-3475-49E8-99DC-B8A0491E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E23-C316-44A3-871A-CD867463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618-A6AD-4540-9A77-66FE52A6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3BE-820C-4E01-82BB-A9558EA9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495-18E6-4F60-B2F4-F6F85484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BDB-81F4-4DEE-8198-5527F70C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28E9-B966-4850-84AC-21A0DE49D1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195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Work Life Balance Survey of th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Hong Kong Working Population 2007</a:t>
            </a:r>
            <a:r>
              <a:rPr b="0" lang="en-US" sz="20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br>
              <a:rPr sz="3600"/>
            </a:b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Dr Robert T. Y. Chung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23 October 2007</a:t>
            </a:r>
            <a:r>
              <a:rPr b="0" i="1" lang="en-US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br>
              <a:rPr sz="3200"/>
            </a:br>
            <a:br>
              <a:rPr sz="2000"/>
            </a:br>
            <a:r>
              <a:rPr b="0" i="1" lang="en-US" sz="1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Everything in this publication is the work of individual researchers, and does not represent the stand of </a:t>
            </a:r>
            <a:br>
              <a:rPr sz="1400"/>
            </a:br>
            <a:r>
              <a:rPr b="0" i="1" lang="en-US" sz="1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the University of Hong Kong. Dr Robert Chung is fully responsible for the work of the POP.</a:t>
            </a:r>
            <a:r>
              <a:rPr b="0" i="1" lang="en-US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 </a:t>
            </a:r>
            <a:br>
              <a:rPr sz="2000"/>
            </a:b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43000" y="500040"/>
          <a:ext cx="17874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00040"/>
                    <a:ext cx="17874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6"/>
          <p:cNvSpPr/>
          <p:nvPr/>
        </p:nvSpPr>
        <p:spPr>
          <a:xfrm>
            <a:off x="928800" y="278604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1000080" y="4429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IDEAL ratio of work-leisure hour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99072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5" name="Object 8"/>
          <p:cNvGraphicFramePr/>
          <p:nvPr/>
        </p:nvGraphicFramePr>
        <p:xfrm>
          <a:off x="609480" y="1828800"/>
          <a:ext cx="807732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773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10"/>
          <p:cNvSpPr/>
          <p:nvPr/>
        </p:nvSpPr>
        <p:spPr>
          <a:xfrm>
            <a:off x="914400" y="5867280"/>
            <a:ext cx="12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</a:rPr>
              <a:t>2006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ase: 1,511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 base: 1,007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257800" y="4724280"/>
          <a:ext cx="3200400" cy="1096920"/>
        </p:xfrm>
        <a:graphic>
          <a:graphicData uri="http://schemas.openxmlformats.org/drawingml/2006/table">
            <a:tbl>
              <a:tblPr/>
              <a:tblGrid>
                <a:gridCol w="571680"/>
                <a:gridCol w="647640"/>
                <a:gridCol w="685800"/>
                <a:gridCol w="761760"/>
                <a:gridCol w="533520"/>
              </a:tblGrid>
              <a:tr h="276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isur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%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%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3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24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2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ACTUAL ratio of work-leisure hours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  <a:ea typeface="標楷體"/>
              </a:rPr>
              <a:t>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91" name="Object 8"/>
          <p:cNvGraphicFramePr/>
          <p:nvPr/>
        </p:nvGraphicFramePr>
        <p:xfrm>
          <a:off x="609480" y="2286000"/>
          <a:ext cx="8344080" cy="37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834408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9"/>
          <p:cNvSpPr/>
          <p:nvPr/>
        </p:nvSpPr>
        <p:spPr>
          <a:xfrm>
            <a:off x="6553080" y="4876920"/>
            <a:ext cx="1447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Times New Roman"/>
              </a:rPr>
              <a:t>2006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ase: 1,363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007 base: 897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o what extent do you think your current routine full time work and private life are balanced?</a:t>
            </a:r>
            <a:r>
              <a:rPr b="1" lang="en-US" sz="2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Line 5"/>
          <p:cNvSpPr/>
          <p:nvPr/>
        </p:nvSpPr>
        <p:spPr>
          <a:xfrm>
            <a:off x="83808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762120" y="1828800"/>
          <a:ext cx="8001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8001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7"/>
          <p:cNvSpPr/>
          <p:nvPr/>
        </p:nvSpPr>
        <p:spPr>
          <a:xfrm>
            <a:off x="1447920" y="5715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100" spc="-1" strike="noStrike">
                <a:solidFill>
                  <a:srgbClr val="000000"/>
                </a:solidFill>
                <a:latin typeface="Times New Roman"/>
              </a:rPr>
              <a:t>2006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ase: 1,519</a:t>
            </a:r>
            <a:endParaRPr b="0" lang="en-US" sz="11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007 base: 1,013</a:t>
            </a:r>
            <a:endParaRPr b="0" lang="en-US" sz="11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Concluding Remark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7162560" cy="27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Concluding Remark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3880" y="1785960"/>
            <a:ext cx="78202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 algn="just">
              <a:lnSpc>
                <a:spcPct val="9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Working overtim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continues to be a common phenomenon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 among Hong Kong</a:t>
            </a:r>
            <a:r>
              <a:rPr b="1" lang="en-US" sz="2200" spc="-1" strike="noStrike">
                <a:solidFill>
                  <a:srgbClr val="ccecff"/>
                </a:solidFill>
                <a:latin typeface="Arial"/>
                <a:ea typeface="Arial Unicode MS"/>
              </a:rPr>
              <a:t>’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s working population. The average number of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contractual working hours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 per worker per week ha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dropped from 47.3 last year to 46.5 this year (2% drop)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, the average number of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actual working hours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 from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51.3 to 49.2 (4% drop)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. 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</a:rPr>
              <a:t>O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ur labour force is working at 6% in excess of their contractual hours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lnSpc>
                <a:spcPct val="9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ideal work-life ratio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 has dropped nominally from 61:39 to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60:40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, 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actual work-life ratio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 nominally from 84:16 to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83:17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, but the percentage who said they led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a balanced work and private life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 has also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dropped from 44% to 42%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. Between 0 to 10, employees’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rating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 of their own achievement of work-life balance ha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dropped from 5.7 to 5.6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928800" y="142884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Concluding Remark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7962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67200" indent="-367200" algn="just">
              <a:lnSpc>
                <a:spcPct val="9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This shows that although working hours has shortened, work-life balance has not improved, because people'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expectation has changed 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along with their work environment changed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-367200" algn="just">
              <a:lnSpc>
                <a:spcPct val="9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As employment rate and job mobility go up, more people may have to adapt to new working environment, coupled with rising expectations on work life balance, it seems that there i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still a long way to go 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before Hong Kong has a happy and life-balanced work force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-367200" algn="just">
              <a:lnSpc>
                <a:spcPct val="9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Meanwhile, it is important to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track real and expected work-life balance 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of our labour force, in order to map the direction our economy-cum-community is heading for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83808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Concluding Remark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643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67200" indent="-367200" algn="just">
              <a:lnSpc>
                <a:spcPct val="9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With two large-scale work-life balance surveys completed, the business community should consider setting work-life balanc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benchmarks for different industrial sectors 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and across different occupational groups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-367200" algn="just">
              <a:lnSpc>
                <a:spcPct val="9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Individual organizations should also consider running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internal surveys 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or audits of work-life balance among their staff and compared them with industrial standards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-367200" algn="just">
              <a:lnSpc>
                <a:spcPct val="9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In the long run, based on these professional surveys and audits,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public awards </a:t>
            </a:r>
            <a:r>
              <a:rPr b="1" lang="en-US" sz="22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can be made to organizations which demonstrate outstanding achievement in achieving work-life balance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672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83808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440" y="2214360"/>
            <a:ext cx="75294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End of presentation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392868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Please go to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1071720" y="3643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Outline of Presenta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Research Background and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Major Research Findings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Contractual and actual working hour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Ideal and actual work-life ratio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Extent to which current work and private lives are balanced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Conclud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1000080" y="17146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Research Background and Methodolog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8" name="Picture 5" descr="BD21313_"/>
          <p:cNvPicPr/>
          <p:nvPr/>
        </p:nvPicPr>
        <p:blipFill>
          <a:blip r:embed="rId1"/>
          <a:stretch/>
        </p:blipFill>
        <p:spPr>
          <a:xfrm>
            <a:off x="1143000" y="3684600"/>
            <a:ext cx="7162920" cy="2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Research Background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O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bjective: To track changes in the current status of work-life balance of the local working populatio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2nd survey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n the work-life balance of the local working population by Community Business Limited and HKUPO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OP consulted Community Business in designing the questionnaire; POP enjoys full autonomy in doing the survey; POP takes full responsibility for all finding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99036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Research Desig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990720" y="1500120"/>
            <a:ext cx="751032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標楷體"/>
              </a:rPr>
              <a:t>Date of interview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7 – 31 July 2007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標楷體"/>
              </a:rPr>
              <a:t>Sample siz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1,014 ful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time worker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of ag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5 or above, including Cantonese, English and Mandarin speaker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標楷體"/>
              </a:rPr>
              <a:t>Survey metho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andom telephone survey conducted 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viewers under close supervisio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Telephone number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andom number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drawn from residential directories, plus another set of numbers generated by “plus/minus one/two”, in order to capture unlisted number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000080" y="1285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99036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Research Desig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990720" y="1500120"/>
            <a:ext cx="754380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Birthday ru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contact was established with a target household, on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full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time worker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of ag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5 or abov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as selected. If more than one subjects are available, one was selected using the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ext birthday rule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標楷體"/>
              </a:rPr>
              <a:t>Response figur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Effective response rate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70.4%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; Sampling error = not more th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plus/minus 3.1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percentage points at 95% confidence leve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標楷體"/>
              </a:rPr>
              <a:t>Booster samples not necessary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Distribution between white vs blue collars was 70:30, procedures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booster sampling not triggered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928800" y="1285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Major Research Findings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1" name="Picture 5" descr="BD21313_"/>
          <p:cNvPicPr/>
          <p:nvPr/>
        </p:nvPicPr>
        <p:blipFill>
          <a:blip r:embed="rId1"/>
          <a:stretch/>
        </p:blipFill>
        <p:spPr>
          <a:xfrm>
            <a:off x="1143000" y="2971800"/>
            <a:ext cx="7162920" cy="27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BD07153_"/>
          <p:cNvPicPr/>
          <p:nvPr/>
        </p:nvPicPr>
        <p:blipFill>
          <a:blip r:embed="rId2"/>
          <a:stretch/>
        </p:blipFill>
        <p:spPr>
          <a:xfrm>
            <a:off x="6553080" y="3836880"/>
            <a:ext cx="213372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標楷體"/>
              </a:rPr>
              <a:t>How many 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標楷體"/>
              </a:rPr>
              <a:t>hours a week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are you REQUIRED to work for your full time job, according to your employment contract?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Line 3"/>
          <p:cNvSpPr/>
          <p:nvPr/>
        </p:nvSpPr>
        <p:spPr>
          <a:xfrm>
            <a:off x="990720" y="12952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5" name="Object 6"/>
          <p:cNvGraphicFramePr/>
          <p:nvPr/>
        </p:nvGraphicFramePr>
        <p:xfrm>
          <a:off x="304920" y="1600200"/>
          <a:ext cx="8610480" cy="49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61048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181480" y="4267080"/>
          <a:ext cx="2667240" cy="1006560"/>
        </p:xfrm>
        <a:graphic>
          <a:graphicData uri="http://schemas.openxmlformats.org/drawingml/2006/table">
            <a:tbl>
              <a:tblPr/>
              <a:tblGrid>
                <a:gridCol w="625680"/>
                <a:gridCol w="625320"/>
                <a:gridCol w="833400"/>
                <a:gridCol w="582840"/>
              </a:tblGrid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3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89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5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2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標楷體"/>
              </a:rPr>
              <a:t>Take last month as an example, how many 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標楷體"/>
              </a:rPr>
              <a:t>hours a week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do you ACTUALLY work on average for your full time job?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Line 3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0" name="Object 6"/>
          <p:cNvGraphicFramePr/>
          <p:nvPr/>
        </p:nvGraphicFramePr>
        <p:xfrm>
          <a:off x="533520" y="1752480"/>
          <a:ext cx="8153280" cy="45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15328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952880" y="4191120"/>
          <a:ext cx="2438640" cy="10062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762120"/>
                <a:gridCol w="533520"/>
              </a:tblGrid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3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2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53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2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6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4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0:28:41Z</dcterms:created>
  <dc:creator>winnie</dc:creator>
  <dc:description/>
  <dc:language>en-US</dc:language>
  <cp:lastModifiedBy>Alex Lin</cp:lastModifiedBy>
  <dcterms:modified xsi:type="dcterms:W3CDTF">2007-10-23T09:28:58Z</dcterms:modified>
  <cp:revision>76</cp:revision>
  <dc:subject/>
  <dc:title>The State of Work-Life Balance in Hong Kong 2006</dc:title>
</cp:coreProperties>
</file>