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13.wmf" ContentType="image/x-wmf"/>
  <Override PartName="/ppt/media/whoosh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562-37BE-4BC6-820B-0F7367CE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A2E-BDD6-465C-BE72-4B519356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BA8-D63A-48B6-9A2A-EC372B86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29D-A33E-4B4B-B0E5-C234067E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97A-3BD3-4BCF-987E-417AB04D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9A4-A15A-4C76-A2CB-E7068E17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1E6-7865-45D5-8AE6-A164C565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F39-7BD0-4B46-90C6-EDBF6A99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8E7-7407-4FB3-BEDF-71E9BFAF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BAC-DB9F-4F2A-BFC5-A719E5C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28C-E774-4314-A925-F99EA26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4E7-2C20-4361-B553-A7148B0D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6672-8EC1-4A8A-A98D-F949EEB1166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和諧社區之睦鄰關係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2006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9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22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895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怎樣形容與鄰居的關係？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1441440"/>
          <a:ext cx="7239240" cy="502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1440"/>
                    <a:ext cx="723924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有否投訴鄰居或者被鄰居投訴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60240" y="2438280"/>
          <a:ext cx="7721640" cy="37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2438280"/>
                    <a:ext cx="772164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0" y="2286000"/>
          <a:ext cx="3047760" cy="1905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5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眾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1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5. 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投訴原因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7720" y="1981080"/>
            <a:ext cx="11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9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2486160"/>
          <a:ext cx="7772400" cy="38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86160"/>
                    <a:ext cx="777240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651120" y="1746360"/>
            <a:ext cx="4691160" cy="3587760"/>
            <a:chOff x="3651120" y="1746360"/>
            <a:chExt cx="4691160" cy="3587760"/>
          </a:xfrm>
        </p:grpSpPr>
        <p:graphicFrame>
          <p:nvGraphicFramePr>
            <p:cNvPr id="99" name=""/>
            <p:cNvGraphicFramePr/>
            <p:nvPr/>
          </p:nvGraphicFramePr>
          <p:xfrm>
            <a:off x="3651120" y="1746360"/>
            <a:ext cx="4691160" cy="3130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1120" y="1746360"/>
                      <a:ext cx="4691160" cy="31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 flipH="1" flipV="1">
              <a:off x="7238880" y="4800600"/>
              <a:ext cx="457200" cy="533520"/>
            </a:xfrm>
            <a:prstGeom prst="line">
              <a:avLst/>
            </a:prstGeom>
            <a:ln w="7632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6</a:t>
            </a:r>
            <a:r>
              <a:rPr b="1" lang="zh-TW" sz="2600" spc="-1" strike="noStrike">
                <a:solidFill>
                  <a:srgbClr val="ccffff"/>
                </a:solidFill>
                <a:latin typeface="標楷體"/>
                <a:ea typeface="標楷體"/>
              </a:rPr>
              <a:t>.</a:t>
            </a:r>
            <a:r>
              <a:rPr b="1" lang="zh-TW" sz="2600" spc="-1" strike="noStrike">
                <a:solidFill>
                  <a:srgbClr val="ccffff"/>
                </a:solidFill>
                <a:latin typeface="標楷體"/>
                <a:ea typeface="標楷體"/>
              </a:rPr>
              <a:t>有需要時，你認為你的鄰居有多願意提供協助？</a:t>
            </a: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46200" y="24382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3480" y="1828800"/>
          <a:ext cx="7736040" cy="43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828800"/>
                    <a:ext cx="773604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. </a:t>
            </a:r>
            <a:r>
              <a:rPr b="1" lang="zh-TW" sz="2400" spc="-1" strike="noStrike">
                <a:solidFill>
                  <a:srgbClr val="ccffff"/>
                </a:solidFill>
                <a:latin typeface="標楷體"/>
                <a:ea typeface="標楷體"/>
              </a:rPr>
              <a:t>如果鄰居打罵子女或發生爭執，你會否主動關心甚至舉報？</a:t>
            </a: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8760" y="24382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3160" y="1523880"/>
          <a:ext cx="8513640" cy="47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1523880"/>
                    <a:ext cx="851364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8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果大廈走廊有人尖叫，你會：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78760" y="24382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828800"/>
          <a:ext cx="8513640" cy="47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51364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8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果大廈走廊有人尖叫，你會：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1212840"/>
          <a:ext cx="8193240" cy="50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2840"/>
                    <a:ext cx="819324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9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果大廈警鐘響起，你會：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74800" y="25909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1828800"/>
          <a:ext cx="8513640" cy="47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51364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.</a:t>
            </a: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你有否參加大廈管理單位舉辦既康樂活動？</a:t>
            </a: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1700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81080" y="2666880"/>
          <a:ext cx="896292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2666880"/>
                    <a:ext cx="896292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.</a:t>
            </a: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你有否參加大廈管理單位舉辦既康樂活動？</a:t>
            </a: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371600"/>
          <a:ext cx="8001000" cy="480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800100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0" algn="just">
              <a:lnSpc>
                <a:spcPct val="12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如何形容與鄰居的關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是否與鄰居守望相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參與大廈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管理的情況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11. </a:t>
            </a:r>
            <a:r>
              <a:rPr b="1" lang="zh-TW" sz="3600" spc="-1" strike="noStrike">
                <a:solidFill>
                  <a:srgbClr val="ccffff"/>
                </a:solidFill>
                <a:latin typeface="標楷體"/>
                <a:ea typeface="標楷體"/>
              </a:rPr>
              <a:t>你有否參與大廈的管理工作？</a:t>
            </a:r>
            <a:r>
              <a:rPr b="0" lang="zh-TW" sz="36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4068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18960" y="2481120"/>
          <a:ext cx="894096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2481120"/>
                    <a:ext cx="894096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巿民會以「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關係普通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」來形容跟鄰居的關係，認為「關係密切」和「關係極佳」者，合計只有一成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日常生活中，大部分巿民都會與鄰居點頭問好，但超過半數巿民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認識的鄰居不及四戶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鄰舍關係雖然平淡，但大部分相信鄰居會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在必要時守望相助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參與大廈管理組織者少之又少，參與康樂活動者亦只有三分之一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跡象顯示，香港社會的鄰舍關係雖然尚算和諧，但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遠遠不及理想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社區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設施不足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、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組織不強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、又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不鼓勵地區自治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，都可能是導致鄰舍關係裹足不前的部分原因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21932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一般市民對睦鄰關係的意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香港電台後獨立設計，所有操作、數據收集及分析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由民研計劃獨立進行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方法和結果全面公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002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5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9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或以上操粵語的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香港居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：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訪問員直接進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電話訪問，訪問員在成功接觸目標住戶後，再從住戶內符合條件的成員中以出生日期抽取一人接受訪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511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0.1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%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少於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+/- 2.2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：被訪者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  <a:ea typeface="標楷體"/>
              </a:rPr>
              <a:t>房屋類型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068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60240" y="1752480"/>
          <a:ext cx="772164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752480"/>
                    <a:ext cx="77216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. 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平時有否跟鄰居打招呼？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4068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2619360"/>
          <a:ext cx="777240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9360"/>
                    <a:ext cx="77724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總共知道幾多户鄰居的姓氏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2209680"/>
          <a:ext cx="77724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7772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133720" y="1905120"/>
          <a:ext cx="3968640" cy="1523880"/>
        </p:xfrm>
        <a:graphic>
          <a:graphicData uri="http://schemas.openxmlformats.org/drawingml/2006/table">
            <a:tbl>
              <a:tblPr/>
              <a:tblGrid>
                <a:gridCol w="992160"/>
                <a:gridCol w="992160"/>
                <a:gridCol w="992160"/>
                <a:gridCol w="992160"/>
              </a:tblGrid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整體答案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公共房屋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私人住宅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.0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户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.7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户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.2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户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4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1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6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27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總共知道幾多户鄰居的姓氏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990720"/>
          <a:ext cx="7238880" cy="53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2388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怎樣形容與鄰居的關係？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2486160"/>
          <a:ext cx="7772400" cy="38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86160"/>
                    <a:ext cx="777240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6928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9-22T09:14:06Z</dcterms:modified>
  <cp:revision>982</cp:revision>
  <dc:subject/>
  <dc:title>無投影片標題</dc:title>
</cp:coreProperties>
</file>