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907588" cy="6858000"/>
  <p:notesSz cx="9942513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943200" cy="68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1"/>
          </p:nvPr>
        </p:nvSpPr>
        <p:spPr>
          <a:xfrm>
            <a:off x="563256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3127320" y="510840"/>
            <a:ext cx="368928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2"/>
          </p:nvPr>
        </p:nvSpPr>
        <p:spPr>
          <a:xfrm>
            <a:off x="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3"/>
          </p:nvPr>
        </p:nvSpPr>
        <p:spPr>
          <a:xfrm>
            <a:off x="563256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919026-6D3A-4D63-9D04-69B2E66E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CA95F7-E5A8-4934-90D9-F40D73E5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53AF0C-CDE7-491E-A957-796D11296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09165C-B651-4500-ADAB-8EBE36B0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CA074-053B-41C0-9A55-17FC1ECD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4D5479-2663-4B6B-89B3-3A32F837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555AC3-2964-41DF-B14C-1243AD92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404BBC-A886-4D83-8053-1470EC34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D563D5-28DC-4C00-A927-7544D9FF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A67965-7517-443B-BD20-A6FC867A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F38178-014C-49D7-AB80-2A46CE80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E633D6-B408-4254-AE41-B2BE7E42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F94EA8-0232-41D0-B620-BAA99BC4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293D27-BC49-4B52-93EB-F440F70A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5EC494-6C5E-402E-A88D-393DE63F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2B7CCD-DB0D-4114-BF4D-4279AC35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D70BAD-D08A-446D-B22C-A9D8F4CF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3F1CA5-479E-4000-9AA8-F31EEB2C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97B918-3A0B-46AB-9316-ED54B5C1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77A0-E299-4A31-A83B-9D56A0A31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EDFD-C837-490E-A6B9-37ECE57A7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05FD-000F-45BA-A502-9D16693C3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F0B0-71B6-4624-A48E-CAA89FC95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8C5A-B0BC-4231-A622-834B8119B9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280A-DD6C-4812-A9CA-41B2FB102E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3AFD-2134-43F2-A549-A799FDB009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939E2-F099-4E3C-9013-87D6020BA2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62E1-A465-4E06-A80E-EBCFED4A4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94FB4-1B7E-4DE1-A862-A502F5EC1C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21E89-9C30-4BAA-9D21-6D1CB0414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791C-8E23-44CD-B786-477A8B5D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3461B-1C3E-461F-9DB9-C674581711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9CD0-BB3F-4E4D-BDB8-B840C8571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E810F-D7F0-4B51-A0DF-D03F9A2376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35920-35C8-458A-9261-4B48279F2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CCFE-1261-49C6-92F9-A51933D629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F7DD4-EDAB-4AE8-9C7D-A3C3FC49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929E2-9241-4BD0-B117-2145316C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97872-4F5B-4C93-A1D1-AE4F86F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9777F-C1D8-4BA1-9178-D92807A0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2CCEC-77A2-428E-AF45-5984562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D6D4-810E-44FC-9BDF-34F80FFAB3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550FD-C96C-4614-81AE-EF09961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BD53F-7C2B-4536-9BA5-5DB8448C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C3BAA-C4BC-4F4F-90D5-0D11E14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5FBEF-3FCA-487F-81F7-81E6A28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18D5F-B89C-4DA7-9733-7DB7C31E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431DE-9D20-46CC-BDA8-88B0F03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BB029-CC3C-4BB8-8591-B00E0556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B4CF7-D53E-46A2-A3FA-3E43E428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B404F-F1C4-458C-A974-2DAE396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1C896-537C-4D2D-AAD1-C478D04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7C90-5821-4B3D-BEC1-5A1F5CD03B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3BCA7-5AA9-4E56-8640-C6C54AEB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42FAE-ACD9-4050-A59F-2FDE837E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0C39AB-B2D3-4ED3-8686-79A56F0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4EACE-B5AD-4D57-B10B-86A3061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7EB0C-9844-4C7D-9D65-A9DABF7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09F2E-00C8-48F2-A1AC-D22A7E4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86997-DDAD-456C-94B8-980960C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C073E-45C6-44AF-8970-ACD6ABB7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E53E4-6A64-463E-B6EA-716B7BCC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D72B-2230-4920-B736-B901E0615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96A1-CA64-458E-958E-C3533F34A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FFE1-B064-423F-A98B-EFF408B6D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CBEF-509A-48D3-ADDF-0BB08809B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B64F-5C3E-4190-987B-D2555C2C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108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(Sept 0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20200" y="6237000"/>
            <a:ext cx="82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56F0-9A62-4ED5-BB33-901F4F6E48D5}" type="slidenum"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7"/>
          <p:cNvSpPr/>
          <p:nvPr/>
        </p:nvSpPr>
        <p:spPr>
          <a:xfrm>
            <a:off x="351000" y="6165720"/>
            <a:ext cx="9126360" cy="0"/>
          </a:xfrm>
          <a:prstGeom prst="line">
            <a:avLst/>
          </a:prstGeom>
          <a:ln w="15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236520" y="6249960"/>
            <a:ext cx="50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eadlineJobs Quality Workplace Index 2008Q3 – Results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20"/>
          <p:cNvSpPr/>
          <p:nvPr/>
        </p:nvSpPr>
        <p:spPr>
          <a:xfrm>
            <a:off x="507960" y="765000"/>
            <a:ext cx="7469280" cy="0"/>
          </a:xfrm>
          <a:prstGeom prst="line">
            <a:avLst/>
          </a:prstGeom>
          <a:ln w="442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"/>
          <p:cNvPicPr/>
          <p:nvPr/>
        </p:nvPicPr>
        <p:blipFill>
          <a:blip r:embed="rId2"/>
          <a:stretch/>
        </p:blipFill>
        <p:spPr>
          <a:xfrm>
            <a:off x="8048520" y="104760"/>
            <a:ext cx="1150920" cy="660240"/>
          </a:xfrm>
          <a:prstGeom prst="rect">
            <a:avLst/>
          </a:prstGeom>
          <a:ln w="0">
            <a:noFill/>
          </a:ln>
        </p:spPr>
      </p:pic>
      <p:sp>
        <p:nvSpPr>
          <p:cNvPr id="8" name="Text Box 25"/>
          <p:cNvSpPr/>
          <p:nvPr/>
        </p:nvSpPr>
        <p:spPr>
          <a:xfrm>
            <a:off x="7905600" y="692280"/>
            <a:ext cx="158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Object 13"/>
          <p:cNvGraphicFramePr/>
          <p:nvPr/>
        </p:nvGraphicFramePr>
        <p:xfrm>
          <a:off x="9345600" y="260280"/>
          <a:ext cx="4316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5600" y="260280"/>
                    <a:ext cx="431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4"/>
          <p:cNvSpPr/>
          <p:nvPr/>
        </p:nvSpPr>
        <p:spPr>
          <a:xfrm>
            <a:off x="9231480" y="69372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27108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Prepared by Research and Development Dept (Sept 0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20200" y="6310080"/>
            <a:ext cx="82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A9E7-2492-4B34-8AE5-C5BAEB0BF621}" type="slidenum"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51000" y="6165720"/>
            <a:ext cx="9126360" cy="0"/>
          </a:xfrm>
          <a:prstGeom prst="line">
            <a:avLst/>
          </a:prstGeom>
          <a:ln w="15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36520" y="6165720"/>
            <a:ext cx="50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eadlineJobs Quality Workplace Index 2008Q3 – Results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8048520" y="104760"/>
            <a:ext cx="1150920" cy="660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7905600" y="692280"/>
            <a:ext cx="158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3"/>
          <p:cNvGraphicFramePr/>
          <p:nvPr/>
        </p:nvGraphicFramePr>
        <p:xfrm>
          <a:off x="9345600" y="260280"/>
          <a:ext cx="4316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5600" y="260280"/>
                    <a:ext cx="431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14"/>
          <p:cNvSpPr/>
          <p:nvPr/>
        </p:nvSpPr>
        <p:spPr>
          <a:xfrm>
            <a:off x="9231480" y="69372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"/>
          <p:cNvSpPr/>
          <p:nvPr/>
        </p:nvSpPr>
        <p:spPr>
          <a:xfrm>
            <a:off x="271440" y="189000"/>
            <a:ext cx="9363240" cy="64087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2"/>
          <a:stretch/>
        </p:blipFill>
        <p:spPr>
          <a:xfrm>
            <a:off x="5168880" y="1890720"/>
            <a:ext cx="2160720" cy="123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271440" y="189000"/>
            <a:ext cx="9363240" cy="158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5243040" y="3040200"/>
            <a:ext cx="205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3"/>
          <p:cNvGraphicFramePr/>
          <p:nvPr/>
        </p:nvGraphicFramePr>
        <p:xfrm>
          <a:off x="7761240" y="2133720"/>
          <a:ext cx="741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240" y="2133720"/>
                    <a:ext cx="741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4"/>
          <p:cNvSpPr/>
          <p:nvPr/>
        </p:nvSpPr>
        <p:spPr>
          <a:xfrm>
            <a:off x="7616880" y="2924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UP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094280" y="6381360"/>
            <a:ext cx="2311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93680" y="6381720"/>
            <a:ext cx="3137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Research and Development Dept (Sept 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8695800" y="6381720"/>
            <a:ext cx="10652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896-E47D-4F33-B9B6-3FC41756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71440" y="189000"/>
            <a:ext cx="9363240" cy="64087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5168880" y="1890720"/>
            <a:ext cx="2160720" cy="1239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271440" y="189000"/>
            <a:ext cx="9363240" cy="158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243040" y="3040200"/>
            <a:ext cx="205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3"/>
          <p:cNvGraphicFramePr/>
          <p:nvPr/>
        </p:nvGraphicFramePr>
        <p:xfrm>
          <a:off x="7761240" y="2133720"/>
          <a:ext cx="741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240" y="2133720"/>
                    <a:ext cx="741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4"/>
          <p:cNvSpPr/>
          <p:nvPr/>
        </p:nvSpPr>
        <p:spPr>
          <a:xfrm>
            <a:off x="7616880" y="2924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UP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8"/>
          </p:nvPr>
        </p:nvSpPr>
        <p:spPr>
          <a:xfrm>
            <a:off x="4094280" y="6381360"/>
            <a:ext cx="2311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9"/>
          </p:nvPr>
        </p:nvSpPr>
        <p:spPr>
          <a:xfrm>
            <a:off x="193680" y="6381720"/>
            <a:ext cx="3137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Research and Development Dept (Sept 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0"/>
          </p:nvPr>
        </p:nvSpPr>
        <p:spPr>
          <a:xfrm>
            <a:off x="8695800" y="6381720"/>
            <a:ext cx="10652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EE3-7C32-4C41-BAD6-2623E9B81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68160" y="342864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How Happy are Your Employees?</a:t>
            </a:r>
            <a:br>
              <a:rPr sz="24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HeadlineJobs Quality Workplace Index 2008” :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 New Matrix of Employees’ Job Satisfaction Measur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881240" y="5157360"/>
            <a:ext cx="360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Speaker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 Robert Ting-Yiu Chu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rector of Public Opinion Programm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The University of Hong Ko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83A-D3C0-4B52-91E1-10422D205890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ethodolog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49240" y="1213920"/>
            <a:ext cx="8267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e survey instrument was co-developed by HeadlineJobs and the Public Opinion Programme (POP) of the University of Hong Kong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ampl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andom telephone survey conducted by interviewer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arget respondents were HK working population of age 18 or abov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requency of Stud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Quarterl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ample Siz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,000 successful cases per quart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288400" y="3857760"/>
            <a:ext cx="3967920" cy="184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ccessful C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1st quarter (2008Q1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3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2nd quarter (2008Q2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5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3rd quarter (2008Q3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3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: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 3,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9A6-9289-4850-9C66-53DB4597AA9A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nweighted sample profile for  2008Q3 Survey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5240" y="1197000"/>
          <a:ext cx="3889440" cy="4640400"/>
        </p:xfrm>
        <a:graphic>
          <a:graphicData uri="http://schemas.openxmlformats.org/drawingml/2006/table">
            <a:tbl>
              <a:tblPr/>
              <a:tblGrid>
                <a:gridCol w="2909880"/>
                <a:gridCol w="9795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8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18-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30-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4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6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imary or be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econd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Tert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ufactu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holesales, retail and im/export trades, restaurants and hot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Transport, storage and commun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Financing, insurance, real estate and business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mmunity, social and pers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168880" y="1197000"/>
          <a:ext cx="3168720" cy="4608360"/>
        </p:xfrm>
        <a:graphic>
          <a:graphicData uri="http://schemas.openxmlformats.org/drawingml/2006/table">
            <a:tbl>
              <a:tblPr/>
              <a:tblGrid>
                <a:gridCol w="2131920"/>
                <a:gridCol w="1036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8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iddle to senior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fess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neral white col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neral blue col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lf-em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rsonal income &lt;$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8000-1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12000-1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20000-2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30000-4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50000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any size &lt;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-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-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-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0-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0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AutoShape 230"/>
          <p:cNvSpPr/>
          <p:nvPr/>
        </p:nvSpPr>
        <p:spPr>
          <a:xfrm>
            <a:off x="3152880" y="1989000"/>
            <a:ext cx="180000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31"/>
          <p:cNvSpPr/>
          <p:nvPr/>
        </p:nvSpPr>
        <p:spPr>
          <a:xfrm>
            <a:off x="3224160" y="3573360"/>
            <a:ext cx="172872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2"/>
          <p:cNvSpPr/>
          <p:nvPr/>
        </p:nvSpPr>
        <p:spPr>
          <a:xfrm>
            <a:off x="1088640" y="5877000"/>
            <a:ext cx="236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: HK working population aged 18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33"/>
          <p:cNvSpPr/>
          <p:nvPr/>
        </p:nvSpPr>
        <p:spPr>
          <a:xfrm>
            <a:off x="5529240" y="1413000"/>
            <a:ext cx="28083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5"/>
          <p:cNvSpPr/>
          <p:nvPr/>
        </p:nvSpPr>
        <p:spPr>
          <a:xfrm>
            <a:off x="1281240" y="5013360"/>
            <a:ext cx="3671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51D7-D6E8-430A-B2E9-B49A3E8DADA9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lt Highligh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717-0374-4F73-8380-7EB531E6C50F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 Satisfaction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662040" y="1557360"/>
          <a:ext cx="87980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7360"/>
                    <a:ext cx="8798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4"/>
          <p:cNvSpPr/>
          <p:nvPr/>
        </p:nvSpPr>
        <p:spPr>
          <a:xfrm>
            <a:off x="507960" y="5707080"/>
            <a:ext cx="42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Employee s- Q1: 3,058,300; Q2: 3,241,500; Q3: 3,229,2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Employers – Q1: 106,500; Q2: 118,400; Q3: 183,20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19000" y="1079640"/>
            <a:ext cx="8813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Employees: Overall, how satisfied are you with your current post of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Employers: Overall, how satisfied do you think your staff is with their current post of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6176880" y="2708280"/>
            <a:ext cx="0" cy="647640"/>
          </a:xfrm>
          <a:prstGeom prst="line">
            <a:avLst/>
          </a:prstGeom>
          <a:ln w="31680">
            <a:solidFill>
              <a:srgbClr val="008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262-9682-4A8C-B573-7AC88B8772DB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otivators to job satisfaction by position of work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31800" y="907920"/>
          <a:ext cx="8713800" cy="5164200"/>
        </p:xfrm>
        <a:graphic>
          <a:graphicData uri="http://schemas.openxmlformats.org/drawingml/2006/table">
            <a:tbl>
              <a:tblPr/>
              <a:tblGrid>
                <a:gridCol w="792360"/>
                <a:gridCol w="1958760"/>
                <a:gridCol w="1967040"/>
                <a:gridCol w="2074680"/>
                <a:gridCol w="1920960"/>
              </a:tblGrid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Impor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ll employe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anagement staf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rofessiona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eneral white coll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Rank 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00" name="AutoShape 360"/>
          <p:cNvSpPr/>
          <p:nvPr/>
        </p:nvSpPr>
        <p:spPr>
          <a:xfrm>
            <a:off x="3368520" y="1484280"/>
            <a:ext cx="410544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61"/>
          <p:cNvSpPr/>
          <p:nvPr/>
        </p:nvSpPr>
        <p:spPr>
          <a:xfrm>
            <a:off x="7473960" y="2781360"/>
            <a:ext cx="187308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62"/>
          <p:cNvSpPr/>
          <p:nvPr/>
        </p:nvSpPr>
        <p:spPr>
          <a:xfrm>
            <a:off x="3368520" y="2781360"/>
            <a:ext cx="1944720" cy="28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64"/>
          <p:cNvSpPr/>
          <p:nvPr/>
        </p:nvSpPr>
        <p:spPr>
          <a:xfrm>
            <a:off x="5457960" y="342900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65"/>
          <p:cNvSpPr/>
          <p:nvPr/>
        </p:nvSpPr>
        <p:spPr>
          <a:xfrm>
            <a:off x="7400880" y="371628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66"/>
          <p:cNvSpPr/>
          <p:nvPr/>
        </p:nvSpPr>
        <p:spPr>
          <a:xfrm>
            <a:off x="3368520" y="342900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7"/>
          <p:cNvSpPr/>
          <p:nvPr/>
        </p:nvSpPr>
        <p:spPr>
          <a:xfrm>
            <a:off x="5457960" y="4005360"/>
            <a:ext cx="3887640" cy="28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68"/>
          <p:cNvSpPr/>
          <p:nvPr/>
        </p:nvSpPr>
        <p:spPr>
          <a:xfrm>
            <a:off x="3368520" y="198900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69"/>
          <p:cNvSpPr/>
          <p:nvPr/>
        </p:nvSpPr>
        <p:spPr>
          <a:xfrm>
            <a:off x="5457960" y="306864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70"/>
          <p:cNvSpPr/>
          <p:nvPr/>
        </p:nvSpPr>
        <p:spPr>
          <a:xfrm>
            <a:off x="7400880" y="242100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2676-A8B4-46A1-AAFB-69C6B1D46245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-Seeking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38160" y="1054080"/>
          <a:ext cx="887580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054080"/>
                    <a:ext cx="887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 Box 4"/>
          <p:cNvSpPr/>
          <p:nvPr/>
        </p:nvSpPr>
        <p:spPr>
          <a:xfrm>
            <a:off x="507960" y="5950080"/>
            <a:ext cx="428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 Employees -Q1: 3,058,300; Q2: 3,241,500; Q3: 3,229,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889600" y="1268280"/>
          <a:ext cx="3508560" cy="2687760"/>
        </p:xfrm>
        <a:graphic>
          <a:graphicData uri="http://schemas.openxmlformats.org/drawingml/2006/table">
            <a:tbl>
              <a:tblPr/>
              <a:tblGrid>
                <a:gridCol w="630360"/>
                <a:gridCol w="2192400"/>
                <a:gridCol w="68580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-seeking cha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cruitment web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ws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erson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Labour Depar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cruitment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cruitment magaz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jected base: Job seekers: 681,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7" name="Line 47"/>
          <p:cNvSpPr/>
          <p:nvPr/>
        </p:nvSpPr>
        <p:spPr>
          <a:xfrm flipH="1">
            <a:off x="5500800" y="2133720"/>
            <a:ext cx="387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7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B53C-64EF-440C-A6A9-5D2D8BC23A7F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ho are the job-seekers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944880" y="2563920"/>
            <a:ext cx="1871640" cy="2377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ok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new jo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co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month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2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5240160" y="1125360"/>
            <a:ext cx="2376720" cy="792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>
            <a:off x="3368520" y="3068640"/>
            <a:ext cx="912960" cy="28908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V="1">
            <a:off x="3368520" y="4076640"/>
            <a:ext cx="863640" cy="50472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528880" y="3573360"/>
            <a:ext cx="749160" cy="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792520" y="1197000"/>
          <a:ext cx="2425680" cy="733320"/>
        </p:xfrm>
        <a:graphic>
          <a:graphicData uri="http://schemas.openxmlformats.org/drawingml/2006/table">
            <a:tbl>
              <a:tblPr/>
              <a:tblGrid>
                <a:gridCol w="178596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Satisfi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Not satisfi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63"/>
          <p:cNvSpPr/>
          <p:nvPr/>
        </p:nvSpPr>
        <p:spPr>
          <a:xfrm>
            <a:off x="355680" y="2690640"/>
            <a:ext cx="117144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der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8408880" y="2997360"/>
            <a:ext cx="1171800" cy="79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stry^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396720" y="4305240"/>
            <a:ext cx="117180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321600" y="2997360"/>
          <a:ext cx="1871640" cy="1854000"/>
        </p:xfrm>
        <a:graphic>
          <a:graphicData uri="http://schemas.openxmlformats.org/drawingml/2006/table">
            <a:tbl>
              <a:tblPr/>
              <a:tblGrid>
                <a:gridCol w="1325520"/>
                <a:gridCol w="546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inanc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Retai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Construc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nufact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ranspo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oci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496880" y="4303800"/>
          <a:ext cx="1871640" cy="1218960"/>
        </p:xfrm>
        <a:graphic>
          <a:graphicData uri="http://schemas.openxmlformats.org/drawingml/2006/table">
            <a:tbl>
              <a:tblPr/>
              <a:tblGrid>
                <a:gridCol w="1287720"/>
                <a:gridCol w="58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nag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Profession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White col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lue col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579680" y="2330280"/>
          <a:ext cx="1770120" cy="1828800"/>
        </p:xfrm>
        <a:graphic>
          <a:graphicData uri="http://schemas.openxmlformats.org/drawingml/2006/table">
            <a:tbl>
              <a:tblPr/>
              <a:tblGrid>
                <a:gridCol w="1225440"/>
                <a:gridCol w="544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18-2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30-4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45-6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18-2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30-4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45-6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Line 125"/>
          <p:cNvSpPr/>
          <p:nvPr/>
        </p:nvSpPr>
        <p:spPr>
          <a:xfrm>
            <a:off x="4737240" y="1916280"/>
            <a:ext cx="0" cy="64908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8"/>
          <p:cNvSpPr/>
          <p:nvPr/>
        </p:nvSpPr>
        <p:spPr>
          <a:xfrm>
            <a:off x="6595920" y="5734080"/>
            <a:ext cx="29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 Employee (3,229,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% denotes percentage of job-seekers within particular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3704040" y="5445000"/>
            <a:ext cx="26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^ Financing - Financing, insurance, real estate &amp; business service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etail - Wholesale, retail &amp; im/export trades, restaurants &amp; hotel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ransport - Transport, storage &amp; communication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ocial - Community, social &amp; personal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1"/>
          <p:cNvSpPr/>
          <p:nvPr/>
        </p:nvSpPr>
        <p:spPr>
          <a:xfrm>
            <a:off x="1652760" y="2330280"/>
            <a:ext cx="1715760" cy="289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2"/>
          <p:cNvSpPr/>
          <p:nvPr/>
        </p:nvSpPr>
        <p:spPr>
          <a:xfrm>
            <a:off x="1652760" y="3265560"/>
            <a:ext cx="171576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3"/>
          <p:cNvSpPr/>
          <p:nvPr/>
        </p:nvSpPr>
        <p:spPr>
          <a:xfrm>
            <a:off x="1568520" y="4941720"/>
            <a:ext cx="1795320" cy="287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4"/>
          <p:cNvSpPr/>
          <p:nvPr/>
        </p:nvSpPr>
        <p:spPr>
          <a:xfrm>
            <a:off x="6321600" y="3357720"/>
            <a:ext cx="179532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5"/>
          <p:cNvSpPr/>
          <p:nvPr/>
        </p:nvSpPr>
        <p:spPr>
          <a:xfrm>
            <a:off x="2720880" y="1125360"/>
            <a:ext cx="2509920" cy="7909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53"/>
          <p:cNvSpPr/>
          <p:nvPr/>
        </p:nvSpPr>
        <p:spPr>
          <a:xfrm>
            <a:off x="2649600" y="1413000"/>
            <a:ext cx="2736720" cy="72072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E22-A378-49C4-A20E-1ED5FE620C1F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Q &amp; 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FFA-2112-4342-98FF-46A1151B812A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77A-A4CF-4F06-A770-530D26692B61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65240" y="2205000"/>
            <a:ext cx="5832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 employees’ salary catch up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with inflation?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3" name="Picture 3" descr="j0234752"/>
          <p:cNvPicPr/>
          <p:nvPr/>
        </p:nvPicPr>
        <p:blipFill>
          <a:blip r:embed="rId1"/>
          <a:stretch/>
        </p:blipFill>
        <p:spPr>
          <a:xfrm>
            <a:off x="1352520" y="2060640"/>
            <a:ext cx="1482840" cy="165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208160" y="393372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fferent are the view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09600" y="55008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taken from 2008Q2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EDF-0549-475F-AE08-ABB76BBD2768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an employees’ salary catch up with </a:t>
            </a: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flatio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428760" y="1197000"/>
          <a:ext cx="4284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97000"/>
                    <a:ext cx="428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5502240" y="1197000"/>
          <a:ext cx="396252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2240" y="1197000"/>
                    <a:ext cx="39625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"/>
          <p:cNvSpPr/>
          <p:nvPr/>
        </p:nvSpPr>
        <p:spPr>
          <a:xfrm>
            <a:off x="4741560" y="3141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046360" y="5877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ource: HKUP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45840" y="53737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rs (118,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e base: 34 (small sample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600520" y="5500800"/>
            <a:ext cx="22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es (3,241,400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85360" y="5877000"/>
            <a:ext cx="571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Figures taken from 2008Q2 survey, figures above have excluded refusal cases and blank answ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2649600" y="3068640"/>
            <a:ext cx="136692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7543800" y="2590920"/>
            <a:ext cx="11509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936880" y="2276640"/>
            <a:ext cx="381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ga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3FDD-2E2A-4AE1-8BF8-B20E4E18E851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65240" y="2205000"/>
            <a:ext cx="583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Legislation for “minimum wage and maximum working hours”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3" name="Picture 3" descr="j0234752"/>
          <p:cNvPicPr/>
          <p:nvPr/>
        </p:nvPicPr>
        <p:blipFill>
          <a:blip r:embed="rId1"/>
          <a:stretch/>
        </p:blipFill>
        <p:spPr>
          <a:xfrm>
            <a:off x="1352520" y="2060640"/>
            <a:ext cx="1482840" cy="1657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09600" y="55008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taken from 2008Q2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38400" y="407196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fferent are the view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D51-C85E-45EF-8A9F-42FA596F5937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4520" y="115920"/>
            <a:ext cx="770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gislation for “minimum wage &amp; maximum working hours”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428760" y="1197000"/>
          <a:ext cx="4284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97000"/>
                    <a:ext cx="428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5"/>
          <p:cNvSpPr/>
          <p:nvPr/>
        </p:nvSpPr>
        <p:spPr>
          <a:xfrm>
            <a:off x="4646520" y="3213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5310360" y="1214280"/>
          <a:ext cx="428148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1214280"/>
                    <a:ext cx="42814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7"/>
          <p:cNvSpPr/>
          <p:nvPr/>
        </p:nvSpPr>
        <p:spPr>
          <a:xfrm>
            <a:off x="5515200" y="5516640"/>
            <a:ext cx="22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es (3,241,400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8046360" y="5877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ource: HKUP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36480" y="53737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rs (118,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e base: 34 (small sample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936880" y="1844640"/>
            <a:ext cx="381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ga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649600" y="2852640"/>
            <a:ext cx="136692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5"/>
          <p:cNvSpPr/>
          <p:nvPr/>
        </p:nvSpPr>
        <p:spPr>
          <a:xfrm>
            <a:off x="7329600" y="3573360"/>
            <a:ext cx="136656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85360" y="5877000"/>
            <a:ext cx="571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Figures taken from 2008Q2 survey, figures above have excluded refusal cases and blank answ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A04A-E713-4CA4-B9F2-3126C7F0C488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17240" y="2204640"/>
            <a:ext cx="727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know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how happy are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your own employees?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4" name="Picture 3" descr="j0234752"/>
          <p:cNvPicPr/>
          <p:nvPr/>
        </p:nvPicPr>
        <p:blipFill>
          <a:blip r:embed="rId1"/>
          <a:stretch/>
        </p:blipFill>
        <p:spPr>
          <a:xfrm>
            <a:off x="809640" y="1928880"/>
            <a:ext cx="1609560" cy="1800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2649600" y="4291200"/>
            <a:ext cx="6119640" cy="6789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lineJobs’ Quality Workpla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C28-8F5D-4AC4-A606-63932F536AFD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bout HeadlineJobs’ Quality Workplace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400" y="928800"/>
            <a:ext cx="91263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 view of the high job-seeking rate, the recruitment and retention of good employees becomes more challenging - factors long thought to satisfy employees may be shifting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eadlineJobs, with a mission to provide the best recruitment solution to meet the needs of today’s job-seekers and recruiters, decided to study the job satisfaction of Hong Kong employees through scientific surveys so as to provide HR professionals with reliable and vital insights for HR managemen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What makes a quality workplace?” is the question to be answe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281240" y="3860640"/>
            <a:ext cx="3589200" cy="1297080"/>
          </a:xfrm>
          <a:prstGeom prst="cloudCallout">
            <a:avLst>
              <a:gd name="adj1" fmla="val -57916"/>
              <a:gd name="adj2" fmla="val 72398"/>
            </a:avLst>
          </a:prstGeom>
          <a:solidFill>
            <a:srgbClr val="d6009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mployees: How satisfied are you with your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097600" y="3789360"/>
            <a:ext cx="3822480" cy="1366920"/>
          </a:xfrm>
          <a:prstGeom prst="cloudCallout">
            <a:avLst>
              <a:gd name="adj1" fmla="val 52199"/>
              <a:gd name="adj2" fmla="val 72879"/>
            </a:avLst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mployers: How satisfied do you think your staff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ith their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421-181A-44ED-84C6-A375115BB99D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7334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 satisfaction model – 16 attribute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782880" y="2193840"/>
            <a:ext cx="2340000" cy="216072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 rot="1800000">
            <a:off x="2144520" y="1412640"/>
            <a:ext cx="2495520" cy="1135080"/>
          </a:xfrm>
          <a:prstGeom prst="rightArrow">
            <a:avLst>
              <a:gd name="adj1" fmla="val 51852"/>
              <a:gd name="adj2" fmla="val 652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9800000">
            <a:off x="1913040" y="3519360"/>
            <a:ext cx="2279520" cy="998640"/>
          </a:xfrm>
          <a:prstGeom prst="rightArrow">
            <a:avLst>
              <a:gd name="adj1" fmla="val 57713"/>
              <a:gd name="adj2" fmla="val 570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800000">
            <a:off x="5240160" y="1412640"/>
            <a:ext cx="2340000" cy="1050840"/>
          </a:xfrm>
          <a:prstGeom prst="leftArrow">
            <a:avLst>
              <a:gd name="adj1" fmla="val 60324"/>
              <a:gd name="adj2" fmla="val 5439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800000">
            <a:off x="5678280" y="3692520"/>
            <a:ext cx="2592360" cy="1009800"/>
          </a:xfrm>
          <a:prstGeom prst="leftArrow">
            <a:avLst>
              <a:gd name="adj1" fmla="val 60324"/>
              <a:gd name="adj2" fmla="val 627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e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4329000" y="4076640"/>
            <a:ext cx="1171800" cy="1873440"/>
          </a:xfrm>
          <a:prstGeom prst="upArrow">
            <a:avLst>
              <a:gd name="adj1" fmla="val 64926"/>
              <a:gd name="adj2" fmla="val 4008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 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00160" y="2060640"/>
            <a:ext cx="329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Relationship with supervisors/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Management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Aut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415800" y="4941720"/>
            <a:ext cx="32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Relationship with co-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Contribution to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394240" y="5130720"/>
            <a:ext cx="22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Job nature &amp;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Job var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Corporate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7257960" y="3467160"/>
            <a:ext cx="26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Arial Narrow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Professional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Arial Narrow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areer advancemen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7206120" y="1754280"/>
            <a:ext cx="260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Safe work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Job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Sal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Work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C75-5AB0-414F-AB20-694EEFE4DBBE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5440" y="189000"/>
            <a:ext cx="7620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cepts and definition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214280"/>
            <a:ext cx="86565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mployees were asked to rate their job satisfaction using a five-point scale ranging from “very satisfied”, “quite satisfied”, “half-half”, “not quite satisfied” and “not satisfied at all”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mployers were asked to estimate their employees’ job satisfaction using the same scale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ose who answered “very satisfied” or “quite satisfied” (the top 2 boxes) are grouped as “overall satisfied”, whereas those who picked “not quite satisfied” or “not satisfied at all” are grouped as “overall dissatisfied”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0:36:53Z</dcterms:created>
  <dc:creator>Lee Lap Yin</dc:creator>
  <dc:description/>
  <dc:language>en-US</dc:language>
  <cp:lastModifiedBy>joseph</cp:lastModifiedBy>
  <dcterms:modified xsi:type="dcterms:W3CDTF">2008-09-22T14:03:40Z</dcterms:modified>
  <cp:revision>417</cp:revision>
  <dc:subject/>
  <dc:title>星島通識網 ─ 老師意見訪問調查 2008 </dc:title>
</cp:coreProperties>
</file>