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13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46.wmf" ContentType="image/x-wmf"/>
  <Override PartName="/ppt/media/image11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827F1F0-BA6C-4CC1-A112-0EAF98507621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B414-8684-439C-839B-325783B1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E943-3248-43E3-9A49-F1D1A363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B011-AE94-4268-BC40-0D456CCD8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EC59-044E-460B-AB09-B5F0AAB47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AFDB-793B-4601-BED5-EFBA7E09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9FBF-3952-4334-AB2C-F9B3BF4C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61CC-535A-4249-BF4D-539429C7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0A23-2A8D-440D-9FF5-DA5F42CB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2B04-77CF-436C-A6F9-EAE49D0C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685D-5645-4FDF-8AF9-25CBCF95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D449-9B89-4CAD-902E-72DFB0DD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ACFF-0EE0-49D6-842F-98FD3FE8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4DB5-00C5-48FF-A947-793B6DC56243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5809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香港在職人士對糖尿病認知意見調查 </a:t>
            </a:r>
            <a:br>
              <a:rPr sz="4000"/>
            </a:br>
            <a:br>
              <a:rPr sz="4000"/>
            </a:b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調查結果簡報</a:t>
            </a:r>
            <a:br>
              <a:rPr sz="2400"/>
            </a:br>
            <a:br>
              <a:rPr sz="2400"/>
            </a:b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鍾庭耀博士</a:t>
            </a:r>
            <a:br>
              <a:rPr sz="2400"/>
            </a:br>
            <a:br>
              <a:rPr sz="2400"/>
            </a:br>
            <a:r>
              <a:rPr b="0" i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2006</a:t>
            </a:r>
            <a:r>
              <a:rPr b="0" i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年</a:t>
            </a:r>
            <a:r>
              <a:rPr b="0" i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9</a:t>
            </a:r>
            <a:r>
              <a:rPr b="0" i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月</a:t>
            </a:r>
            <a:r>
              <a:rPr b="0" i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28</a:t>
            </a:r>
            <a:r>
              <a:rPr b="0" i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日</a:t>
            </a:r>
            <a:br>
              <a:rPr sz="2400"/>
            </a:b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05320" y="79380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香港大學民意研究計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19320" y="457200"/>
          <a:ext cx="18288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57200"/>
                    <a:ext cx="18288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457200" y="2590920"/>
            <a:ext cx="82296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ffff99"/>
                </a:solidFill>
                <a:latin typeface="Times New Roman"/>
                <a:ea typeface="標楷體"/>
              </a:rPr>
              <a:t>請問你知唔知道邊</a:t>
            </a:r>
            <a:r>
              <a:rPr b="1" lang="zh-TW" sz="3400" spc="-1" strike="noStrike">
                <a:solidFill>
                  <a:srgbClr val="ffff99"/>
                </a:solidFill>
                <a:latin typeface="Times New Roman"/>
                <a:ea typeface="標楷體"/>
              </a:rPr>
              <a:t>D</a:t>
            </a:r>
            <a:r>
              <a:rPr b="1" lang="zh-TW" sz="3400" spc="-1" strike="noStrike">
                <a:solidFill>
                  <a:srgbClr val="ffff99"/>
                </a:solidFill>
                <a:latin typeface="Times New Roman"/>
                <a:ea typeface="標楷體"/>
              </a:rPr>
              <a:t>人係糖尿病高危人士</a:t>
            </a:r>
            <a:r>
              <a:rPr b="1" lang="zh-TW" sz="3400" spc="-1" strike="noStrike">
                <a:solidFill>
                  <a:srgbClr val="ffff99"/>
                </a:solidFill>
                <a:latin typeface="Times New Roman"/>
                <a:ea typeface="標楷體"/>
              </a:rPr>
              <a:t>?</a:t>
            </a:r>
            <a:br>
              <a:rPr sz="3400"/>
            </a:br>
            <a:r>
              <a:rPr b="1" lang="zh-TW" sz="34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（佔回答人數百分比，基數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=577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）</a:t>
            </a: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0" y="1371600"/>
          <a:ext cx="914400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91440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952880" y="1687680"/>
          <a:ext cx="3510000" cy="2703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1687680"/>
                    <a:ext cx="3510000" cy="27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3733920" y="2057400"/>
            <a:ext cx="1218960" cy="228600"/>
          </a:xfrm>
          <a:prstGeom prst="rightArrow">
            <a:avLst>
              <a:gd name="adj1" fmla="val 50000"/>
              <a:gd name="adj2" fmla="val 133307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ffff99"/>
                </a:solidFill>
                <a:latin typeface="Times New Roman"/>
                <a:ea typeface="標楷體"/>
              </a:rPr>
              <a:t>請問你知唔知道邊</a:t>
            </a:r>
            <a:r>
              <a:rPr b="1" lang="zh-TW" sz="3400" spc="-1" strike="noStrike">
                <a:solidFill>
                  <a:srgbClr val="ffff99"/>
                </a:solidFill>
                <a:latin typeface="Times New Roman"/>
                <a:ea typeface="標楷體"/>
              </a:rPr>
              <a:t>D</a:t>
            </a:r>
            <a:r>
              <a:rPr b="1" lang="zh-TW" sz="3400" spc="-1" strike="noStrike">
                <a:solidFill>
                  <a:srgbClr val="ffff99"/>
                </a:solidFill>
                <a:latin typeface="Times New Roman"/>
                <a:ea typeface="標楷體"/>
              </a:rPr>
              <a:t>人係糖尿病高危人士</a:t>
            </a:r>
            <a:r>
              <a:rPr b="1" lang="zh-TW" sz="3400" spc="-1" strike="noStrike">
                <a:solidFill>
                  <a:srgbClr val="ffff99"/>
                </a:solidFill>
                <a:latin typeface="Times New Roman"/>
                <a:ea typeface="標楷體"/>
              </a:rPr>
              <a:t>? 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（以性別交义分析比較）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81080" y="1981080"/>
          <a:ext cx="8962920" cy="438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1981080"/>
                    <a:ext cx="896292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糖尿病可唔可以根治嘅呢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?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1066680"/>
          <a:ext cx="920592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2059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143000" y="58672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77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糖尿病可唔可以根治嘅呢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?</a:t>
            </a:r>
            <a:br>
              <a:rPr sz="4000"/>
            </a:b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（以年齡交义分析比較）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62120" y="2057400"/>
          <a:ext cx="7848360" cy="425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848360" cy="42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你知唔知道糖尿病空腹血糖指標超過幾多度係屬於超標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?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0" y="2003400"/>
          <a:ext cx="9207360" cy="418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03400"/>
                    <a:ext cx="9207360" cy="41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7309800" y="563868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7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你知唔知道糖尿病空腹血糖指標超過幾多度係屬於超標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? </a:t>
            </a:r>
            <a:br>
              <a:rPr sz="2400"/>
            </a:b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（以性別及年齡交义分析比較）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8600" y="1143000"/>
          <a:ext cx="5486400" cy="274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54864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819520" y="3678120"/>
          <a:ext cx="6095880" cy="3179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678120"/>
                    <a:ext cx="609588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請問你知唔知道有</a:t>
            </a: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D</a:t>
            </a: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乜野方法可以改善糖尿病嘅病情呢？ </a:t>
            </a:r>
            <a:br>
              <a:rPr sz="3600"/>
            </a:b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（佔回答人數百分比，基數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=577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）</a:t>
            </a: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3480" y="1219320"/>
          <a:ext cx="9077040" cy="640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" y="1219320"/>
                    <a:ext cx="907704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5105520" y="1905120"/>
          <a:ext cx="3827520" cy="2485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905120"/>
                    <a:ext cx="3827520" cy="24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4114800" y="243828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99"/>
                </a:solidFill>
                <a:latin typeface="Times New Roman"/>
                <a:ea typeface="標楷體"/>
              </a:rPr>
              <a:t>請問你知唔知道有</a:t>
            </a:r>
            <a:r>
              <a:rPr b="1" lang="zh-TW" sz="2600" spc="-1" strike="noStrike">
                <a:solidFill>
                  <a:srgbClr val="ffff99"/>
                </a:solidFill>
                <a:latin typeface="Times New Roman"/>
                <a:ea typeface="標楷體"/>
              </a:rPr>
              <a:t>D</a:t>
            </a:r>
            <a:r>
              <a:rPr b="1" lang="zh-TW" sz="2600" spc="-1" strike="noStrike">
                <a:solidFill>
                  <a:srgbClr val="ffff99"/>
                </a:solidFill>
                <a:latin typeface="Times New Roman"/>
                <a:ea typeface="標楷體"/>
              </a:rPr>
              <a:t>乜野方法可以改善糖尿病嘅病情呢？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br>
              <a:rPr sz="2400"/>
            </a:b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（以性別及年齡交义分析比較）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0" y="1066680"/>
          <a:ext cx="5486400" cy="304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548640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276720" y="3733920"/>
          <a:ext cx="5638680" cy="3124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733920"/>
                    <a:ext cx="5638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你知唔知道點樣可以預防患上糖尿病？ </a:t>
            </a:r>
            <a:br>
              <a:rPr sz="3600"/>
            </a:b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（佔回答人數百分比，基數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=577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）</a:t>
            </a: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6600" y="1447920"/>
          <a:ext cx="907740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1447920"/>
                    <a:ext cx="90774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646520" y="2063880"/>
          <a:ext cx="4113360" cy="2355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6520" y="2063880"/>
                    <a:ext cx="4113360" cy="23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3657600" y="205740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你知唔知道點樣可以預防患上糖尿病？ </a:t>
            </a:r>
            <a:br>
              <a:rPr sz="3600"/>
            </a:b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（以性別及年齡交义分析比較）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523880"/>
          <a:ext cx="4876920" cy="264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4876920" cy="26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666880" y="3801960"/>
          <a:ext cx="6256440" cy="3056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801960"/>
                    <a:ext cx="6256440" cy="30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  <a:ea typeface="標楷體"/>
              </a:rPr>
              <a:t>簡報大綱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6964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2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調查方法及樣本資料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15360" indent="-315360" algn="just">
              <a:lnSpc>
                <a:spcPct val="12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調查結果：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被訪者對糖尿病成因的認識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對預防及治療糖尿病方法的認知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對糖尿病的誤解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被訪者的腰圍、身高及體重與患上糖尿病的風險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被訪者外出晚膳的習慣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5360" indent="-315360" algn="just">
              <a:lnSpc>
                <a:spcPct val="12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被訪者個人背景資料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683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請問你有冇試過驗血糖？【如有，訪員請追問是否在過去十二個月內進行】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39640" y="2057400"/>
          <a:ext cx="8126640" cy="407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057400"/>
                    <a:ext cx="8126640" cy="40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7309800" y="563868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77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請問你有冇試過驗血糖？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br>
              <a:rPr sz="4000"/>
            </a:b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(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以性別及年齡交义分析比較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0" y="1066680"/>
          <a:ext cx="5867280" cy="266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586728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2666880" y="3524400"/>
          <a:ext cx="6477120" cy="3333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524400"/>
                    <a:ext cx="647712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請問你本身係唔係糖尿病患者？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76280" y="1746360"/>
          <a:ext cx="8253360" cy="442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746360"/>
                    <a:ext cx="825336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7309800" y="563868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77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[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只問糖尿病患者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]</a:t>
            </a:r>
            <a:br>
              <a:rPr sz="3600"/>
            </a:b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咁請問你用緊邊</a:t>
            </a: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D</a:t>
            </a: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方法控制血糖？ </a:t>
            </a:r>
            <a:br>
              <a:rPr sz="3600"/>
            </a:b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（佔回答人數百分比，基數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=13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）</a:t>
            </a: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6600" y="1905120"/>
          <a:ext cx="907740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1905120"/>
                    <a:ext cx="90774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[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只問糖尿病患者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]</a:t>
            </a:r>
            <a:br>
              <a:rPr sz="2800"/>
            </a:b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用咗以上嘅方法之後，你覺得控制血糖嘅效果好唔好呢？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0" y="2003400"/>
          <a:ext cx="9207360" cy="418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03400"/>
                    <a:ext cx="9207360" cy="41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7310160" y="5638680"/>
            <a:ext cx="10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1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r>
              <a:rPr b="1" lang="zh-TW" sz="2600" spc="-1" strike="noStrike">
                <a:solidFill>
                  <a:srgbClr val="ffff99"/>
                </a:solidFill>
                <a:latin typeface="Times New Roman"/>
                <a:ea typeface="標楷體"/>
              </a:rPr>
              <a:t>[</a:t>
            </a:r>
            <a:r>
              <a:rPr b="1" lang="zh-TW" sz="2600" spc="-1" strike="noStrike">
                <a:solidFill>
                  <a:srgbClr val="ffff99"/>
                </a:solidFill>
                <a:latin typeface="Times New Roman"/>
                <a:ea typeface="標楷體"/>
              </a:rPr>
              <a:t>只問覺得控制血糖效果一半半或差的糖尿病患者</a:t>
            </a:r>
            <a:r>
              <a:rPr b="1" lang="zh-TW" sz="2600" spc="-1" strike="noStrike">
                <a:solidFill>
                  <a:srgbClr val="ffff99"/>
                </a:solidFill>
                <a:latin typeface="Times New Roman"/>
                <a:ea typeface="標楷體"/>
              </a:rPr>
              <a:t>]</a:t>
            </a:r>
            <a:br>
              <a:rPr sz="2600"/>
            </a:b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點解會控制得唔係咁好呢？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38240" y="2209680"/>
          <a:ext cx="8928000" cy="418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240" y="2209680"/>
                    <a:ext cx="8928000" cy="41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7310520" y="5943600"/>
            <a:ext cx="88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8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標楷體"/>
              </a:rPr>
              <a:t>請問你嘅腰圍大約係幾多吋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標楷體"/>
              </a:rPr>
              <a:t>?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6172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577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cxnSp>
        <p:nvCxnSpPr>
          <p:cNvPr id="162" name=""/>
          <p:cNvCxnSpPr/>
          <p:nvPr/>
        </p:nvCxnSpPr>
        <p:spPr>
          <a:xfrm flipH="1" rot="16200000">
            <a:off x="4481640" y="190476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graphicFrame>
        <p:nvGraphicFramePr>
          <p:cNvPr id="163" name=""/>
          <p:cNvGraphicFramePr/>
          <p:nvPr/>
        </p:nvGraphicFramePr>
        <p:xfrm>
          <a:off x="0" y="1371600"/>
          <a:ext cx="906300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90630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請問你宜家既身高同體重大約是幾多？</a:t>
            </a:r>
            <a:br>
              <a:rPr sz="2800"/>
            </a:br>
            <a:r>
              <a:rPr b="0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[</a:t>
            </a:r>
            <a:r>
              <a:rPr b="0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以計算身體質量指數，即</a:t>
            </a:r>
            <a:r>
              <a:rPr b="0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Body Mass Index(BMI)]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 BMI 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計算方法為體重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(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公斤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)/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高度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(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米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)²</a:t>
            </a:r>
            <a:r>
              <a:rPr b="1" lang="zh-TW" sz="44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6172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564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cxnSp>
        <p:nvCxnSpPr>
          <p:cNvPr id="167" name=""/>
          <p:cNvCxnSpPr/>
          <p:nvPr/>
        </p:nvCxnSpPr>
        <p:spPr>
          <a:xfrm flipH="1" rot="16200000">
            <a:off x="4481640" y="190476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graphicFrame>
        <p:nvGraphicFramePr>
          <p:cNvPr id="168" name=""/>
          <p:cNvGraphicFramePr/>
          <p:nvPr/>
        </p:nvGraphicFramePr>
        <p:xfrm>
          <a:off x="0" y="1905120"/>
          <a:ext cx="9063000" cy="435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906300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486400" y="1905120"/>
          <a:ext cx="2514600" cy="1719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1905120"/>
                    <a:ext cx="2514600" cy="17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標楷體"/>
              </a:rPr>
              <a:t>腰圍及身體質量指數</a:t>
            </a:r>
            <a:br>
              <a:rPr sz="3600"/>
            </a:b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標楷體"/>
              </a:rPr>
              <a:t> 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（以性別交义分析比較）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828800" y="3276720"/>
          <a:ext cx="6840360" cy="327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276720"/>
                    <a:ext cx="6840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304920" y="914400"/>
          <a:ext cx="6095880" cy="2819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914400"/>
                    <a:ext cx="60958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你一星期平均有幾多晚會出街食飯？</a:t>
            </a: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(</a:t>
            </a: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只計晚餐</a:t>
            </a: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)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1920" y="2003400"/>
          <a:ext cx="9082080" cy="439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2003400"/>
                    <a:ext cx="908208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7238880" y="6172200"/>
            <a:ext cx="12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576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343400" y="2209680"/>
          <a:ext cx="3886200" cy="1746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2209680"/>
                    <a:ext cx="3886200" cy="17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調查方法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被訪者個人背景資料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Times New Roman"/>
                <a:ea typeface="標楷體"/>
              </a:rPr>
              <a:t>性別</a:t>
            </a:r>
            <a:r>
              <a:rPr b="0" lang="zh-TW" sz="44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09480" y="1752480"/>
          <a:ext cx="8182080" cy="411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818208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6934320" y="5486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577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Times New Roman"/>
                <a:ea typeface="標楷體"/>
              </a:rPr>
              <a:t>年齡組別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55480" y="1447920"/>
          <a:ext cx="8033040" cy="448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1447920"/>
                    <a:ext cx="8033040" cy="44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6858000" y="5943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57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Times New Roman"/>
                <a:ea typeface="標楷體"/>
              </a:rPr>
              <a:t>教育程度</a:t>
            </a:r>
            <a:r>
              <a:rPr b="0" lang="zh-TW" sz="44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80880" y="685800"/>
          <a:ext cx="8255160" cy="538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8255160" cy="53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6858000" y="5943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577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Times New Roman"/>
                <a:ea typeface="標楷體"/>
              </a:rPr>
              <a:t>職業</a:t>
            </a:r>
            <a:r>
              <a:rPr b="0" lang="zh-TW" sz="44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0" y="1746360"/>
          <a:ext cx="9601200" cy="44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46360"/>
                    <a:ext cx="96012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6858000" y="5943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574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Times New Roman"/>
                <a:ea typeface="標楷體"/>
              </a:rPr>
              <a:t>婚姻狀況 </a:t>
            </a:r>
            <a:r>
              <a:rPr b="0" lang="zh-TW" sz="44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-228600" y="1752480"/>
          <a:ext cx="960120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1752480"/>
                    <a:ext cx="96012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6858000" y="5943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57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Times New Roman"/>
                <a:ea typeface="標楷體"/>
              </a:rPr>
              <a:t>個人每個月平均收入 </a:t>
            </a:r>
            <a:r>
              <a:rPr b="0" lang="zh-TW" sz="44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-152280" y="1219320"/>
          <a:ext cx="9640800" cy="56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1219320"/>
                    <a:ext cx="964080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6858000" y="5943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55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Times New Roman"/>
                <a:ea typeface="標楷體"/>
              </a:rPr>
              <a:t>居住地區</a:t>
            </a:r>
            <a:r>
              <a:rPr b="1" lang="zh-TW" sz="48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-304920" y="1143000"/>
          <a:ext cx="9641160" cy="51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1143000"/>
                    <a:ext cx="9641160" cy="51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6858000" y="5943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571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  <a:ea typeface="標楷體"/>
              </a:rPr>
              <a:t>總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別各約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三分一人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表示不知道任何糖尿病的徵狀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(33 %)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及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糖尿病可能會導致的併發症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(30%)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。在表示知道的人士當中，最多被訪者能夠正確講出「容易疲倦」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(32%)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及「劇渴／口渴」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(30%)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是糖尿病的徵狀，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有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接近四成人士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能準確地回答「失明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因視網膜病變、白內障或青光眼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」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(38%)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及「皮膚／足部感染，皮膚潰爛／爛脚／截足」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(37%)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乃屬於糖尿病的併發症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別各有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一成多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的被訪者表示完全不知道糖尿病的高危因素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(15%)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及如何改善糖尿病的病情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(11%)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。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逾四分三被訪人士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(76%)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能正確指出糖尿病是不能根治的，其餘的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兩成被訪者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(20%)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則認為糖尿病患者能痊癒 。另外有高達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七成三被訪者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(73%)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表示不知道糖尿病空腹血糖指標超過幾多度屬於超標。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高達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四分之一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的被訪者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(26%)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表示並不知道任何預防糖尿病的方法 ，有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四成六人士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(46%)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「均衡飲食、不要偏食及暴飲暴食」是預防糖尿病的箇中方法 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  <a:ea typeface="標楷體"/>
              </a:rPr>
              <a:t>總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表示試過及未試過驗血糖的人數比例為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  <a:ea typeface="標楷體"/>
              </a:rPr>
              <a:t>二比一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 ，在有進行測試的被訪者之中，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  <a:ea typeface="標楷體"/>
              </a:rPr>
              <a:t>一半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(32%)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是在過去十二個月內進行，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  <a:ea typeface="標楷體"/>
              </a:rPr>
              <a:t>另一半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(31%)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則並非在過去十二個月內進行。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55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fff99"/>
                </a:solidFill>
                <a:latin typeface="Times New Roman"/>
                <a:ea typeface="標楷體"/>
              </a:rPr>
              <a:t>略多於六成人士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(61%)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肯定地表示自己並非糖尿病患者，而已經證實患上糖尿病的人數只佔整體樣本的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  <a:ea typeface="標楷體"/>
              </a:rPr>
              <a:t>兩個百分比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(2%)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。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有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  <a:ea typeface="標楷體"/>
              </a:rPr>
              <a:t>七成人士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(68%)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的身體質量屬於正常，另有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  <a:ea typeface="標楷體"/>
              </a:rPr>
              <a:t>一成六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(16%)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屬於偏瘦，而屬於過胖及癡肥的則分別佔樣本的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  <a:ea typeface="標楷體"/>
              </a:rPr>
              <a:t>百分之十四及百分之三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(14%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及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3%)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。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被訪者平均一星期有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  <a:ea typeface="標楷體"/>
              </a:rPr>
              <a:t>1.8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  <a:ea typeface="標楷體"/>
              </a:rPr>
              <a:t>晚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會外出用膳。只有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  <a:ea typeface="標楷體"/>
              </a:rPr>
              <a:t>四分一人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(25%)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表示從不或絕少出街食飯 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是次被訪的在職人士之中，女性比男性對糖尿病認識較多，而中年人士亦比其他年齡組別人士的警覺性強。調查又顯示，該等在職人士之中只有六成肯定自己並非糖尿病患者，接近三成半從來沒有進行血糖水平測試，而在願意透露自己身高及體重的被訪者當中，只有接近七成的身體質量指數屬於正常。換言之，大約三分一有關職人士其實需要加強對自己身體的監控，而出現中央肥胖的人士尤須注意。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99"/>
                </a:solidFill>
                <a:latin typeface="Times New Roman"/>
                <a:ea typeface="標楷體"/>
              </a:rPr>
              <a:t>樣本資料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5238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30360" indent="-1530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訪問日期：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2006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年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6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月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29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日至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7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月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3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日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訪問對象：年齡介乎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25 - 55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歲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並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操粵語的本地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                   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在職人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調查方法：由訪問員直接進行電話訪問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樣本數目：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577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個成功個案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回應比率：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67.5%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（以符合資格的目標對象計算 ）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抽樣誤差：少於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2.1%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，亦即在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95%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置信水平下，各個百分比的抽樣誤差為少於正負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4.2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個百分比。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99"/>
                </a:solidFill>
                <a:latin typeface="Times New Roman"/>
                <a:ea typeface="標楷體"/>
              </a:rPr>
              <a:t>報 告 完 畢</a:t>
            </a:r>
            <a:endParaRPr b="0" lang="en-US" sz="6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0" y="41911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詳細報告結果，請瀏覽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http://hkupop.hku.h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調查結果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請問你知唔知道患有糖尿病嘅人有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D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乜野徵狀？</a:t>
            </a:r>
            <a:br>
              <a:rPr sz="2800"/>
            </a:b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（佔回答人數百分比，基數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=577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）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2840" y="1752480"/>
          <a:ext cx="890424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0" y="1752480"/>
                    <a:ext cx="890424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800600" y="2743200"/>
          <a:ext cx="3824280" cy="2063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743200"/>
                    <a:ext cx="3824280" cy="20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6095880" y="228600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請問你知唔知道患有糖尿病嘅人有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D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乜野徵狀？</a:t>
            </a:r>
            <a:br>
              <a:rPr sz="2800"/>
            </a:b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（以性別及年齡交义分析比較）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30040" y="1212840"/>
          <a:ext cx="5369040" cy="247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212840"/>
                    <a:ext cx="536904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85800" y="3513240"/>
          <a:ext cx="8153280" cy="3344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513240"/>
                    <a:ext cx="815328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請問你認為糖尿病可能會導致邊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D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併發症呢？</a:t>
            </a:r>
            <a:br>
              <a:rPr sz="2800"/>
            </a:b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（佔回答人數百分比，基數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=577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）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2093760"/>
          <a:ext cx="9207360" cy="402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93760"/>
                    <a:ext cx="9207360" cy="40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0" y="1523880"/>
          <a:ext cx="8904240" cy="5334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523880"/>
                    <a:ext cx="890424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114800" y="2590920"/>
          <a:ext cx="4357800" cy="1919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2590920"/>
                    <a:ext cx="435780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4876920" y="2057400"/>
            <a:ext cx="380880" cy="609480"/>
          </a:xfrm>
          <a:custGeom>
            <a:avLst/>
            <a:gdLst>
              <a:gd name="textAreaLeft" fmla="*/ 50760 w 380880"/>
              <a:gd name="textAreaRight" fmla="*/ 330120 w 38088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請問你認為糖尿病可能會導致邊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D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併發症呢？ 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（以性別交义分析比較）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62120" y="1650960"/>
          <a:ext cx="7543800" cy="541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50960"/>
                    <a:ext cx="754380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6-09-28T11:54:46Z</dcterms:modified>
  <cp:revision>872</cp:revision>
  <dc:subject/>
  <dc:title>無投影片標題</dc:title>
</cp:coreProperties>
</file>