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6.wmf" ContentType="image/x-wmf"/>
  <Override PartName="/ppt/media/image19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2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5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6080" y="780840"/>
            <a:ext cx="4896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PMingLiU"/>
              </a:rPr>
              <a:t>Click to move the slide</a:t>
            </a:r>
            <a:endParaRPr b="1" lang="en-US" sz="32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5720" y="4765320"/>
            <a:ext cx="4971960" cy="445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9C4A47-6048-4915-BCB3-E0DD03304E26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37DADE-A30C-436F-83DB-92FF7827A00D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B78C55-9C78-4B30-9436-93091747D851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48AF03-CB3A-45CE-84E1-1DF8440B5031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4D6F5F-BE88-45B0-AE0E-965FFE345358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93077E-B120-490D-9157-4C3AEDBE3BBA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0A0400-AC37-4F00-BF17-4CC345B26479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242F40-9F38-452E-BDA7-29117FE6FA82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1736F3-651F-4A0C-84D5-676CAD4D2658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462099-8BD6-4470-B986-10F5ABE5635C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2804F7-AF2B-4F2F-BE47-5892DD840679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0063ACA-8B19-4504-9954-7F5F1E666095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77B1BA-BB15-4FFA-B6A0-B76B197665D2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476746-C262-41D3-826D-323CFDA4970C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2152E2-3F94-48E5-BE72-48C8111F9652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352E6E-0E16-4461-BBC6-C3661C14BCD7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FB98-33F2-40B7-A87E-F73A33F88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AD76-A355-4244-A808-4CED20F21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2D2B-70B1-4D66-8081-456D2DAEE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244A-D1B4-4E37-B959-28A8CBE6D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0CB2-4FDD-4D80-8633-3186632AB0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BA59-AE19-440F-B84A-36E1348680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75FB-89ED-41CC-BE8F-AA65773BEB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B8A5-0BE7-48B1-8C1F-47A8788778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0844-EAB6-4683-9BD5-F31AE9AAFD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728A-61F2-4354-9E62-01242FA88C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B98E-6CF3-4729-987A-81C3BF121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9F63-A0B7-4DEA-9797-4F2CD58EE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6AF1-788A-46C1-8F51-38B68C0DF8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AA94-F093-4BB2-B046-4DB853A175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787A-481D-4CB7-A5F7-F0F26AC441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A02B-8FF1-40C1-AEB6-97A5435F8D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6955-CED9-4544-AC44-CE3F5F37E6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ED89-FA26-4A11-A71C-0C2B31962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4AE1-A92C-4CA3-B8B6-ADDF04D79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0FC6-BF0B-4FB4-AF74-65E78B2D1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9541-39CA-4E91-8D3E-F73E5CDBD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396D-BF80-44C7-898D-CDB53F80E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04F6-9525-4BDB-BE0D-B7091C8FA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0C92-7B40-47ED-AAFA-F010B8BEB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PMingLiU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" name=""/>
          <p:cNvSpPr/>
          <p:nvPr/>
        </p:nvSpPr>
        <p:spPr>
          <a:xfrm>
            <a:off x="28440" y="304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4345-3DB3-4560-9464-0B8167D29E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PMingLiU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2900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5EC2-240E-454C-96C9-B5C033E3BF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MingLiU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PMingLiU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MingLiU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MingLiU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PMingLiU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PMingLiU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PMingLiU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PMingLiU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5029200"/>
            <a:ext cx="2438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鍾庭耀博士 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香港大學民意研究計劃主任 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MingLiU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年</a:t>
            </a:r>
            <a:r>
              <a:rPr b="0" lang="en-GB" sz="2800" spc="-1" strike="noStrike">
                <a:solidFill>
                  <a:srgbClr val="000000"/>
                </a:solidFill>
                <a:latin typeface="PMingLiU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440" y="2057040"/>
            <a:ext cx="8001000" cy="1143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PMingLiU"/>
              </a:rPr>
              <a:t>【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視力昏花對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患者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生活質素影響調查</a:t>
            </a:r>
            <a:r>
              <a:rPr b="1" lang="en-US" sz="3600" spc="-1" strike="noStrike">
                <a:solidFill>
                  <a:srgbClr val="cc0000"/>
                </a:solidFill>
                <a:latin typeface="PMingLiU"/>
              </a:rPr>
              <a:t>】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A2E7-A8E7-47D3-AF8C-D2D560F05D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PMingLiU"/>
              </a:rPr>
              <a:t>三成五</a:t>
            </a:r>
            <a:r>
              <a:rPr b="1" lang="zh-TW" sz="3400" spc="-1" strike="noStrike">
                <a:solidFill>
                  <a:srgbClr val="000000"/>
                </a:solidFill>
                <a:latin typeface="PMingLiU"/>
              </a:rPr>
              <a:t>沒有求診的視力昏花</a:t>
            </a:r>
            <a:r>
              <a:rPr b="1" lang="zh-CN" sz="3400" spc="-1" strike="noStrike">
                <a:solidFill>
                  <a:srgbClr val="000000"/>
                </a:solidFill>
                <a:latin typeface="PMingLiU"/>
              </a:rPr>
              <a:t>受訪者認爲</a:t>
            </a:r>
            <a:r>
              <a:rPr b="1" lang="zh-TW" sz="3400" spc="-1" strike="noStrike">
                <a:solidFill>
                  <a:srgbClr val="000000"/>
                </a:solidFill>
                <a:latin typeface="PMingLiU"/>
              </a:rPr>
              <a:t>老花</a:t>
            </a:r>
            <a:br>
              <a:rPr sz="34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是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自然現象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而無須求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醫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2184480"/>
          <a:ext cx="853452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84480"/>
                    <a:ext cx="853452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629400" y="6324480"/>
            <a:ext cx="1650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3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752480"/>
            <a:ext cx="73915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不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去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看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醫生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的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最主要原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是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0FCB-D537-4258-A96F-C9F96859B4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四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五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不知道應如何處理老花問題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93356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3356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59520" y="6324480"/>
            <a:ext cx="23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2 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600200"/>
            <a:ext cx="73915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請問你知道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現時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有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什麽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方法可以處理老花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題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呢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9666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2385-1137-4ADD-9756-6D5B290F901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三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對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視力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問題視之不理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951200"/>
          <a:ext cx="8915400" cy="44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51200"/>
                    <a:ext cx="8915400" cy="44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364440" y="6491160"/>
            <a:ext cx="23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0 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600200"/>
            <a:ext cx="7391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你試過用</a:t>
            </a: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些什麽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方法去改善自己</a:t>
            </a: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的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視力問題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E5DE-E8EE-4FA6-B0B5-781D7ADA704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一成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四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受訪者有白內障問題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2536920"/>
          <a:ext cx="6781680" cy="36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36920"/>
                    <a:ext cx="678168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645240" y="60199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905120"/>
            <a:ext cx="69343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Symbol"/>
                <a:ea typeface="Symbol"/>
              </a:rPr>
              <a:t>請問你有</a:t>
            </a: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否</a:t>
            </a:r>
            <a:r>
              <a:rPr b="0" lang="zh-TW" sz="1600" spc="-1" strike="noStrike">
                <a:solidFill>
                  <a:srgbClr val="000000"/>
                </a:solidFill>
                <a:latin typeface="Symbol"/>
                <a:ea typeface="Symbol"/>
              </a:rPr>
              <a:t>白內障問題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F13A-8A01-4360-801C-4D6503FA6F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一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五有白內障問題的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在</a:t>
            </a:r>
            <a:r>
              <a:rPr b="1" lang="en-US" sz="3600" spc="-1" strike="noStrike">
                <a:solidFill>
                  <a:srgbClr val="cc0000"/>
                </a:solidFill>
                <a:latin typeface="PMingLiU"/>
              </a:rPr>
              <a:t>46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至</a:t>
            </a:r>
            <a:r>
              <a:rPr b="1" lang="en-US" sz="3600" spc="-1" strike="noStrike">
                <a:solidFill>
                  <a:srgbClr val="cc0000"/>
                </a:solidFill>
                <a:latin typeface="PMingLiU"/>
              </a:rPr>
              <a:t>55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歲時開始有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白內障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6600" y="2133720"/>
          <a:ext cx="796428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133720"/>
                    <a:ext cx="796428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095880" y="6354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68 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白內障患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905120"/>
            <a:ext cx="73915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何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時開始有白內障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935F-1375-4B3E-A642-33782445412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三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七患有白內障的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br>
              <a:rPr sz="3600"/>
            </a:b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有做過白內障手術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95280" y="2514600"/>
          <a:ext cx="7162920" cy="38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716292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6248520" y="6400800"/>
            <a:ext cx="343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68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白內障患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981080"/>
            <a:ext cx="739116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你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有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否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做過白內障手術</a:t>
            </a:r>
            <a:r>
              <a:rPr b="0" lang="zh-TW" sz="1600" spc="-1" strike="noStrike">
                <a:solidFill>
                  <a:srgbClr val="000000"/>
                </a:solidFill>
                <a:latin typeface="Symbol"/>
                <a:ea typeface="Symbol"/>
              </a:rPr>
              <a:t>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7753-62C6-4B60-91C0-7CB99BB9E63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18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位患有白內障而接受過手術的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仍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需要戴眼鏡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73" name=""/>
          <p:cNvSpPr/>
          <p:nvPr/>
        </p:nvSpPr>
        <p:spPr>
          <a:xfrm>
            <a:off x="6674760" y="6080040"/>
            <a:ext cx="12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2000" spc="-1" strike="noStrike">
                <a:solidFill>
                  <a:srgbClr val="000000"/>
                </a:solidFill>
                <a:latin typeface="PMingLiU"/>
                <a:ea typeface="PMingLiU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1828800"/>
            <a:ext cx="739116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手術後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是否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需要戴眼鏡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1109520"/>
            <a:ext cx="1371600" cy="12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990720" y="2173320"/>
          <a:ext cx="7197480" cy="39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173320"/>
                    <a:ext cx="719748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334120" y="65070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註：因為樣本數目較少，數據只能粗糙參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727A-E71B-4107-A8F1-EF12C336FC6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1460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7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</a:rPr>
              <a:t>位患有白內障而接受過手術後仍需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要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</a:rPr>
              <a:t>戴眼鏡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的受訪者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</a:rPr>
              <a:t>表示</a:t>
            </a:r>
            <a:r>
              <a:rPr b="1" lang="zh-CN" sz="2800" spc="-1" strike="noStrike">
                <a:solidFill>
                  <a:srgbClr val="cc0000"/>
                </a:solidFill>
                <a:latin typeface="PMingLiU"/>
              </a:rPr>
              <a:t>無論看任何距離的東西都</a:t>
            </a:r>
            <a:r>
              <a:rPr b="1" lang="zh-TW" sz="2800" spc="-1" strike="noStrike">
                <a:solidFill>
                  <a:srgbClr val="cc0000"/>
                </a:solidFill>
                <a:latin typeface="PMingLiU"/>
              </a:rPr>
              <a:t>需要戴眼鏡</a:t>
            </a:r>
            <a:endParaRPr b="1" lang="en-US" sz="28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95280" y="2133720"/>
          <a:ext cx="6966000" cy="38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6966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762600" y="617220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523880"/>
            <a:ext cx="739116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在看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近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物或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物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時需要戴眼鏡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117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257800" y="65070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註：因為樣本數目較少，數據只能粗糙參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740C-B8FD-4929-B30B-F797F98AAC3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總結</a:t>
            </a:r>
            <a:endParaRPr b="1" lang="en-US" sz="32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C7C0-3325-4931-860F-3EC1B1C142D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總結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96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86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受訪者表示有老花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8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表示早於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6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歲至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45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歲時出現視力昏花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88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受訪者認為視力昏花對其日常生活帶來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不同程度的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影響，包括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: 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閱讀報紙雜誌、書信文件及看超市的價格或標籤等。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5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受訪者擔心視力會不斷衰退，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9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受訪者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不知道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視力昏花所顯示的眼睛健康問題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45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不知道有甚麼方法處理老花；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5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認爲老花是自然現象而無須求醫； 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1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對其視力問題置之不理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3026-92FC-4297-9E19-7481FDDAB7A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調查概況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752480"/>
          <a:ext cx="7772400" cy="4151520"/>
        </p:xfrm>
        <a:graphic>
          <a:graphicData uri="http://schemas.openxmlformats.org/drawingml/2006/table">
            <a:tbl>
              <a:tblPr/>
              <a:tblGrid>
                <a:gridCol w="1752840"/>
                <a:gridCol w="6019560"/>
              </a:tblGrid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調查目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瞭解港人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出現視力昏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的情况，對患者日常生活及心理的影響、對治療的認知情况，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及其對人工晶體的滿意程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調查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00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6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日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調查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由訪問員直接進行電話訪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調查對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40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歲或以上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，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出現視力昏花人士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([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包括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: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老花、眼鏡度數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加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深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減少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、或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者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整體上視力較年輕時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，並操粵語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人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調查機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香港大學民意研究計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成功訪問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0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有效回應比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71.8% 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以符合資格的目標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象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計算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抽樣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少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.2%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，亦即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95%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置信水平下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各個百分比的抽樣誤差為少於正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4.4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個百分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AC57-B614-49B9-BDD5-AD38F41C360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總結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受訪者有白內障問題，佔總樣本中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68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其中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15%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早在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55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歲時已開始有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白內障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37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接受過白內障手術，即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25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25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名患有白內障而又接受過白內障手術者當中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其中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人（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72%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在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手術後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仍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要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配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戴眼鏡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當中包括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人表示無論看任何距離的東西都需要戴眼鏡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287B-AE49-4C7A-A3A1-08782354A75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逾八成半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受訪者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有老花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一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四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有白內障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0" y="2077920"/>
          <a:ext cx="861228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2077920"/>
                    <a:ext cx="861228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371600" y="1752480"/>
            <a:ext cx="64771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雙眼曾經出現以下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哪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種視力問題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02320" y="6324480"/>
            <a:ext cx="23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2 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F651-0C86-464E-9969-88DBA5314E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三成八受訪者在</a:t>
            </a:r>
            <a:r>
              <a:rPr b="1" lang="en-US" sz="3600" spc="-1" strike="noStrike">
                <a:solidFill>
                  <a:srgbClr val="000000"/>
                </a:solidFill>
                <a:latin typeface="PMingLiU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歲至</a:t>
            </a:r>
            <a:r>
              <a:rPr b="1" lang="en-US" sz="3600" spc="-1" strike="noStrike">
                <a:solidFill>
                  <a:srgbClr val="000000"/>
                </a:solidFill>
                <a:latin typeface="PMingLiU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歲時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出現老花等視力問題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00" name=""/>
          <p:cNvSpPr/>
          <p:nvPr/>
        </p:nvSpPr>
        <p:spPr>
          <a:xfrm>
            <a:off x="679752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905120"/>
            <a:ext cx="739116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何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時開始出現以上情況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2468520"/>
          <a:ext cx="7799400" cy="37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68520"/>
                    <a:ext cx="77994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2762-0022-461D-824D-74C45B3747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MingLiU"/>
              </a:rPr>
              <a:t>88%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受訪者</a:t>
            </a:r>
            <a:r>
              <a:rPr b="1" lang="zh-TW" sz="3200" spc="-1" strike="noStrike">
                <a:solidFill>
                  <a:srgbClr val="000000"/>
                </a:solidFill>
                <a:latin typeface="PMingLiU"/>
              </a:rPr>
              <a:t>認為其視力昏花問題對</a:t>
            </a:r>
            <a:br>
              <a:rPr sz="3200"/>
            </a:br>
            <a:r>
              <a:rPr b="1" lang="zh-TW" sz="3200" spc="-1" strike="noStrike">
                <a:solidFill>
                  <a:srgbClr val="cc0000"/>
                </a:solidFill>
                <a:latin typeface="PMingLiU"/>
              </a:rPr>
              <a:t>日常生活有不同程</a:t>
            </a:r>
            <a:r>
              <a:rPr b="1" lang="zh-CN" sz="3200" spc="-1" strike="noStrike">
                <a:solidFill>
                  <a:srgbClr val="cc0000"/>
                </a:solidFill>
                <a:latin typeface="PMingLiU"/>
              </a:rPr>
              <a:t>度</a:t>
            </a:r>
            <a:r>
              <a:rPr b="1" lang="zh-TW" sz="3200" spc="-1" strike="noStrike">
                <a:solidFill>
                  <a:srgbClr val="cc0000"/>
                </a:solidFill>
                <a:latin typeface="PMingLiU"/>
              </a:rPr>
              <a:t>的影響</a:t>
            </a:r>
            <a:endParaRPr b="1" lang="en-US" sz="32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05" name=""/>
          <p:cNvSpPr/>
          <p:nvPr/>
        </p:nvSpPr>
        <p:spPr>
          <a:xfrm>
            <a:off x="6721200" y="60199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676520"/>
            <a:ext cx="7391520" cy="72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出現以上情況對你日常生活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的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影響有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大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請以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0-10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分評價，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0=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完全沒有影響，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5=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一般／一半半，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10=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極大影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2514600"/>
          <a:ext cx="72234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2234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772400" y="2743200"/>
            <a:ext cx="76320" cy="2286000"/>
          </a:xfrm>
          <a:custGeom>
            <a:avLst/>
            <a:gdLst>
              <a:gd name="textAreaLeft" fmla="*/ 0 w 76320"/>
              <a:gd name="textAreaRight" fmla="*/ 2736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30160" y="31240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MingLiU"/>
                <a:ea typeface="PMingLiU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248D-CC83-4C89-A6A2-4EB99C1E53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受訪者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</a:rPr>
              <a:t>認為視力昏花對他們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最大的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</a:rPr>
              <a:t>影響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在於</a:t>
            </a:r>
            <a:r>
              <a:rPr b="1" lang="en-US" sz="2800" spc="-1" strike="noStrike">
                <a:solidFill>
                  <a:srgbClr val="000000"/>
                </a:solidFill>
                <a:latin typeface="PMingLiU"/>
              </a:rPr>
              <a:t>:</a:t>
            </a:r>
            <a:br>
              <a:rPr sz="2800"/>
            </a:br>
            <a:r>
              <a:rPr b="1" lang="zh-CN" sz="2400" spc="-1" strike="noStrike">
                <a:solidFill>
                  <a:srgbClr val="cc0000"/>
                </a:solidFill>
                <a:latin typeface="PMingLiU"/>
              </a:rPr>
              <a:t>閱讀</a:t>
            </a:r>
            <a:r>
              <a:rPr b="1" lang="zh-TW" sz="2400" spc="-1" strike="noStrike">
                <a:solidFill>
                  <a:srgbClr val="cc0000"/>
                </a:solidFill>
                <a:latin typeface="PMingLiU"/>
              </a:rPr>
              <a:t>報紙、雜誌、書信、文件 </a:t>
            </a:r>
            <a:r>
              <a:rPr b="1" lang="zh-CN" sz="2400" spc="-1" strike="noStrike">
                <a:solidFill>
                  <a:srgbClr val="cc0000"/>
                </a:solidFill>
                <a:latin typeface="PMingLiU"/>
              </a:rPr>
              <a:t>及看</a:t>
            </a:r>
            <a:r>
              <a:rPr b="1" lang="zh-TW" sz="2400" spc="-1" strike="noStrike">
                <a:solidFill>
                  <a:srgbClr val="cc0000"/>
                </a:solidFill>
                <a:latin typeface="PMingLiU"/>
              </a:rPr>
              <a:t>超市的價格或標籤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 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92280" y="2049480"/>
          <a:ext cx="776448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049480"/>
                    <a:ext cx="77644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8720" y="24382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676520"/>
            <a:ext cx="6553080" cy="3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有否爲你以下的日常活動帶來困難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62640" y="327672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1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62640" y="388620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57200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720" y="525780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8720" y="594360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8291-E7AC-48DB-AC47-5C707FFE0D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PMingLiU"/>
              </a:rPr>
              <a:t>三成</a:t>
            </a:r>
            <a:r>
              <a:rPr b="1" lang="zh-TW" sz="3800" spc="-1" strike="noStrike">
                <a:solidFill>
                  <a:srgbClr val="000000"/>
                </a:solidFill>
                <a:latin typeface="PMingLiU"/>
              </a:rPr>
              <a:t>五</a:t>
            </a:r>
            <a:r>
              <a:rPr b="1" lang="zh-CN" sz="3800" spc="-1" strike="noStrike">
                <a:solidFill>
                  <a:srgbClr val="000000"/>
                </a:solidFill>
                <a:latin typeface="PMingLiU"/>
              </a:rPr>
              <a:t>受訪者擔心</a:t>
            </a:r>
            <a:br>
              <a:rPr sz="3800"/>
            </a:br>
            <a:r>
              <a:rPr b="1" lang="zh-CN" sz="3800" spc="-1" strike="noStrike">
                <a:solidFill>
                  <a:srgbClr val="cc0000"/>
                </a:solidFill>
                <a:latin typeface="PMingLiU"/>
              </a:rPr>
              <a:t>視力會不斷衰退</a:t>
            </a:r>
            <a:endParaRPr b="1" lang="en-US" sz="38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752480"/>
            <a:ext cx="7391520" cy="3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有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同意或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不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同意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以下句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20840" y="2209680"/>
            <a:ext cx="7808760" cy="4267440"/>
            <a:chOff x="420840" y="2209680"/>
            <a:chExt cx="7808760" cy="4267440"/>
          </a:xfrm>
        </p:grpSpPr>
        <p:graphicFrame>
          <p:nvGraphicFramePr>
            <p:cNvPr id="124" name=""/>
            <p:cNvGraphicFramePr/>
            <p:nvPr/>
          </p:nvGraphicFramePr>
          <p:xfrm>
            <a:off x="420840" y="2209680"/>
            <a:ext cx="7808760" cy="426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0840" y="2209680"/>
                      <a:ext cx="7808760" cy="426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3204360" y="281952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（基數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497</a:t>
              </a:r>
              <a:r>
                <a:rPr b="0" lang="en-US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4360" y="350532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（基數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497</a:t>
              </a:r>
              <a:r>
                <a:rPr b="0" lang="en-US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4360" y="419112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（基數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498</a:t>
              </a:r>
              <a:r>
                <a:rPr b="0" lang="en-US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34240" y="480060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（基數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498</a:t>
              </a:r>
              <a:r>
                <a:rPr b="0" lang="en-US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4240" y="541008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（基數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490</a:t>
              </a:r>
              <a:r>
                <a:rPr b="0" lang="en-US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595A-0538-4D07-9A38-15A18445F9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近四成受訪者不知道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視力昏花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代表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眼晴出現甚麼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問題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4640" y="2666880"/>
          <a:ext cx="8009280" cy="37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2666880"/>
                    <a:ext cx="8009280" cy="37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883480" y="6415200"/>
            <a:ext cx="23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478 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911240"/>
            <a:ext cx="6019560" cy="3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覺得若眼鏡度數出現變化、閱讀時眼睛容易疲倦或需調整距離代表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的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眼睛可能出現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什麽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題或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哪些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眼疾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27EB-222F-4322-B7B7-897977A515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六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沒有因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視力昏花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而去求醫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2880" y="2511360"/>
          <a:ext cx="601848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2511360"/>
                    <a:ext cx="60184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64524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905120"/>
            <a:ext cx="670536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有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否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因為以上情況而去求醫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BA32-5FD2-46D9-90AC-A94E2926E4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0T10:47:23Z</dcterms:created>
  <dc:creator>Grey Worldwide</dc:creator>
  <dc:description/>
  <dc:language>en-US</dc:language>
  <cp:lastModifiedBy>Alex Lin</cp:lastModifiedBy>
  <dcterms:modified xsi:type="dcterms:W3CDTF">2007-05-08T06:56:34Z</dcterms:modified>
  <cp:revision>1813</cp:revision>
  <dc:subject/>
  <dc:title>QoL Surv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16429259</vt:r8>
  </property>
  <property fmtid="{D5CDD505-2E9C-101B-9397-08002B2CF9AE}" pid="3" name="_AuthorEmail">
    <vt:lpwstr>lokman@hepfree.org</vt:lpwstr>
  </property>
  <property fmtid="{D5CDD505-2E9C-101B-9397-08002B2CF9AE}" pid="4" name="_AuthorEmailDisplayName">
    <vt:lpwstr>Lokman Wong</vt:lpwstr>
  </property>
  <property fmtid="{D5CDD505-2E9C-101B-9397-08002B2CF9AE}" pid="5" name="_EmailSubject">
    <vt:lpwstr>QoL PC - Status</vt:lpwstr>
  </property>
  <property fmtid="{D5CDD505-2E9C-101B-9397-08002B2CF9AE}" pid="6" name="_ReviewingToolsShownOnce">
    <vt:lpwstr/>
  </property>
</Properties>
</file>