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753725" cy="8067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6560" y="435996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81904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23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281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965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2123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3281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8920" y="358920"/>
            <a:ext cx="99280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1904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96560" y="435996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81904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123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281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965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2123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3281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58920" y="358920"/>
            <a:ext cx="99280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1904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752120" cy="8064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200" spc="-1" strike="noStrike">
                <a:solidFill>
                  <a:srgbClr val="800080"/>
                </a:solidFill>
                <a:latin typeface="CG Omega"/>
              </a:rPr>
              <a:t>Click to edit the title text format</a:t>
            </a: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903240" indent="-336600">
              <a:lnSpc>
                <a:spcPct val="11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397160" indent="-270000">
              <a:lnSpc>
                <a:spcPct val="11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889280" indent="-268560">
              <a:lnSpc>
                <a:spcPct val="11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419200" indent="-268200">
              <a:lnSpc>
                <a:spcPct val="11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419200" indent="-268200">
              <a:lnSpc>
                <a:spcPct val="11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419200" indent="-268200">
              <a:lnSpc>
                <a:spcPct val="11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Bot%20pur%20MAIN2" descr=""/>
          <p:cNvPicPr/>
          <p:nvPr/>
        </p:nvPicPr>
        <p:blipFill>
          <a:blip r:embed="rId2"/>
          <a:stretch/>
        </p:blipFill>
        <p:spPr>
          <a:xfrm>
            <a:off x="0" y="0"/>
            <a:ext cx="10753560" cy="8064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G Omega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7480" y="1887480"/>
            <a:ext cx="967752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38301c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  <a:p>
            <a:pPr lvl="1" marL="538200" indent="0" algn="ctr">
              <a:spcBef>
                <a:spcPts val="7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074600" indent="52560" algn="ctr">
              <a:spcBef>
                <a:spcPts val="700"/>
              </a:spcBef>
              <a:buClr>
                <a:srgbClr val="ccccff"/>
              </a:buClr>
              <a:buFont typeface="CG Omega"/>
              <a:buChar char="•"/>
              <a:tabLst>
                <a:tab algn="l" pos="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12800" indent="7920" algn="ctr">
              <a:spcBef>
                <a:spcPts val="601"/>
              </a:spcBef>
              <a:buClr>
                <a:srgbClr val="ccccff"/>
              </a:buClr>
              <a:buFont typeface="CG Omega"/>
              <a:buChar char="–"/>
              <a:tabLst>
                <a:tab algn="l" pos="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151000" algn="ctr">
              <a:spcBef>
                <a:spcPts val="601"/>
              </a:spcBef>
              <a:buClr>
                <a:srgbClr val="ccccff"/>
              </a:buClr>
              <a:buFont typeface="CG Omega"/>
              <a:buChar char="»"/>
              <a:tabLst>
                <a:tab algn="l" pos="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151000">
              <a:spcBef>
                <a:spcPts val="601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151000">
              <a:spcBef>
                <a:spcPts val="601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352440"/>
            <a:ext cx="9586800" cy="209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G Omega"/>
              </a:rPr>
              <a:t>Facing The Facts About Ageing</a:t>
            </a:r>
            <a:br>
              <a:rPr sz="4400"/>
            </a:br>
            <a:r>
              <a:rPr b="1" lang="en-GB" sz="3600" spc="-1" strike="noStrike">
                <a:solidFill>
                  <a:srgbClr val="ffffff"/>
                </a:solidFill>
                <a:latin typeface="CG Omega"/>
                <a:ea typeface="新細明體"/>
              </a:rPr>
              <a:t>“Hong Kong Women’s Attitude Towards Ageing And Wrinkles Survey”</a:t>
            </a:r>
            <a:endParaRPr b="1" lang="en-US" sz="36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9" name=""/>
          <p:cNvSpPr/>
          <p:nvPr/>
        </p:nvSpPr>
        <p:spPr>
          <a:xfrm>
            <a:off x="666720" y="6410160"/>
            <a:ext cx="1008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8301c"/>
                </a:solidFill>
                <a:latin typeface="CG Omega"/>
              </a:rPr>
              <a:t>Speakers:</a:t>
            </a:r>
            <a:r>
              <a:rPr b="0" lang="en-GB" sz="2400" spc="-1" strike="noStrike">
                <a:solidFill>
                  <a:srgbClr val="38301c"/>
                </a:solidFill>
                <a:latin typeface="CG Omega"/>
              </a:rPr>
              <a:t>	</a:t>
            </a:r>
            <a:r>
              <a:rPr b="0" lang="en-GB" sz="2400" spc="-1" strike="noStrike">
                <a:solidFill>
                  <a:srgbClr val="38301c"/>
                </a:solidFill>
                <a:latin typeface="CG Omega"/>
              </a:rPr>
              <a:t>Dr. Robert Chung / Ms. Karie Pang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8301c"/>
                </a:solidFill>
                <a:latin typeface="CG Omega"/>
              </a:rPr>
              <a:t>	</a:t>
            </a:r>
            <a:r>
              <a:rPr b="0" lang="en-GB" sz="2400" spc="-1" strike="noStrike">
                <a:solidFill>
                  <a:srgbClr val="38301c"/>
                </a:solidFill>
                <a:latin typeface="CG Omega"/>
              </a:rPr>
              <a:t>	</a:t>
            </a:r>
            <a:r>
              <a:rPr b="0" i="1" lang="en-GB" sz="2400" spc="-1" strike="noStrike">
                <a:solidFill>
                  <a:srgbClr val="38301c"/>
                </a:solidFill>
                <a:latin typeface="CG Omega"/>
              </a:rPr>
              <a:t>The University of Hong Kong Public Opinion Programme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G Omega"/>
              </a:rPr>
              <a:t>Survey Results</a:t>
            </a:r>
            <a:endParaRPr b="1" lang="en-US" sz="5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G Omega"/>
                <a:ea typeface="新細明體"/>
              </a:rPr>
              <a:t>Hong Kong Women’s Attitude Towards Ageing</a:t>
            </a:r>
            <a:endParaRPr b="1" lang="en-US" sz="5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3720" y="363600"/>
            <a:ext cx="960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CG Omega"/>
                <a:ea typeface="新細明體"/>
              </a:rPr>
              <a:t>Respondents’ worries about ageing</a:t>
            </a:r>
            <a:endParaRPr b="0" lang="en-US" sz="3400" spc="-1" strike="noStrike">
              <a:solidFill>
                <a:srgbClr val="000000"/>
              </a:solidFill>
              <a:latin typeface="AvantGarde Book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50880" y="1968480"/>
            <a:ext cx="4251240" cy="2948040"/>
            <a:chOff x="650880" y="1968480"/>
            <a:chExt cx="4251240" cy="2948040"/>
          </a:xfrm>
        </p:grpSpPr>
        <p:sp>
          <p:nvSpPr>
            <p:cNvPr id="111" name=""/>
            <p:cNvSpPr/>
            <p:nvPr/>
          </p:nvSpPr>
          <p:spPr>
            <a:xfrm>
              <a:off x="674640" y="1968480"/>
              <a:ext cx="418932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G Omega"/>
                  <a:ea typeface="SimSun"/>
                </a:rPr>
                <a:t>Weight gain</a:t>
              </a:r>
              <a:r>
                <a:rPr b="1" lang="en-GB" sz="2000" spc="-1" strike="noStrike">
                  <a:solidFill>
                    <a:srgbClr val="ffffff"/>
                  </a:solidFill>
                  <a:latin typeface="CG Omega"/>
                  <a:ea typeface="新細明體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650880" y="2368440"/>
            <a:ext cx="4251240" cy="254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0880" y="2368440"/>
                      <a:ext cx="4251240" cy="254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4" name=""/>
          <p:cNvGrpSpPr/>
          <p:nvPr/>
        </p:nvGrpSpPr>
        <p:grpSpPr>
          <a:xfrm>
            <a:off x="5421240" y="1830240"/>
            <a:ext cx="4251240" cy="2957400"/>
            <a:chOff x="5421240" y="1830240"/>
            <a:chExt cx="4251240" cy="2957400"/>
          </a:xfrm>
        </p:grpSpPr>
        <p:graphicFrame>
          <p:nvGraphicFramePr>
            <p:cNvPr id="115" name=""/>
            <p:cNvGraphicFramePr/>
            <p:nvPr/>
          </p:nvGraphicFramePr>
          <p:xfrm>
            <a:off x="5421240" y="2239920"/>
            <a:ext cx="4251240" cy="254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21240" y="2239920"/>
                      <a:ext cx="4251240" cy="25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5460840" y="1830240"/>
              <a:ext cx="41832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G Omega"/>
                  <a:ea typeface="SimSun"/>
                </a:rPr>
                <a:t>Wrinkles on face</a:t>
              </a:r>
              <a:r>
                <a:rPr b="1" lang="en-GB" sz="2000" spc="-1" strike="noStrike">
                  <a:solidFill>
                    <a:srgbClr val="ffffff"/>
                  </a:solidFill>
                  <a:latin typeface="CG Omega"/>
                  <a:ea typeface="新細明體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3049560" y="5400720"/>
          <a:ext cx="4424400" cy="25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560" y="5400720"/>
                    <a:ext cx="4424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060720" y="4692600"/>
            <a:ext cx="4395600" cy="7038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G Omega"/>
                <a:ea typeface="SimSun"/>
              </a:rPr>
              <a:t>Inability to participate in activities that you used to do</a:t>
            </a:r>
            <a:r>
              <a:rPr b="1" lang="en-GB" sz="2000" spc="-1" strike="noStrike">
                <a:solidFill>
                  <a:srgbClr val="ffffff"/>
                </a:solidFill>
                <a:latin typeface="CG Omega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21" name=""/>
          <p:cNvSpPr/>
          <p:nvPr/>
        </p:nvSpPr>
        <p:spPr>
          <a:xfrm>
            <a:off x="950760" y="1217520"/>
            <a:ext cx="9139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G Omega"/>
                <a:ea typeface="SimSun"/>
              </a:rPr>
              <a:t>Question: On aging, will you worry about the following?</a:t>
            </a:r>
            <a:endParaRPr b="0" lang="en-US" sz="21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8000" y="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CG Omega"/>
              </a:rPr>
              <a:t>Almost 60% respondents believe maintaining a youthful look is important</a:t>
            </a:r>
            <a:endParaRPr b="1" lang="en-US" sz="34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39680" y="227952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227952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2849760" y="2724120"/>
            <a:ext cx="5285520" cy="2016360"/>
            <a:chOff x="2849760" y="2724120"/>
            <a:chExt cx="5285520" cy="2016360"/>
          </a:xfrm>
        </p:grpSpPr>
        <p:sp>
          <p:nvSpPr>
            <p:cNvPr id="126" name=""/>
            <p:cNvSpPr/>
            <p:nvPr/>
          </p:nvSpPr>
          <p:spPr>
            <a:xfrm>
              <a:off x="2849760" y="4251960"/>
              <a:ext cx="25128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3640" bIns="53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7460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Not important</a:t>
              </a:r>
              <a:endParaRPr b="0" lang="en-US" sz="25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68680" y="4162680"/>
              <a:ext cx="18666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3640" bIns="53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7460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Important</a:t>
              </a:r>
              <a:endParaRPr b="0" lang="en-US" sz="25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01320" y="2724120"/>
              <a:ext cx="3908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3640" bIns="53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74600"/>
                  <a:tab algn="l" pos="2149560"/>
                  <a:tab algn="l" pos="3224160"/>
                  <a:tab algn="l" pos="4299120"/>
                  <a:tab algn="l" pos="5373720"/>
                  <a:tab algn="l" pos="6448320"/>
                  <a:tab algn="l" pos="7523280"/>
                  <a:tab algn="l" pos="8597880"/>
                  <a:tab algn="l" pos="9672480"/>
                  <a:tab algn="l" pos="1074744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Don’t know/hard to tell</a:t>
              </a:r>
              <a:endParaRPr b="0" lang="en-US" sz="25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81000" y="1738440"/>
            <a:ext cx="9139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G Omega"/>
                <a:ea typeface="SimSun"/>
              </a:rPr>
              <a:t>Question: How important do you believe in maintaining a youthful look? </a:t>
            </a:r>
            <a:endParaRPr b="0" lang="en-US" sz="21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30" name=""/>
          <p:cNvSpPr/>
          <p:nvPr/>
        </p:nvSpPr>
        <p:spPr>
          <a:xfrm>
            <a:off x="6504120" y="6867360"/>
            <a:ext cx="295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4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752120" cy="176688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CG Omega"/>
              </a:rPr>
              <a:t>Respondents think maintaining a youthful look can increase self-confidence, project a good impression and help with career and love life</a:t>
            </a:r>
            <a:endParaRPr b="1" lang="en-US" sz="30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49200" y="2311560"/>
          <a:ext cx="8091720" cy="46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2311560"/>
                    <a:ext cx="8091720" cy="46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233440" y="1917720"/>
            <a:ext cx="6183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G Omega"/>
                <a:ea typeface="SimSun"/>
              </a:rPr>
              <a:t>Question: Do you think a youthful look can...</a:t>
            </a:r>
            <a:endParaRPr b="0" lang="en-US" sz="21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35" name=""/>
          <p:cNvSpPr/>
          <p:nvPr/>
        </p:nvSpPr>
        <p:spPr>
          <a:xfrm>
            <a:off x="6275520" y="7020000"/>
            <a:ext cx="295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4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CG Omega"/>
              </a:rPr>
              <a:t>Over 80% respondents</a:t>
            </a:r>
            <a:r>
              <a:rPr b="1" lang="en-GB" sz="3400" spc="-1" strike="noStrike">
                <a:solidFill>
                  <a:srgbClr val="800080"/>
                </a:solidFill>
                <a:latin typeface="CG Omega"/>
                <a:ea typeface="新細明體"/>
              </a:rPr>
              <a:t> want their face to look young for their age </a:t>
            </a:r>
            <a:endParaRPr b="1" lang="en-US" sz="34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96920" y="161280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61280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551480" y="6113520"/>
            <a:ext cx="32256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G Omega"/>
                <a:ea typeface="SimSun"/>
              </a:rPr>
              <a:t>I want my face to look young for my age</a:t>
            </a:r>
            <a:r>
              <a:rPr b="1" lang="en-GB" sz="1900" spc="-1" strike="noStrike">
                <a:solidFill>
                  <a:srgbClr val="000000"/>
                </a:solidFill>
                <a:latin typeface="CG Omega"/>
                <a:ea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40" name=""/>
          <p:cNvSpPr/>
          <p:nvPr/>
        </p:nvSpPr>
        <p:spPr>
          <a:xfrm>
            <a:off x="7018200" y="7153200"/>
            <a:ext cx="295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4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75212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CG Omega"/>
              </a:rPr>
              <a:t>Over 70% respondents</a:t>
            </a:r>
            <a:r>
              <a:rPr b="1" lang="en-GB" sz="3000" spc="-1" strike="noStrike">
                <a:solidFill>
                  <a:srgbClr val="800080"/>
                </a:solidFill>
                <a:latin typeface="CG Omega"/>
                <a:ea typeface="新細明體"/>
              </a:rPr>
              <a:t> will use skin care products / cosmetics / treatments to improve their facial appearance </a:t>
            </a:r>
            <a:endParaRPr b="1" lang="en-US" sz="30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47720" y="1612800"/>
          <a:ext cx="921528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612800"/>
                    <a:ext cx="921528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568680" y="6132600"/>
            <a:ext cx="419436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G Omega"/>
                <a:ea typeface="SimSun"/>
              </a:rPr>
              <a:t>If necessary, I will use skin care products/cosmetics/treatments to improve my facial appearance</a:t>
            </a:r>
            <a:r>
              <a:rPr b="1" lang="en-GB" sz="1900" spc="-1" strike="noStrike">
                <a:solidFill>
                  <a:srgbClr val="000000"/>
                </a:solidFill>
                <a:latin typeface="CG Omega"/>
                <a:ea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45" name=""/>
          <p:cNvSpPr/>
          <p:nvPr/>
        </p:nvSpPr>
        <p:spPr>
          <a:xfrm>
            <a:off x="7203960" y="7201080"/>
            <a:ext cx="295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4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7800" y="765000"/>
            <a:ext cx="1008396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G Omega"/>
                <a:ea typeface="新細明體"/>
              </a:rPr>
              <a:t>Wrinkles of Hong Kong Women</a:t>
            </a:r>
            <a:endParaRPr b="1" lang="en-US" sz="5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CG Omega"/>
              </a:rPr>
              <a:t>Almost 60% respondents have dynamic wrinkles</a:t>
            </a:r>
            <a:endParaRPr b="1" lang="en-US" sz="34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148" name=""/>
          <p:cNvSpPr/>
          <p:nvPr/>
        </p:nvSpPr>
        <p:spPr>
          <a:xfrm>
            <a:off x="1254240" y="1619280"/>
            <a:ext cx="8243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G Omega"/>
                <a:ea typeface="SimSun"/>
              </a:rPr>
              <a:t>Question: Which of the following statements best describes you? </a:t>
            </a:r>
            <a:endParaRPr b="0" lang="en-US" sz="21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49" name=""/>
          <p:cNvSpPr/>
          <p:nvPr/>
        </p:nvSpPr>
        <p:spPr>
          <a:xfrm>
            <a:off x="1047600" y="6229440"/>
            <a:ext cx="8668080" cy="121896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39680" y="2227320"/>
          <a:ext cx="8682120" cy="40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2227320"/>
                    <a:ext cx="868212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469200" y="7439040"/>
            <a:ext cx="295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4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5964120"/>
            <a:ext cx="214956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G Omega"/>
              </a:rPr>
              <a:t>No wrinkles when relaxed, but have wrinkles when making certain facial expression(s) such as laughing or frowning</a:t>
            </a:r>
            <a:endParaRPr b="0" lang="en-US" sz="1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54" name=""/>
          <p:cNvSpPr/>
          <p:nvPr/>
        </p:nvSpPr>
        <p:spPr>
          <a:xfrm>
            <a:off x="1892160" y="5992920"/>
            <a:ext cx="17924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G Omega"/>
              </a:rPr>
              <a:t>Have wrinkles when not laughing or frowning</a:t>
            </a:r>
            <a:endParaRPr b="0" lang="en-US" sz="1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55" name=""/>
          <p:cNvSpPr/>
          <p:nvPr/>
        </p:nvSpPr>
        <p:spPr>
          <a:xfrm>
            <a:off x="5996160" y="5961240"/>
            <a:ext cx="14335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G Omega"/>
              </a:rPr>
              <a:t>No wrinkles even when laughing or frowning</a:t>
            </a:r>
            <a:endParaRPr b="0" lang="en-US" sz="1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56" name=""/>
          <p:cNvSpPr/>
          <p:nvPr/>
        </p:nvSpPr>
        <p:spPr>
          <a:xfrm>
            <a:off x="7870680" y="6037200"/>
            <a:ext cx="1524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G Omega"/>
              </a:rPr>
              <a:t>Don’t know/hard to tell</a:t>
            </a:r>
            <a:endParaRPr b="0" lang="en-US" sz="14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977400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CG Omega"/>
              </a:rPr>
              <a:t>Most respondents have their first wrinkle at 36-40 years old</a:t>
            </a:r>
            <a:endParaRPr b="1" lang="en-US" sz="34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20640" y="180324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80324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432160" y="1266840"/>
            <a:ext cx="6183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G Omega"/>
                <a:ea typeface="SimSun"/>
              </a:rPr>
              <a:t>Question: At what age did your first wrinkle appear? </a:t>
            </a:r>
            <a:endParaRPr b="0" lang="en-US" sz="21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61" name=""/>
          <p:cNvSpPr/>
          <p:nvPr/>
        </p:nvSpPr>
        <p:spPr>
          <a:xfrm>
            <a:off x="3786120" y="7210440"/>
            <a:ext cx="60166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356 (those with wrinkles)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4200" spc="-1" strike="noStrike">
                <a:solidFill>
                  <a:srgbClr val="800080"/>
                </a:solidFill>
                <a:latin typeface="CG Omega"/>
              </a:rPr>
              <a:t>Sample overview</a:t>
            </a: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1654200"/>
          <a:ext cx="9744120" cy="5670360"/>
        </p:xfrm>
        <a:graphic>
          <a:graphicData uri="http://schemas.openxmlformats.org/drawingml/2006/table">
            <a:tbl>
              <a:tblPr/>
              <a:tblGrid>
                <a:gridCol w="2208240"/>
                <a:gridCol w="7535880"/>
              </a:tblGrid>
              <a:tr h="91188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1b3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To understand Hong Ko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SimSun"/>
                        </a:rPr>
                        <a:t>wome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’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SimSun"/>
                        </a:rPr>
                        <a:t> attitude towards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ageing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SimSun"/>
                        </a:rPr>
                        <a:t> and wrink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612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1b3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Women aged 35-60, who have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SimSun"/>
                        </a:rPr>
                        <a:t>used skin care products or services in the last 3 month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, and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SimSun"/>
                        </a:rPr>
                        <a:t>have not worked in ad agencies or market research agencie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1b3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August 15-18, 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188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1b3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University of Hong Kong Public Opinion Program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1b3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Telephone interview through random samp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188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Successful respo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1b3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534 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Success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1b3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78.1% (based on qualified 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188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Sampling err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1b3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Less than 2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8000" y="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CG Omega"/>
              </a:rPr>
              <a:t>Crow’s feet, frown lines on forehead and between eyebrows are the most common types of wrinkles</a:t>
            </a:r>
            <a:endParaRPr b="1" lang="en-US" sz="30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96920" y="2146320"/>
          <a:ext cx="921564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146320"/>
                    <a:ext cx="921564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936800" y="1612800"/>
            <a:ext cx="7616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G Omega"/>
                <a:ea typeface="SimSun"/>
              </a:rPr>
              <a:t>Question: Do you currently have the following wrinkles? </a:t>
            </a:r>
            <a:endParaRPr b="0" lang="en-US" sz="21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66" name=""/>
          <p:cNvSpPr/>
          <p:nvPr/>
        </p:nvSpPr>
        <p:spPr>
          <a:xfrm>
            <a:off x="4865760" y="7095960"/>
            <a:ext cx="548964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356 (those with wrinkles)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073160" y="2428920"/>
          <a:ext cx="92152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2428920"/>
                    <a:ext cx="92152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43680" y="7095960"/>
            <a:ext cx="34909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4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56160" y="2798640"/>
            <a:ext cx="5014800" cy="804240"/>
            <a:chOff x="4556160" y="2798640"/>
            <a:chExt cx="5014800" cy="804240"/>
          </a:xfrm>
        </p:grpSpPr>
        <p:sp>
          <p:nvSpPr>
            <p:cNvPr id="171" name=""/>
            <p:cNvSpPr/>
            <p:nvPr/>
          </p:nvSpPr>
          <p:spPr>
            <a:xfrm>
              <a:off x="4556160" y="291924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56160" y="3300480"/>
              <a:ext cx="228600" cy="228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70360" y="2798640"/>
              <a:ext cx="4800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Answer “Ho Sou Sun” with prompt</a:t>
              </a:r>
              <a:endParaRPr b="0" lang="en-US" sz="18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4520" y="3179880"/>
              <a:ext cx="4800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Answer “Ho Sou Sun” without prompt</a:t>
              </a:r>
              <a:endParaRPr b="0" lang="en-US" sz="18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476440" y="2494080"/>
            <a:ext cx="96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G Omega"/>
                <a:ea typeface="新細明體"/>
              </a:rPr>
              <a:t>73%</a:t>
            </a:r>
            <a:endParaRPr b="0" lang="en-US" sz="26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76" name=""/>
          <p:cNvSpPr/>
          <p:nvPr/>
        </p:nvSpPr>
        <p:spPr>
          <a:xfrm>
            <a:off x="1415880" y="1495440"/>
            <a:ext cx="8217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CG Omega"/>
                <a:ea typeface="SimSun"/>
              </a:rPr>
              <a:t>Question: Among the male celebrities, who do you think has the most wrinkles/frown lines on forehead?</a:t>
            </a:r>
            <a:endParaRPr b="0" lang="en-US" sz="19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9928080" cy="1236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CG Omega"/>
              </a:rPr>
              <a:t>Over 70% respondents think Ivan Ho Sou Sun has the most wrinkles on forehead</a:t>
            </a:r>
            <a:endParaRPr b="1" lang="en-US" sz="3400" spc="-1" strike="noStrike">
              <a:solidFill>
                <a:srgbClr val="800080"/>
              </a:solidFill>
              <a:latin typeface="CG Omeg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9840" y="0"/>
            <a:ext cx="9928080" cy="14968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CG Omega"/>
              </a:rPr>
              <a:t>Over 30% respondents think if Ho Sou Sun’s wrinkles appear on their face, they’ll look more than 10 years older</a:t>
            </a:r>
            <a:endParaRPr b="1" lang="en-US" sz="30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11360" y="2463840"/>
          <a:ext cx="809136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2463840"/>
                    <a:ext cx="80913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521000" y="1677960"/>
            <a:ext cx="86817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CG Omega"/>
                <a:ea typeface="SimSun"/>
              </a:rPr>
              <a:t>Question: If his (Ho Sou Sun’s) wrinkles appear on your face, how many years older do you think you will look? </a:t>
            </a:r>
            <a:endParaRPr b="0" lang="en-US" sz="19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82" name=""/>
          <p:cNvSpPr/>
          <p:nvPr/>
        </p:nvSpPr>
        <p:spPr>
          <a:xfrm>
            <a:off x="307800" y="7223040"/>
            <a:ext cx="94806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385 (those think Ho Sou Sun has the most wrinkles on forehead)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6395040" y="3059280"/>
            <a:ext cx="206280" cy="2757600"/>
          </a:xfrm>
          <a:custGeom>
            <a:avLst/>
            <a:gdLst>
              <a:gd name="textAreaLeft" fmla="*/ 0 w 206280"/>
              <a:gd name="textAreaRight" fmla="*/ 144720 w 206280"/>
              <a:gd name="textAreaTop" fmla="*/ 0 h 2757600"/>
              <a:gd name="textAreaBottom" fmla="*/ 2757960 h 27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488280" y="3922560"/>
            <a:ext cx="2880" cy="3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85" name=""/>
          <p:cNvSpPr/>
          <p:nvPr/>
        </p:nvSpPr>
        <p:spPr>
          <a:xfrm>
            <a:off x="6121440" y="3583080"/>
            <a:ext cx="20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6040" y="0"/>
            <a:ext cx="1057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CG Omega"/>
                <a:ea typeface="新細明體"/>
              </a:rPr>
              <a:t>30% respondents have tried to reduce their wrinkles</a:t>
            </a:r>
            <a:endParaRPr b="0" lang="en-US" sz="3400" spc="-1" strike="noStrike">
              <a:solidFill>
                <a:srgbClr val="000000"/>
              </a:solidFill>
              <a:latin typeface="AvantGarde Book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52520" y="2365200"/>
          <a:ext cx="7773840" cy="43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365200"/>
                    <a:ext cx="777384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997600" y="7128000"/>
            <a:ext cx="29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4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90" name=""/>
          <p:cNvSpPr/>
          <p:nvPr/>
        </p:nvSpPr>
        <p:spPr>
          <a:xfrm>
            <a:off x="1521000" y="1677960"/>
            <a:ext cx="868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CG Omega"/>
                <a:ea typeface="SimSun"/>
              </a:rPr>
              <a:t>Question: Have you even tried to reduce your wrinkles by any means? </a:t>
            </a:r>
            <a:endParaRPr b="0" lang="en-US" sz="19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78000" y="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CG Omega"/>
              </a:rPr>
              <a:t>Respondents think collagen is the most effective method for reducing wrinkles</a:t>
            </a:r>
            <a:endParaRPr b="1" lang="en-US" sz="34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87400" y="2260440"/>
          <a:ext cx="9005760" cy="48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2260440"/>
                    <a:ext cx="900576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977760" y="1698480"/>
            <a:ext cx="931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CG Omega"/>
                <a:ea typeface="SimSun"/>
              </a:rPr>
              <a:t>Question: Do you think the following methods can reduce wrinkles? </a:t>
            </a:r>
            <a:endParaRPr b="0" lang="en-US" sz="19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95" name=""/>
          <p:cNvSpPr/>
          <p:nvPr/>
        </p:nvSpPr>
        <p:spPr>
          <a:xfrm>
            <a:off x="1292400" y="7104240"/>
            <a:ext cx="86166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160 (those who indicated they have used means to improve their wrinkle condition); multiple responses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G Omega"/>
              </a:rPr>
              <a:t>Conclusion</a:t>
            </a:r>
            <a:endParaRPr b="1" lang="en-US" sz="5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SzPct val="119919"/>
              <a:buBlip>
                <a:blip r:embed="rId1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Most respondents think maintaining a youthful look is not only a matter of self reassurance, but a way to maintain competitive in women’s work and love life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19919"/>
              <a:buBlip>
                <a:blip r:embed="rId2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Most respondents have wrinkles, and they think wrinkles would significantly make them look older. They have strong desire to maintain a youthful look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19919"/>
              <a:buBlip>
                <a:blip r:embed="rId3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There are different ways of treatments available in the market. Yet, respondents are innocent on different anti-wrinkle treatments. This implies more education is required for women -- they should know the pros and cons of different treatment options and have their “informed choice”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G Omega"/>
              </a:rPr>
              <a:t>Demographic Information</a:t>
            </a:r>
            <a:endParaRPr b="1" lang="en-US" sz="5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200" spc="-1" strike="noStrike">
                <a:solidFill>
                  <a:srgbClr val="800080"/>
                </a:solidFill>
                <a:latin typeface="CG Omega"/>
              </a:rPr>
              <a:t>Age</a:t>
            </a: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96920" y="161280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61280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950160" y="6848640"/>
            <a:ext cx="295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4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200" spc="-1" strike="noStrike">
                <a:solidFill>
                  <a:srgbClr val="800080"/>
                </a:solidFill>
                <a:latin typeface="CG Omega"/>
                <a:ea typeface="新細明體"/>
              </a:rPr>
              <a:t>Marital status</a:t>
            </a: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96920" y="161280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61280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505560" y="6905520"/>
            <a:ext cx="37623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27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200" spc="-1" strike="noStrike">
                <a:solidFill>
                  <a:srgbClr val="800080"/>
                </a:solidFill>
                <a:latin typeface="CG Omega"/>
              </a:rPr>
              <a:t>Occupation</a:t>
            </a: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96920" y="161280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61280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042320" y="7095960"/>
            <a:ext cx="32256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0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200" spc="-1" strike="noStrike">
                <a:solidFill>
                  <a:srgbClr val="800080"/>
                </a:solidFill>
                <a:latin typeface="CG Omega"/>
              </a:rPr>
              <a:t>Job nature</a:t>
            </a: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96920" y="161280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61280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829040" y="7020000"/>
            <a:ext cx="547704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197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with full-time job)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200" spc="-1" strike="noStrike">
                <a:solidFill>
                  <a:srgbClr val="800080"/>
                </a:solidFill>
                <a:latin typeface="CG Omega"/>
              </a:rPr>
              <a:t>Monthly personal income</a:t>
            </a: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16040" y="1612800"/>
          <a:ext cx="921528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612800"/>
                    <a:ext cx="921528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210200" y="6962760"/>
            <a:ext cx="567684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187 (with full-time job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200" spc="-1" strike="noStrike">
                <a:solidFill>
                  <a:srgbClr val="800080"/>
                </a:solidFill>
                <a:latin typeface="CG Omega"/>
              </a:rPr>
              <a:t>Education level</a:t>
            </a:r>
            <a:endParaRPr b="1" lang="en-US" sz="42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96920" y="161280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61280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594480" y="7039080"/>
            <a:ext cx="367344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Successful samples: 530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1:04:41Z</dcterms:created>
  <dc:creator>Candy Wan</dc:creator>
  <dc:description/>
  <dc:language>en-US</dc:language>
  <cp:lastModifiedBy>HKUPOP</cp:lastModifiedBy>
  <dcterms:modified xsi:type="dcterms:W3CDTF">2003-09-15T02:54:36Z</dcterms:modified>
  <cp:revision>337</cp:revision>
  <dc:subject/>
  <dc:title>Botox Hong Kong Press Conference</dc:title>
</cp:coreProperties>
</file>