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C99-D682-4269-A893-214414A2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5DE-28CE-46F5-8B6B-D2009523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C0E-10FD-4325-BB27-71E870E2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E88-CF67-400F-8AFB-1B5DD707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8B3-BB93-474E-A570-E38DB509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33D-856C-44FB-8552-EC28EB6F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8FB-6883-411C-B013-C9C910F8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4EB-7240-4361-B762-8CDC5A7F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892-88F3-4439-A7E3-06B136B8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476-31C9-40E9-B405-965355FE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ADF-B159-4D0C-854E-B72464FC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905-4751-4797-A72B-679E8894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BF3A-EAE5-4586-9BBB-238753012EEF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SIMPA Quality of Home Life Survey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5214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ffffff"/>
                </a:solidFill>
                <a:latin typeface="Times New Roman"/>
              </a:rPr>
              <a:t>The Public Opinion Programme, HKU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emographics of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spondents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ype of Hous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-723960" y="1289160"/>
          <a:ext cx="106250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23960" y="1289160"/>
                    <a:ext cx="10625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6706800" y="13716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11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pproximate size of current hous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93720" y="1442880"/>
          <a:ext cx="810756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442880"/>
                    <a:ext cx="810756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08660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15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235160"/>
          <a:ext cx="8359920" cy="56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35160"/>
                    <a:ext cx="8359920" cy="56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478200" y="12952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15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ge Group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52400" y="1471680"/>
          <a:ext cx="773136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471680"/>
                    <a:ext cx="773136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6783120" y="13716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473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ducation Attainment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95280"/>
          <a:ext cx="81234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1234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402240" y="16002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08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ccup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601640"/>
          <a:ext cx="9077400" cy="427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1640"/>
                    <a:ext cx="9077400" cy="42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554520" y="10666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493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tal status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1523880"/>
          <a:ext cx="871380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87138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402240" y="14479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05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umber of children (if married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30840" y="12952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341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447920"/>
          <a:ext cx="77644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64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nthly household incom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including year-end bonus and double pay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828800"/>
          <a:ext cx="8164440" cy="46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16444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88040" y="14479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425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ousehold siz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22240" y="1341360"/>
          <a:ext cx="753444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341360"/>
                    <a:ext cx="753444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783120" y="20574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04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9-17T04:40:35Z</dcterms:modified>
  <cp:revision>1039</cp:revision>
  <dc:subject/>
  <dc:title>無投影片標題</dc:title>
</cp:coreProperties>
</file>