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0598A3-0B36-4514-9A3F-16F01BB7E91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374-354F-4EC4-9A6D-E5904502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9F5-32E0-4121-99A2-758699D6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DF5-6313-4D6B-9AD9-EDB2109D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FC7-225D-418A-B1F9-4C40C10B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348-7FCF-4B40-A8BE-6BD8B1F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78E-9C0D-48ED-B48D-99F0C5DC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F1F-25CE-475D-B552-9108035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BAE-D7B8-42BF-B487-E55123D7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9D1-F961-43F7-B63D-DFA296A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EF6-51D3-4A5C-B722-9B787900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D07-D63D-4311-A0D4-5934F95C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E10-7A3D-4102-9ED1-A3B8B2B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C667-4B03-4440-A9EA-536D70AAE42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imes New Roman"/>
              </a:rPr>
              <a:t>The Sleep Quality and Quantity of PMEB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imes New Roman"/>
              </a:rPr>
              <a:t>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Presentation of Survey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838080"/>
          <a:ext cx="20494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204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133720" y="8380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99"/>
                </a:solidFill>
                <a:latin typeface="Times New Roman"/>
              </a:rPr>
              <a:t>香港大學民意研究計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99"/>
                </a:solidFill>
                <a:latin typeface="Arial"/>
              </a:rPr>
              <a:t>The University of Hong Kong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99"/>
                </a:solidFill>
                <a:latin typeface="Arial"/>
              </a:rPr>
              <a:t>Public Opinion Programm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4" name="combinedlogo_white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968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Number of hours of 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181160"/>
          <a:ext cx="899316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1160"/>
                    <a:ext cx="89931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80880" y="4800600"/>
          <a:ext cx="8380800" cy="457200"/>
        </p:xfrm>
        <a:graphic>
          <a:graphicData uri="http://schemas.openxmlformats.org/drawingml/2006/table">
            <a:tbl>
              <a:tblPr/>
              <a:tblGrid>
                <a:gridCol w="8380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          </a:t>
                      </a: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880" y="5410080"/>
          <a:ext cx="8382240" cy="13096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667240"/>
                <a:gridCol w="1873080"/>
                <a:gridCol w="8701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 after round up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hrs 56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hr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2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7hrs 10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7hrs 15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2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Activities before bedtime 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Percentage of respondents)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07800" y="1494000"/>
          <a:ext cx="9718560" cy="53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7800" y="1494000"/>
                    <a:ext cx="97185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ime needed for falling a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2189160"/>
          <a:ext cx="8989920" cy="46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89160"/>
                    <a:ext cx="898992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3520" y="1523880"/>
          <a:ext cx="7848360" cy="395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: 19.9mins          Standard error: 0.82min          Base: 49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90720" y="2209680"/>
          <a:ext cx="838080" cy="3812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i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st respondents got up at 6-7am on weekdays, and 8-9am during weeken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st of the respondents went to bed during 11pm-00am, for both weekdays and weeken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n average, respondents slept for 6 hours on weekdays. They slept for 7 hours and 15 minutes at weekends, which is 1 hour and 15 minutes more than that of weekday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atching TV was the most popular activity within the hour before sleep, as revealed by 60% of the responde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1295280"/>
          <a:ext cx="1371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1371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leep Deprivation and its Effects among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Frequency of mid-night awakening(s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304920" y="1290600"/>
          <a:ext cx="9829800" cy="55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90600"/>
                    <a:ext cx="98298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791320" y="2133720"/>
          <a:ext cx="2666880" cy="11430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: 0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: 0.0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: 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asons for mid-night awakenings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52880" y="380880"/>
          <a:ext cx="640404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80880"/>
                    <a:ext cx="64040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67080"/>
          <a:ext cx="9144000" cy="434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67080"/>
                    <a:ext cx="91440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ethods used to fall asleep again at times of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id-night awakenings or insomnia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685800" y="2209680"/>
          <a:ext cx="11887200" cy="39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2209680"/>
                    <a:ext cx="11887200" cy="39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xperience of back pain in the morn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219320" y="2057400"/>
          <a:ext cx="11277720" cy="54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2057400"/>
                    <a:ext cx="1127772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asons for back pain in the morning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922320" y="2127240"/>
          <a:ext cx="1084896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22320" y="2127240"/>
                    <a:ext cx="1084896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267080" y="685800"/>
          <a:ext cx="7318440" cy="307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685800"/>
                    <a:ext cx="73184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Presentation Outline: </a:t>
            </a:r>
            <a:br>
              <a:rPr sz="3600"/>
            </a:br>
            <a:r>
              <a:rPr b="1" i="1" lang="zh-TW" sz="3600" spc="-1" strike="noStrike">
                <a:solidFill>
                  <a:srgbClr val="ffff99"/>
                </a:solidFill>
                <a:latin typeface="Times New Roman"/>
              </a:rPr>
              <a:t>By Dr. Chung Ting Yiu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(Data Analysis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Methodology and  Contact In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he Sleeping Habits and Patterns of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leep Deprivation and its Effects among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Knowledge on Quality Sleep among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xperience of prolonged bad-quality sleep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-380880" y="2098800"/>
          <a:ext cx="969948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098800"/>
                    <a:ext cx="969948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Bad-quality Sleep: Effects on daily lives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840" y="2830680"/>
          <a:ext cx="10194840" cy="33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830680"/>
                    <a:ext cx="1019484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10080" y="609480"/>
          <a:ext cx="5641920" cy="237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56419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ree-quarters experienced prolonged bad-quality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quarter woke up twice or more every night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f awaken, or suffering from insomnia, slightly more than 30% would lay in bed doing noth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bout 60% experienced back pain in the morn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those who experienced prolonged bad-quality sleep, 70% believe their performance at work was affect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981080"/>
          <a:ext cx="12193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1219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Knowledge on Quality Sleep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mong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riteria for quality sleep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160" y="2133720"/>
          <a:ext cx="8581680" cy="43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133720"/>
                    <a:ext cx="858168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ays of improving the quality of sleep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228600" y="2438280"/>
          <a:ext cx="1008684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438280"/>
                    <a:ext cx="100868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xperience of improving the quality of 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2133720"/>
          <a:ext cx="9209160" cy="44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2091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Methods used to improve the quality of sleep</a:t>
            </a: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86200" y="1447920"/>
          <a:ext cx="4724280" cy="22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472428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-387360" y="2781360"/>
          <a:ext cx="9918720" cy="304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87360" y="2781360"/>
                    <a:ext cx="99187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848720" y="2362320"/>
            <a:ext cx="1495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(N=19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asons for not attempting to improve the quality of sleep (Percentages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793800" y="2211480"/>
          <a:ext cx="10990440" cy="38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3800" y="2211480"/>
                    <a:ext cx="1099044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1523880"/>
          <a:ext cx="4724280" cy="22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523880"/>
                    <a:ext cx="472428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62520" y="2514600"/>
            <a:ext cx="1495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(N=32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 significant number of respondents regarded uninterrupted sleep till a specified time as the key criterion of quality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-third believed a total relaxation of mind before going to bed was effective in improving the quality of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22% had no ideas of how to improve the   quality of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Arial Unicode MS"/>
              </a:rPr>
              <a:t>More than 60% have never tried to improve the quality of sleep, in which 72% of them believed it was not necessary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2133720"/>
          <a:ext cx="137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137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Outline of presentation: </a:t>
            </a:r>
            <a:br>
              <a:rPr sz="3600"/>
            </a:br>
            <a:r>
              <a:rPr b="1" i="1" lang="zh-TW" sz="3600" spc="-1" strike="noStrike">
                <a:solidFill>
                  <a:srgbClr val="ffff99"/>
                </a:solidFill>
                <a:latin typeface="Times New Roman"/>
              </a:rPr>
              <a:t>By Dr. Chung Ka Fai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(Analyses and Comments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igns of Sleep Deprivation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Occurrence of Insomnia and its Effects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Improving the Quality of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Great Sleep Strateg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Comments on Research Finding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By Dr. Chung Ka Fai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Assistant Professo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Department of Psychiatry, HK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igns of Sleep Deprivation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Occurrence of Insomnia and its Effects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Improving the Quality of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Great Sleep Strateg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mount of sleep is insufficient among PMEB (1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early half (48%) agreed that their amount of sleep is insuffici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1920" y="914400"/>
          <a:ext cx="88120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914400"/>
                    <a:ext cx="88120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4920" y="4572000"/>
          <a:ext cx="8610480" cy="20970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 I often sleep extra hours on weekend mornings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 I often need an alarm clock or other people to wake me up at the appropriate time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 I sometimes feel drowsy while driving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 I often fall asleep watching TV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 It's a struggle for me to get out of bed in the morning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 I often fall asleep in boring meetings or lectures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 I often fall asleep while relaxing after lunch or dinner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219320"/>
          <a:ext cx="4724280" cy="55872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rcentage of respondent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Excluding those who answered “inappropriate”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mount of sleep is insufficient among PMEB (2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71% often needed to sleep longer during weekends. On average, they slept 1 hr and 15 minutes longer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60% often needed alarm clock or someone to wake them up in each morning and 42% had to struggle hard to wake up each morning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42% often dozed off while watching TV, 41% often dozed off at meetings. 35% often dozed off during rest after lunch or dinner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Of particular importance, 53% of those who drove agreed that they sometimes were very sleepy while driving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A high proportion of the PMEB (94%) had 1 or more signs indicative of insufficient sleep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ests on the signs of sleep deprivation (Collapsed data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152280" y="1612800"/>
          <a:ext cx="9553320" cy="52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612800"/>
                    <a:ext cx="95533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676520" y="3429000"/>
            <a:ext cx="1828800" cy="1752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0" y="1104"/>
                </a:moveTo>
                <a:cubicBezTo>
                  <a:pt x="192" y="860"/>
                  <a:pt x="384" y="616"/>
                  <a:pt x="576" y="432"/>
                </a:cubicBezTo>
                <a:cubicBezTo>
                  <a:pt x="768" y="248"/>
                  <a:pt x="1056" y="72"/>
                  <a:pt x="115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476440"/>
            <a:ext cx="7315200" cy="3619440"/>
          </a:xfrm>
          <a:custGeom>
            <a:avLst/>
            <a:gdLst/>
            <a:ahLst/>
            <a:rect l="l" t="t" r="r" b="b"/>
            <a:pathLst>
              <a:path w="4608" h="2280">
                <a:moveTo>
                  <a:pt x="0" y="2280"/>
                </a:moveTo>
                <a:cubicBezTo>
                  <a:pt x="112" y="2096"/>
                  <a:pt x="224" y="1912"/>
                  <a:pt x="384" y="1704"/>
                </a:cubicBezTo>
                <a:cubicBezTo>
                  <a:pt x="544" y="1496"/>
                  <a:pt x="768" y="1216"/>
                  <a:pt x="960" y="1032"/>
                </a:cubicBezTo>
                <a:cubicBezTo>
                  <a:pt x="1152" y="848"/>
                  <a:pt x="1344" y="768"/>
                  <a:pt x="1536" y="600"/>
                </a:cubicBezTo>
                <a:cubicBezTo>
                  <a:pt x="1728" y="432"/>
                  <a:pt x="1920" y="0"/>
                  <a:pt x="2112" y="24"/>
                </a:cubicBezTo>
                <a:cubicBezTo>
                  <a:pt x="2304" y="48"/>
                  <a:pt x="2504" y="528"/>
                  <a:pt x="2688" y="744"/>
                </a:cubicBezTo>
                <a:cubicBezTo>
                  <a:pt x="2872" y="960"/>
                  <a:pt x="3024" y="1152"/>
                  <a:pt x="3216" y="1320"/>
                </a:cubicBezTo>
                <a:cubicBezTo>
                  <a:pt x="3408" y="1488"/>
                  <a:pt x="3640" y="1624"/>
                  <a:pt x="3840" y="1752"/>
                </a:cubicBezTo>
                <a:cubicBezTo>
                  <a:pt x="4040" y="1880"/>
                  <a:pt x="4288" y="2000"/>
                  <a:pt x="4416" y="2088"/>
                </a:cubicBezTo>
                <a:cubicBezTo>
                  <a:pt x="4544" y="2176"/>
                  <a:pt x="4576" y="2248"/>
                  <a:pt x="4608" y="22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is insufficient sleep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is sufficient sleep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f course there is an individual variation in sleep requirement, some may need less and some require mo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lthough insufficient sleep does not cause harm to our health directly, the result of insufficient sleep, i.e. sleepiness can lead to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tor vehicle and work-related accid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mpaired perform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europsychological dysfunctions, such as decreased creativity, logical thinking; emotional instabi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or quality of li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hat is a Quality Sleep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251424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n uninterrupted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ppropriate sleeping time and hour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sleep cycl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nsomnia is common among PMEB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35% of the respondents often require 30 minutes or more to fall a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5% often wake 2 times or more during 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nly half of the subjects (54%) report that they can sleep more than 85% of the time in b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43% had experienced insomnia consecutively for 3 or more da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nsomnia affect their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daytime func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ubjects who had experiences of insomnia for 3 days or more (43%) reported that their daytime function were affect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reas affected (in decreasing degree of influence) includ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work performance (73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elf-study (52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interest (44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exercise (43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ocial life (32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communication with family (32%), and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ex life (29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somnia not only affect our enjoyment on the next day and can perpetuate insomnia in the following night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vicious cycle that perpetuate insomni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2362320" cy="144756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Unhealthy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leep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abi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133720"/>
            <a:ext cx="1981080" cy="144756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or Slee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4114800"/>
            <a:ext cx="2666880" cy="144792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mpaire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aytime Func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571640" y="2895480"/>
            <a:ext cx="1143000" cy="9907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00040" y="2895480"/>
            <a:ext cx="1143000" cy="9907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2590920"/>
            <a:ext cx="24382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Contact informatio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52388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e of Survey:                   April 24-26,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arget Population:             Local professionals, managers,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        executives and businessmen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                    (PMEB) aged between 25 and 5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urvey Method:                 Telephone survey with interview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e Size:                       531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ffective Response Rate:   79.8% </a:t>
            </a: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(Based on the target populatio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ing Error:                 Less than 2.2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What can we do to improve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our sleep?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ny people (48%) understand that they have insufficient sleep, but..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ny people (61%) had not tried to improve their sleep quality, in which 72% of them said they do not need to, 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imilar to having a good diet habit, a healthy sleep habit is important and easy to obtain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dequate and regular slee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gular relaxation activities - exercise, music, yoga, Tai Chi, et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evoted the sleeping hours to “sleep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Great sleep strategies (1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Value 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xercise to stay fi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Keep mentally stimulated during the da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at a proper di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top smok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void alcohol or caffe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intain a relaxing atmosphere in the bedroo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void trying too hard to get to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Clear your mind at bedtim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Limit your time in b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Great sleep strategies (2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The End</a:t>
            </a:r>
            <a:br>
              <a:rPr sz="36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(Survey Findings soon be available at http://hkupop.hku.hk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Sleeping Habits and Patterns of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Self-reported adequacy of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sleep quantit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2014560"/>
          <a:ext cx="90075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014560"/>
                    <a:ext cx="90075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Respondents’ getting out-of-bed ti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514600"/>
          <a:ext cx="8991720" cy="320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991720" cy="32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19920" y="2286000"/>
          <a:ext cx="1981080" cy="7603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spondents’ going-to-bed tim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3080" y="2550960"/>
          <a:ext cx="89215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2550960"/>
                    <a:ext cx="89215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248520" y="1828800"/>
          <a:ext cx="1981080" cy="7603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spondents’ bedtime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(Combined data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3200400"/>
          <a:ext cx="9144000" cy="29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0400"/>
                    <a:ext cx="91440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1752480"/>
          <a:ext cx="9067680" cy="69552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Getting out-of-bed time on weekdays</a:t>
                      </a:r>
                      <a:r>
                        <a:rPr b="1" lang="zh-TW" sz="1800" spc="-1" strike="noStrike">
                          <a:solidFill>
                            <a:srgbClr val="ff6600"/>
                          </a:solidFill>
                          <a:latin typeface="新細明體"/>
                        </a:rPr>
                        <a:t>    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 Getting out-of-bed time at weekend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Going-to-bed</a:t>
                      </a: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time on weekdays</a:t>
                      </a: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新細明體"/>
                        </a:rPr>
                        <a:t>　          </a:t>
                      </a:r>
                      <a:r>
                        <a:rPr b="1" lang="en-GB" sz="18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Going-to-bed at weekend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</cp:lastModifiedBy>
  <cp:lastPrinted>2001-04-04T10:00:24Z</cp:lastPrinted>
  <dcterms:modified xsi:type="dcterms:W3CDTF">2002-06-19T10:13:01Z</dcterms:modified>
  <cp:revision>504</cp:revision>
  <dc:subject/>
  <dc:title>無投影片標題</dc:title>
</cp:coreProperties>
</file>