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0CCAFD-211A-4C57-AB8B-4BA9D30E642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 - 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 –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 –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 – 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74E-C2B0-4BAF-993E-35F671B0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500-D62C-433A-A850-EDA1D152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3BA-91A5-4D5B-A3E1-AF4C33AC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6AF-5339-4290-BD91-3BE08F82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20D-0715-4EAE-A466-F36287B2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4DA-2847-404A-B2ED-89BD91B0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382-F313-4360-8C93-6DC97F89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9A5-187B-4862-B476-C020BB66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F07-C5D1-4C4F-8F2B-CC312113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102-D70D-466E-9343-9BB15BCA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546-2F7C-40B7-A6E7-56469BD0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F62-7208-4A9E-A500-FB5AACAE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2553-FA12-4F89-B470-7FE9703548A4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ffcc"/>
                </a:solidFill>
                <a:latin typeface="Times New Roman"/>
              </a:rPr>
              <a:t>「</a:t>
            </a:r>
            <a:r>
              <a:rPr b="1" i="1" lang="zh-TW" sz="4000" spc="-1" strike="noStrike">
                <a:solidFill>
                  <a:srgbClr val="ffffcc"/>
                </a:solidFill>
                <a:latin typeface="新細明體"/>
              </a:rPr>
              <a:t>有關市民內地置業意見調查</a:t>
            </a:r>
            <a:r>
              <a:rPr b="1" i="1" lang="zh-TW" sz="4000" spc="-1" strike="noStrike">
                <a:solidFill>
                  <a:srgbClr val="ffffcc"/>
                </a:solidFill>
                <a:latin typeface="Times New Roman"/>
              </a:rPr>
              <a:t> 」</a:t>
            </a:r>
            <a:br>
              <a:rPr sz="3800"/>
            </a:br>
            <a:r>
              <a:rPr b="1" i="1" lang="zh-TW" sz="4000" spc="-1" strike="noStrike">
                <a:solidFill>
                  <a:srgbClr val="ffffcc"/>
                </a:solidFill>
                <a:latin typeface="Times New Roman"/>
              </a:rPr>
              <a:t>結果簡報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76520" y="12952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240" y="228600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約四分一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23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被訪者自己或家人在過去十年曾在國內置業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約三分一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31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被訪者有興趣或者已經在國內置業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表示有興趣在國內置業者中，半數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48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會作渡假用，兩成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22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會作退休用，合計七成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70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，佔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18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歲或以上總人口兩成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20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第二階段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訪問日期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二零零一年六月十九至二十二日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訪問對象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有興趣於國內置業作渡假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　退休之用的十八歲或以上香港居民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調查方法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電話訪問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樣本數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543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個成功個案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回應比率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87.6%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抽樣誤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少於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2.1%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被訪者對國內理想居庭</a:t>
            </a:r>
            <a:br>
              <a:rPr sz="4400"/>
            </a:b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各方面的要求及期望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最理想的住宅類型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320" y="2190600"/>
          <a:ext cx="8408880" cy="428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90600"/>
                    <a:ext cx="8408880" cy="42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最</a:t>
            </a: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理想的樓宇類型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39840" y="2286000"/>
          <a:ext cx="840888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2286000"/>
                    <a:ext cx="840888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屋苑內園林綠化之重要性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828800"/>
          <a:ext cx="8381880" cy="43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381880" cy="43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267080" y="2438280"/>
          <a:ext cx="3657600" cy="1524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438280"/>
                    <a:ext cx="36576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ccffff"/>
                </a:solidFill>
                <a:latin typeface="新細明體"/>
              </a:rPr>
              <a:t>屋苑內購物中心之重要性</a:t>
            </a:r>
            <a:endParaRPr b="0" lang="en-US" sz="39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36600" y="2286000"/>
          <a:ext cx="8454960" cy="395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286000"/>
                    <a:ext cx="845496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419720" y="2514600"/>
          <a:ext cx="3454200" cy="1549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514600"/>
                    <a:ext cx="34542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會所設施之重要性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6600" y="2022480"/>
          <a:ext cx="8470800" cy="41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022480"/>
                    <a:ext cx="847080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648320" y="2286000"/>
          <a:ext cx="3416040" cy="125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86000"/>
                    <a:ext cx="34160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最常用的運動設施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-228600" y="1905120"/>
          <a:ext cx="93726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905120"/>
                    <a:ext cx="93726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ecff"/>
                </a:solidFill>
                <a:latin typeface="Times New Roman"/>
              </a:rPr>
              <a:t>第一階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港人過去十年在國內置業的情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對國內置業之興趣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置業之用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6920" y="175248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ecff"/>
                </a:solidFill>
                <a:latin typeface="Times New Roman"/>
              </a:rPr>
              <a:t>第二階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對國內理想居庭的要求及期望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樓宇類型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園林綠化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購物中心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會所設施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交通配套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醫療診所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保安隊伍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其他條件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購買及供款能力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屋苑</a:t>
            </a: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交通配套之重要性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6600" y="1832040"/>
          <a:ext cx="8381880" cy="42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832040"/>
                    <a:ext cx="838188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最受歡迎的公共交通工具</a:t>
            </a:r>
            <a:br>
              <a:rPr sz="4000"/>
            </a:b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(</a:t>
            </a: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往返屋苑</a:t>
            </a: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)</a:t>
            </a: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2563920"/>
          <a:ext cx="8381880" cy="34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6392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由羅湖到屋苑</a:t>
            </a:r>
            <a:br>
              <a:rPr sz="4200"/>
            </a:b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可接受之交通時間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36600" y="1828800"/>
          <a:ext cx="83818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828800"/>
                    <a:ext cx="8381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400800" y="2209680"/>
            <a:ext cx="2057400" cy="60012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平均數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:</a:t>
            </a:r>
            <a:r>
              <a:rPr b="0" i="1" lang="zh-TW" sz="19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1.1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小時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標準誤差</a:t>
            </a:r>
            <a:r>
              <a:rPr b="0" lang="zh-TW" sz="1900" spc="-1" strike="noStrike">
                <a:solidFill>
                  <a:srgbClr val="ccffff"/>
                </a:solidFill>
                <a:latin typeface="新細明體"/>
              </a:rPr>
              <a:t>: </a:t>
            </a:r>
            <a:r>
              <a:rPr b="0" i="1" lang="zh-TW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3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分鐘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屋苑內醫院</a:t>
            </a: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/</a:t>
            </a: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醫療診所之重要性</a:t>
            </a: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36600" y="2286000"/>
          <a:ext cx="8381880" cy="376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286000"/>
                    <a:ext cx="838188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屋苑內保安隊伍之重要性</a:t>
            </a: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36600" y="2286000"/>
          <a:ext cx="851364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286000"/>
                    <a:ext cx="851364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理想家園必需提供之家居服務</a:t>
            </a:r>
            <a:br>
              <a:rPr sz="4200"/>
            </a:br>
            <a:r>
              <a:rPr b="1" lang="zh-TW" sz="2800" spc="-1" strike="noStrike">
                <a:solidFill>
                  <a:srgbClr val="ccffff"/>
                </a:solidFill>
                <a:latin typeface="新細明體"/>
              </a:rPr>
              <a:t>【讀出答案，可選多項】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39840" y="2286000"/>
          <a:ext cx="840888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2286000"/>
                    <a:ext cx="840888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ccffff"/>
                </a:solidFill>
                <a:latin typeface="新細明體"/>
              </a:rPr>
              <a:t>屋苑內各條件之重要性</a:t>
            </a:r>
            <a:endParaRPr b="0" lang="en-US" sz="39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7800" y="2022480"/>
          <a:ext cx="8410680" cy="372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2022480"/>
                    <a:ext cx="841068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362320" y="2057400"/>
            <a:ext cx="632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被訪者普遍認為六個範疇皆不可或缺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保安隊伍被評為最重要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九成半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其次為交通配套及屋苑內的園林綠化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各佔九成二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再其次為醫療服務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八成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及購物中心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七成七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屋苑會所設施的重要性相對較低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六成二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由此可見，被訪者較為重視安全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交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通的便利與及綠化的生活空間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但對娛樂消閒的需求則稍為次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購買力及每月供款額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購買國內理想居庭的能力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610480" cy="4267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248520" y="1981080"/>
            <a:ext cx="2514600" cy="60012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平均數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:</a:t>
            </a:r>
            <a:r>
              <a:rPr b="0" i="1" lang="zh-TW" sz="19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40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萬元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標準誤差</a:t>
            </a:r>
            <a:r>
              <a:rPr b="0" lang="zh-TW" sz="1900" spc="-1" strike="noStrike">
                <a:solidFill>
                  <a:srgbClr val="ccffff"/>
                </a:solidFill>
                <a:latin typeface="新細明體"/>
              </a:rPr>
              <a:t>: </a:t>
            </a:r>
            <a:r>
              <a:rPr b="0" i="1" lang="zh-TW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1.29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萬元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第一階段</a:t>
            </a:r>
            <a:br>
              <a:rPr sz="4400"/>
            </a:br>
            <a:r>
              <a:rPr b="1" lang="zh-TW" sz="6000" spc="-1" strike="noStrike">
                <a:solidFill>
                  <a:srgbClr val="ccffff"/>
                </a:solidFill>
                <a:latin typeface="Times New Roman"/>
              </a:rPr>
              <a:t>先導調查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每月最高分期供款金額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1828800"/>
          <a:ext cx="83818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381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248520" y="1981080"/>
            <a:ext cx="2514600" cy="60012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平均數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:</a:t>
            </a:r>
            <a:r>
              <a:rPr b="0" i="1" lang="zh-TW" sz="19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5,000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元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標準誤差</a:t>
            </a:r>
            <a:r>
              <a:rPr b="0" lang="zh-TW" sz="1900" spc="-1" strike="noStrike">
                <a:solidFill>
                  <a:srgbClr val="ccffff"/>
                </a:solidFill>
                <a:latin typeface="新細明體"/>
              </a:rPr>
              <a:t>: </a:t>
            </a:r>
            <a:r>
              <a:rPr b="0" i="1" lang="zh-TW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500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元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現時往返國內的習慣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渡假時通常與誰結伴</a:t>
            </a: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36600" y="2286000"/>
          <a:ext cx="8381880" cy="367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286000"/>
                    <a:ext cx="8381880" cy="36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每月往返國內次數</a:t>
            </a:r>
            <a:r>
              <a:rPr b="1" lang="zh-TW" sz="38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2209680"/>
          <a:ext cx="854388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8543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每月在國內停留日數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99880" y="2205000"/>
          <a:ext cx="854424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205000"/>
                    <a:ext cx="854424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14600" y="205740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被訪者平均願意付出四十萬港元於國內置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平均每月可接受的最高供款額為五千港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約三分二被訪者</a:t>
            </a:r>
            <a:r>
              <a:rPr b="1" lang="zh-TW" sz="2900" spc="-1" strike="noStrike">
                <a:solidFill>
                  <a:srgbClr val="ccecff"/>
                </a:solidFill>
                <a:latin typeface="新細明體"/>
              </a:rPr>
              <a:t>渡假時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多與家人結伴，只有四分一跟朋友同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半數被訪者現時每月往返國內少於一次，大部份每月停留少於兩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調查顯示港人對國內物業市場可觀，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18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歲或以上人口中兩成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20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表示有興趣在國內置業作渡假或退休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該等人士普遍願意支付四十萬港元，購買起碼三房兩廳的低層住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以金額及對居住環境的要求而論，調查結果應可反映一般中產及基層巿民的訴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隨著中國入世及鄰近地區房產業的興旺，該等訴求將會與日俱增，成為中港兩地經濟融合的一項指標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ccecff"/>
                </a:solidFill>
                <a:latin typeface="Times New Roman"/>
                <a:ea typeface="細明體"/>
              </a:rPr>
              <a:t>報 告 完 畢</a:t>
            </a:r>
            <a:endParaRPr b="0" lang="en-US" sz="7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訪問日期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二零零一年五月十九至二十三日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訪問對象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十八歲或以上操粵語的香港居民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調查方法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電話訪問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樣本數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,082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個成功個案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回應比率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65.6%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抽樣誤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少於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.5%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港人在國內置業的意願</a:t>
            </a:r>
            <a:br>
              <a:rPr sz="4400"/>
            </a:b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及其置業用途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被訪者過去十年有否在國內置業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1828800"/>
          <a:ext cx="7543800" cy="44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5438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Times New Roman"/>
              </a:rPr>
              <a:t>被訪者家人在過去十年</a:t>
            </a:r>
            <a:br>
              <a:rPr sz="4200"/>
            </a:br>
            <a:r>
              <a:rPr b="1" lang="zh-TW" sz="4200" spc="-1" strike="noStrike">
                <a:solidFill>
                  <a:srgbClr val="ccffff"/>
                </a:solidFill>
                <a:latin typeface="Times New Roman"/>
              </a:rPr>
              <a:t>有否在國內置業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1828800"/>
          <a:ext cx="7543800" cy="44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5438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被訪者於國內置業之興趣</a:t>
            </a:r>
            <a:br>
              <a:rPr sz="4200"/>
            </a:b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（不論被訪者或家人在國內是否擁有物業）</a:t>
            </a:r>
            <a:r>
              <a:rPr b="1" lang="zh-TW" sz="4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2120" y="1828800"/>
          <a:ext cx="7543800" cy="44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5438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國內置業之最主要用途</a:t>
            </a:r>
            <a:br>
              <a:rPr sz="4200"/>
            </a:b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（不論是否肯定有興趣置業）</a:t>
            </a: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0880" y="1676520"/>
          <a:ext cx="8626680" cy="44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626680" cy="44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liff</cp:lastModifiedBy>
  <cp:lastPrinted>2001-04-04T10:00:24Z</cp:lastPrinted>
  <dcterms:modified xsi:type="dcterms:W3CDTF">2002-09-02T06:23:19Z</dcterms:modified>
  <cp:revision>381</cp:revision>
  <dc:subject/>
  <dc:title>無投影片標題</dc:title>
</cp:coreProperties>
</file>