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564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46AE4E-1A3C-4E18-860E-A478A703D53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4DF-DBCA-4F2A-B587-F116A1BA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57E-6C80-4B4F-B5C5-12314BE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0C5-7FDE-4A17-9137-D198C87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2F5-3995-4678-B18A-2CB5BC44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15A-0583-47B2-8C7B-FFE70E1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896-892C-4B55-B778-E618EB5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8A-91C0-4A60-977F-C9D3344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883-6F69-4FE4-873D-298F6CE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CA2-A816-43F9-BF7E-1F565DD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A4D-17D5-40A4-8085-429358E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D32-C048-45B4-BAA0-838EA4A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5CE-C274-4AE4-BF3A-08ED29A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A9D-8C4F-49BF-A57A-FF929E2F443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479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3733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cc"/>
                </a:solidFill>
                <a:latin typeface="Times New Roman"/>
              </a:rPr>
              <a:t>香港個人科技應用意見調查</a:t>
            </a: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Survey on Personal Technology Adoption </a:t>
            </a:r>
            <a:br>
              <a:rPr sz="3200"/>
            </a:b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Among Hong Kong Peop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lf Ranking on IT Proficienc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905120"/>
          <a:ext cx="8690040" cy="40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900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5880" y="1371600"/>
            <a:ext cx="2438640" cy="6008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Average : 65.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Standard error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: </a:t>
            </a: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0.83</a:t>
            </a:r>
            <a:r>
              <a:rPr b="0" i="1" lang="en-US" sz="1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Least proficien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Most proficien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IT Proficiency Ratings : Oneself vs HK People</a:t>
            </a: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2840" y="1905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905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038480" y="1676520"/>
          <a:ext cx="43578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640"/>
                <a:gridCol w="189540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Possession of Personal Technology Tools </a:t>
            </a:r>
            <a:br>
              <a:rPr sz="3300"/>
            </a:b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vs Self-Rating on IT Proficiency</a:t>
            </a: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494000"/>
          <a:ext cx="8610480" cy="5178240"/>
        </p:xfrm>
        <a:graphic>
          <a:graphicData uri="http://schemas.openxmlformats.org/drawingml/2006/table">
            <a:tbl>
              <a:tblPr/>
              <a:tblGrid>
                <a:gridCol w="3948120"/>
                <a:gridCol w="1481040"/>
                <a:gridCol w="1959120"/>
                <a:gridCol w="12222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P3 music fi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DA/Palm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ebook computer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rsonal/family homepag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vate email accou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igital camera / digital video camera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roadban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sktop compu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V gam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bile phon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13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atisfaction with Government IT Polici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5080" y="1627200"/>
          <a:ext cx="876276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27200"/>
                    <a:ext cx="87627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ffect of Internet on Quality of Lif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4840" y="1582560"/>
          <a:ext cx="8763120" cy="454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582560"/>
                    <a:ext cx="876312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fect of Mobile Phone on Quality of Life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4840" y="1523880"/>
          <a:ext cx="879300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523880"/>
                    <a:ext cx="87930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ver four-fifths of the respondents owned mobile phones, while more than half owned desktop computer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one-seventh did not possess any personal technology tool, while over one-fifth owned just one item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bile phone and desktop computer were two most important technology item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re than half of the respondents considered IT important to themselv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spondents tended to evaluate other Hong Kong people as more IT proficient than themselv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ssessors of MP3 or PDA/Palm were most confident about their IT proficiency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st respondents considered the Internet had improved their quality of life, even higher proportion said mobile phone had made their life better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ne-third claimed total ignorance about government’s policies on IT development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attern of Using Download Servic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5880" y="44956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omparison of Current and Future Usage of Mobile Phone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68032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032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43828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Background of this study – Dr Robert Chu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Adoption of and attitudes towards personal technology, including download services (IT) – Dr Robert Chu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In-depth analyses – Dr Boris Cho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Interpretation and commentary – Dr Boris Cho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Using Download Service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66840" y="1832040"/>
          <a:ext cx="81914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832040"/>
                    <a:ext cx="81914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Types of Items Downloaded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2330280"/>
          <a:ext cx="8601120" cy="452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30280"/>
                    <a:ext cx="86011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3520" y="12952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]</a:t>
            </a:r>
            <a:r>
              <a:rPr b="1" lang="en-US" sz="21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29000" y="1832040"/>
          <a:ext cx="5157720" cy="24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832040"/>
                    <a:ext cx="5157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Frequency using Download Services (per week)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04920" y="2819520"/>
          <a:ext cx="8543880" cy="384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54388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666880" y="182880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Average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4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0.47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 services and those who could gave definite answers in terms of frequency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33920" y="1676520"/>
          <a:ext cx="5232240" cy="282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52322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pinion on Charges of Existing Download Servi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99880" y="2205000"/>
          <a:ext cx="85442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205000"/>
                    <a:ext cx="85442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191120" y="1447920"/>
          <a:ext cx="4336920" cy="21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447920"/>
                    <a:ext cx="43369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ffordable Price for Downloading a Ring T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981080" y="190512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62040" y="1676520"/>
          <a:ext cx="681372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2040" y="1676520"/>
                    <a:ext cx="68137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ff"/>
                </a:solidFill>
                <a:latin typeface="Times New Roman"/>
              </a:rPr>
              <a:t>Affordable Price for Downloading a Screen Logo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057400" y="198108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52680" y="1752480"/>
          <a:ext cx="6446880" cy="262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752480"/>
                    <a:ext cx="64468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Affordable Price for Downloading a Picture Message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133720" y="198108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657600" y="1676520"/>
          <a:ext cx="6418440" cy="256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641844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ffordable Price for Downloading a Game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300816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0816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057400" y="182880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5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86200" y="1600200"/>
          <a:ext cx="6404040" cy="26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64040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Communication” topped the list for the current and future usage of mobile phon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ver one-third of respondents have used download services, on average 4.0 times per week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Computer software was the most popular item downloaded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st users considered the charges for download services reasonable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Users were more willing to pay a higher price for downloading games rather than ring tones, screen logos or picture messag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Further Analysis: Possession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of IT Products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7640" y="4495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Background of This Study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rst study on the objective level and subjective effect of personal technology adoption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ponsored by a leading mobile phone suppli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dependently designed by the HKU Tea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ndings open for public consump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Possession of IT Products Between Male &amp; Female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fference in Possession of IT Products Among Various Age Groups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44440" y="1878120"/>
          <a:ext cx="872352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878120"/>
                    <a:ext cx="872352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Possession of IT Products Among Various Education Level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90560" y="14479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NO significant difference in IT products procession for male &amp; femal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Younger generation finds IT products as daily necessities while the older generation may find it hard to use IT products (except for mobile phones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IT products may be a luxury for the respondents with primary education level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ffff"/>
                </a:solidFill>
                <a:latin typeface="Times New Roman"/>
              </a:rPr>
              <a:t>Further Analysis: Self-Rating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ffff"/>
                </a:solidFill>
                <a:latin typeface="Times New Roman"/>
              </a:rPr>
              <a:t>on IT Proficiency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27840" y="4724280"/>
            <a:ext cx="43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Presented by Dr Boris Choy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76920" y="1600200"/>
          <a:ext cx="3733560" cy="1143000"/>
        </p:xfrm>
        <a:graphic>
          <a:graphicData uri="http://schemas.openxmlformats.org/drawingml/2006/table">
            <a:tbl>
              <a:tblPr/>
              <a:tblGrid>
                <a:gridCol w="1355400"/>
                <a:gridCol w="1106640"/>
                <a:gridCol w="127152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ifference in Self-Rating Between Male and Fema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12840" y="198108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98108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876920" y="1600200"/>
          <a:ext cx="3733560" cy="1143000"/>
        </p:xfrm>
        <a:graphic>
          <a:graphicData uri="http://schemas.openxmlformats.org/drawingml/2006/table">
            <a:tbl>
              <a:tblPr/>
              <a:tblGrid>
                <a:gridCol w="1355400"/>
                <a:gridCol w="1106640"/>
                <a:gridCol w="127152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ifference in Rating of HK People Between Male and Fema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Cross-Comparison of Ratings Among Various Age Group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81080"/>
          <a:ext cx="8238960" cy="3875040"/>
        </p:xfrm>
        <a:graphic>
          <a:graphicData uri="http://schemas.openxmlformats.org/drawingml/2006/table">
            <a:tbl>
              <a:tblPr/>
              <a:tblGrid>
                <a:gridCol w="1622520"/>
                <a:gridCol w="1198440"/>
                <a:gridCol w="2022480"/>
                <a:gridCol w="1198440"/>
                <a:gridCol w="2197080"/>
              </a:tblGrid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-2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-3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-4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-5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 or abov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824120"/>
          <a:ext cx="884412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4120"/>
                    <a:ext cx="884412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88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fference in Self-Rating Among Various Education Lev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38480" y="1752480"/>
          <a:ext cx="48402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280"/>
                <a:gridCol w="1106640"/>
                <a:gridCol w="127152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cond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rti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7800" y="2139840"/>
          <a:ext cx="88362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139840"/>
                    <a:ext cx="88362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Rating of HK People Among Various Education Level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38480" y="1828800"/>
          <a:ext cx="48402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280"/>
                <a:gridCol w="1106640"/>
                <a:gridCol w="127152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cond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rti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Contact Informatio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ate of Survey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4-9 January 2002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arget Population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antonese-speaking population of     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   Hong Kong aged 18 or abov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urvey Method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lephone survey with interviewe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ample Size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1,506 successful cas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sponse Rate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65.1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tandard Error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ss than 1.3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057400"/>
          <a:ext cx="8802720" cy="4489560"/>
        </p:xfrm>
        <a:graphic>
          <a:graphicData uri="http://schemas.openxmlformats.org/drawingml/2006/table">
            <a:tbl>
              <a:tblPr/>
              <a:tblGrid>
                <a:gridCol w="1784520"/>
                <a:gridCol w="736560"/>
                <a:gridCol w="1898640"/>
                <a:gridCol w="2332080"/>
                <a:gridCol w="2050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nk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 of Compute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1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1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750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.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746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460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334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9.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342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 of Mobi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= 13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00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005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4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4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4038480" y="3124080"/>
            <a:ext cx="457200" cy="304920"/>
          </a:xfrm>
          <a:prstGeom prst="wedgeRoundRectCallout">
            <a:avLst>
              <a:gd name="adj1" fmla="val -75000"/>
              <a:gd name="adj2" fmla="val 3698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3962520"/>
            <a:ext cx="457200" cy="304560"/>
          </a:xfrm>
          <a:prstGeom prst="wedgeRoundRectCallout">
            <a:avLst>
              <a:gd name="adj1" fmla="val -77430"/>
              <a:gd name="adj2" fmla="val 1354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962520"/>
            <a:ext cx="457200" cy="304560"/>
          </a:xfrm>
          <a:prstGeom prst="wedgeRoundRectCallout">
            <a:avLst>
              <a:gd name="adj1" fmla="val -94444"/>
              <a:gd name="adj2" fmla="val 18750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715000"/>
            <a:ext cx="457200" cy="304920"/>
          </a:xfrm>
          <a:prstGeom prst="wedgeRoundRectCallout">
            <a:avLst>
              <a:gd name="adj1" fmla="val -79513"/>
              <a:gd name="adj2" fmla="val 4010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5791320"/>
            <a:ext cx="457200" cy="304560"/>
          </a:xfrm>
          <a:prstGeom prst="wedgeRoundRectCallout">
            <a:avLst>
              <a:gd name="adj1" fmla="val -95138"/>
              <a:gd name="adj2" fmla="val 14064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4876920"/>
            <a:ext cx="457200" cy="304560"/>
          </a:xfrm>
          <a:prstGeom prst="wedgeRoundRectCallout">
            <a:avLst>
              <a:gd name="adj1" fmla="val -114236"/>
              <a:gd name="adj2" fmla="val -12500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876920"/>
            <a:ext cx="457200" cy="304560"/>
          </a:xfrm>
          <a:prstGeom prst="wedgeRoundRectCallout">
            <a:avLst>
              <a:gd name="adj1" fmla="val -79166"/>
              <a:gd name="adj2" fmla="val 10939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124080"/>
            <a:ext cx="457200" cy="304920"/>
          </a:xfrm>
          <a:prstGeom prst="wedgeRoundRectCallout">
            <a:avLst>
              <a:gd name="adj1" fmla="val -96875"/>
              <a:gd name="adj2" fmla="val 4689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124080"/>
            <a:ext cx="457200" cy="304920"/>
          </a:xfrm>
          <a:prstGeom prst="wedgeRoundRectCallout">
            <a:avLst>
              <a:gd name="adj1" fmla="val -80555"/>
              <a:gd name="adj2" fmla="val 4689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3962520"/>
            <a:ext cx="457200" cy="304560"/>
          </a:xfrm>
          <a:prstGeom prst="wedgeRoundRectCallout">
            <a:avLst>
              <a:gd name="adj1" fmla="val -87152"/>
              <a:gd name="adj2" fmla="val 7814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1880" y="4876920"/>
            <a:ext cx="457200" cy="304560"/>
          </a:xfrm>
          <a:prstGeom prst="wedgeRoundRectCallout">
            <a:avLst>
              <a:gd name="adj1" fmla="val -71527"/>
              <a:gd name="adj2" fmla="val -4685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8200" y="5715000"/>
            <a:ext cx="457200" cy="304920"/>
          </a:xfrm>
          <a:prstGeom prst="wedgeRoundRectCallout">
            <a:avLst>
              <a:gd name="adj1" fmla="val -84722"/>
              <a:gd name="adj2" fmla="val -5726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Cross-Comparison of IT Proficiency Ratings : Computer and Mobile Phone Own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Cross-Comparison of IT Proficiency Ratings : Surveys in 2001 &amp; 2002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2057400"/>
          <a:ext cx="8305560" cy="4165560"/>
        </p:xfrm>
        <a:graphic>
          <a:graphicData uri="http://schemas.openxmlformats.org/drawingml/2006/table">
            <a:tbl>
              <a:tblPr/>
              <a:tblGrid>
                <a:gridCol w="2509560"/>
                <a:gridCol w="3084840"/>
                <a:gridCol w="27111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00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00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issing case(s)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5639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About 1/6 of the respondents score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”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 in the self-rating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exerci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More than a half of the respondents at primary education level score “0” in the self-rating exercis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Male's self-rating is higher than that of fem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Respondents are less self-confident in IT proficiency,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especially for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 the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 elder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Education 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background plays an   important role in IT proficienc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NO significant improvement of IT proficiency in the 2001 &amp; 2002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Further Analysis: Satisfaction with Government’s IT Policie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4120" y="4495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99880" y="1755720"/>
          <a:ext cx="859968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755720"/>
                    <a:ext cx="859968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Self-Rating vs Satisfaction towards Government’s IT Polic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i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2720" y="5958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203)   (N=120)   (N=219)   (N=366)    (N=270)    (N=74)       (N=8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3760" y="1758960"/>
          <a:ext cx="8572320" cy="43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58960"/>
                    <a:ext cx="857232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12720" y="5958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70)        (N=222)      (N=313)     (N=302)     (N=169)    (N=248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808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Difference in Satisfaction towards Government’s IT Policies Among Various Age Groups</a:t>
            </a:r>
            <a:endParaRPr b="0" lang="en-US" sz="3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7360" y="1758960"/>
          <a:ext cx="855828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758960"/>
                    <a:ext cx="855828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0" y="3808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Difference in Satisfaction towards Government’s IT Policies Among Various Education Levels</a:t>
            </a:r>
            <a:endParaRPr b="0" lang="en-US" sz="3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720" y="5958000"/>
            <a:ext cx="64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     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349)                      (N=766)                      (N=316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Respondents with less IT proficiency, primary education level or in the elderly group may not know much about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Just more than 1/3 of IT proficient respondents are satisfied with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Just more than 1/3 of the young respondents are satisfied with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rnational Comparis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Mobile Phone on Life Quality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4920" y="1828800"/>
          <a:ext cx="8588160" cy="4641840"/>
        </p:xfrm>
        <a:graphic>
          <a:graphicData uri="http://schemas.openxmlformats.org/drawingml/2006/table">
            <a:tbl>
              <a:tblPr/>
              <a:tblGrid>
                <a:gridCol w="3798720"/>
                <a:gridCol w="2670120"/>
                <a:gridCol w="21193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PR / Kaiser / Kennedy Schoo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Nov 1999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31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Personal Technology Adoption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and Attitudes towards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Information Technology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5880" y="44956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 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Internet on Life Qualit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1523880"/>
          <a:ext cx="8610480" cy="4430880"/>
        </p:xfrm>
        <a:graphic>
          <a:graphicData uri="http://schemas.openxmlformats.org/drawingml/2006/table">
            <a:tbl>
              <a:tblPr/>
              <a:tblGrid>
                <a:gridCol w="3619440"/>
                <a:gridCol w="2781360"/>
                <a:gridCol w="220968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PR / Kaiser / Kennedy School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Nov 199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08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 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Internet on Life Qualit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1371600"/>
          <a:ext cx="8712360" cy="4506840"/>
        </p:xfrm>
        <a:graphic>
          <a:graphicData uri="http://schemas.openxmlformats.org/drawingml/2006/table">
            <a:tbl>
              <a:tblPr/>
              <a:tblGrid>
                <a:gridCol w="3746520"/>
                <a:gridCol w="2095560"/>
                <a:gridCol w="28702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allu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un 200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answ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*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42200" y="6172200"/>
            <a:ext cx="64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*Sub-sample included only those who had private email account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Commentary: IT and its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Social Impacts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4038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cial Impacts of Popularity of IT: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n USA Experien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equality in our society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Perceived effect on the gap between the rich and the poor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idened (45%)   No effect (39%)   Narrowed (11%)  DK (4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Government should help low-income group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57%)   No (40%)    DK (3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vailability of inform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Overload of informatio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24%)   No and enjoy (73%)   DK (3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Worry about unauthorized access to personal informatio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59%)   No( 40%)    DK (1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ccffff"/>
                </a:solidFill>
                <a:latin typeface="Times New Roman"/>
                <a:ea typeface="細明體"/>
              </a:rPr>
              <a:t>THANK YOU</a:t>
            </a:r>
            <a:br>
              <a:rPr sz="5000"/>
            </a:br>
            <a:br>
              <a:rPr sz="2400"/>
            </a:br>
            <a:r>
              <a:rPr b="0" i="1" lang="zh-TW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Findings soon available</a:t>
            </a:r>
            <a:br>
              <a:rPr sz="2400"/>
            </a:br>
            <a:r>
              <a:rPr b="0" i="1" lang="zh-TW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at http://hkupop.hku.hk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Possession of Ten Personal Technology Tools Among Hong Kong People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7800" y="1905120"/>
          <a:ext cx="860112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905120"/>
                    <a:ext cx="8601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Number of Tools Possessed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99880" y="1496880"/>
          <a:ext cx="8721720" cy="50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496880"/>
                    <a:ext cx="87217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413000"/>
          <a:ext cx="89377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377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lative Importance of Different Tools</a:t>
            </a: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verall Importance of IT to Hong Kong Peop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35080" y="1627200"/>
          <a:ext cx="880560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27200"/>
                    <a:ext cx="8805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ndy</cp:lastModifiedBy>
  <cp:lastPrinted>2001-04-04T10:00:24Z</cp:lastPrinted>
  <dcterms:modified xsi:type="dcterms:W3CDTF">2002-03-11T12:54:57Z</dcterms:modified>
  <cp:revision>443</cp:revision>
  <dc:subject/>
  <dc:title>無投影片標題</dc:title>
</cp:coreProperties>
</file>