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665-2FD3-46D5-81B1-973EBC64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8B5-1CB0-4513-9959-3CB0CA82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A95-C7E7-4F6C-A381-DB7181DB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19F-5C81-4CBB-832D-DDA12E20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335-02DF-47D3-8BAF-53509AD8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A06-6451-42A3-972C-1581997D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9A3-91AF-4466-9E63-1E9974B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304-C885-4C37-B89B-01487DCC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20C-DA8B-4EE2-8E3C-D6F60FB9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AC0-F1E8-42C1-9A10-BBA4955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C6B-7BA4-4D80-B119-CCA8195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90D-58C6-4B6E-8440-86EAA0BC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FCEE-427A-4A3F-9A2F-017911D15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1600200"/>
          <a:ext cx="11430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1143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38080" y="3200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bile Phones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s’ Self Perce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16765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The University of Hong 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Public Opinion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248520" y="2133720"/>
          <a:ext cx="22860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133720"/>
                    <a:ext cx="228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rominent Reason for Changing the Last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8000" y="1461960"/>
          <a:ext cx="8534160" cy="52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461960"/>
                    <a:ext cx="853416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rominent Factor for Choosing the Latest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1523880"/>
          <a:ext cx="8534520" cy="50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3452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Characteristics and Mobile Phone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22400" y="449568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sented by Dr Ivy L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9907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on between Consumer’s Characteristics, Perception of their Mobile Phone, and Situationa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3124080"/>
            <a:ext cx="5334120" cy="21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oci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Phon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457200"/>
            <a:ext cx="81536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lf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m I a sophisticated (high-class, charming) person? Is sophistication important to 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m I an exciting (spirited, exciting) person? Is being exciting important to 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971800"/>
            <a:ext cx="82296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lf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observe and control behavior and self-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ntrol of expressive behavior (e.g., I would probably make a good actor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ropensity to perform in social situation and attract attention to oneself (e.g., In a group of people I am rarely the center of attentio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isplaying what others expect one to display in social situations (e.g., I may deceive people by being friendly when I really dislike them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Does expressive behavior agree with internal attributes or situational cu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143000"/>
            <a:ext cx="815328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character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Sophistic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Exci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962520"/>
            <a:ext cx="82296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 characterist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Sophistic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Exci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5936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characte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651040"/>
            <a:ext cx="8076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lf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21932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phisticat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6.5 (15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1217520"/>
            <a:ext cx="2057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2.1 (18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3657600"/>
            <a:ext cx="40384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71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m I a sophisticated person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3.8 (17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s sophistication important to m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4.0 (19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657600"/>
            <a:ext cx="3809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71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m I an exciting perso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3.1 (18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s being exciting important to m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5.0 (20.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202680" cy="6899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202680" cy="6899400"/>
          </a:xfrm>
          <a:prstGeom prst="rect">
            <a:avLst/>
          </a:prstGeom>
          <a:solidFill>
            <a:srgbClr val="cce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49040" y="5848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7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64920" y="5516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6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6400" y="5848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5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2280" y="5516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4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2320" y="5848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3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8200" y="5516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14080" y="5848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1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15560" y="5516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616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9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87640" y="55166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8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352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7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03560" y="55166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6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944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35320" y="55166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4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3680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680" y="55166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236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25480" y="55166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15560" y="3128040"/>
            <a:ext cx="92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36080" y="763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36080" y="1411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6080" y="20606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54520" y="270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4520" y="3370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4520" y="40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54520" y="4667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9800" y="5213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13000" y="893880"/>
            <a:ext cx="46080" cy="4535280"/>
          </a:xfrm>
          <a:custGeom>
            <a:avLst/>
            <a:gdLst/>
            <a:ahLst/>
            <a:rect l="l" t="t" r="r" b="b"/>
            <a:pathLst>
              <a:path w="29" h="2857">
                <a:moveTo>
                  <a:pt x="0" y="0"/>
                </a:moveTo>
                <a:lnTo>
                  <a:pt x="29" y="0"/>
                </a:lnTo>
                <a:moveTo>
                  <a:pt x="0" y="408"/>
                </a:moveTo>
                <a:lnTo>
                  <a:pt x="29" y="408"/>
                </a:lnTo>
                <a:moveTo>
                  <a:pt x="0" y="816"/>
                </a:moveTo>
                <a:lnTo>
                  <a:pt x="29" y="816"/>
                </a:lnTo>
                <a:moveTo>
                  <a:pt x="0" y="1224"/>
                </a:moveTo>
                <a:lnTo>
                  <a:pt x="29" y="1224"/>
                </a:lnTo>
                <a:moveTo>
                  <a:pt x="0" y="1633"/>
                </a:moveTo>
                <a:lnTo>
                  <a:pt x="29" y="1633"/>
                </a:lnTo>
                <a:moveTo>
                  <a:pt x="0" y="2041"/>
                </a:moveTo>
                <a:lnTo>
                  <a:pt x="29" y="2041"/>
                </a:lnTo>
                <a:moveTo>
                  <a:pt x="0" y="2449"/>
                </a:moveTo>
                <a:lnTo>
                  <a:pt x="29" y="2449"/>
                </a:lnTo>
                <a:moveTo>
                  <a:pt x="0" y="2857"/>
                </a:moveTo>
                <a:lnTo>
                  <a:pt x="29" y="2857"/>
                </a:lnTo>
              </a:path>
            </a:pathLst>
          </a:custGeom>
          <a:noFill/>
          <a:ln w="46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5415120"/>
            <a:ext cx="6635880" cy="72720"/>
          </a:xfrm>
          <a:custGeom>
            <a:avLst/>
            <a:gdLst/>
            <a:ahLst/>
            <a:rect l="l" t="t" r="r" b="b"/>
            <a:pathLst>
              <a:path w="4180" h="46">
                <a:moveTo>
                  <a:pt x="4180" y="0"/>
                </a:moveTo>
                <a:lnTo>
                  <a:pt x="4180" y="46"/>
                </a:lnTo>
                <a:moveTo>
                  <a:pt x="3938" y="0"/>
                </a:moveTo>
                <a:lnTo>
                  <a:pt x="3938" y="46"/>
                </a:lnTo>
                <a:moveTo>
                  <a:pt x="3696" y="0"/>
                </a:moveTo>
                <a:lnTo>
                  <a:pt x="3696" y="46"/>
                </a:lnTo>
                <a:moveTo>
                  <a:pt x="3445" y="0"/>
                </a:moveTo>
                <a:lnTo>
                  <a:pt x="3445" y="46"/>
                </a:lnTo>
                <a:moveTo>
                  <a:pt x="3203" y="0"/>
                </a:moveTo>
                <a:lnTo>
                  <a:pt x="3203" y="46"/>
                </a:lnTo>
                <a:moveTo>
                  <a:pt x="2951" y="0"/>
                </a:moveTo>
                <a:lnTo>
                  <a:pt x="2951" y="46"/>
                </a:lnTo>
                <a:moveTo>
                  <a:pt x="2709" y="0"/>
                </a:moveTo>
                <a:lnTo>
                  <a:pt x="2709" y="46"/>
                </a:lnTo>
                <a:moveTo>
                  <a:pt x="2458" y="0"/>
                </a:moveTo>
                <a:lnTo>
                  <a:pt x="2458" y="46"/>
                </a:lnTo>
                <a:moveTo>
                  <a:pt x="2216" y="0"/>
                </a:moveTo>
                <a:lnTo>
                  <a:pt x="2216" y="46"/>
                </a:lnTo>
                <a:moveTo>
                  <a:pt x="1964" y="0"/>
                </a:moveTo>
                <a:lnTo>
                  <a:pt x="1964" y="46"/>
                </a:lnTo>
                <a:moveTo>
                  <a:pt x="1722" y="0"/>
                </a:moveTo>
                <a:lnTo>
                  <a:pt x="1722" y="46"/>
                </a:lnTo>
                <a:moveTo>
                  <a:pt x="1471" y="0"/>
                </a:moveTo>
                <a:lnTo>
                  <a:pt x="1471" y="46"/>
                </a:lnTo>
                <a:moveTo>
                  <a:pt x="1229" y="0"/>
                </a:moveTo>
                <a:lnTo>
                  <a:pt x="1229" y="46"/>
                </a:lnTo>
                <a:moveTo>
                  <a:pt x="977" y="0"/>
                </a:moveTo>
                <a:lnTo>
                  <a:pt x="977" y="46"/>
                </a:lnTo>
                <a:moveTo>
                  <a:pt x="735" y="0"/>
                </a:moveTo>
                <a:lnTo>
                  <a:pt x="735" y="46"/>
                </a:lnTo>
                <a:moveTo>
                  <a:pt x="484" y="0"/>
                </a:moveTo>
                <a:lnTo>
                  <a:pt x="484" y="46"/>
                </a:lnTo>
                <a:moveTo>
                  <a:pt x="242" y="0"/>
                </a:moveTo>
                <a:lnTo>
                  <a:pt x="242" y="46"/>
                </a:lnTo>
                <a:moveTo>
                  <a:pt x="0" y="0"/>
                </a:moveTo>
                <a:lnTo>
                  <a:pt x="0" y="46"/>
                </a:lnTo>
              </a:path>
            </a:pathLst>
          </a:custGeom>
          <a:noFill/>
          <a:ln w="46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59080" y="893880"/>
            <a:ext cx="7375320" cy="4535280"/>
          </a:xfrm>
          <a:prstGeom prst="rect">
            <a:avLst/>
          </a:prstGeom>
          <a:solidFill>
            <a:srgbClr val="cce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59080" y="893880"/>
            <a:ext cx="7375320" cy="4535280"/>
          </a:xfrm>
          <a:custGeom>
            <a:avLst/>
            <a:gdLst/>
            <a:ahLst/>
            <a:rect l="l" t="t" r="r" b="b"/>
            <a:pathLst>
              <a:path w="4646" h="2857">
                <a:moveTo>
                  <a:pt x="0" y="2857"/>
                </a:moveTo>
                <a:lnTo>
                  <a:pt x="4646" y="2857"/>
                </a:lnTo>
                <a:moveTo>
                  <a:pt x="4646" y="2857"/>
                </a:moveTo>
                <a:lnTo>
                  <a:pt x="4646" y="0"/>
                </a:lnTo>
                <a:moveTo>
                  <a:pt x="4646" y="0"/>
                </a:moveTo>
                <a:lnTo>
                  <a:pt x="0" y="0"/>
                </a:lnTo>
                <a:moveTo>
                  <a:pt x="0" y="0"/>
                </a:moveTo>
                <a:lnTo>
                  <a:pt x="0" y="28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96200" y="5400720"/>
            <a:ext cx="352440" cy="28440"/>
          </a:xfrm>
          <a:custGeom>
            <a:avLst/>
            <a:gdLst/>
            <a:ahLst/>
            <a:rect l="l" t="t" r="r" b="b"/>
            <a:pathLst>
              <a:path w="222" h="18">
                <a:moveTo>
                  <a:pt x="0" y="18"/>
                </a:moveTo>
                <a:lnTo>
                  <a:pt x="0" y="18"/>
                </a:lnTo>
                <a:lnTo>
                  <a:pt x="222" y="18"/>
                </a:lnTo>
                <a:lnTo>
                  <a:pt x="222" y="0"/>
                </a:lnTo>
                <a:lnTo>
                  <a:pt x="0" y="0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96240" y="5329080"/>
            <a:ext cx="368280" cy="100080"/>
          </a:xfrm>
          <a:custGeom>
            <a:avLst/>
            <a:gdLst/>
            <a:ahLst/>
            <a:rect l="l" t="t" r="r" b="b"/>
            <a:pathLst>
              <a:path w="232" h="63">
                <a:moveTo>
                  <a:pt x="0" y="63"/>
                </a:moveTo>
                <a:lnTo>
                  <a:pt x="0" y="63"/>
                </a:lnTo>
                <a:lnTo>
                  <a:pt x="232" y="63"/>
                </a:lnTo>
                <a:lnTo>
                  <a:pt x="232" y="0"/>
                </a:lnTo>
                <a:lnTo>
                  <a:pt x="0" y="0"/>
                </a:lnTo>
                <a:lnTo>
                  <a:pt x="0" y="63"/>
                </a:lnTo>
                <a:lnTo>
                  <a:pt x="0" y="6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12120" y="5357880"/>
            <a:ext cx="353880" cy="71280"/>
          </a:xfrm>
          <a:custGeom>
            <a:avLst/>
            <a:gdLst/>
            <a:ahLst/>
            <a:rect l="l" t="t" r="r" b="b"/>
            <a:pathLst>
              <a:path w="223" h="45">
                <a:moveTo>
                  <a:pt x="0" y="45"/>
                </a:moveTo>
                <a:lnTo>
                  <a:pt x="0" y="45"/>
                </a:lnTo>
                <a:lnTo>
                  <a:pt x="223" y="45"/>
                </a:lnTo>
                <a:lnTo>
                  <a:pt x="223" y="0"/>
                </a:lnTo>
                <a:lnTo>
                  <a:pt x="0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3600" y="5099040"/>
            <a:ext cx="368280" cy="330120"/>
          </a:xfrm>
          <a:custGeom>
            <a:avLst/>
            <a:gdLst/>
            <a:ahLst/>
            <a:rect l="l" t="t" r="r" b="b"/>
            <a:pathLst>
              <a:path w="232" h="208">
                <a:moveTo>
                  <a:pt x="0" y="208"/>
                </a:moveTo>
                <a:lnTo>
                  <a:pt x="0" y="208"/>
                </a:lnTo>
                <a:lnTo>
                  <a:pt x="232" y="208"/>
                </a:lnTo>
                <a:lnTo>
                  <a:pt x="232" y="0"/>
                </a:lnTo>
                <a:lnTo>
                  <a:pt x="0" y="0"/>
                </a:lnTo>
                <a:lnTo>
                  <a:pt x="0" y="208"/>
                </a:lnTo>
                <a:lnTo>
                  <a:pt x="0" y="20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29480" y="4651200"/>
            <a:ext cx="352440" cy="777960"/>
          </a:xfrm>
          <a:custGeom>
            <a:avLst/>
            <a:gdLst/>
            <a:ahLst/>
            <a:rect l="l" t="t" r="r" b="b"/>
            <a:pathLst>
              <a:path w="222" h="490">
                <a:moveTo>
                  <a:pt x="0" y="490"/>
                </a:moveTo>
                <a:lnTo>
                  <a:pt x="0" y="490"/>
                </a:lnTo>
                <a:lnTo>
                  <a:pt x="222" y="490"/>
                </a:lnTo>
                <a:lnTo>
                  <a:pt x="222" y="0"/>
                </a:lnTo>
                <a:lnTo>
                  <a:pt x="0" y="0"/>
                </a:lnTo>
                <a:lnTo>
                  <a:pt x="0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45360" y="4162320"/>
            <a:ext cx="352440" cy="1266840"/>
          </a:xfrm>
          <a:custGeom>
            <a:avLst/>
            <a:gdLst/>
            <a:ahLst/>
            <a:rect l="l" t="t" r="r" b="b"/>
            <a:pathLst>
              <a:path w="222" h="798">
                <a:moveTo>
                  <a:pt x="0" y="798"/>
                </a:moveTo>
                <a:lnTo>
                  <a:pt x="0" y="798"/>
                </a:lnTo>
                <a:lnTo>
                  <a:pt x="222" y="798"/>
                </a:lnTo>
                <a:lnTo>
                  <a:pt x="222" y="0"/>
                </a:lnTo>
                <a:lnTo>
                  <a:pt x="0" y="0"/>
                </a:lnTo>
                <a:lnTo>
                  <a:pt x="0" y="798"/>
                </a:lnTo>
                <a:lnTo>
                  <a:pt x="0" y="79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5040" y="3413160"/>
            <a:ext cx="354240" cy="2016000"/>
          </a:xfrm>
          <a:custGeom>
            <a:avLst/>
            <a:gdLst/>
            <a:ahLst/>
            <a:rect l="l" t="t" r="r" b="b"/>
            <a:pathLst>
              <a:path w="223" h="1270">
                <a:moveTo>
                  <a:pt x="0" y="1270"/>
                </a:moveTo>
                <a:lnTo>
                  <a:pt x="0" y="1270"/>
                </a:lnTo>
                <a:lnTo>
                  <a:pt x="223" y="1270"/>
                </a:lnTo>
                <a:lnTo>
                  <a:pt x="223" y="0"/>
                </a:lnTo>
                <a:lnTo>
                  <a:pt x="0" y="0"/>
                </a:lnTo>
                <a:lnTo>
                  <a:pt x="0" y="1270"/>
                </a:lnTo>
                <a:lnTo>
                  <a:pt x="0" y="127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0920" y="3067200"/>
            <a:ext cx="354240" cy="2361960"/>
          </a:xfrm>
          <a:custGeom>
            <a:avLst/>
            <a:gdLst/>
            <a:ahLst/>
            <a:rect l="l" t="t" r="r" b="b"/>
            <a:pathLst>
              <a:path w="223" h="1488">
                <a:moveTo>
                  <a:pt x="0" y="1488"/>
                </a:moveTo>
                <a:lnTo>
                  <a:pt x="0" y="1488"/>
                </a:lnTo>
                <a:lnTo>
                  <a:pt x="223" y="1488"/>
                </a:lnTo>
                <a:lnTo>
                  <a:pt x="223" y="0"/>
                </a:lnTo>
                <a:lnTo>
                  <a:pt x="0" y="0"/>
                </a:lnTo>
                <a:lnTo>
                  <a:pt x="0" y="1488"/>
                </a:lnTo>
                <a:lnTo>
                  <a:pt x="0" y="148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62400" y="2347920"/>
            <a:ext cx="352440" cy="3081240"/>
          </a:xfrm>
          <a:custGeom>
            <a:avLst/>
            <a:gdLst/>
            <a:ahLst/>
            <a:rect l="l" t="t" r="r" b="b"/>
            <a:pathLst>
              <a:path w="222" h="1941">
                <a:moveTo>
                  <a:pt x="0" y="1941"/>
                </a:moveTo>
                <a:lnTo>
                  <a:pt x="0" y="1941"/>
                </a:lnTo>
                <a:lnTo>
                  <a:pt x="222" y="1941"/>
                </a:lnTo>
                <a:lnTo>
                  <a:pt x="222" y="0"/>
                </a:lnTo>
                <a:lnTo>
                  <a:pt x="0" y="0"/>
                </a:lnTo>
                <a:lnTo>
                  <a:pt x="0" y="1941"/>
                </a:lnTo>
                <a:lnTo>
                  <a:pt x="0" y="1941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78280" y="2290680"/>
            <a:ext cx="352440" cy="3138480"/>
          </a:xfrm>
          <a:custGeom>
            <a:avLst/>
            <a:gdLst/>
            <a:ahLst/>
            <a:rect l="l" t="t" r="r" b="b"/>
            <a:pathLst>
              <a:path w="222" h="1977">
                <a:moveTo>
                  <a:pt x="0" y="1977"/>
                </a:moveTo>
                <a:lnTo>
                  <a:pt x="0" y="1977"/>
                </a:lnTo>
                <a:lnTo>
                  <a:pt x="222" y="1977"/>
                </a:lnTo>
                <a:lnTo>
                  <a:pt x="222" y="0"/>
                </a:lnTo>
                <a:lnTo>
                  <a:pt x="0" y="0"/>
                </a:lnTo>
                <a:lnTo>
                  <a:pt x="0" y="1977"/>
                </a:lnTo>
                <a:lnTo>
                  <a:pt x="0" y="197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8320" y="1252440"/>
            <a:ext cx="353880" cy="4176720"/>
          </a:xfrm>
          <a:custGeom>
            <a:avLst/>
            <a:gdLst/>
            <a:ahLst/>
            <a:rect l="l" t="t" r="r" b="b"/>
            <a:pathLst>
              <a:path w="223" h="2631">
                <a:moveTo>
                  <a:pt x="0" y="2631"/>
                </a:moveTo>
                <a:lnTo>
                  <a:pt x="0" y="2631"/>
                </a:lnTo>
                <a:lnTo>
                  <a:pt x="223" y="2631"/>
                </a:lnTo>
                <a:lnTo>
                  <a:pt x="223" y="0"/>
                </a:lnTo>
                <a:lnTo>
                  <a:pt x="0" y="0"/>
                </a:lnTo>
                <a:lnTo>
                  <a:pt x="0" y="2631"/>
                </a:lnTo>
                <a:lnTo>
                  <a:pt x="0" y="2631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4200" y="1987560"/>
            <a:ext cx="353880" cy="3441600"/>
          </a:xfrm>
          <a:custGeom>
            <a:avLst/>
            <a:gdLst/>
            <a:ahLst/>
            <a:rect l="l" t="t" r="r" b="b"/>
            <a:pathLst>
              <a:path w="223" h="2168">
                <a:moveTo>
                  <a:pt x="0" y="2168"/>
                </a:moveTo>
                <a:lnTo>
                  <a:pt x="0" y="2168"/>
                </a:lnTo>
                <a:lnTo>
                  <a:pt x="223" y="2168"/>
                </a:lnTo>
                <a:lnTo>
                  <a:pt x="223" y="0"/>
                </a:lnTo>
                <a:lnTo>
                  <a:pt x="0" y="0"/>
                </a:lnTo>
                <a:lnTo>
                  <a:pt x="0" y="2168"/>
                </a:lnTo>
                <a:lnTo>
                  <a:pt x="0" y="216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95680" y="2030400"/>
            <a:ext cx="352440" cy="3398760"/>
          </a:xfrm>
          <a:custGeom>
            <a:avLst/>
            <a:gdLst/>
            <a:ahLst/>
            <a:rect l="l" t="t" r="r" b="b"/>
            <a:pathLst>
              <a:path w="222" h="2141">
                <a:moveTo>
                  <a:pt x="0" y="2141"/>
                </a:moveTo>
                <a:lnTo>
                  <a:pt x="0" y="2141"/>
                </a:lnTo>
                <a:lnTo>
                  <a:pt x="222" y="2141"/>
                </a:lnTo>
                <a:lnTo>
                  <a:pt x="222" y="0"/>
                </a:lnTo>
                <a:lnTo>
                  <a:pt x="0" y="0"/>
                </a:lnTo>
                <a:lnTo>
                  <a:pt x="0" y="2141"/>
                </a:lnTo>
                <a:lnTo>
                  <a:pt x="0" y="2141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11560" y="2736720"/>
            <a:ext cx="352440" cy="2692440"/>
          </a:xfrm>
          <a:custGeom>
            <a:avLst/>
            <a:gdLst/>
            <a:ahLst/>
            <a:rect l="l" t="t" r="r" b="b"/>
            <a:pathLst>
              <a:path w="222" h="1696">
                <a:moveTo>
                  <a:pt x="0" y="1696"/>
                </a:moveTo>
                <a:lnTo>
                  <a:pt x="0" y="1696"/>
                </a:lnTo>
                <a:lnTo>
                  <a:pt x="222" y="1696"/>
                </a:lnTo>
                <a:lnTo>
                  <a:pt x="222" y="0"/>
                </a:lnTo>
                <a:lnTo>
                  <a:pt x="0" y="0"/>
                </a:lnTo>
                <a:lnTo>
                  <a:pt x="0" y="1696"/>
                </a:lnTo>
                <a:lnTo>
                  <a:pt x="0" y="169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1600" y="3514680"/>
            <a:ext cx="368280" cy="1914480"/>
          </a:xfrm>
          <a:custGeom>
            <a:avLst/>
            <a:gdLst/>
            <a:ahLst/>
            <a:rect l="l" t="t" r="r" b="b"/>
            <a:pathLst>
              <a:path w="232" h="1206">
                <a:moveTo>
                  <a:pt x="0" y="1206"/>
                </a:moveTo>
                <a:lnTo>
                  <a:pt x="0" y="1206"/>
                </a:lnTo>
                <a:lnTo>
                  <a:pt x="232" y="1206"/>
                </a:lnTo>
                <a:lnTo>
                  <a:pt x="232" y="0"/>
                </a:lnTo>
                <a:lnTo>
                  <a:pt x="0" y="0"/>
                </a:lnTo>
                <a:lnTo>
                  <a:pt x="0" y="1206"/>
                </a:lnTo>
                <a:lnTo>
                  <a:pt x="0" y="120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27120" y="3932280"/>
            <a:ext cx="354240" cy="1496880"/>
          </a:xfrm>
          <a:custGeom>
            <a:avLst/>
            <a:gdLst/>
            <a:ahLst/>
            <a:rect l="l" t="t" r="r" b="b"/>
            <a:pathLst>
              <a:path w="223" h="943">
                <a:moveTo>
                  <a:pt x="0" y="943"/>
                </a:moveTo>
                <a:lnTo>
                  <a:pt x="0" y="943"/>
                </a:lnTo>
                <a:lnTo>
                  <a:pt x="223" y="943"/>
                </a:lnTo>
                <a:lnTo>
                  <a:pt x="223" y="0"/>
                </a:lnTo>
                <a:lnTo>
                  <a:pt x="0" y="0"/>
                </a:lnTo>
                <a:lnTo>
                  <a:pt x="0" y="943"/>
                </a:lnTo>
                <a:lnTo>
                  <a:pt x="0" y="94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27160" y="4622760"/>
            <a:ext cx="370080" cy="806400"/>
          </a:xfrm>
          <a:custGeom>
            <a:avLst/>
            <a:gdLst/>
            <a:ahLst/>
            <a:rect l="l" t="t" r="r" b="b"/>
            <a:pathLst>
              <a:path w="233" h="508">
                <a:moveTo>
                  <a:pt x="0" y="508"/>
                </a:moveTo>
                <a:lnTo>
                  <a:pt x="0" y="508"/>
                </a:lnTo>
                <a:lnTo>
                  <a:pt x="233" y="508"/>
                </a:lnTo>
                <a:lnTo>
                  <a:pt x="233" y="0"/>
                </a:lnTo>
                <a:lnTo>
                  <a:pt x="0" y="0"/>
                </a:lnTo>
                <a:lnTo>
                  <a:pt x="0" y="508"/>
                </a:lnTo>
                <a:lnTo>
                  <a:pt x="0" y="50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44480" y="5329080"/>
            <a:ext cx="352440" cy="100080"/>
          </a:xfrm>
          <a:custGeom>
            <a:avLst/>
            <a:gdLst/>
            <a:ahLst/>
            <a:rect l="l" t="t" r="r" b="b"/>
            <a:pathLst>
              <a:path w="222" h="63">
                <a:moveTo>
                  <a:pt x="0" y="63"/>
                </a:moveTo>
                <a:lnTo>
                  <a:pt x="0" y="63"/>
                </a:lnTo>
                <a:lnTo>
                  <a:pt x="222" y="63"/>
                </a:lnTo>
                <a:lnTo>
                  <a:pt x="222" y="0"/>
                </a:lnTo>
                <a:lnTo>
                  <a:pt x="0" y="0"/>
                </a:lnTo>
                <a:lnTo>
                  <a:pt x="0" y="63"/>
                </a:lnTo>
                <a:lnTo>
                  <a:pt x="0" y="6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59080" y="893880"/>
            <a:ext cx="1440" cy="453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59080" y="5429160"/>
            <a:ext cx="7375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049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Scores on the Self-monitoring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1676520"/>
            <a:ext cx="190512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verage : 7.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: 0.10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90920" y="60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phone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05740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 sophis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Phone exc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495680"/>
            <a:ext cx="42670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am sophistica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ng sophisticated is impor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37339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am excit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ng exciting is impor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666880" y="12949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33760" y="12949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057400" y="25905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429000" y="25142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15000" y="25905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086600" y="25142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monitoring scores are related 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819520"/>
            <a:ext cx="6705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 – younger people tend to score hig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– males tend to score hig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mobile phone changed in the past 2 years – people who scored higher tend to have changed more ph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tline of 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of this study - Dr R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of mobile phone usage in Hong Kong - Dr R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 between consumer characteristics and mobile phone usage - Dr I L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after-market services - Dr R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990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between Self-Concept and Self-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666880"/>
            <a:ext cx="72392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between self-rating of sophistication and importance ratings   of sophistication is higher for low self-monitors than for high self-monit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between self-rating of excitement and importance ratings of excitement is higher for low self-monitors than for high self-moni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304920"/>
            <a:ext cx="5334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lf-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elf-monitors: scored top 2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self-monitors: scored bottom 2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057400"/>
            <a:ext cx="79250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Self-concept schema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/ Excitement schematics: giving above average sophistication/ excitement score and considered sophistication as having above average impor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/ Excitement aschematics: both self score and importance score below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4479840"/>
            <a:ext cx="7543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Phone schema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/ Excitement schematic: giving above average sophistication/ excitement score to their mobile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/ Excitement aschematic: giving below average sophistication/ excitement score to their mobile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160164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concept is related to perception of mobile pho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744640"/>
            <a:ext cx="77724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Sophistication schematics perceived their phone as more sophisticated than aschematics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72.1 vs. 59.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327560"/>
            <a:ext cx="77724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Excitement schematics perceived their phone as more exciting than aschematic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67.4 vs. 56.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1828800"/>
            <a:ext cx="6781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1601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monitoring is related to mobile phone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74464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self-monitors were more likely to select their mobile phone because the “brand and model was the most popular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7621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Characteristics, Phone Characteristics,          &amp; Situational Character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057400"/>
            <a:ext cx="76964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 schematics were 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likely than aschematics to use their mobile phone in a sophisticated situ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 a sophisticated situation, high self-monitors were more likely than low self-monitors to use their mobile phone if they perceived their mobile phone to be sophistica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 an exciting situation, usage likelihood was related to usage satisfaction for low self-monitors but not for high self-moni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fter being made aware of the excitement dimension of a situation, high self-monitors looked for a future mobile phone that was more exciting than sophistica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3880" y="213372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rehensive understanding of mobile phone preference  and usage requir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-dimensional appr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ncludes an understanding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al 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mand for After-market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480" y="426708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sented by Dr Robert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ing of the Old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78000" y="1527120"/>
          <a:ext cx="8534160" cy="50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27120"/>
                    <a:ext cx="853416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s to Tackle the Problem of Not Knowing How to Use Certain Functions of the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2760" y="1227240"/>
          <a:ext cx="8494560" cy="54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227240"/>
                    <a:ext cx="8494560" cy="54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Services/Solutions Provided by Different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35080" y="1604880"/>
          <a:ext cx="8532720" cy="491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604880"/>
                    <a:ext cx="85327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553080" y="1295280"/>
            <a:ext cx="1752840" cy="60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7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47</a:t>
            </a:r>
            <a:r>
              <a:rPr b="0" i="1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 of This Stu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cademic study on the psychological dimension of mobile phone users in Hong K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ed by a leading mobile phone supp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ly designed by the HKU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open for public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Services/Solutions Provided by Different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35080" y="1676520"/>
          <a:ext cx="85327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676520"/>
                    <a:ext cx="85327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553080" y="1295280"/>
            <a:ext cx="1752840" cy="86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72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73</a:t>
            </a:r>
            <a:r>
              <a:rPr b="0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ing of the Damaged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82760" y="1357200"/>
          <a:ext cx="8494560" cy="512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357200"/>
                    <a:ext cx="8494560" cy="51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Repair Service Ever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1676520"/>
          <a:ext cx="8586720" cy="49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8672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553080" y="1447920"/>
            <a:ext cx="182880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6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63</a:t>
            </a:r>
            <a:r>
              <a:rPr b="0" i="1" lang="en-US" sz="1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Repair Service Ever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676520"/>
          <a:ext cx="8586720" cy="49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8672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553080" y="1447920"/>
            <a:ext cx="182880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67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Awareness of After-Marke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280" y="1828800"/>
          <a:ext cx="866484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66484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12840" y="1604880"/>
          <a:ext cx="865188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604880"/>
                    <a:ext cx="8651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ived Importance of After-Marke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red Aspects of After-Marke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65040" y="1565280"/>
          <a:ext cx="8585280" cy="48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1565280"/>
                    <a:ext cx="858528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696080" y="4572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17524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細明體"/>
              </a:rPr>
              <a:t>END OF PRESEN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urv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to 20 May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g Kong residents aged 18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ve who speak Canto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survey with inter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535 successfu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tern of Mobile Phone Usage in Hong K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1840" y="419112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sented by Dr Robert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of Mobile Phone Used Most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422360"/>
          <a:ext cx="8673840" cy="48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22360"/>
                    <a:ext cx="86738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tion with the Mobile Pho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Most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1523880"/>
          <a:ext cx="8572680" cy="49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726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324480" y="2133720"/>
            <a:ext cx="1905120" cy="60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7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39</a:t>
            </a:r>
            <a:r>
              <a:rPr b="0" i="1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tion with the Mobile Pho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Most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1523880"/>
          <a:ext cx="8572680" cy="49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726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324480" y="2133720"/>
            <a:ext cx="19051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7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of Mobile Phones Changed Over the Last 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4920" y="1574640"/>
          <a:ext cx="8750160" cy="476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74640"/>
                    <a:ext cx="875016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019920" y="2590920"/>
            <a:ext cx="1828800" cy="60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48</a:t>
            </a:r>
            <a:r>
              <a:rPr b="0" i="1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7-24T10:51:50Z</cp:lastPrinted>
  <dcterms:modified xsi:type="dcterms:W3CDTF">2002-09-02T06:26:10Z</dcterms:modified>
  <cp:revision>271</cp:revision>
  <dc:subject/>
  <dc:title>無投影片標題</dc:title>
</cp:coreProperties>
</file>