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D72D2E-F02A-4837-9871-DDAA4642F04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8F0-08AA-4B1F-8150-CC235E91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380-FCC9-419C-8588-0B1874D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592-6360-470F-9F2C-26D6A159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FD1-413A-4B39-B2B7-C810D5AF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56A-D5FE-4ED8-8F17-05A4FAB4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AA2-B163-4D5A-B39C-E9604AB9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C69-B221-4107-B4BA-CEAC791C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84D-3EDF-4229-904C-364119D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FD6-351F-4D09-AEF2-1FD8A02E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2B0-E0D1-4F55-864C-CFF7029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0D2-DCB7-4300-8ABE-4FCA2808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6CC-5759-43A3-889F-B5939D8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23F7-9237-4AC9-B0A1-0970D5F0F06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香港在職人士關節健康調查</a:t>
            </a:r>
            <a:br>
              <a:rPr sz="44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調查結果簡報</a:t>
            </a:r>
            <a:br>
              <a:rPr sz="3600"/>
            </a:br>
            <a:br>
              <a:rPr sz="40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鍾庭耀博士</a:t>
            </a:r>
            <a:br>
              <a:rPr sz="3600"/>
            </a:br>
            <a:br>
              <a:rPr sz="2800"/>
            </a:br>
            <a:r>
              <a:rPr b="0" i="1" lang="zh-TW" sz="2800" spc="-1" strike="noStrike">
                <a:solidFill>
                  <a:srgbClr val="ffff99"/>
                </a:solidFill>
                <a:latin typeface="Times New Roman"/>
              </a:rPr>
              <a:t>2005</a:t>
            </a:r>
            <a:r>
              <a:rPr b="0" i="1" lang="zh-TW" sz="28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0" i="1" lang="zh-TW" sz="28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i="1" lang="zh-TW" sz="28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0" i="1" lang="zh-TW" sz="2800" spc="-1" strike="noStrike">
                <a:solidFill>
                  <a:srgbClr val="ffff99"/>
                </a:solidFill>
                <a:latin typeface="Times New Roman"/>
              </a:rPr>
              <a:t>22</a:t>
            </a:r>
            <a:r>
              <a:rPr b="0" i="1" lang="zh-TW" sz="2800" spc="-1" strike="noStrike">
                <a:solidFill>
                  <a:srgbClr val="ffff99"/>
                </a:solidFill>
                <a:latin typeface="Times New Roman"/>
              </a:rPr>
              <a:t>日</a:t>
            </a:r>
            <a:br>
              <a:rPr sz="32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219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762120"/>
          <a:ext cx="1828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1828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被訪者處理關節痛之方法</a:t>
            </a:r>
            <a:br>
              <a:rPr sz="4400"/>
            </a:b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（佔回答人數百分比，只問有關節痛症狀者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1676520"/>
          <a:ext cx="8591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591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31520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= 3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結果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約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80%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在職人士有不同程度的關節痛</a:t>
            </a:r>
            <a:r>
              <a:rPr b="1" lang="zh-TW" sz="3000" spc="-1" strike="noStrike">
                <a:solidFill>
                  <a:srgbClr val="ccffff"/>
                </a:solidFill>
                <a:latin typeface="Times New Roman"/>
              </a:rPr>
              <a:t>症狀</a:t>
            </a:r>
            <a:r>
              <a:rPr b="1" lang="zh-TW" sz="30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最常見的症狀為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痠痛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72%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最常感到關節痛的部位為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膝蓋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40%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關節痛於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春季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略</a:t>
            </a:r>
            <a:r>
              <a:rPr b="1" lang="zh-TW" sz="3000" spc="-1" strike="noStrike">
                <a:solidFill>
                  <a:srgbClr val="ccffff"/>
                </a:solidFill>
                <a:latin typeface="Times New Roman"/>
              </a:rPr>
              <a:t>為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嚴重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13%)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，但亦有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52%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表示四季沒有分別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46%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認為其關節痛乃受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工作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影響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最多人會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搽藥酒／藥膏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以舒緩關節痛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42%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被訪者個人背景資料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性別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371600" y="1447920"/>
            <a:ext cx="11887200" cy="4724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-1600200" y="1447920"/>
          <a:ext cx="1188720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447920"/>
                    <a:ext cx="118872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47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教育程度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-2362320" y="1523880"/>
          <a:ext cx="1333512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62320" y="1523880"/>
                    <a:ext cx="133351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職業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-2819520" y="1523880"/>
          <a:ext cx="139446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19520" y="1523880"/>
                    <a:ext cx="13944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48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調查方法及樣本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新細明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被訪者關節痛的症狀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被訪者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經常</a:t>
            </a: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感到關節痛之部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關節痛與季節的關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被訪者認為造成關節痛的原因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被訪者處理關節痛之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被訪者個人背景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調查方法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訪問日期：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2004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11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26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至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29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日 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訪問對象：</a:t>
            </a:r>
            <a:r>
              <a:rPr b="1" lang="zh-TW" sz="2700" spc="-1" strike="noStrike">
                <a:solidFill>
                  <a:srgbClr val="ccffff"/>
                </a:solidFill>
                <a:latin typeface="新細明體"/>
              </a:rPr>
              <a:t>年齡介乎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35-50</a:t>
            </a:r>
            <a:r>
              <a:rPr b="1" lang="zh-TW" sz="2700" spc="-1" strike="noStrike">
                <a:solidFill>
                  <a:srgbClr val="ccffff"/>
                </a:solidFill>
                <a:latin typeface="新細明體"/>
              </a:rPr>
              <a:t>歲、操粵語的本地在職人士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調查方法：由訪問員直接進行電話訪問 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樣本數目：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506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個成功個案 </a:t>
            </a:r>
            <a:r>
              <a:rPr b="1" lang="zh-TW" sz="2700" spc="-1" strike="noStrike">
                <a:solidFill>
                  <a:srgbClr val="ccffff"/>
                </a:solidFill>
                <a:latin typeface="新細明體"/>
              </a:rPr>
              <a:t>，男、女樣本各佔一半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回應比率：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81.5% 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（以目標訪問對象計算） 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抽樣誤差：少於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</a:rPr>
              <a:t>2.2% 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調查結果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被訪者關節痛的症狀</a:t>
            </a:r>
            <a:br>
              <a:rPr sz="4800"/>
            </a:b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（佔回答人數百分比，所有被訪者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133720"/>
          <a:ext cx="899172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991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31520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被訪者經常感到關節痛之部位</a:t>
            </a:r>
            <a:br>
              <a:rPr sz="4200"/>
            </a:b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（佔回答人數百分比，只問有關節痛症狀者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2057400"/>
          <a:ext cx="883908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88390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791320" y="6172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= 39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關節痛與季節的關係</a:t>
            </a:r>
            <a:r>
              <a:rPr b="1" lang="zh-TW" sz="48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（佔回答人數百分比，只問有關節痛症狀者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1295280" y="1828800"/>
          <a:ext cx="1104876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828800"/>
                    <a:ext cx="11048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被訪者認為造成其關節痛的原因</a:t>
            </a:r>
            <a:br>
              <a:rPr sz="4400"/>
            </a:br>
            <a:br>
              <a:rPr sz="1400"/>
            </a:b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2800" spc="-1" strike="noStrike">
                <a:solidFill>
                  <a:srgbClr val="ffff99"/>
                </a:solidFill>
                <a:latin typeface="細明體"/>
                <a:ea typeface="細明體"/>
              </a:rPr>
              <a:t>佔回答人數百分比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，只問有關節痛症狀者</a:t>
            </a:r>
            <a:r>
              <a:rPr b="1" lang="zh-TW" sz="2800" spc="-1" strike="noStrike">
                <a:solidFill>
                  <a:srgbClr val="ffff99"/>
                </a:solidFill>
                <a:latin typeface="細明體"/>
                <a:ea typeface="細明體"/>
              </a:rPr>
              <a:t>）</a:t>
            </a:r>
            <a:r>
              <a:rPr b="0" lang="zh-TW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0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600200"/>
          <a:ext cx="891540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915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391520" y="6248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39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5-02-21T12:08:32Z</dcterms:modified>
  <cp:revision>730</cp:revision>
  <dc:subject/>
  <dc:title>無投影片標題</dc:title>
</cp:coreProperties>
</file>