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CBE-26E5-4612-8601-63519195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28A-9FEE-41C6-BF00-467E75AB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8ED-BF31-4E84-BF61-7C35447B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688-BBC3-4D7A-A02F-5061DAED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D2E-F561-4219-AA62-20D29DD9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AE1-C292-445E-9AC9-1502E83F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528-97C2-41FE-9630-CD251909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D4F-2865-4931-B76F-37C32BB3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1B1-83A9-48B4-9A05-5B6C5ED5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2E4-5160-4BDA-A808-E196347C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10C-7595-4652-9B25-BF74D2A0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03F-533D-4DE8-AD94-5E0257D8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BE57-B601-4C30-9C7D-3C5C63E098B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IT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檔案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III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之</a:t>
            </a:r>
            <a:br>
              <a:rPr sz="3200"/>
            </a:br>
            <a:br>
              <a:rPr sz="800"/>
            </a:b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香港中小企與內地商貿電子化意見調查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8380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 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685800"/>
          <a:ext cx="13906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390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181480" y="5029200"/>
            <a:ext cx="281952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003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6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結果簡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343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52280" y="1778040"/>
          <a:ext cx="861084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78040"/>
                    <a:ext cx="861084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中港兩地於商業應用上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運用資訊科技的成熟程度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7920" y="2209680"/>
          <a:ext cx="2286000" cy="1096920"/>
        </p:xfrm>
        <a:graphic>
          <a:graphicData uri="http://schemas.openxmlformats.org/drawingml/2006/table">
            <a:tbl>
              <a:tblPr/>
              <a:tblGrid>
                <a:gridCol w="941400"/>
                <a:gridCol w="645840"/>
                <a:gridCol w="698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內地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平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0.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.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7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8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3808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現階段於營商方面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較內地優勝之處（除資訊科技外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371600"/>
          <a:ext cx="8001000" cy="4948200"/>
        </p:xfrm>
        <a:graphic>
          <a:graphicData uri="http://schemas.openxmlformats.org/drawingml/2006/table">
            <a:tbl>
              <a:tblPr/>
              <a:tblGrid>
                <a:gridCol w="4038840"/>
                <a:gridCol w="685800"/>
                <a:gridCol w="1752480"/>
                <a:gridCol w="152388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頻數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佔答案總數百分比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（基數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42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）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佔總樣本百分比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（基數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03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）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開放貿易政策╱自由市場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大量管理人材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營商、會計同法律方面係國際上都享有兼容性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人生產力高╱效率高╱有責任感╱勤力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資訊發達、通訊方便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人英語水平高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處於亞太區既有利位置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9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營商經驗豐富、信譽良好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銀行╱金融體制完善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其他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沒有優勢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.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╱難講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.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.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合計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4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香港保持其區內競爭力的最重要因素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4720" y="1833480"/>
          <a:ext cx="806796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833480"/>
                    <a:ext cx="806796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90720" y="14479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905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就資訊科技於商業應用的成熟程度方面，香港得分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70.2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，內地得分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55.0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，兩地相差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15.2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分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在沒有提示下，企業認為香港的優勢主要是「開放貿易政策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╱自由市場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」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19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及「大量管理人材 」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(17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；不過，亦有六分一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17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表示香港並無優勝之處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分別有三成四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34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及三成一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31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企業認為「獨立、可靠的法律制度 」及「國際化營商環境 」對香港保持其區內競爭力最為重要 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21932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3808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21337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Times New Roman"/>
                <a:ea typeface="細明體"/>
              </a:rPr>
              <a:t>報告完畢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Times New Roman"/>
                <a:ea typeface="細明體"/>
              </a:rPr>
              <a:t>謝謝 </a:t>
            </a:r>
            <a:r>
              <a:rPr b="1" lang="zh-TW" sz="5400" spc="-1" strike="noStrike">
                <a:solidFill>
                  <a:srgbClr val="ffff99"/>
                </a:solidFill>
                <a:latin typeface="Times New Roman"/>
                <a:ea typeface="細明體"/>
              </a:rPr>
              <a:t>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572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752480"/>
            <a:ext cx="7086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訪問日期： 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2003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30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日 至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7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日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訪問對象：  與內地有業務往來的本地中小型企業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                  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（中小企業定義：本地員工人數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50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人以下的公司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      製造業公司則為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100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人以下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調查方法：  由訪問員直接進行電話訪問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樣本數目： 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503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個成功個案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回應比率： 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86.8%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（以目標訪問對象計算）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抽樣誤差：  少於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2.2%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管理內部運作 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人事、會計等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)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的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8080" y="1981080"/>
          <a:ext cx="7848720" cy="43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84872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838080" y="16002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1219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685800" y="137160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137160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使用「電子銀行服務」或「電子報關」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管理公司營運資金的情況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5105520"/>
          <a:ext cx="2971440" cy="1033200"/>
        </p:xfrm>
        <a:graphic>
          <a:graphicData uri="http://schemas.openxmlformats.org/drawingml/2006/table">
            <a:tbl>
              <a:tblPr/>
              <a:tblGrid>
                <a:gridCol w="1845360"/>
                <a:gridCol w="112608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有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無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╱唔清楚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運用資訊科技於業務拓展及市場推廣方面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9040" y="1212840"/>
          <a:ext cx="821052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212840"/>
                    <a:ext cx="82105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105520" y="5181480"/>
          <a:ext cx="3352680" cy="1028880"/>
        </p:xfrm>
        <a:graphic>
          <a:graphicData uri="http://schemas.openxmlformats.org/drawingml/2006/table">
            <a:tbl>
              <a:tblPr/>
              <a:tblGrid>
                <a:gridCol w="1805040"/>
                <a:gridCol w="154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有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無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╱唔清楚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838080" y="13716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990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1285920"/>
          <a:ext cx="800100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85920"/>
                    <a:ext cx="80010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運用資訊科技於客戶接觸方面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343400" y="5105520"/>
          <a:ext cx="3962160" cy="1033200"/>
        </p:xfrm>
        <a:graphic>
          <a:graphicData uri="http://schemas.openxmlformats.org/drawingml/2006/table">
            <a:tbl>
              <a:tblPr/>
              <a:tblGrid>
                <a:gridCol w="2460240"/>
                <a:gridCol w="1501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有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無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╱唔清楚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762120" y="14479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處理中港兩地業務的主要溝通模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828800"/>
          <a:ext cx="787068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87068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62120" y="14479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中港兩地業務以電腦聯線的情況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（不包括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170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間表示沒有於內地設廠或辦公室的企業）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2209680"/>
          <a:ext cx="787068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87068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33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981080"/>
            <a:ext cx="68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超過五成半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57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企業以電腦管理內部運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五成七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57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有採用「電子銀行服務」或「電子報關」管理公司的營運資金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八成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80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有運用資訊科技處理業務拓展及市場推廣工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逾七成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72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有運用資訊科技處理客戶接觸事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企業處理中港兩地業務的溝通模式主要為電話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51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，其次為電腦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30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及傳真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11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超過三成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31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有設廠或辦公室於內地的企業表示其中港兩地業務已透過電腦聯線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21932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3-02-26T03:26:19Z</dcterms:modified>
  <cp:revision>760</cp:revision>
  <dc:subject/>
  <dc:title>無投影片標題</dc:title>
</cp:coreProperties>
</file>