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13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448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580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448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580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448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580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448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580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80880"/>
            <a:ext cx="4572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G Omega"/>
                <a:ea typeface="PMingLiU"/>
              </a:rPr>
              <a:t>ECONOMIC DOWN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45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G Omega"/>
                <a:ea typeface="PMingLiU"/>
              </a:rPr>
              <a:t>S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29200"/>
            <a:ext cx="9144000" cy="477720"/>
          </a:xfrm>
          <a:prstGeom prst="rect">
            <a:avLst/>
          </a:prstGeom>
          <a:solidFill>
            <a:srgbClr val="d9f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9907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Omega"/>
                <a:ea typeface="PMingLiU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G Omega"/>
                <a:ea typeface="PMingLiU"/>
              </a:rPr>
              <a:t>Changing Eating Habits Of The White-Collars - Under Economic Stress and SA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2895480"/>
            <a:ext cx="9144000" cy="2362320"/>
            <a:chOff x="0" y="2895480"/>
            <a:chExt cx="9144000" cy="2362320"/>
          </a:xfrm>
        </p:grpSpPr>
        <p:sp>
          <p:nvSpPr>
            <p:cNvPr id="81" name=""/>
            <p:cNvSpPr/>
            <p:nvPr/>
          </p:nvSpPr>
          <p:spPr>
            <a:xfrm>
              <a:off x="0" y="2895480"/>
              <a:ext cx="914400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320" y="2971800"/>
              <a:ext cx="4799880" cy="76320"/>
              <a:chOff x="76320" y="2971800"/>
              <a:chExt cx="4799880" cy="7632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2514600" y="2971800"/>
                <a:ext cx="2361600" cy="76320"/>
                <a:chOff x="2514600" y="2971800"/>
                <a:chExt cx="2361600" cy="763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2514600" y="2971800"/>
                  <a:ext cx="1142640" cy="76320"/>
                  <a:chOff x="2514600" y="2971800"/>
                  <a:chExt cx="1142640" cy="76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2514600" y="2971800"/>
                    <a:ext cx="533160" cy="76320"/>
                    <a:chOff x="2514600" y="2971800"/>
                    <a:chExt cx="533160" cy="76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2514600" y="2971800"/>
                      <a:ext cx="228600" cy="76320"/>
                      <a:chOff x="2514600" y="2971800"/>
                      <a:chExt cx="228600" cy="76320"/>
                    </a:xfrm>
                  </p:grpSpPr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25146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6668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9" name=""/>
                    <p:cNvGrpSpPr/>
                    <p:nvPr/>
                  </p:nvGrpSpPr>
                  <p:grpSpPr>
                    <a:xfrm>
                      <a:off x="2819160" y="2971800"/>
                      <a:ext cx="228600" cy="76320"/>
                      <a:chOff x="2819160" y="2971800"/>
                      <a:chExt cx="228600" cy="76320"/>
                    </a:xfrm>
                  </p:grpSpPr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28191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9714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3124080" y="2971800"/>
                    <a:ext cx="533160" cy="76320"/>
                    <a:chOff x="3124080" y="2971800"/>
                    <a:chExt cx="533160" cy="76320"/>
                  </a:xfrm>
                </p:grpSpPr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3124080" y="2971800"/>
                      <a:ext cx="228600" cy="76320"/>
                      <a:chOff x="3124080" y="2971800"/>
                      <a:chExt cx="228600" cy="76320"/>
                    </a:xfrm>
                  </p:grpSpPr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31240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32763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" name=""/>
                    <p:cNvGrpSpPr/>
                    <p:nvPr/>
                  </p:nvGrpSpPr>
                  <p:grpSpPr>
                    <a:xfrm>
                      <a:off x="3428640" y="2971800"/>
                      <a:ext cx="228600" cy="76320"/>
                      <a:chOff x="3428640" y="2971800"/>
                      <a:chExt cx="228600" cy="76320"/>
                    </a:xfrm>
                  </p:grpSpPr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4286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35809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733560" y="2971800"/>
                  <a:ext cx="1142640" cy="76320"/>
                  <a:chOff x="3733560" y="2971800"/>
                  <a:chExt cx="1142640" cy="763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3733560" y="2971800"/>
                    <a:ext cx="533160" cy="76320"/>
                    <a:chOff x="3733560" y="2971800"/>
                    <a:chExt cx="533160" cy="76320"/>
                  </a:xfrm>
                </p:grpSpPr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3733560" y="2971800"/>
                      <a:ext cx="228600" cy="76320"/>
                      <a:chOff x="3733560" y="2971800"/>
                      <a:chExt cx="228600" cy="763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37335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38858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4038120" y="2971800"/>
                      <a:ext cx="228600" cy="76320"/>
                      <a:chOff x="4038120" y="2971800"/>
                      <a:chExt cx="228600" cy="763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0381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1904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4343040" y="2971800"/>
                    <a:ext cx="533160" cy="76320"/>
                    <a:chOff x="4343040" y="2971800"/>
                    <a:chExt cx="533160" cy="7632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4343040" y="2971800"/>
                      <a:ext cx="228600" cy="76320"/>
                      <a:chOff x="4343040" y="2971800"/>
                      <a:chExt cx="228600" cy="7632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43430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4953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4647600" y="2971800"/>
                      <a:ext cx="228600" cy="76320"/>
                      <a:chOff x="4647600" y="2971800"/>
                      <a:chExt cx="228600" cy="7632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6476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7998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76320" y="2971800"/>
                <a:ext cx="2361600" cy="76320"/>
                <a:chOff x="76320" y="2971800"/>
                <a:chExt cx="2361600" cy="7632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76320" y="2971800"/>
                  <a:ext cx="1142640" cy="76320"/>
                  <a:chOff x="76320" y="2971800"/>
                  <a:chExt cx="1142640" cy="76320"/>
                </a:xfrm>
              </p:grpSpPr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76320" y="2971800"/>
                    <a:ext cx="533160" cy="76320"/>
                    <a:chOff x="76320" y="2971800"/>
                    <a:chExt cx="533160" cy="76320"/>
                  </a:xfrm>
                </p:grpSpPr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6320" y="2971800"/>
                      <a:ext cx="228600" cy="76320"/>
                      <a:chOff x="76320" y="2971800"/>
                      <a:chExt cx="228600" cy="7632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763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2286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0" name=""/>
                    <p:cNvGrpSpPr/>
                    <p:nvPr/>
                  </p:nvGrpSpPr>
                  <p:grpSpPr>
                    <a:xfrm>
                      <a:off x="380880" y="2971800"/>
                      <a:ext cx="228600" cy="76320"/>
                      <a:chOff x="380880" y="2971800"/>
                      <a:chExt cx="228600" cy="76320"/>
                    </a:xfrm>
                  </p:grpSpPr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808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5331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85800" y="2971800"/>
                    <a:ext cx="533160" cy="76320"/>
                    <a:chOff x="685800" y="2971800"/>
                    <a:chExt cx="533160" cy="76320"/>
                  </a:xfrm>
                </p:grpSpPr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85800" y="2971800"/>
                      <a:ext cx="228600" cy="76320"/>
                      <a:chOff x="685800" y="2971800"/>
                      <a:chExt cx="228600" cy="76320"/>
                    </a:xfrm>
                  </p:grpSpPr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6858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8380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" name=""/>
                    <p:cNvGrpSpPr/>
                    <p:nvPr/>
                  </p:nvGrpSpPr>
                  <p:grpSpPr>
                    <a:xfrm>
                      <a:off x="990360" y="2971800"/>
                      <a:ext cx="228600" cy="76320"/>
                      <a:chOff x="990360" y="2971800"/>
                      <a:chExt cx="228600" cy="76320"/>
                    </a:xfrm>
                  </p:grpSpPr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9903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11426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1295280" y="2971800"/>
                  <a:ext cx="1142640" cy="76320"/>
                  <a:chOff x="1295280" y="2971800"/>
                  <a:chExt cx="1142640" cy="7632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295280" y="2971800"/>
                    <a:ext cx="533160" cy="76320"/>
                    <a:chOff x="1295280" y="2971800"/>
                    <a:chExt cx="533160" cy="7632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1295280" y="2971800"/>
                      <a:ext cx="228600" cy="76320"/>
                      <a:chOff x="1295280" y="2971800"/>
                      <a:chExt cx="228600" cy="76320"/>
                    </a:xfrm>
                  </p:grpSpPr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2952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14475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1599840" y="2971800"/>
                      <a:ext cx="228600" cy="76320"/>
                      <a:chOff x="1599840" y="2971800"/>
                      <a:chExt cx="228600" cy="7632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5998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17521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904760" y="2971800"/>
                    <a:ext cx="533160" cy="76320"/>
                    <a:chOff x="1904760" y="2971800"/>
                    <a:chExt cx="533160" cy="7632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904760" y="2971800"/>
                      <a:ext cx="228600" cy="76320"/>
                      <a:chOff x="1904760" y="2971800"/>
                      <a:chExt cx="228600" cy="763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9047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0570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2209320" y="2971800"/>
                      <a:ext cx="228600" cy="76320"/>
                      <a:chOff x="2209320" y="2971800"/>
                      <a:chExt cx="228600" cy="763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2093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3616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45" name=""/>
            <p:cNvGrpSpPr/>
            <p:nvPr/>
          </p:nvGrpSpPr>
          <p:grpSpPr>
            <a:xfrm>
              <a:off x="6781680" y="2971800"/>
              <a:ext cx="2361600" cy="76320"/>
              <a:chOff x="6781680" y="2971800"/>
              <a:chExt cx="2361600" cy="763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6781680" y="2971800"/>
                <a:ext cx="1142640" cy="76320"/>
                <a:chOff x="6781680" y="2971800"/>
                <a:chExt cx="1142640" cy="763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6781680" y="2971800"/>
                  <a:ext cx="533160" cy="76320"/>
                  <a:chOff x="6781680" y="2971800"/>
                  <a:chExt cx="533160" cy="763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781680" y="2971800"/>
                    <a:ext cx="228600" cy="76320"/>
                    <a:chOff x="6781680" y="2971800"/>
                    <a:chExt cx="228600" cy="763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78168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396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086240" y="2971800"/>
                    <a:ext cx="228600" cy="76320"/>
                    <a:chOff x="7086240" y="2971800"/>
                    <a:chExt cx="228600" cy="7632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08624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23852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391160" y="2971800"/>
                  <a:ext cx="533160" cy="76320"/>
                  <a:chOff x="7391160" y="2971800"/>
                  <a:chExt cx="533160" cy="763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391160" y="2971800"/>
                    <a:ext cx="228600" cy="76320"/>
                    <a:chOff x="7391160" y="2971800"/>
                    <a:chExt cx="228600" cy="7632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739116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54344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7695720" y="2971800"/>
                    <a:ext cx="228600" cy="76320"/>
                    <a:chOff x="7695720" y="2971800"/>
                    <a:chExt cx="228600" cy="7632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69572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84800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1" name=""/>
              <p:cNvGrpSpPr/>
              <p:nvPr/>
            </p:nvGrpSpPr>
            <p:grpSpPr>
              <a:xfrm>
                <a:off x="8000640" y="2971800"/>
                <a:ext cx="1142640" cy="76320"/>
                <a:chOff x="8000640" y="2971800"/>
                <a:chExt cx="1142640" cy="763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8000640" y="2971800"/>
                  <a:ext cx="533160" cy="76320"/>
                  <a:chOff x="8000640" y="2971800"/>
                  <a:chExt cx="533160" cy="7632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8000640" y="2971800"/>
                    <a:ext cx="228600" cy="76320"/>
                    <a:chOff x="8000640" y="2971800"/>
                    <a:chExt cx="228600" cy="763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00064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815292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8305200" y="2971800"/>
                    <a:ext cx="228600" cy="76320"/>
                    <a:chOff x="8305200" y="2971800"/>
                    <a:chExt cx="228600" cy="7632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0520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845748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8610120" y="2971800"/>
                  <a:ext cx="533160" cy="76320"/>
                  <a:chOff x="8610120" y="2971800"/>
                  <a:chExt cx="533160" cy="7632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8610120" y="2971800"/>
                    <a:ext cx="228600" cy="76320"/>
                    <a:chOff x="8610120" y="2971800"/>
                    <a:chExt cx="228600" cy="7632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861012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76240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8914680" y="2971800"/>
                    <a:ext cx="228600" cy="76320"/>
                    <a:chOff x="8914680" y="2971800"/>
                    <a:chExt cx="228600" cy="7632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91468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906696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6" name=""/>
            <p:cNvGrpSpPr/>
            <p:nvPr/>
          </p:nvGrpSpPr>
          <p:grpSpPr>
            <a:xfrm>
              <a:off x="4952880" y="2971800"/>
              <a:ext cx="533160" cy="76320"/>
              <a:chOff x="4952880" y="2971800"/>
              <a:chExt cx="533160" cy="76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952880" y="2971800"/>
                <a:ext cx="228600" cy="76320"/>
                <a:chOff x="4952880" y="2971800"/>
                <a:chExt cx="228600" cy="76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952880" y="29718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105160" y="29718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257440" y="2971800"/>
                <a:ext cx="228600" cy="76320"/>
                <a:chOff x="5257440" y="2971800"/>
                <a:chExt cx="228600" cy="76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257440" y="29718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409720" y="29718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5562720" y="2971800"/>
              <a:ext cx="1142640" cy="76320"/>
              <a:chOff x="5562720" y="2971800"/>
              <a:chExt cx="1142640" cy="763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562720" y="2971800"/>
                <a:ext cx="533160" cy="76320"/>
                <a:chOff x="5562720" y="2971800"/>
                <a:chExt cx="533160" cy="7632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5562720" y="2971800"/>
                  <a:ext cx="228600" cy="76320"/>
                  <a:chOff x="5562720" y="2971800"/>
                  <a:chExt cx="228600" cy="763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56272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71500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867280" y="2971800"/>
                  <a:ext cx="228600" cy="76320"/>
                  <a:chOff x="5867280" y="2971800"/>
                  <a:chExt cx="228600" cy="763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86728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01956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6172200" y="2971800"/>
                <a:ext cx="533160" cy="76320"/>
                <a:chOff x="6172200" y="2971800"/>
                <a:chExt cx="533160" cy="7632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6172200" y="2971800"/>
                  <a:ext cx="228600" cy="76320"/>
                  <a:chOff x="6172200" y="2971800"/>
                  <a:chExt cx="228600" cy="763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617220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32448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476760" y="2971800"/>
                  <a:ext cx="228600" cy="76320"/>
                  <a:chOff x="6476760" y="2971800"/>
                  <a:chExt cx="228600" cy="763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47676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62904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0" y="5105520"/>
              <a:ext cx="4799880" cy="75960"/>
              <a:chOff x="0" y="5105520"/>
              <a:chExt cx="4799880" cy="759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2438280" y="5105520"/>
                <a:ext cx="2361600" cy="75960"/>
                <a:chOff x="2438280" y="5105520"/>
                <a:chExt cx="2361600" cy="75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438280" y="5105520"/>
                  <a:ext cx="1142640" cy="75960"/>
                  <a:chOff x="2438280" y="5105520"/>
                  <a:chExt cx="1142640" cy="7596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2438280" y="5105520"/>
                    <a:ext cx="533160" cy="75960"/>
                    <a:chOff x="2438280" y="5105520"/>
                    <a:chExt cx="533160" cy="7596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2438280" y="5105520"/>
                      <a:ext cx="228600" cy="75960"/>
                      <a:chOff x="2438280" y="5105520"/>
                      <a:chExt cx="228600" cy="75960"/>
                    </a:xfrm>
                  </p:grpSpPr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24382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5905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2742840" y="5105520"/>
                      <a:ext cx="228600" cy="75960"/>
                      <a:chOff x="2742840" y="5105520"/>
                      <a:chExt cx="228600" cy="75960"/>
                    </a:xfrm>
                  </p:grpSpPr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27428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8951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3047760" y="5105520"/>
                    <a:ext cx="533160" cy="75960"/>
                    <a:chOff x="3047760" y="5105520"/>
                    <a:chExt cx="533160" cy="75960"/>
                  </a:xfrm>
                </p:grpSpPr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3047760" y="5105520"/>
                      <a:ext cx="228600" cy="75960"/>
                      <a:chOff x="3047760" y="5105520"/>
                      <a:chExt cx="228600" cy="7596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30477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32000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2" name=""/>
                    <p:cNvGrpSpPr/>
                    <p:nvPr/>
                  </p:nvGrpSpPr>
                  <p:grpSpPr>
                    <a:xfrm>
                      <a:off x="3352320" y="5105520"/>
                      <a:ext cx="228600" cy="75960"/>
                      <a:chOff x="3352320" y="5105520"/>
                      <a:chExt cx="228600" cy="75960"/>
                    </a:xfrm>
                  </p:grpSpPr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33523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35046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657240" y="5105520"/>
                  <a:ext cx="1142640" cy="75960"/>
                  <a:chOff x="3657240" y="5105520"/>
                  <a:chExt cx="1142640" cy="7596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657240" y="5105520"/>
                    <a:ext cx="533160" cy="75960"/>
                    <a:chOff x="3657240" y="5105520"/>
                    <a:chExt cx="533160" cy="75960"/>
                  </a:xfrm>
                </p:grpSpPr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57240" y="5105520"/>
                      <a:ext cx="228600" cy="75960"/>
                      <a:chOff x="3657240" y="5105520"/>
                      <a:chExt cx="228600" cy="759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36572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38095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3961800" y="5105520"/>
                      <a:ext cx="228600" cy="75960"/>
                      <a:chOff x="3961800" y="5105520"/>
                      <a:chExt cx="228600" cy="7596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396180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1140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4266720" y="5105520"/>
                    <a:ext cx="533160" cy="75960"/>
                    <a:chOff x="4266720" y="5105520"/>
                    <a:chExt cx="533160" cy="7596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266720" y="5105520"/>
                      <a:ext cx="228600" cy="75960"/>
                      <a:chOff x="4266720" y="5105520"/>
                      <a:chExt cx="228600" cy="75960"/>
                    </a:xfrm>
                  </p:grpSpPr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2667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44190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4571280" y="5105520"/>
                      <a:ext cx="228600" cy="75960"/>
                      <a:chOff x="4571280" y="5105520"/>
                      <a:chExt cx="228600" cy="7596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5712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7235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0" y="5105520"/>
                <a:ext cx="2361600" cy="75960"/>
                <a:chOff x="0" y="5105520"/>
                <a:chExt cx="2361600" cy="759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0" y="5105520"/>
                  <a:ext cx="1142640" cy="75960"/>
                  <a:chOff x="0" y="5105520"/>
                  <a:chExt cx="1142640" cy="75960"/>
                </a:xfrm>
              </p:grpSpPr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0" y="5105520"/>
                    <a:ext cx="533160" cy="75960"/>
                    <a:chOff x="0" y="5105520"/>
                    <a:chExt cx="533160" cy="7596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0" y="5105520"/>
                      <a:ext cx="228600" cy="75960"/>
                      <a:chOff x="0" y="5105520"/>
                      <a:chExt cx="228600" cy="7596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1522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304560" y="5105520"/>
                      <a:ext cx="228600" cy="75960"/>
                      <a:chOff x="304560" y="5105520"/>
                      <a:chExt cx="228600" cy="7596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3045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568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609480" y="5105520"/>
                    <a:ext cx="533160" cy="75960"/>
                    <a:chOff x="609480" y="5105520"/>
                    <a:chExt cx="533160" cy="75960"/>
                  </a:xfrm>
                </p:grpSpPr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609480" y="5105520"/>
                      <a:ext cx="228600" cy="75960"/>
                      <a:chOff x="609480" y="5105520"/>
                      <a:chExt cx="228600" cy="7596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6094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617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914040" y="5105520"/>
                      <a:ext cx="228600" cy="75960"/>
                      <a:chOff x="914040" y="5105520"/>
                      <a:chExt cx="228600" cy="759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9140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10663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1218960" y="5105520"/>
                  <a:ext cx="1142640" cy="75960"/>
                  <a:chOff x="1218960" y="5105520"/>
                  <a:chExt cx="1142640" cy="759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218960" y="5105520"/>
                    <a:ext cx="533160" cy="75960"/>
                    <a:chOff x="1218960" y="5105520"/>
                    <a:chExt cx="533160" cy="7596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1218960" y="5105520"/>
                      <a:ext cx="228600" cy="75960"/>
                      <a:chOff x="1218960" y="5105520"/>
                      <a:chExt cx="228600" cy="7596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12189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3712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1523520" y="5105520"/>
                      <a:ext cx="228600" cy="75960"/>
                      <a:chOff x="1523520" y="5105520"/>
                      <a:chExt cx="228600" cy="7596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15235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16758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828440" y="5105520"/>
                    <a:ext cx="533160" cy="75960"/>
                    <a:chOff x="1828440" y="5105520"/>
                    <a:chExt cx="533160" cy="7596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1828440" y="5105520"/>
                      <a:ext cx="228600" cy="75960"/>
                      <a:chOff x="1828440" y="5105520"/>
                      <a:chExt cx="228600" cy="7596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18284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9807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2133000" y="5105520"/>
                      <a:ext cx="228600" cy="75960"/>
                      <a:chOff x="2133000" y="5105520"/>
                      <a:chExt cx="228600" cy="7596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13300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2852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6705720" y="5105520"/>
              <a:ext cx="2361600" cy="75960"/>
              <a:chOff x="6705720" y="5105520"/>
              <a:chExt cx="2361600" cy="7596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705720" y="5105520"/>
                <a:ext cx="1142640" cy="75960"/>
                <a:chOff x="6705720" y="5105520"/>
                <a:chExt cx="1142640" cy="7596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6705720" y="5105520"/>
                  <a:ext cx="533160" cy="75960"/>
                  <a:chOff x="6705720" y="5105520"/>
                  <a:chExt cx="533160" cy="759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705720" y="5105520"/>
                    <a:ext cx="228600" cy="75960"/>
                    <a:chOff x="6705720" y="5105520"/>
                    <a:chExt cx="228600" cy="7596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70572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85800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010280" y="5105520"/>
                    <a:ext cx="228600" cy="75960"/>
                    <a:chOff x="7010280" y="5105520"/>
                    <a:chExt cx="228600" cy="759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01028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16256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315200" y="5105520"/>
                  <a:ext cx="533160" cy="75960"/>
                  <a:chOff x="7315200" y="5105520"/>
                  <a:chExt cx="533160" cy="7596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315200" y="5105520"/>
                    <a:ext cx="228600" cy="75960"/>
                    <a:chOff x="7315200" y="5105520"/>
                    <a:chExt cx="228600" cy="759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31520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46748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7619760" y="5105520"/>
                    <a:ext cx="228600" cy="75960"/>
                    <a:chOff x="7619760" y="5105520"/>
                    <a:chExt cx="228600" cy="7596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1976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77204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7924680" y="5105520"/>
                <a:ext cx="1142640" cy="75960"/>
                <a:chOff x="7924680" y="5105520"/>
                <a:chExt cx="1142640" cy="7596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7924680" y="5105520"/>
                  <a:ext cx="533160" cy="75960"/>
                  <a:chOff x="7924680" y="5105520"/>
                  <a:chExt cx="533160" cy="7596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7924680" y="5105520"/>
                    <a:ext cx="228600" cy="75960"/>
                    <a:chOff x="7924680" y="5105520"/>
                    <a:chExt cx="228600" cy="7596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92468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07696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229240" y="5105520"/>
                    <a:ext cx="228600" cy="75960"/>
                    <a:chOff x="8229240" y="5105520"/>
                    <a:chExt cx="228600" cy="759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22924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8152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8534160" y="5105520"/>
                  <a:ext cx="533160" cy="75960"/>
                  <a:chOff x="8534160" y="5105520"/>
                  <a:chExt cx="533160" cy="7596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8534160" y="5105520"/>
                    <a:ext cx="228600" cy="75960"/>
                    <a:chOff x="8534160" y="5105520"/>
                    <a:chExt cx="228600" cy="759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53416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68644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8838720" y="5105520"/>
                    <a:ext cx="228600" cy="75960"/>
                    <a:chOff x="8838720" y="5105520"/>
                    <a:chExt cx="228600" cy="75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83872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99100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2" name=""/>
            <p:cNvGrpSpPr/>
            <p:nvPr/>
          </p:nvGrpSpPr>
          <p:grpSpPr>
            <a:xfrm>
              <a:off x="4876920" y="5105520"/>
              <a:ext cx="533160" cy="75960"/>
              <a:chOff x="4876920" y="5105520"/>
              <a:chExt cx="533160" cy="759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876920" y="5105520"/>
                <a:ext cx="228600" cy="75960"/>
                <a:chOff x="4876920" y="5105520"/>
                <a:chExt cx="228600" cy="75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876920" y="51055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029200" y="51055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181480" y="5105520"/>
                <a:ext cx="228600" cy="75960"/>
                <a:chOff x="5181480" y="5105520"/>
                <a:chExt cx="228600" cy="75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181480" y="51055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33760" y="51055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5486400" y="5105520"/>
              <a:ext cx="1142640" cy="75960"/>
              <a:chOff x="5486400" y="5105520"/>
              <a:chExt cx="1142640" cy="759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486400" y="5105520"/>
                <a:ext cx="533160" cy="75960"/>
                <a:chOff x="5486400" y="5105520"/>
                <a:chExt cx="533160" cy="7596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5486400" y="5105520"/>
                  <a:ext cx="228600" cy="75960"/>
                  <a:chOff x="5486400" y="5105520"/>
                  <a:chExt cx="228600" cy="759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548640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63868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790960" y="5105520"/>
                  <a:ext cx="228600" cy="75960"/>
                  <a:chOff x="5790960" y="5105520"/>
                  <a:chExt cx="228600" cy="759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79096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94324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6095880" y="5105520"/>
                <a:ext cx="533160" cy="75960"/>
                <a:chOff x="6095880" y="5105520"/>
                <a:chExt cx="533160" cy="7596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6095880" y="5105520"/>
                  <a:ext cx="228600" cy="75960"/>
                  <a:chOff x="6095880" y="5105520"/>
                  <a:chExt cx="228600" cy="759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09588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24816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00440" y="5105520"/>
                  <a:ext cx="228600" cy="75960"/>
                  <a:chOff x="6400440" y="5105520"/>
                  <a:chExt cx="228600" cy="75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40044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55272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14" name="man_looking_watch" descr=""/>
            <p:cNvPicPr/>
            <p:nvPr/>
          </p:nvPicPr>
          <p:blipFill>
            <a:blip r:embed="rId1"/>
            <a:stretch/>
          </p:blipFill>
          <p:spPr>
            <a:xfrm>
              <a:off x="0" y="3124080"/>
              <a:ext cx="25909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mtr01" descr=""/>
            <p:cNvPicPr/>
            <p:nvPr/>
          </p:nvPicPr>
          <p:blipFill>
            <a:blip r:embed="rId2"/>
            <a:stretch/>
          </p:blipFill>
          <p:spPr>
            <a:xfrm>
              <a:off x="2743200" y="3124080"/>
              <a:ext cx="32767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executives_lunch" descr=""/>
            <p:cNvPicPr/>
            <p:nvPr/>
          </p:nvPicPr>
          <p:blipFill>
            <a:blip r:embed="rId3"/>
            <a:stretch/>
          </p:blipFill>
          <p:spPr>
            <a:xfrm>
              <a:off x="6176880" y="3124080"/>
              <a:ext cx="2967120" cy="19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/>
          <p:cNvSpPr/>
          <p:nvPr/>
        </p:nvSpPr>
        <p:spPr>
          <a:xfrm>
            <a:off x="2626560" y="220968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G Omega"/>
                <a:ea typeface="PMingLiU"/>
              </a:rPr>
              <a:t>An Attitudinal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3640" y="549108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  <a:ea typeface="PMingLiU"/>
              </a:rPr>
              <a:t>Demograph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Bread Winner Of The Family Or Not?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71800" y="3581280"/>
            <a:ext cx="2743200" cy="551520"/>
            <a:chOff x="2971800" y="3581280"/>
            <a:chExt cx="2743200" cy="551520"/>
          </a:xfrm>
        </p:grpSpPr>
        <p:sp>
          <p:nvSpPr>
            <p:cNvPr id="378" name=""/>
            <p:cNvSpPr/>
            <p:nvPr/>
          </p:nvSpPr>
          <p:spPr>
            <a:xfrm>
              <a:off x="4800600" y="3733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71800" y="3581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Education Level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66680" y="1828800"/>
          <a:ext cx="701064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1064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5638680" y="63244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07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SURVEY OVERVIEW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33520" y="1600200"/>
          <a:ext cx="8076960" cy="4967280"/>
        </p:xfrm>
        <a:graphic>
          <a:graphicData uri="http://schemas.openxmlformats.org/drawingml/2006/table">
            <a:tbl>
              <a:tblPr/>
              <a:tblGrid>
                <a:gridCol w="2415960"/>
                <a:gridCol w="5661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b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o understand the eating habits of Hong Kong’s white-collars under economic stress and S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8-49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years old white-collars, with habits of eating breakfast and 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ay 29, 2003 - June 3,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ublic Opinion Programme, University of Hong K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elephone interview through random samp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uccessful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1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uccess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ampling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ess than 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Call Details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1523880"/>
            <a:ext cx="8686800" cy="4949640"/>
            <a:chOff x="228600" y="1523880"/>
            <a:chExt cx="8686800" cy="4949640"/>
          </a:xfrm>
        </p:grpSpPr>
        <p:sp>
          <p:nvSpPr>
            <p:cNvPr id="323" name=""/>
            <p:cNvSpPr/>
            <p:nvPr/>
          </p:nvSpPr>
          <p:spPr>
            <a:xfrm>
              <a:off x="655308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4038480"/>
              <a:ext cx="1447920" cy="161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No qualified candi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3880" y="1523880"/>
              <a:ext cx="6019920" cy="368280"/>
            </a:xfrm>
            <a:prstGeom prst="rect">
              <a:avLst/>
            </a:prstGeom>
            <a:solidFill>
              <a:srgbClr val="8bd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Total Dialed Numbers :2,5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2362320"/>
              <a:ext cx="2971800" cy="1202760"/>
            </a:xfrm>
            <a:prstGeom prst="rect">
              <a:avLst/>
            </a:prstGeom>
            <a:solidFill>
              <a:srgbClr val="b4e8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Successful conta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,6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3880" y="2362320"/>
              <a:ext cx="2971800" cy="1191240"/>
            </a:xfrm>
            <a:prstGeom prst="rect">
              <a:avLst/>
            </a:prstGeom>
            <a:solidFill>
              <a:srgbClr val="b4e8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Unsuccessful contacts(eg : no answer/company number/fax number) 8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4038480"/>
              <a:ext cx="1600200" cy="24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Cannot conduct the  interview during survey peri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5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4038480"/>
              <a:ext cx="1828800" cy="18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Refusal              (include hanging up during intervie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5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2920" y="4038480"/>
              <a:ext cx="1752480" cy="138168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Successful 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5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362320" y="1905120"/>
              <a:ext cx="4190760" cy="457200"/>
              <a:chOff x="2362320" y="1905120"/>
              <a:chExt cx="4190760" cy="457200"/>
            </a:xfrm>
          </p:grpSpPr>
          <p:sp>
            <p:nvSpPr>
              <p:cNvPr id="332" name=""/>
              <p:cNvSpPr/>
              <p:nvPr/>
            </p:nvSpPr>
            <p:spPr>
              <a:xfrm>
                <a:off x="4426200" y="1905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62320" y="2133720"/>
                <a:ext cx="419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362320" y="2133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53080" y="2133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447920" y="3581280"/>
              <a:ext cx="624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58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4038480"/>
              <a:ext cx="1752480" cy="18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Language barrier and other probl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76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G Omega"/>
                <a:ea typeface="PMingLiU"/>
              </a:rPr>
              <a:t>Background Information Of The Interviewees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Sex 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3581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320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Age 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14600" y="2286000"/>
            <a:ext cx="3967920" cy="2834280"/>
            <a:chOff x="2514600" y="2286000"/>
            <a:chExt cx="3967920" cy="2834280"/>
          </a:xfrm>
        </p:grpSpPr>
        <p:sp>
          <p:nvSpPr>
            <p:cNvPr id="355" name=""/>
            <p:cNvSpPr/>
            <p:nvPr/>
          </p:nvSpPr>
          <p:spPr>
            <a:xfrm>
              <a:off x="4724280" y="4111560"/>
              <a:ext cx="129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6-35 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years 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14600" y="3730680"/>
              <a:ext cx="12952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36 - 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years 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80560" y="2286000"/>
              <a:ext cx="20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8-25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years 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Marital Status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21337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6324480" y="6095880"/>
            <a:ext cx="29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3962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Marr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505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7840" y="173664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eparated/Divorced/Wid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Occupation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-380880" y="1676520"/>
          <a:ext cx="96771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676520"/>
                    <a:ext cx="96771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533412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0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Incom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452600" y="1905120"/>
          <a:ext cx="7338960" cy="33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905120"/>
                    <a:ext cx="733896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33412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467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3-07-09T04:22:32Z</dcterms:modified>
  <cp:revision>305</cp:revision>
  <dc:subject/>
  <dc:title>PowerPoint Presentation</dc:title>
</cp:coreProperties>
</file>