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380880"/>
            <a:ext cx="9144000" cy="6561000"/>
            <a:chOff x="0" y="380880"/>
            <a:chExt cx="9144000" cy="6561000"/>
          </a:xfrm>
        </p:grpSpPr>
        <p:sp>
          <p:nvSpPr>
            <p:cNvPr id="77" name=""/>
            <p:cNvSpPr/>
            <p:nvPr/>
          </p:nvSpPr>
          <p:spPr>
            <a:xfrm>
              <a:off x="0" y="380880"/>
              <a:ext cx="457200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G Omega"/>
                  <a:ea typeface="PMingLiU"/>
                </a:rPr>
                <a:t>ECONOMIC DOWNTUR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0880"/>
              <a:ext cx="4572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G Omega"/>
                  <a:ea typeface="PMingLiU"/>
                </a:rPr>
                <a:t>SA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029200"/>
              <a:ext cx="9144000" cy="1912680"/>
            </a:xfrm>
            <a:prstGeom prst="rect">
              <a:avLst/>
            </a:prstGeom>
            <a:solidFill>
              <a:srgbClr val="d9f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Presenter: </a:t>
              </a:r>
              <a:r>
                <a:rPr b="1" lang="en-GB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Ms Priscilla Lau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       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Nutrition Consultant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and Registered Dietic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June 26, 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51200" y="1224000"/>
              <a:ext cx="72734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CG Omega"/>
                  <a:ea typeface="PMingLiU"/>
                </a:rPr>
                <a:t>An Analysis of the Nutrition Value of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CG Omega"/>
                  <a:ea typeface="PMingLiU"/>
                </a:rPr>
                <a:t>Typical White Collar Meal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0" y="2666880"/>
              <a:ext cx="9144000" cy="2362320"/>
              <a:chOff x="0" y="2666880"/>
              <a:chExt cx="9144000" cy="2362320"/>
            </a:xfrm>
          </p:grpSpPr>
          <p:sp>
            <p:nvSpPr>
              <p:cNvPr id="82" name=""/>
              <p:cNvSpPr/>
              <p:nvPr/>
            </p:nvSpPr>
            <p:spPr>
              <a:xfrm>
                <a:off x="0" y="2666880"/>
                <a:ext cx="9144000" cy="236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6320" y="2743200"/>
                <a:ext cx="4799880" cy="76320"/>
                <a:chOff x="76320" y="2743200"/>
                <a:chExt cx="4799880" cy="763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2514600" y="2743200"/>
                  <a:ext cx="2361600" cy="76320"/>
                  <a:chOff x="2514600" y="2743200"/>
                  <a:chExt cx="2361600" cy="76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2514600" y="2743200"/>
                    <a:ext cx="1142640" cy="76320"/>
                    <a:chOff x="2514600" y="2743200"/>
                    <a:chExt cx="1142640" cy="76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2514600" y="2743200"/>
                      <a:ext cx="533160" cy="76320"/>
                      <a:chOff x="2514600" y="2743200"/>
                      <a:chExt cx="533160" cy="7632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2514600" y="2743200"/>
                        <a:ext cx="228600" cy="76320"/>
                        <a:chOff x="2514600" y="2743200"/>
                        <a:chExt cx="228600" cy="7632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251460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266688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" name=""/>
                      <p:cNvGrpSpPr/>
                      <p:nvPr/>
                    </p:nvGrpSpPr>
                    <p:grpSpPr>
                      <a:xfrm>
                        <a:off x="2819160" y="2743200"/>
                        <a:ext cx="228600" cy="76320"/>
                        <a:chOff x="2819160" y="2743200"/>
                        <a:chExt cx="228600" cy="76320"/>
                      </a:xfrm>
                    </p:grpSpPr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281916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97144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3124080" y="2743200"/>
                      <a:ext cx="533160" cy="76320"/>
                      <a:chOff x="3124080" y="2743200"/>
                      <a:chExt cx="533160" cy="76320"/>
                    </a:xfrm>
                  </p:grpSpPr>
                  <p:grpSp>
                    <p:nvGrpSpPr>
                      <p:cNvPr id="94" name=""/>
                      <p:cNvGrpSpPr/>
                      <p:nvPr/>
                    </p:nvGrpSpPr>
                    <p:grpSpPr>
                      <a:xfrm>
                        <a:off x="3124080" y="2743200"/>
                        <a:ext cx="228600" cy="76320"/>
                        <a:chOff x="3124080" y="2743200"/>
                        <a:chExt cx="228600" cy="76320"/>
                      </a:xfrm>
                    </p:grpSpPr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312408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327636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" name=""/>
                      <p:cNvGrpSpPr/>
                      <p:nvPr/>
                    </p:nvGrpSpPr>
                    <p:grpSpPr>
                      <a:xfrm>
                        <a:off x="3428640" y="2743200"/>
                        <a:ext cx="228600" cy="76320"/>
                        <a:chOff x="3428640" y="2743200"/>
                        <a:chExt cx="228600" cy="76320"/>
                      </a:xfrm>
                    </p:grpSpPr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342864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358092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3733560" y="2743200"/>
                    <a:ext cx="1142640" cy="76320"/>
                    <a:chOff x="3733560" y="2743200"/>
                    <a:chExt cx="1142640" cy="76320"/>
                  </a:xfrm>
                </p:grpSpPr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3733560" y="2743200"/>
                      <a:ext cx="533160" cy="76320"/>
                      <a:chOff x="3733560" y="2743200"/>
                      <a:chExt cx="533160" cy="76320"/>
                    </a:xfrm>
                  </p:grpSpPr>
                  <p:grpSp>
                    <p:nvGrpSpPr>
                      <p:cNvPr id="102" name=""/>
                      <p:cNvGrpSpPr/>
                      <p:nvPr/>
                    </p:nvGrpSpPr>
                    <p:grpSpPr>
                      <a:xfrm>
                        <a:off x="3733560" y="2743200"/>
                        <a:ext cx="228600" cy="76320"/>
                        <a:chOff x="3733560" y="2743200"/>
                        <a:chExt cx="228600" cy="76320"/>
                      </a:xfrm>
                    </p:grpSpPr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373356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388584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" name=""/>
                      <p:cNvGrpSpPr/>
                      <p:nvPr/>
                    </p:nvGrpSpPr>
                    <p:grpSpPr>
                      <a:xfrm>
                        <a:off x="4038120" y="2743200"/>
                        <a:ext cx="228600" cy="76320"/>
                        <a:chOff x="4038120" y="2743200"/>
                        <a:chExt cx="228600" cy="76320"/>
                      </a:xfrm>
                    </p:grpSpPr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403812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419040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4343040" y="2743200"/>
                      <a:ext cx="533160" cy="76320"/>
                      <a:chOff x="4343040" y="2743200"/>
                      <a:chExt cx="533160" cy="76320"/>
                    </a:xfrm>
                  </p:grpSpPr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4343040" y="2743200"/>
                        <a:ext cx="228600" cy="76320"/>
                        <a:chOff x="4343040" y="2743200"/>
                        <a:chExt cx="228600" cy="7632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434304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449532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" name=""/>
                      <p:cNvGrpSpPr/>
                      <p:nvPr/>
                    </p:nvGrpSpPr>
                    <p:grpSpPr>
                      <a:xfrm>
                        <a:off x="4647600" y="2743200"/>
                        <a:ext cx="228600" cy="76320"/>
                        <a:chOff x="4647600" y="2743200"/>
                        <a:chExt cx="228600" cy="76320"/>
                      </a:xfrm>
                    </p:grpSpPr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464760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479988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6320" y="2743200"/>
                  <a:ext cx="2361600" cy="76320"/>
                  <a:chOff x="76320" y="2743200"/>
                  <a:chExt cx="2361600" cy="76320"/>
                </a:xfrm>
              </p:grpSpPr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76320" y="2743200"/>
                    <a:ext cx="1142640" cy="76320"/>
                    <a:chOff x="76320" y="2743200"/>
                    <a:chExt cx="1142640" cy="76320"/>
                  </a:xfrm>
                </p:grpSpPr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6320" y="2743200"/>
                      <a:ext cx="533160" cy="76320"/>
                      <a:chOff x="76320" y="2743200"/>
                      <a:chExt cx="533160" cy="76320"/>
                    </a:xfrm>
                  </p:grpSpPr>
                  <p:grpSp>
                    <p:nvGrpSpPr>
                      <p:cNvPr id="118" name=""/>
                      <p:cNvGrpSpPr/>
                      <p:nvPr/>
                    </p:nvGrpSpPr>
                    <p:grpSpPr>
                      <a:xfrm>
                        <a:off x="76320" y="2743200"/>
                        <a:ext cx="228600" cy="76320"/>
                        <a:chOff x="76320" y="2743200"/>
                        <a:chExt cx="228600" cy="76320"/>
                      </a:xfrm>
                    </p:grpSpPr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7632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22860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" name=""/>
                      <p:cNvGrpSpPr/>
                      <p:nvPr/>
                    </p:nvGrpSpPr>
                    <p:grpSpPr>
                      <a:xfrm>
                        <a:off x="380880" y="2743200"/>
                        <a:ext cx="228600" cy="76320"/>
                        <a:chOff x="380880" y="2743200"/>
                        <a:chExt cx="228600" cy="76320"/>
                      </a:xfrm>
                    </p:grpSpPr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38088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53316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85800" y="2743200"/>
                      <a:ext cx="533160" cy="76320"/>
                      <a:chOff x="685800" y="2743200"/>
                      <a:chExt cx="533160" cy="76320"/>
                    </a:xfrm>
                  </p:grpSpPr>
                  <p:grpSp>
                    <p:nvGrpSpPr>
                      <p:cNvPr id="125" name=""/>
                      <p:cNvGrpSpPr/>
                      <p:nvPr/>
                    </p:nvGrpSpPr>
                    <p:grpSpPr>
                      <a:xfrm>
                        <a:off x="685800" y="2743200"/>
                        <a:ext cx="228600" cy="76320"/>
                        <a:chOff x="685800" y="2743200"/>
                        <a:chExt cx="228600" cy="76320"/>
                      </a:xfrm>
                    </p:grpSpPr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68580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83808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990360" y="2743200"/>
                        <a:ext cx="228600" cy="76320"/>
                        <a:chOff x="990360" y="2743200"/>
                        <a:chExt cx="228600" cy="76320"/>
                      </a:xfrm>
                    </p:grpSpPr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99036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4264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295280" y="2743200"/>
                    <a:ext cx="1142640" cy="76320"/>
                    <a:chOff x="1295280" y="2743200"/>
                    <a:chExt cx="1142640" cy="7632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1295280" y="2743200"/>
                      <a:ext cx="533160" cy="76320"/>
                      <a:chOff x="1295280" y="2743200"/>
                      <a:chExt cx="533160" cy="76320"/>
                    </a:xfrm>
                  </p:grpSpPr>
                  <p:grpSp>
                    <p:nvGrpSpPr>
                      <p:cNvPr id="133" name=""/>
                      <p:cNvGrpSpPr/>
                      <p:nvPr/>
                    </p:nvGrpSpPr>
                    <p:grpSpPr>
                      <a:xfrm>
                        <a:off x="1295280" y="2743200"/>
                        <a:ext cx="228600" cy="76320"/>
                        <a:chOff x="1295280" y="2743200"/>
                        <a:chExt cx="228600" cy="76320"/>
                      </a:xfrm>
                    </p:grpSpPr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129528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144756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599840" y="2743200"/>
                        <a:ext cx="228600" cy="76320"/>
                        <a:chOff x="1599840" y="2743200"/>
                        <a:chExt cx="228600" cy="7632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159984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175212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904760" y="2743200"/>
                      <a:ext cx="533160" cy="76320"/>
                      <a:chOff x="1904760" y="2743200"/>
                      <a:chExt cx="533160" cy="76320"/>
                    </a:xfrm>
                  </p:grpSpPr>
                  <p:grpSp>
                    <p:nvGrpSpPr>
                      <p:cNvPr id="140" name=""/>
                      <p:cNvGrpSpPr/>
                      <p:nvPr/>
                    </p:nvGrpSpPr>
                    <p:grpSpPr>
                      <a:xfrm>
                        <a:off x="1904760" y="2743200"/>
                        <a:ext cx="228600" cy="76320"/>
                        <a:chOff x="1904760" y="2743200"/>
                        <a:chExt cx="228600" cy="76320"/>
                      </a:xfrm>
                    </p:grpSpPr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90476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05704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" name=""/>
                      <p:cNvGrpSpPr/>
                      <p:nvPr/>
                    </p:nvGrpSpPr>
                    <p:grpSpPr>
                      <a:xfrm>
                        <a:off x="2209320" y="2743200"/>
                        <a:ext cx="228600" cy="76320"/>
                        <a:chOff x="2209320" y="2743200"/>
                        <a:chExt cx="228600" cy="76320"/>
                      </a:xfrm>
                    </p:grpSpPr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209320" y="2743200"/>
                          <a:ext cx="7596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361600" y="2743200"/>
                          <a:ext cx="76320" cy="76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6781680" y="2743200"/>
                <a:ext cx="2361600" cy="76320"/>
                <a:chOff x="6781680" y="2743200"/>
                <a:chExt cx="2361600" cy="763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6781680" y="2743200"/>
                  <a:ext cx="1142640" cy="76320"/>
                  <a:chOff x="6781680" y="2743200"/>
                  <a:chExt cx="1142640" cy="763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781680" y="2743200"/>
                    <a:ext cx="533160" cy="76320"/>
                    <a:chOff x="6781680" y="2743200"/>
                    <a:chExt cx="533160" cy="763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6781680" y="2743200"/>
                      <a:ext cx="228600" cy="76320"/>
                      <a:chOff x="6781680" y="2743200"/>
                      <a:chExt cx="228600" cy="763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7816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9339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086240" y="2743200"/>
                      <a:ext cx="228600" cy="76320"/>
                      <a:chOff x="7086240" y="2743200"/>
                      <a:chExt cx="228600" cy="7632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70862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2385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391160" y="2743200"/>
                    <a:ext cx="533160" cy="76320"/>
                    <a:chOff x="7391160" y="2743200"/>
                    <a:chExt cx="533160" cy="7632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7391160" y="2743200"/>
                      <a:ext cx="228600" cy="76320"/>
                      <a:chOff x="7391160" y="2743200"/>
                      <a:chExt cx="228600" cy="7632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73911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75434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7695720" y="2743200"/>
                      <a:ext cx="228600" cy="76320"/>
                      <a:chOff x="7695720" y="2743200"/>
                      <a:chExt cx="228600" cy="7632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76957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78480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8000640" y="2743200"/>
                  <a:ext cx="1142640" cy="76320"/>
                  <a:chOff x="8000640" y="2743200"/>
                  <a:chExt cx="1142640" cy="7632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8000640" y="2743200"/>
                    <a:ext cx="533160" cy="76320"/>
                    <a:chOff x="8000640" y="2743200"/>
                    <a:chExt cx="533160" cy="76320"/>
                  </a:xfrm>
                </p:grpSpPr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8000640" y="2743200"/>
                      <a:ext cx="228600" cy="76320"/>
                      <a:chOff x="8000640" y="2743200"/>
                      <a:chExt cx="228600" cy="76320"/>
                    </a:xfrm>
                  </p:grpSpPr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80006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81529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8305200" y="2743200"/>
                      <a:ext cx="228600" cy="76320"/>
                      <a:chOff x="8305200" y="2743200"/>
                      <a:chExt cx="228600" cy="7632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83052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84574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8610120" y="2743200"/>
                    <a:ext cx="533160" cy="76320"/>
                    <a:chOff x="8610120" y="2743200"/>
                    <a:chExt cx="533160" cy="76320"/>
                  </a:xfrm>
                </p:grpSpPr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8610120" y="2743200"/>
                      <a:ext cx="228600" cy="76320"/>
                      <a:chOff x="8610120" y="2743200"/>
                      <a:chExt cx="228600" cy="7632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86101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7624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8914680" y="2743200"/>
                      <a:ext cx="228600" cy="76320"/>
                      <a:chOff x="8914680" y="2743200"/>
                      <a:chExt cx="228600" cy="7632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89146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90669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4952880" y="2743200"/>
                <a:ext cx="533160" cy="76320"/>
                <a:chOff x="4952880" y="2743200"/>
                <a:chExt cx="533160" cy="76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952880" y="2743200"/>
                  <a:ext cx="228600" cy="76320"/>
                  <a:chOff x="4952880" y="2743200"/>
                  <a:chExt cx="228600" cy="763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95288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10516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257440" y="2743200"/>
                  <a:ext cx="228600" cy="76320"/>
                  <a:chOff x="5257440" y="2743200"/>
                  <a:chExt cx="228600" cy="763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25744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40972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5562720" y="2743200"/>
                <a:ext cx="1142640" cy="76320"/>
                <a:chOff x="5562720" y="2743200"/>
                <a:chExt cx="1142640" cy="7632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5562720" y="2743200"/>
                  <a:ext cx="533160" cy="76320"/>
                  <a:chOff x="5562720" y="2743200"/>
                  <a:chExt cx="533160" cy="7632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562720" y="2743200"/>
                    <a:ext cx="228600" cy="76320"/>
                    <a:chOff x="5562720" y="2743200"/>
                    <a:chExt cx="228600" cy="76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56272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71500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867280" y="2743200"/>
                    <a:ext cx="228600" cy="76320"/>
                    <a:chOff x="5867280" y="2743200"/>
                    <a:chExt cx="228600" cy="763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86728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601956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172200" y="2743200"/>
                  <a:ext cx="533160" cy="76320"/>
                  <a:chOff x="6172200" y="2743200"/>
                  <a:chExt cx="533160" cy="763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172200" y="2743200"/>
                    <a:ext cx="228600" cy="76320"/>
                    <a:chOff x="6172200" y="2743200"/>
                    <a:chExt cx="228600" cy="7632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617220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32448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6476760" y="2743200"/>
                    <a:ext cx="228600" cy="76320"/>
                    <a:chOff x="6476760" y="2743200"/>
                    <a:chExt cx="228600" cy="763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7676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662904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0" y="4876920"/>
                <a:ext cx="4799880" cy="75960"/>
                <a:chOff x="0" y="4876920"/>
                <a:chExt cx="4799880" cy="75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438280" y="4876920"/>
                  <a:ext cx="2361600" cy="75960"/>
                  <a:chOff x="2438280" y="4876920"/>
                  <a:chExt cx="2361600" cy="7596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2438280" y="4876920"/>
                    <a:ext cx="1142640" cy="75960"/>
                    <a:chOff x="2438280" y="4876920"/>
                    <a:chExt cx="1142640" cy="7596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2438280" y="4876920"/>
                      <a:ext cx="533160" cy="75960"/>
                      <a:chOff x="2438280" y="4876920"/>
                      <a:chExt cx="533160" cy="75960"/>
                    </a:xfrm>
                  </p:grpSpPr>
                  <p:grpSp>
                    <p:nvGrpSpPr>
                      <p:cNvPr id="203" name=""/>
                      <p:cNvGrpSpPr/>
                      <p:nvPr/>
                    </p:nvGrpSpPr>
                    <p:grpSpPr>
                      <a:xfrm>
                        <a:off x="2438280" y="4876920"/>
                        <a:ext cx="228600" cy="75960"/>
                        <a:chOff x="2438280" y="4876920"/>
                        <a:chExt cx="228600" cy="75960"/>
                      </a:xfrm>
                    </p:grpSpPr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43828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59056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2742840" y="4876920"/>
                        <a:ext cx="228600" cy="75960"/>
                        <a:chOff x="2742840" y="4876920"/>
                        <a:chExt cx="228600" cy="7596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4284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89512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3047760" y="4876920"/>
                      <a:ext cx="533160" cy="75960"/>
                      <a:chOff x="3047760" y="4876920"/>
                      <a:chExt cx="533160" cy="75960"/>
                    </a:xfrm>
                  </p:grpSpPr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3047760" y="4876920"/>
                        <a:ext cx="228600" cy="75960"/>
                        <a:chOff x="3047760" y="4876920"/>
                        <a:chExt cx="228600" cy="7596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304776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320004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" name=""/>
                      <p:cNvGrpSpPr/>
                      <p:nvPr/>
                    </p:nvGrpSpPr>
                    <p:grpSpPr>
                      <a:xfrm>
                        <a:off x="3352320" y="4876920"/>
                        <a:ext cx="228600" cy="75960"/>
                        <a:chOff x="3352320" y="4876920"/>
                        <a:chExt cx="228600" cy="75960"/>
                      </a:xfrm>
                    </p:grpSpPr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335232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350460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657240" y="4876920"/>
                    <a:ext cx="1142640" cy="75960"/>
                    <a:chOff x="3657240" y="4876920"/>
                    <a:chExt cx="1142640" cy="75960"/>
                  </a:xfrm>
                </p:grpSpPr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57240" y="4876920"/>
                      <a:ext cx="533160" cy="75960"/>
                      <a:chOff x="3657240" y="4876920"/>
                      <a:chExt cx="533160" cy="75960"/>
                    </a:xfrm>
                  </p:grpSpPr>
                  <p:grpSp>
                    <p:nvGrpSpPr>
                      <p:cNvPr id="218" name=""/>
                      <p:cNvGrpSpPr/>
                      <p:nvPr/>
                    </p:nvGrpSpPr>
                    <p:grpSpPr>
                      <a:xfrm>
                        <a:off x="3657240" y="4876920"/>
                        <a:ext cx="228600" cy="75960"/>
                        <a:chOff x="3657240" y="4876920"/>
                        <a:chExt cx="228600" cy="75960"/>
                      </a:xfrm>
                    </p:grpSpPr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365724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380952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3961800" y="4876920"/>
                        <a:ext cx="228600" cy="75960"/>
                        <a:chOff x="3961800" y="4876920"/>
                        <a:chExt cx="228600" cy="7596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396180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411408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266720" y="4876920"/>
                      <a:ext cx="533160" cy="75960"/>
                      <a:chOff x="4266720" y="4876920"/>
                      <a:chExt cx="533160" cy="7596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4266720" y="4876920"/>
                        <a:ext cx="228600" cy="75960"/>
                        <a:chOff x="4266720" y="4876920"/>
                        <a:chExt cx="228600" cy="7596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426672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441900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" name=""/>
                      <p:cNvGrpSpPr/>
                      <p:nvPr/>
                    </p:nvGrpSpPr>
                    <p:grpSpPr>
                      <a:xfrm>
                        <a:off x="4571280" y="4876920"/>
                        <a:ext cx="228600" cy="75960"/>
                        <a:chOff x="4571280" y="4876920"/>
                        <a:chExt cx="228600" cy="75960"/>
                      </a:xfrm>
                    </p:grpSpPr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57128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472356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0" y="4876920"/>
                  <a:ext cx="2361600" cy="75960"/>
                  <a:chOff x="0" y="4876920"/>
                  <a:chExt cx="2361600" cy="75960"/>
                </a:xfrm>
              </p:grpSpPr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0" y="4876920"/>
                    <a:ext cx="1142640" cy="75960"/>
                    <a:chOff x="0" y="4876920"/>
                    <a:chExt cx="1142640" cy="7596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0" y="4876920"/>
                      <a:ext cx="533160" cy="75960"/>
                      <a:chOff x="0" y="4876920"/>
                      <a:chExt cx="533160" cy="7596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0" y="4876920"/>
                        <a:ext cx="228600" cy="75960"/>
                        <a:chOff x="0" y="4876920"/>
                        <a:chExt cx="228600" cy="7596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5228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304560" y="4876920"/>
                        <a:ext cx="228600" cy="75960"/>
                        <a:chOff x="304560" y="4876920"/>
                        <a:chExt cx="228600" cy="7596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30456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45684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609480" y="4876920"/>
                      <a:ext cx="533160" cy="75960"/>
                      <a:chOff x="609480" y="4876920"/>
                      <a:chExt cx="533160" cy="75960"/>
                    </a:xfrm>
                  </p:grpSpPr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609480" y="4876920"/>
                        <a:ext cx="228600" cy="75960"/>
                        <a:chOff x="609480" y="4876920"/>
                        <a:chExt cx="228600" cy="75960"/>
                      </a:xfrm>
                    </p:grpSpPr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60948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76176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" name=""/>
                      <p:cNvGrpSpPr/>
                      <p:nvPr/>
                    </p:nvGrpSpPr>
                    <p:grpSpPr>
                      <a:xfrm>
                        <a:off x="914040" y="4876920"/>
                        <a:ext cx="228600" cy="75960"/>
                        <a:chOff x="914040" y="4876920"/>
                        <a:chExt cx="228600" cy="75960"/>
                      </a:xfrm>
                    </p:grpSpPr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91404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06632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218960" y="4876920"/>
                    <a:ext cx="1142640" cy="75960"/>
                    <a:chOff x="1218960" y="4876920"/>
                    <a:chExt cx="1142640" cy="7596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1218960" y="4876920"/>
                      <a:ext cx="533160" cy="75960"/>
                      <a:chOff x="1218960" y="4876920"/>
                      <a:chExt cx="533160" cy="75960"/>
                    </a:xfrm>
                  </p:grpSpPr>
                  <p:grpSp>
                    <p:nvGrpSpPr>
                      <p:cNvPr id="249" name=""/>
                      <p:cNvGrpSpPr/>
                      <p:nvPr/>
                    </p:nvGrpSpPr>
                    <p:grpSpPr>
                      <a:xfrm>
                        <a:off x="1218960" y="4876920"/>
                        <a:ext cx="228600" cy="75960"/>
                        <a:chOff x="1218960" y="4876920"/>
                        <a:chExt cx="228600" cy="75960"/>
                      </a:xfrm>
                    </p:grpSpPr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121896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137124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1523520" y="4876920"/>
                        <a:ext cx="228600" cy="75960"/>
                        <a:chOff x="1523520" y="4876920"/>
                        <a:chExt cx="228600" cy="7596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152352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67580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1828440" y="4876920"/>
                      <a:ext cx="533160" cy="75960"/>
                      <a:chOff x="1828440" y="4876920"/>
                      <a:chExt cx="533160" cy="7596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1828440" y="4876920"/>
                        <a:ext cx="228600" cy="75960"/>
                        <a:chOff x="1828440" y="4876920"/>
                        <a:chExt cx="228600" cy="7596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182844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198072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2133000" y="4876920"/>
                        <a:ext cx="228600" cy="75960"/>
                        <a:chOff x="2133000" y="4876920"/>
                        <a:chExt cx="228600" cy="7596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133000" y="487692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2285280" y="487692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6705720" y="4876920"/>
                <a:ext cx="2361600" cy="75960"/>
                <a:chOff x="6705720" y="4876920"/>
                <a:chExt cx="2361600" cy="7596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6705720" y="4876920"/>
                  <a:ext cx="1142640" cy="75960"/>
                  <a:chOff x="6705720" y="4876920"/>
                  <a:chExt cx="1142640" cy="759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705720" y="4876920"/>
                    <a:ext cx="533160" cy="75960"/>
                    <a:chOff x="6705720" y="4876920"/>
                    <a:chExt cx="533160" cy="75960"/>
                  </a:xfrm>
                </p:grpSpPr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6705720" y="4876920"/>
                      <a:ext cx="228600" cy="75960"/>
                      <a:chOff x="6705720" y="4876920"/>
                      <a:chExt cx="228600" cy="7596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67057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8580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7010280" y="4876920"/>
                      <a:ext cx="228600" cy="75960"/>
                      <a:chOff x="7010280" y="4876920"/>
                      <a:chExt cx="228600" cy="7596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70102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625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315200" y="4876920"/>
                    <a:ext cx="533160" cy="75960"/>
                    <a:chOff x="7315200" y="4876920"/>
                    <a:chExt cx="533160" cy="7596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7315200" y="4876920"/>
                      <a:ext cx="228600" cy="75960"/>
                      <a:chOff x="7315200" y="4876920"/>
                      <a:chExt cx="228600" cy="7596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731520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74674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7619760" y="4876920"/>
                      <a:ext cx="228600" cy="75960"/>
                      <a:chOff x="7619760" y="4876920"/>
                      <a:chExt cx="228600" cy="7596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6197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7720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924680" y="4876920"/>
                  <a:ext cx="1142640" cy="75960"/>
                  <a:chOff x="7924680" y="4876920"/>
                  <a:chExt cx="1142640" cy="7596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7924680" y="4876920"/>
                    <a:ext cx="533160" cy="75960"/>
                    <a:chOff x="7924680" y="4876920"/>
                    <a:chExt cx="533160" cy="75960"/>
                  </a:xfrm>
                </p:grpSpPr>
                <p:grpSp>
                  <p:nvGrpSpPr>
                    <p:cNvPr id="280" name=""/>
                    <p:cNvGrpSpPr/>
                    <p:nvPr/>
                  </p:nvGrpSpPr>
                  <p:grpSpPr>
                    <a:xfrm>
                      <a:off x="7924680" y="4876920"/>
                      <a:ext cx="228600" cy="75960"/>
                      <a:chOff x="7924680" y="4876920"/>
                      <a:chExt cx="228600" cy="75960"/>
                    </a:xfrm>
                  </p:grpSpPr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246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80769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8229240" y="4876920"/>
                      <a:ext cx="228600" cy="75960"/>
                      <a:chOff x="8229240" y="4876920"/>
                      <a:chExt cx="228600" cy="759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82292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83815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8534160" y="4876920"/>
                    <a:ext cx="533160" cy="75960"/>
                    <a:chOff x="8534160" y="4876920"/>
                    <a:chExt cx="533160" cy="75960"/>
                  </a:xfrm>
                </p:grpSpPr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8534160" y="4876920"/>
                      <a:ext cx="228600" cy="75960"/>
                      <a:chOff x="8534160" y="4876920"/>
                      <a:chExt cx="228600" cy="75960"/>
                    </a:xfrm>
                  </p:grpSpPr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85341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86864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8838720" y="4876920"/>
                      <a:ext cx="228600" cy="75960"/>
                      <a:chOff x="8838720" y="4876920"/>
                      <a:chExt cx="228600" cy="7596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8387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9910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4876920" y="4876920"/>
                <a:ext cx="533160" cy="75960"/>
                <a:chOff x="4876920" y="4876920"/>
                <a:chExt cx="533160" cy="7596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876920" y="4876920"/>
                  <a:ext cx="228600" cy="75960"/>
                  <a:chOff x="4876920" y="4876920"/>
                  <a:chExt cx="228600" cy="759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487692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02920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181480" y="4876920"/>
                  <a:ext cx="228600" cy="75960"/>
                  <a:chOff x="5181480" y="4876920"/>
                  <a:chExt cx="228600" cy="759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18148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33376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5486400" y="4876920"/>
                <a:ext cx="1142640" cy="75960"/>
                <a:chOff x="5486400" y="4876920"/>
                <a:chExt cx="1142640" cy="7596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5486400" y="4876920"/>
                  <a:ext cx="533160" cy="75960"/>
                  <a:chOff x="5486400" y="4876920"/>
                  <a:chExt cx="533160" cy="75960"/>
                </a:xfrm>
              </p:grpSpPr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5486400" y="4876920"/>
                    <a:ext cx="228600" cy="75960"/>
                    <a:chOff x="5486400" y="4876920"/>
                    <a:chExt cx="228600" cy="7596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48640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563868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790960" y="4876920"/>
                    <a:ext cx="228600" cy="75960"/>
                    <a:chOff x="5790960" y="4876920"/>
                    <a:chExt cx="228600" cy="7596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79096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94324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095880" y="4876920"/>
                  <a:ext cx="533160" cy="75960"/>
                  <a:chOff x="6095880" y="4876920"/>
                  <a:chExt cx="533160" cy="7596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6095880" y="4876920"/>
                    <a:ext cx="228600" cy="75960"/>
                    <a:chOff x="6095880" y="4876920"/>
                    <a:chExt cx="228600" cy="7596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609588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24816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6400440" y="4876920"/>
                    <a:ext cx="228600" cy="75960"/>
                    <a:chOff x="6400440" y="4876920"/>
                    <a:chExt cx="228600" cy="759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640044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55272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pic>
            <p:nvPicPr>
              <p:cNvPr id="315" name="man_looking_watch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895480"/>
                <a:ext cx="2590920" cy="19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mtr0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3200" y="2895480"/>
                <a:ext cx="3276720" cy="19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executives_lunch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6880" y="2895480"/>
                <a:ext cx="2967120" cy="194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Suggestions For Packed Lunch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Avoid chicken wings, or choose drumsticks instead; remove the skin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Slice or ground the me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Fruits as desser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Eat according to the healthy meal proportion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Healthy Breakfast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/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Lunch Proportion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57200" y="1270080"/>
            <a:ext cx="8029440" cy="5435280"/>
            <a:chOff x="457200" y="1270080"/>
            <a:chExt cx="8029440" cy="5435280"/>
          </a:xfrm>
        </p:grpSpPr>
        <p:grpSp>
          <p:nvGrpSpPr>
            <p:cNvPr id="343" name=""/>
            <p:cNvGrpSpPr/>
            <p:nvPr/>
          </p:nvGrpSpPr>
          <p:grpSpPr>
            <a:xfrm>
              <a:off x="1905120" y="1720800"/>
              <a:ext cx="5409720" cy="4984560"/>
              <a:chOff x="1905120" y="1720800"/>
              <a:chExt cx="5409720" cy="4984560"/>
            </a:xfrm>
          </p:grpSpPr>
          <p:sp>
            <p:nvSpPr>
              <p:cNvPr id="344" name=""/>
              <p:cNvSpPr/>
              <p:nvPr/>
            </p:nvSpPr>
            <p:spPr>
              <a:xfrm>
                <a:off x="1905120" y="1720800"/>
                <a:ext cx="5409720" cy="4984560"/>
              </a:xfrm>
              <a:prstGeom prst="ellipse">
                <a:avLst/>
              </a:prstGeom>
              <a:solidFill>
                <a:srgbClr val="e7b1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56880" y="1720800"/>
                <a:ext cx="0" cy="498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556880" y="2356920"/>
                <a:ext cx="1802880" cy="20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895480" y="49528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½ 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Gr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0" y="426708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/3 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Vege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274320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/6 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M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meat" descr=""/>
            <p:cNvPicPr/>
            <p:nvPr/>
          </p:nvPicPr>
          <p:blipFill>
            <a:blip r:embed="rId1"/>
            <a:stretch/>
          </p:blipFill>
          <p:spPr>
            <a:xfrm>
              <a:off x="4419720" y="1270080"/>
              <a:ext cx="252252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vegetable" descr=""/>
            <p:cNvPicPr/>
            <p:nvPr/>
          </p:nvPicPr>
          <p:blipFill>
            <a:blip r:embed="rId2"/>
            <a:stretch/>
          </p:blipFill>
          <p:spPr>
            <a:xfrm>
              <a:off x="5486400" y="3124080"/>
              <a:ext cx="30002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wheat" descr=""/>
            <p:cNvPicPr/>
            <p:nvPr/>
          </p:nvPicPr>
          <p:blipFill>
            <a:blip r:embed="rId3"/>
            <a:stretch/>
          </p:blipFill>
          <p:spPr>
            <a:xfrm>
              <a:off x="457200" y="2257560"/>
              <a:ext cx="419112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Suggestions For Cha-chan-teng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Offer “healthy choices” in menu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Quick-wash” meat in hot boiling water instead of oi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Do not sprinkle oil on food to make it look glossy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Less animal fat, egg butter, let the customer apply oil themselve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Meet customers’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provide “skimmed evaporated milk” or “low fat milk” in drink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less oil in cooking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Suggestions For Cooking At Hom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Remove fat, remove chicken ski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Use skimmed milk or low fat mil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Remove oil on top of soup; prepare soup with chicken with skin removed or lean meat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team, simmer and stew; use easy-to-clean wo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Eat no more than 3 eggs per wee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Grocery shopping according to healthy food proportion: grain &gt; fruit &amp; vegetable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meat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Choose ingredients that can reduce cholestero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vegetabl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oa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Healthy Breakfast – An Exampl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Low fat cheese sandwich </a:t>
            </a:r>
            <a:r>
              <a:rPr b="0" lang="en-US" sz="1800" spc="-1" strike="noStrike">
                <a:solidFill>
                  <a:srgbClr val="ff0066"/>
                </a:solidFill>
                <a:latin typeface="CG Omega"/>
                <a:ea typeface="PMingLiU"/>
              </a:rPr>
              <a:t>(whole-grained bread</a:t>
            </a:r>
            <a:r>
              <a:rPr b="0" lang="zh-TW" sz="1800" spc="-1" strike="noStrike">
                <a:solidFill>
                  <a:srgbClr val="ff0066"/>
                </a:solidFill>
                <a:latin typeface="CG Omega"/>
                <a:ea typeface="PMingLiU"/>
              </a:rPr>
              <a:t>, </a:t>
            </a:r>
            <a:r>
              <a:rPr b="0" lang="en-US" sz="1800" spc="-1" strike="noStrike">
                <a:solidFill>
                  <a:srgbClr val="ff0066"/>
                </a:solidFill>
                <a:latin typeface="CG Omega"/>
                <a:ea typeface="PMingLiU"/>
              </a:rPr>
              <a:t>some margarine)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+ freshly squeezed fruit juic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Lean meat, vegetable, brown rice noodle + plain te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Oats in milk + wheat bun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Oat congee with lean meat + soya bean milk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Cha-chan-teng / Fast Food Sto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Congee with corn and mushroom + steamed rice roll noodle 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no oil)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Rice noodle with chicken slices and mushroom + wheat slice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apply margarine yourself) + hot tea with milk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less milk / use low fat milk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Ham and egg sandwich 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(poached egg, wheat bun; no butter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 / 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a little margarine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Pasta with ham and mixed vegetable + hot coffee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less milk / use low fat milk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62485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CG Omega"/>
                <a:ea typeface="PMingLiU"/>
              </a:rPr>
              <a:t> </a:t>
            </a:r>
            <a:r>
              <a:rPr b="0" lang="zh-TW" sz="1600" spc="-1" strike="noStrike">
                <a:solidFill>
                  <a:srgbClr val="3333cc"/>
                </a:solidFill>
                <a:latin typeface="CG Omega"/>
                <a:ea typeface="PMingLiU"/>
              </a:rPr>
              <a:t>* </a:t>
            </a:r>
            <a:r>
              <a:rPr b="0" lang="en-US" sz="1600" spc="-1" strike="noStrike">
                <a:solidFill>
                  <a:srgbClr val="3333cc"/>
                </a:solidFill>
                <a:latin typeface="CG Omega"/>
                <a:ea typeface="PMingLiU"/>
              </a:rPr>
              <a:t>suggestion to cha-chan-t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63244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66"/>
                </a:solidFill>
                <a:latin typeface="CG Omega"/>
                <a:ea typeface="PMingLiU"/>
              </a:rPr>
              <a:t> </a:t>
            </a:r>
            <a:r>
              <a:rPr b="0" lang="zh-TW" sz="1600" spc="-1" strike="noStrike">
                <a:solidFill>
                  <a:srgbClr val="ff0066"/>
                </a:solidFill>
                <a:latin typeface="CG Omega"/>
                <a:ea typeface="PMingLiU"/>
              </a:rPr>
              <a:t>* </a:t>
            </a:r>
            <a:r>
              <a:rPr b="0" lang="en-US" sz="1600" spc="-1" strike="noStrike">
                <a:solidFill>
                  <a:srgbClr val="ff0066"/>
                </a:solidFill>
                <a:latin typeface="CG Omega"/>
                <a:ea typeface="PMingLiU"/>
              </a:rPr>
              <a:t>suggestion for cooking at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Healthy Lunch – An Exampl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962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Packed Lunch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Spaghetti with ground meat </a:t>
            </a:r>
            <a:r>
              <a:rPr b="0" lang="en-US" sz="1800" spc="-1" strike="noStrike">
                <a:solidFill>
                  <a:srgbClr val="ff0066"/>
                </a:solidFill>
                <a:latin typeface="CG Omega"/>
                <a:ea typeface="PMingLiU"/>
              </a:rPr>
              <a:t>(add mushroom</a:t>
            </a:r>
            <a:r>
              <a:rPr b="0" lang="zh-TW" sz="1800" spc="-1" strike="noStrike">
                <a:solidFill>
                  <a:srgbClr val="ff0066"/>
                </a:solidFill>
                <a:latin typeface="CG Omega"/>
                <a:ea typeface="PMingLiU"/>
              </a:rPr>
              <a:t> + </a:t>
            </a:r>
            <a:r>
              <a:rPr b="0" lang="en-US" sz="1800" spc="-1" strike="noStrike">
                <a:solidFill>
                  <a:srgbClr val="ff0066"/>
                </a:solidFill>
                <a:latin typeface="CG Omega"/>
                <a:ea typeface="PMingLiU"/>
              </a:rPr>
              <a:t>red bean + oats</a:t>
            </a:r>
            <a:r>
              <a:rPr b="0" lang="zh-TW" sz="1800" spc="-1" strike="noStrike">
                <a:solidFill>
                  <a:srgbClr val="ff0066"/>
                </a:solidFill>
                <a:latin typeface="CG Omega"/>
                <a:ea typeface="PMingLiU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mixed vegetabl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Stewed drumstick with mushroom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broccoli + brown ric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Stir-fried bamboo shoots, mushroom and dried bean curd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boiled vegetable + brown ric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3962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Cha-chan-teng / Fast Food Sto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Rice with lean roast pork + vegetable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no oil)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Japanese-styled noodle with roast pork + vegetable salad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vinegar / low fat salad dressing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green te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Congee with lean pork  + vegetable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8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no oil)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Fried rice with tomato and ground meat  </a:t>
            </a:r>
            <a:r>
              <a:rPr b="0" lang="en-US" sz="1800" spc="-1" strike="noStrike">
                <a:solidFill>
                  <a:srgbClr val="3333cc"/>
                </a:solidFill>
                <a:latin typeface="CG Omega"/>
                <a:ea typeface="PMingLiU"/>
              </a:rPr>
              <a:t>(little oil)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5" name=""/>
          <p:cNvSpPr/>
          <p:nvPr/>
        </p:nvSpPr>
        <p:spPr>
          <a:xfrm>
            <a:off x="4800600" y="6095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CG Omega"/>
                <a:ea typeface="PMingLiU"/>
              </a:rPr>
              <a:t> </a:t>
            </a:r>
            <a:r>
              <a:rPr b="0" lang="zh-TW" sz="1600" spc="-1" strike="noStrike">
                <a:solidFill>
                  <a:srgbClr val="3333cc"/>
                </a:solidFill>
                <a:latin typeface="CG Omega"/>
                <a:ea typeface="PMingLiU"/>
              </a:rPr>
              <a:t>* </a:t>
            </a:r>
            <a:r>
              <a:rPr b="0" lang="en-US" sz="1600" spc="-1" strike="noStrike">
                <a:solidFill>
                  <a:srgbClr val="3333cc"/>
                </a:solidFill>
                <a:latin typeface="CG Omega"/>
                <a:ea typeface="PMingLiU"/>
              </a:rPr>
              <a:t>suggestion to cha-chan-t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60958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66"/>
                </a:solidFill>
                <a:latin typeface="CG Omega"/>
                <a:ea typeface="PMingLiU"/>
              </a:rPr>
              <a:t> </a:t>
            </a:r>
            <a:r>
              <a:rPr b="0" lang="zh-TW" sz="1600" spc="-1" strike="noStrike">
                <a:solidFill>
                  <a:srgbClr val="ff0066"/>
                </a:solidFill>
                <a:latin typeface="CG Omega"/>
                <a:ea typeface="PMingLiU"/>
              </a:rPr>
              <a:t>* </a:t>
            </a:r>
            <a:r>
              <a:rPr b="0" lang="en-US" sz="1600" spc="-1" strike="noStrike">
                <a:solidFill>
                  <a:srgbClr val="ff0066"/>
                </a:solidFill>
                <a:latin typeface="CG Omega"/>
                <a:ea typeface="PMingLiU"/>
              </a:rPr>
              <a:t>suggestion for preparing high fiber low fat meals at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MingLiU"/>
                <a:ea typeface="PMingLiU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White Collars Have Higher Expectation For Healthy Food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Worry frequent eating-out will lead to high cholesterol level and overweight problem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60% 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consider there is not enough choices for healthy food when eating ou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restaurants, especially local tea restaurants (cha-chan-teng and fast food stores) should provide more choices for healthy food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Lack Of Healthy Choices Will Lead To Heart Problem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Breakfast with stuffed bread (like sausage bun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andwich, canned meat, fried eggs, and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Lunch with high fat meat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pare rib, beef brisket, chicken wing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all contai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high saturated fa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and will raise cholesterol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besides gaining weight, it will also increases the chance of contracting heart disease, high blood pressure and diabet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Other food in-take is low in 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  <a:ea typeface="PMingLiU"/>
              </a:rPr>
              <a:t>fibr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hite collars in Hong Kong seldom exercise, the chance of becoming overweight and getting high cholesterol level will increase with frequent intake of high fat low fiber food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Case Study – White-Collar Femal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7621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The Person: Miss Chan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Occupation: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Exercise Level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Infrequent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Height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Weight: 158 cm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/ 55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Energy Needed: About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1,650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143000" y="2057400"/>
          <a:ext cx="6553080" cy="4702320"/>
        </p:xfrm>
        <a:graphic>
          <a:graphicData uri="http://schemas.openxmlformats.org/drawingml/2006/table">
            <a:tbl>
              <a:tblPr/>
              <a:tblGrid>
                <a:gridCol w="2355840"/>
                <a:gridCol w="419724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kf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asta with ham 1 bow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ried egg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d with butter 1 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Hot tea with milk and sugar 1 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Rice with beef brisket and curry sau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/3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offee  1 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kfast + Lunch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Nutritio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About 1,208 cal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(  73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aturated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2.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gram (9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2.8 gram (13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holeste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43 gram (4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i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.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gram (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Case Study – White-Collar Male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9907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The Person: Mr Chan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Occupation: Marketing Manager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Exercise Level: Infrequent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Height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Weight: 168 cm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/ 81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kg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Energy Needed: About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 2,025 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19320" y="2209680"/>
          <a:ext cx="6553080" cy="4408560"/>
        </p:xfrm>
        <a:graphic>
          <a:graphicData uri="http://schemas.openxmlformats.org/drawingml/2006/table">
            <a:tbl>
              <a:tblPr/>
              <a:tblGrid>
                <a:gridCol w="2355840"/>
                <a:gridCol w="419724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kf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Instant noodle with canned meat 1 bow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ried egg with sausages 1 por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d with butter 1 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offee 1 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paghetti with fried pork chop 1 d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offee 1 c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eakfast + Lunch Nutritio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About 1752 cal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(87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aturated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7.3 gram (1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4.4 gram (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holester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69 gram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(123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i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8.7 gram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(35%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f daily n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How To Eat Healthily And Economically</a:t>
            </a: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？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Rich in nutrition cont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 Healthy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over-nutrition will lead to health problem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Eating healthily does not mean spending a lo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Eat functional food for breakfast and lunch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Examples Of Functional Food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Tomato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prostate cancer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Broccoli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colorectal cancer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Low-fat/Skimmed Dairy Product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osteoporosi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heart disease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Functional Food – Oats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Scientific studies have confirmed that eating oats food can help prevent heart disease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How it works: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oluble oats (Beta-glucan) absorb cholesterol-filled particles in the intestines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Such cholesterol will not be “recycled” agai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Cholesterol level will be reduced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Quantity needed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grams of soluble fibre per day, about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70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grams of oa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34" name="pic1" descr=""/>
          <p:cNvPicPr/>
          <p:nvPr/>
        </p:nvPicPr>
        <p:blipFill>
          <a:blip r:embed="rId8"/>
          <a:stretch/>
        </p:blipFill>
        <p:spPr>
          <a:xfrm>
            <a:off x="7085160" y="1776240"/>
            <a:ext cx="1830240" cy="1414800"/>
          </a:xfrm>
          <a:prstGeom prst="rect">
            <a:avLst/>
          </a:prstGeom>
          <a:ln w="0">
            <a:noFill/>
          </a:ln>
        </p:spPr>
      </p:pic>
      <p:pic>
        <p:nvPicPr>
          <p:cNvPr id="335" name="pic2" descr=""/>
          <p:cNvPicPr/>
          <p:nvPr/>
        </p:nvPicPr>
        <p:blipFill>
          <a:blip r:embed="rId9"/>
          <a:stretch/>
        </p:blipFill>
        <p:spPr>
          <a:xfrm>
            <a:off x="7085160" y="3519360"/>
            <a:ext cx="1828800" cy="1332000"/>
          </a:xfrm>
          <a:prstGeom prst="rect">
            <a:avLst/>
          </a:prstGeom>
          <a:ln w="0">
            <a:noFill/>
          </a:ln>
        </p:spPr>
      </p:pic>
      <p:pic>
        <p:nvPicPr>
          <p:cNvPr id="336" name="pic3" descr=""/>
          <p:cNvPicPr/>
          <p:nvPr/>
        </p:nvPicPr>
        <p:blipFill>
          <a:blip r:embed="rId10"/>
          <a:stretch/>
        </p:blipFill>
        <p:spPr>
          <a:xfrm>
            <a:off x="7085160" y="5168880"/>
            <a:ext cx="182880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  <a:ea typeface="PMingLiU"/>
              </a:rPr>
              <a:t>Healthy Breakfast Options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Choose breakfast food that are low in fat and high in fibr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Low-fat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overweight and high cholesterol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High-fibre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event constipat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G Omega"/>
                <a:ea typeface="PMingLiU"/>
              </a:rPr>
              <a:t>Promote satiety, which helps avoid over-eat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G Omega"/>
                <a:ea typeface="PMingLiU"/>
              </a:rPr>
              <a:t>Soluble fibre can help reduce cholesterol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Oats, whole-grain bread, fruits, unpolished rice, brown ric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3-07-09T04:03:01Z</dcterms:modified>
  <cp:revision>501</cp:revision>
  <dc:subject/>
  <dc:title>PowerPoint Presentation</dc:title>
</cp:coreProperties>
</file>