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33.wmf" ContentType="image/x-wmf"/>
  <Override PartName="/ppt/media/image13.wmf" ContentType="image/x-wmf"/>
  <Override PartName="/ppt/media/image3.png" ContentType="image/png"/>
  <Override PartName="/ppt/media/image2.png" ContentType="image/png"/>
  <Override PartName="/ppt/media/image10.wmf" ContentType="image/x-wmf"/>
  <Override PartName="/ppt/media/image30.wmf" ContentType="image/x-wmf"/>
  <Override PartName="/ppt/media/image28.wmf" ContentType="image/x-wmf"/>
  <Override PartName="/ppt/media/image32.wmf" ContentType="image/x-wmf"/>
  <Override PartName="/ppt/media/image31.wmf" ContentType="image/x-wmf"/>
  <Override PartName="/ppt/media/image7.jpeg" ContentType="image/jpeg"/>
  <Override PartName="/ppt/media/image34.wmf" ContentType="image/x-wmf"/>
  <Override PartName="/ppt/media/image9.wmf" ContentType="image/x-wmf"/>
  <Override PartName="/ppt/media/image35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9400"/>
              </a:solidFill>
              <a:latin typeface="CG Omeg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9400"/>
              </a:solidFill>
              <a:latin typeface="CG Ome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9400"/>
              </a:solidFill>
              <a:latin typeface="CG Omeg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9400"/>
              </a:solidFill>
              <a:latin typeface="CG Omeg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9400"/>
              </a:solidFill>
              <a:latin typeface="CG Omeg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9400"/>
              </a:solidFill>
              <a:latin typeface="CG Omeg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9400"/>
              </a:solidFill>
              <a:latin typeface="CG Omeg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9400"/>
              </a:solidFill>
              <a:latin typeface="CG Omeg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94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9400"/>
              </a:solidFill>
              <a:latin typeface="CG Ome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9400"/>
              </a:solidFill>
              <a:latin typeface="CG Omeg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9400"/>
              </a:solidFill>
              <a:latin typeface="CG Omeg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9400"/>
              </a:solidFill>
              <a:latin typeface="CG Ome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9400"/>
              </a:solidFill>
              <a:latin typeface="CG Omeg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9400"/>
              </a:solidFill>
              <a:latin typeface="CG Omeg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9400"/>
              </a:solidFill>
              <a:latin typeface="CG Omeg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9400"/>
              </a:solidFill>
              <a:latin typeface="CG Omeg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9400"/>
              </a:solidFill>
              <a:latin typeface="CG Omeg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9400"/>
              </a:solidFill>
              <a:latin typeface="CG Omeg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9400"/>
              </a:solidFill>
              <a:latin typeface="CG Omeg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a5b"/>
                </a:solidFill>
                <a:latin typeface="CG Omega"/>
              </a:rPr>
              <a:t>Click to edit the title text format</a:t>
            </a:r>
            <a:endParaRPr b="1" lang="en-US" sz="32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9400"/>
                </a:solidFill>
                <a:latin typeface="CG Omega"/>
              </a:rPr>
              <a:t>Click to edit the title text format</a:t>
            </a:r>
            <a:endParaRPr b="1" lang="en-US" sz="3200" spc="-1" strike="noStrike">
              <a:solidFill>
                <a:srgbClr val="4a9400"/>
              </a:solidFill>
              <a:latin typeface="CG Omeg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CG Omeg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G Omeg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CG Omeg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G Omeg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G Omega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CG Omeg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G Omeg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G Omeg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G Omeg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G Omeg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G Omeg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0" y="498600"/>
            <a:ext cx="9144000" cy="6563160"/>
            <a:chOff x="0" y="498600"/>
            <a:chExt cx="9144000" cy="6563160"/>
          </a:xfrm>
        </p:grpSpPr>
        <p:sp>
          <p:nvSpPr>
            <p:cNvPr id="77" name=""/>
            <p:cNvSpPr/>
            <p:nvPr/>
          </p:nvSpPr>
          <p:spPr>
            <a:xfrm>
              <a:off x="0" y="498600"/>
              <a:ext cx="4572000" cy="520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G Omega"/>
                  <a:ea typeface="PMingLiU"/>
                </a:rPr>
                <a:t>ECONOMIC DOWNTUR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498600"/>
              <a:ext cx="4572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G Omega"/>
                  <a:ea typeface="PMingLiU"/>
                </a:rPr>
                <a:t>SA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5146560"/>
              <a:ext cx="9144000" cy="1915200"/>
            </a:xfrm>
            <a:prstGeom prst="rect">
              <a:avLst/>
            </a:prstGeom>
            <a:solidFill>
              <a:srgbClr val="d9f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Presenter: Dr Robert Ch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Director, Public Opinion Programme, University of Hong K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June 26, 20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2120" y="1108080"/>
              <a:ext cx="7772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“</a:t>
              </a:r>
              <a:r>
                <a:rPr b="1" lang="en-US" sz="2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Changing Eating Habits Of The White-Collars - Under Economic Stress and SARS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0" y="3012840"/>
              <a:ext cx="9144000" cy="2361960"/>
              <a:chOff x="0" y="3012840"/>
              <a:chExt cx="9144000" cy="2361960"/>
            </a:xfrm>
          </p:grpSpPr>
          <p:sp>
            <p:nvSpPr>
              <p:cNvPr id="82" name=""/>
              <p:cNvSpPr/>
              <p:nvPr/>
            </p:nvSpPr>
            <p:spPr>
              <a:xfrm>
                <a:off x="0" y="3012840"/>
                <a:ext cx="9144000" cy="236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" name=""/>
              <p:cNvGrpSpPr/>
              <p:nvPr/>
            </p:nvGrpSpPr>
            <p:grpSpPr>
              <a:xfrm>
                <a:off x="76320" y="3088800"/>
                <a:ext cx="4799880" cy="75960"/>
                <a:chOff x="76320" y="3088800"/>
                <a:chExt cx="4799880" cy="75960"/>
              </a:xfrm>
            </p:grpSpPr>
            <p:grpSp>
              <p:nvGrpSpPr>
                <p:cNvPr id="84" name=""/>
                <p:cNvGrpSpPr/>
                <p:nvPr/>
              </p:nvGrpSpPr>
              <p:grpSpPr>
                <a:xfrm>
                  <a:off x="2514600" y="3088800"/>
                  <a:ext cx="2361600" cy="75960"/>
                  <a:chOff x="2514600" y="3088800"/>
                  <a:chExt cx="2361600" cy="75960"/>
                </a:xfrm>
              </p:grpSpPr>
              <p:grpSp>
                <p:nvGrpSpPr>
                  <p:cNvPr id="85" name=""/>
                  <p:cNvGrpSpPr/>
                  <p:nvPr/>
                </p:nvGrpSpPr>
                <p:grpSpPr>
                  <a:xfrm>
                    <a:off x="2514600" y="3088800"/>
                    <a:ext cx="1142640" cy="75960"/>
                    <a:chOff x="2514600" y="3088800"/>
                    <a:chExt cx="1142640" cy="75960"/>
                  </a:xfrm>
                </p:grpSpPr>
                <p:grpSp>
                  <p:nvGrpSpPr>
                    <p:cNvPr id="86" name=""/>
                    <p:cNvGrpSpPr/>
                    <p:nvPr/>
                  </p:nvGrpSpPr>
                  <p:grpSpPr>
                    <a:xfrm>
                      <a:off x="2514600" y="3088800"/>
                      <a:ext cx="533160" cy="75960"/>
                      <a:chOff x="2514600" y="3088800"/>
                      <a:chExt cx="533160" cy="75960"/>
                    </a:xfrm>
                  </p:grpSpPr>
                  <p:grpSp>
                    <p:nvGrpSpPr>
                      <p:cNvPr id="87" name=""/>
                      <p:cNvGrpSpPr/>
                      <p:nvPr/>
                    </p:nvGrpSpPr>
                    <p:grpSpPr>
                      <a:xfrm>
                        <a:off x="2514600" y="3088800"/>
                        <a:ext cx="228600" cy="75960"/>
                        <a:chOff x="2514600" y="3088800"/>
                        <a:chExt cx="228600" cy="75960"/>
                      </a:xfrm>
                    </p:grpSpPr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>
                          <a:off x="2514600" y="3088800"/>
                          <a:ext cx="7596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>
                          <a:off x="2666880" y="3088800"/>
                          <a:ext cx="7632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0" name=""/>
                      <p:cNvGrpSpPr/>
                      <p:nvPr/>
                    </p:nvGrpSpPr>
                    <p:grpSpPr>
                      <a:xfrm>
                        <a:off x="2819160" y="3088800"/>
                        <a:ext cx="228600" cy="75960"/>
                        <a:chOff x="2819160" y="3088800"/>
                        <a:chExt cx="228600" cy="75960"/>
                      </a:xfrm>
                    </p:grpSpPr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>
                          <a:off x="2819160" y="3088800"/>
                          <a:ext cx="7596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>
                          <a:off x="2971440" y="3088800"/>
                          <a:ext cx="7632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93" name=""/>
                    <p:cNvGrpSpPr/>
                    <p:nvPr/>
                  </p:nvGrpSpPr>
                  <p:grpSpPr>
                    <a:xfrm>
                      <a:off x="3124080" y="3088800"/>
                      <a:ext cx="533160" cy="75960"/>
                      <a:chOff x="3124080" y="3088800"/>
                      <a:chExt cx="533160" cy="75960"/>
                    </a:xfrm>
                  </p:grpSpPr>
                  <p:grpSp>
                    <p:nvGrpSpPr>
                      <p:cNvPr id="94" name=""/>
                      <p:cNvGrpSpPr/>
                      <p:nvPr/>
                    </p:nvGrpSpPr>
                    <p:grpSpPr>
                      <a:xfrm>
                        <a:off x="3124080" y="3088800"/>
                        <a:ext cx="228600" cy="75960"/>
                        <a:chOff x="3124080" y="3088800"/>
                        <a:chExt cx="228600" cy="75960"/>
                      </a:xfrm>
                    </p:grpSpPr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>
                          <a:off x="3124080" y="3088800"/>
                          <a:ext cx="7596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>
                          <a:off x="3276360" y="3088800"/>
                          <a:ext cx="7632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7" name=""/>
                      <p:cNvGrpSpPr/>
                      <p:nvPr/>
                    </p:nvGrpSpPr>
                    <p:grpSpPr>
                      <a:xfrm>
                        <a:off x="3428640" y="3088800"/>
                        <a:ext cx="228600" cy="75960"/>
                        <a:chOff x="3428640" y="3088800"/>
                        <a:chExt cx="228600" cy="75960"/>
                      </a:xfrm>
                    </p:grpSpPr>
                    <p:sp>
                      <p:nvSpPr>
                        <p:cNvPr id="98" name=""/>
                        <p:cNvSpPr/>
                        <p:nvPr/>
                      </p:nvSpPr>
                      <p:spPr>
                        <a:xfrm>
                          <a:off x="3428640" y="3088800"/>
                          <a:ext cx="7596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9" name=""/>
                        <p:cNvSpPr/>
                        <p:nvPr/>
                      </p:nvSpPr>
                      <p:spPr>
                        <a:xfrm>
                          <a:off x="3580920" y="3088800"/>
                          <a:ext cx="7632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00" name=""/>
                  <p:cNvGrpSpPr/>
                  <p:nvPr/>
                </p:nvGrpSpPr>
                <p:grpSpPr>
                  <a:xfrm>
                    <a:off x="3733560" y="3088800"/>
                    <a:ext cx="1142640" cy="75960"/>
                    <a:chOff x="3733560" y="3088800"/>
                    <a:chExt cx="1142640" cy="75960"/>
                  </a:xfrm>
                </p:grpSpPr>
                <p:grpSp>
                  <p:nvGrpSpPr>
                    <p:cNvPr id="101" name=""/>
                    <p:cNvGrpSpPr/>
                    <p:nvPr/>
                  </p:nvGrpSpPr>
                  <p:grpSpPr>
                    <a:xfrm>
                      <a:off x="3733560" y="3088800"/>
                      <a:ext cx="533160" cy="75960"/>
                      <a:chOff x="3733560" y="3088800"/>
                      <a:chExt cx="533160" cy="75960"/>
                    </a:xfrm>
                  </p:grpSpPr>
                  <p:grpSp>
                    <p:nvGrpSpPr>
                      <p:cNvPr id="102" name=""/>
                      <p:cNvGrpSpPr/>
                      <p:nvPr/>
                    </p:nvGrpSpPr>
                    <p:grpSpPr>
                      <a:xfrm>
                        <a:off x="3733560" y="3088800"/>
                        <a:ext cx="228600" cy="75960"/>
                        <a:chOff x="3733560" y="3088800"/>
                        <a:chExt cx="228600" cy="75960"/>
                      </a:xfrm>
                    </p:grpSpPr>
                    <p:sp>
                      <p:nvSpPr>
                        <p:cNvPr id="103" name=""/>
                        <p:cNvSpPr/>
                        <p:nvPr/>
                      </p:nvSpPr>
                      <p:spPr>
                        <a:xfrm>
                          <a:off x="3733560" y="3088800"/>
                          <a:ext cx="7596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" name=""/>
                        <p:cNvSpPr/>
                        <p:nvPr/>
                      </p:nvSpPr>
                      <p:spPr>
                        <a:xfrm>
                          <a:off x="3885840" y="3088800"/>
                          <a:ext cx="7632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5" name=""/>
                      <p:cNvGrpSpPr/>
                      <p:nvPr/>
                    </p:nvGrpSpPr>
                    <p:grpSpPr>
                      <a:xfrm>
                        <a:off x="4038120" y="3088800"/>
                        <a:ext cx="228600" cy="75960"/>
                        <a:chOff x="4038120" y="3088800"/>
                        <a:chExt cx="228600" cy="75960"/>
                      </a:xfrm>
                    </p:grpSpPr>
                    <p:sp>
                      <p:nvSpPr>
                        <p:cNvPr id="106" name=""/>
                        <p:cNvSpPr/>
                        <p:nvPr/>
                      </p:nvSpPr>
                      <p:spPr>
                        <a:xfrm>
                          <a:off x="4038120" y="3088800"/>
                          <a:ext cx="7596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" name=""/>
                        <p:cNvSpPr/>
                        <p:nvPr/>
                      </p:nvSpPr>
                      <p:spPr>
                        <a:xfrm>
                          <a:off x="4190400" y="3088800"/>
                          <a:ext cx="7632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8" name=""/>
                    <p:cNvGrpSpPr/>
                    <p:nvPr/>
                  </p:nvGrpSpPr>
                  <p:grpSpPr>
                    <a:xfrm>
                      <a:off x="4343040" y="3088800"/>
                      <a:ext cx="533160" cy="75960"/>
                      <a:chOff x="4343040" y="3088800"/>
                      <a:chExt cx="533160" cy="75960"/>
                    </a:xfrm>
                  </p:grpSpPr>
                  <p:grpSp>
                    <p:nvGrpSpPr>
                      <p:cNvPr id="109" name=""/>
                      <p:cNvGrpSpPr/>
                      <p:nvPr/>
                    </p:nvGrpSpPr>
                    <p:grpSpPr>
                      <a:xfrm>
                        <a:off x="4343040" y="3088800"/>
                        <a:ext cx="228600" cy="75960"/>
                        <a:chOff x="4343040" y="3088800"/>
                        <a:chExt cx="228600" cy="75960"/>
                      </a:xfrm>
                    </p:grpSpPr>
                    <p:sp>
                      <p:nvSpPr>
                        <p:cNvPr id="110" name=""/>
                        <p:cNvSpPr/>
                        <p:nvPr/>
                      </p:nvSpPr>
                      <p:spPr>
                        <a:xfrm>
                          <a:off x="4343040" y="3088800"/>
                          <a:ext cx="7596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1" name=""/>
                        <p:cNvSpPr/>
                        <p:nvPr/>
                      </p:nvSpPr>
                      <p:spPr>
                        <a:xfrm>
                          <a:off x="4495320" y="3088800"/>
                          <a:ext cx="7632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12" name=""/>
                      <p:cNvGrpSpPr/>
                      <p:nvPr/>
                    </p:nvGrpSpPr>
                    <p:grpSpPr>
                      <a:xfrm>
                        <a:off x="4647600" y="3088800"/>
                        <a:ext cx="228600" cy="75960"/>
                        <a:chOff x="4647600" y="3088800"/>
                        <a:chExt cx="228600" cy="75960"/>
                      </a:xfrm>
                    </p:grpSpPr>
                    <p:sp>
                      <p:nvSpPr>
                        <p:cNvPr id="113" name=""/>
                        <p:cNvSpPr/>
                        <p:nvPr/>
                      </p:nvSpPr>
                      <p:spPr>
                        <a:xfrm>
                          <a:off x="4647600" y="3088800"/>
                          <a:ext cx="7596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4" name=""/>
                        <p:cNvSpPr/>
                        <p:nvPr/>
                      </p:nvSpPr>
                      <p:spPr>
                        <a:xfrm>
                          <a:off x="4799880" y="3088800"/>
                          <a:ext cx="7632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15" name=""/>
                <p:cNvGrpSpPr/>
                <p:nvPr/>
              </p:nvGrpSpPr>
              <p:grpSpPr>
                <a:xfrm>
                  <a:off x="76320" y="3088800"/>
                  <a:ext cx="2361600" cy="75960"/>
                  <a:chOff x="76320" y="3088800"/>
                  <a:chExt cx="2361600" cy="75960"/>
                </a:xfrm>
              </p:grpSpPr>
              <p:grpSp>
                <p:nvGrpSpPr>
                  <p:cNvPr id="116" name=""/>
                  <p:cNvGrpSpPr/>
                  <p:nvPr/>
                </p:nvGrpSpPr>
                <p:grpSpPr>
                  <a:xfrm>
                    <a:off x="76320" y="3088800"/>
                    <a:ext cx="1142640" cy="75960"/>
                    <a:chOff x="76320" y="3088800"/>
                    <a:chExt cx="1142640" cy="75960"/>
                  </a:xfrm>
                </p:grpSpPr>
                <p:grpSp>
                  <p:nvGrpSpPr>
                    <p:cNvPr id="117" name=""/>
                    <p:cNvGrpSpPr/>
                    <p:nvPr/>
                  </p:nvGrpSpPr>
                  <p:grpSpPr>
                    <a:xfrm>
                      <a:off x="76320" y="3088800"/>
                      <a:ext cx="533160" cy="75960"/>
                      <a:chOff x="76320" y="3088800"/>
                      <a:chExt cx="533160" cy="75960"/>
                    </a:xfrm>
                  </p:grpSpPr>
                  <p:grpSp>
                    <p:nvGrpSpPr>
                      <p:cNvPr id="118" name=""/>
                      <p:cNvGrpSpPr/>
                      <p:nvPr/>
                    </p:nvGrpSpPr>
                    <p:grpSpPr>
                      <a:xfrm>
                        <a:off x="76320" y="3088800"/>
                        <a:ext cx="228600" cy="75960"/>
                        <a:chOff x="76320" y="3088800"/>
                        <a:chExt cx="228600" cy="75960"/>
                      </a:xfrm>
                    </p:grpSpPr>
                    <p:sp>
                      <p:nvSpPr>
                        <p:cNvPr id="119" name=""/>
                        <p:cNvSpPr/>
                        <p:nvPr/>
                      </p:nvSpPr>
                      <p:spPr>
                        <a:xfrm>
                          <a:off x="76320" y="3088800"/>
                          <a:ext cx="7596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0" name=""/>
                        <p:cNvSpPr/>
                        <p:nvPr/>
                      </p:nvSpPr>
                      <p:spPr>
                        <a:xfrm>
                          <a:off x="228600" y="3088800"/>
                          <a:ext cx="7632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1" name=""/>
                      <p:cNvGrpSpPr/>
                      <p:nvPr/>
                    </p:nvGrpSpPr>
                    <p:grpSpPr>
                      <a:xfrm>
                        <a:off x="380880" y="3088800"/>
                        <a:ext cx="228600" cy="75960"/>
                        <a:chOff x="380880" y="3088800"/>
                        <a:chExt cx="228600" cy="75960"/>
                      </a:xfrm>
                    </p:grpSpPr>
                    <p:sp>
                      <p:nvSpPr>
                        <p:cNvPr id="122" name=""/>
                        <p:cNvSpPr/>
                        <p:nvPr/>
                      </p:nvSpPr>
                      <p:spPr>
                        <a:xfrm>
                          <a:off x="380880" y="3088800"/>
                          <a:ext cx="7596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3" name=""/>
                        <p:cNvSpPr/>
                        <p:nvPr/>
                      </p:nvSpPr>
                      <p:spPr>
                        <a:xfrm>
                          <a:off x="533160" y="3088800"/>
                          <a:ext cx="7632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4" name=""/>
                    <p:cNvGrpSpPr/>
                    <p:nvPr/>
                  </p:nvGrpSpPr>
                  <p:grpSpPr>
                    <a:xfrm>
                      <a:off x="685800" y="3088800"/>
                      <a:ext cx="533160" cy="75960"/>
                      <a:chOff x="685800" y="3088800"/>
                      <a:chExt cx="533160" cy="75960"/>
                    </a:xfrm>
                  </p:grpSpPr>
                  <p:grpSp>
                    <p:nvGrpSpPr>
                      <p:cNvPr id="125" name=""/>
                      <p:cNvGrpSpPr/>
                      <p:nvPr/>
                    </p:nvGrpSpPr>
                    <p:grpSpPr>
                      <a:xfrm>
                        <a:off x="685800" y="3088800"/>
                        <a:ext cx="228600" cy="75960"/>
                        <a:chOff x="685800" y="3088800"/>
                        <a:chExt cx="228600" cy="75960"/>
                      </a:xfrm>
                    </p:grpSpPr>
                    <p:sp>
                      <p:nvSpPr>
                        <p:cNvPr id="126" name=""/>
                        <p:cNvSpPr/>
                        <p:nvPr/>
                      </p:nvSpPr>
                      <p:spPr>
                        <a:xfrm>
                          <a:off x="685800" y="3088800"/>
                          <a:ext cx="7596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7" name=""/>
                        <p:cNvSpPr/>
                        <p:nvPr/>
                      </p:nvSpPr>
                      <p:spPr>
                        <a:xfrm>
                          <a:off x="838080" y="3088800"/>
                          <a:ext cx="7632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8" name=""/>
                      <p:cNvGrpSpPr/>
                      <p:nvPr/>
                    </p:nvGrpSpPr>
                    <p:grpSpPr>
                      <a:xfrm>
                        <a:off x="990360" y="3088800"/>
                        <a:ext cx="228600" cy="75960"/>
                        <a:chOff x="990360" y="3088800"/>
                        <a:chExt cx="228600" cy="75960"/>
                      </a:xfrm>
                    </p:grpSpPr>
                    <p:sp>
                      <p:nvSpPr>
                        <p:cNvPr id="129" name=""/>
                        <p:cNvSpPr/>
                        <p:nvPr/>
                      </p:nvSpPr>
                      <p:spPr>
                        <a:xfrm>
                          <a:off x="990360" y="3088800"/>
                          <a:ext cx="7596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0" name=""/>
                        <p:cNvSpPr/>
                        <p:nvPr/>
                      </p:nvSpPr>
                      <p:spPr>
                        <a:xfrm>
                          <a:off x="1142640" y="3088800"/>
                          <a:ext cx="7632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31" name=""/>
                  <p:cNvGrpSpPr/>
                  <p:nvPr/>
                </p:nvGrpSpPr>
                <p:grpSpPr>
                  <a:xfrm>
                    <a:off x="1295280" y="3088800"/>
                    <a:ext cx="1142640" cy="75960"/>
                    <a:chOff x="1295280" y="3088800"/>
                    <a:chExt cx="1142640" cy="75960"/>
                  </a:xfrm>
                </p:grpSpPr>
                <p:grpSp>
                  <p:nvGrpSpPr>
                    <p:cNvPr id="132" name=""/>
                    <p:cNvGrpSpPr/>
                    <p:nvPr/>
                  </p:nvGrpSpPr>
                  <p:grpSpPr>
                    <a:xfrm>
                      <a:off x="1295280" y="3088800"/>
                      <a:ext cx="533160" cy="75960"/>
                      <a:chOff x="1295280" y="3088800"/>
                      <a:chExt cx="533160" cy="75960"/>
                    </a:xfrm>
                  </p:grpSpPr>
                  <p:grpSp>
                    <p:nvGrpSpPr>
                      <p:cNvPr id="133" name=""/>
                      <p:cNvGrpSpPr/>
                      <p:nvPr/>
                    </p:nvGrpSpPr>
                    <p:grpSpPr>
                      <a:xfrm>
                        <a:off x="1295280" y="3088800"/>
                        <a:ext cx="228600" cy="75960"/>
                        <a:chOff x="1295280" y="3088800"/>
                        <a:chExt cx="228600" cy="75960"/>
                      </a:xfrm>
                    </p:grpSpPr>
                    <p:sp>
                      <p:nvSpPr>
                        <p:cNvPr id="134" name=""/>
                        <p:cNvSpPr/>
                        <p:nvPr/>
                      </p:nvSpPr>
                      <p:spPr>
                        <a:xfrm>
                          <a:off x="1295280" y="3088800"/>
                          <a:ext cx="7596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5" name=""/>
                        <p:cNvSpPr/>
                        <p:nvPr/>
                      </p:nvSpPr>
                      <p:spPr>
                        <a:xfrm>
                          <a:off x="1447560" y="3088800"/>
                          <a:ext cx="7632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36" name=""/>
                      <p:cNvGrpSpPr/>
                      <p:nvPr/>
                    </p:nvGrpSpPr>
                    <p:grpSpPr>
                      <a:xfrm>
                        <a:off x="1599840" y="3088800"/>
                        <a:ext cx="228600" cy="75960"/>
                        <a:chOff x="1599840" y="3088800"/>
                        <a:chExt cx="228600" cy="75960"/>
                      </a:xfrm>
                    </p:grpSpPr>
                    <p:sp>
                      <p:nvSpPr>
                        <p:cNvPr id="137" name=""/>
                        <p:cNvSpPr/>
                        <p:nvPr/>
                      </p:nvSpPr>
                      <p:spPr>
                        <a:xfrm>
                          <a:off x="1599840" y="3088800"/>
                          <a:ext cx="7596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8" name=""/>
                        <p:cNvSpPr/>
                        <p:nvPr/>
                      </p:nvSpPr>
                      <p:spPr>
                        <a:xfrm>
                          <a:off x="1752120" y="3088800"/>
                          <a:ext cx="7632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9" name=""/>
                    <p:cNvGrpSpPr/>
                    <p:nvPr/>
                  </p:nvGrpSpPr>
                  <p:grpSpPr>
                    <a:xfrm>
                      <a:off x="1904760" y="3088800"/>
                      <a:ext cx="533160" cy="75960"/>
                      <a:chOff x="1904760" y="3088800"/>
                      <a:chExt cx="533160" cy="75960"/>
                    </a:xfrm>
                  </p:grpSpPr>
                  <p:grpSp>
                    <p:nvGrpSpPr>
                      <p:cNvPr id="140" name=""/>
                      <p:cNvGrpSpPr/>
                      <p:nvPr/>
                    </p:nvGrpSpPr>
                    <p:grpSpPr>
                      <a:xfrm>
                        <a:off x="1904760" y="3088800"/>
                        <a:ext cx="228600" cy="75960"/>
                        <a:chOff x="1904760" y="3088800"/>
                        <a:chExt cx="228600" cy="75960"/>
                      </a:xfrm>
                    </p:grpSpPr>
                    <p:sp>
                      <p:nvSpPr>
                        <p:cNvPr id="141" name=""/>
                        <p:cNvSpPr/>
                        <p:nvPr/>
                      </p:nvSpPr>
                      <p:spPr>
                        <a:xfrm>
                          <a:off x="1904760" y="3088800"/>
                          <a:ext cx="7596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2" name=""/>
                        <p:cNvSpPr/>
                        <p:nvPr/>
                      </p:nvSpPr>
                      <p:spPr>
                        <a:xfrm>
                          <a:off x="2057040" y="3088800"/>
                          <a:ext cx="7632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3" name=""/>
                      <p:cNvGrpSpPr/>
                      <p:nvPr/>
                    </p:nvGrpSpPr>
                    <p:grpSpPr>
                      <a:xfrm>
                        <a:off x="2209320" y="3088800"/>
                        <a:ext cx="228600" cy="75960"/>
                        <a:chOff x="2209320" y="3088800"/>
                        <a:chExt cx="228600" cy="75960"/>
                      </a:xfrm>
                    </p:grpSpPr>
                    <p:sp>
                      <p:nvSpPr>
                        <p:cNvPr id="144" name=""/>
                        <p:cNvSpPr/>
                        <p:nvPr/>
                      </p:nvSpPr>
                      <p:spPr>
                        <a:xfrm>
                          <a:off x="2209320" y="3088800"/>
                          <a:ext cx="7596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5" name=""/>
                        <p:cNvSpPr/>
                        <p:nvPr/>
                      </p:nvSpPr>
                      <p:spPr>
                        <a:xfrm>
                          <a:off x="2361600" y="3088800"/>
                          <a:ext cx="76320" cy="759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46" name=""/>
              <p:cNvGrpSpPr/>
              <p:nvPr/>
            </p:nvGrpSpPr>
            <p:grpSpPr>
              <a:xfrm>
                <a:off x="6781680" y="3088800"/>
                <a:ext cx="2361600" cy="75960"/>
                <a:chOff x="6781680" y="3088800"/>
                <a:chExt cx="2361600" cy="75960"/>
              </a:xfrm>
            </p:grpSpPr>
            <p:grpSp>
              <p:nvGrpSpPr>
                <p:cNvPr id="147" name=""/>
                <p:cNvGrpSpPr/>
                <p:nvPr/>
              </p:nvGrpSpPr>
              <p:grpSpPr>
                <a:xfrm>
                  <a:off x="6781680" y="3088800"/>
                  <a:ext cx="1142640" cy="75960"/>
                  <a:chOff x="6781680" y="3088800"/>
                  <a:chExt cx="1142640" cy="75960"/>
                </a:xfrm>
              </p:grpSpPr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6781680" y="3088800"/>
                    <a:ext cx="533160" cy="75960"/>
                    <a:chOff x="6781680" y="3088800"/>
                    <a:chExt cx="533160" cy="75960"/>
                  </a:xfrm>
                </p:grpSpPr>
                <p:grpSp>
                  <p:nvGrpSpPr>
                    <p:cNvPr id="149" name=""/>
                    <p:cNvGrpSpPr/>
                    <p:nvPr/>
                  </p:nvGrpSpPr>
                  <p:grpSpPr>
                    <a:xfrm>
                      <a:off x="6781680" y="3088800"/>
                      <a:ext cx="228600" cy="75960"/>
                      <a:chOff x="6781680" y="3088800"/>
                      <a:chExt cx="228600" cy="75960"/>
                    </a:xfrm>
                  </p:grpSpPr>
                  <p:sp>
                    <p:nvSpPr>
                      <p:cNvPr id="150" name=""/>
                      <p:cNvSpPr/>
                      <p:nvPr/>
                    </p:nvSpPr>
                    <p:spPr>
                      <a:xfrm>
                        <a:off x="6781680" y="308880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" name=""/>
                      <p:cNvSpPr/>
                      <p:nvPr/>
                    </p:nvSpPr>
                    <p:spPr>
                      <a:xfrm>
                        <a:off x="6933960" y="308880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2" name=""/>
                    <p:cNvGrpSpPr/>
                    <p:nvPr/>
                  </p:nvGrpSpPr>
                  <p:grpSpPr>
                    <a:xfrm>
                      <a:off x="7086240" y="3088800"/>
                      <a:ext cx="228600" cy="75960"/>
                      <a:chOff x="7086240" y="3088800"/>
                      <a:chExt cx="228600" cy="75960"/>
                    </a:xfrm>
                  </p:grpSpPr>
                  <p:sp>
                    <p:nvSpPr>
                      <p:cNvPr id="153" name=""/>
                      <p:cNvSpPr/>
                      <p:nvPr/>
                    </p:nvSpPr>
                    <p:spPr>
                      <a:xfrm>
                        <a:off x="7086240" y="308880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4" name=""/>
                      <p:cNvSpPr/>
                      <p:nvPr/>
                    </p:nvSpPr>
                    <p:spPr>
                      <a:xfrm>
                        <a:off x="7238520" y="308880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55" name=""/>
                  <p:cNvGrpSpPr/>
                  <p:nvPr/>
                </p:nvGrpSpPr>
                <p:grpSpPr>
                  <a:xfrm>
                    <a:off x="7391160" y="3088800"/>
                    <a:ext cx="533160" cy="75960"/>
                    <a:chOff x="7391160" y="3088800"/>
                    <a:chExt cx="533160" cy="75960"/>
                  </a:xfrm>
                </p:grpSpPr>
                <p:grpSp>
                  <p:nvGrpSpPr>
                    <p:cNvPr id="156" name=""/>
                    <p:cNvGrpSpPr/>
                    <p:nvPr/>
                  </p:nvGrpSpPr>
                  <p:grpSpPr>
                    <a:xfrm>
                      <a:off x="7391160" y="3088800"/>
                      <a:ext cx="228600" cy="75960"/>
                      <a:chOff x="7391160" y="3088800"/>
                      <a:chExt cx="228600" cy="75960"/>
                    </a:xfrm>
                  </p:grpSpPr>
                  <p:sp>
                    <p:nvSpPr>
                      <p:cNvPr id="157" name=""/>
                      <p:cNvSpPr/>
                      <p:nvPr/>
                    </p:nvSpPr>
                    <p:spPr>
                      <a:xfrm>
                        <a:off x="7391160" y="308880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8" name=""/>
                      <p:cNvSpPr/>
                      <p:nvPr/>
                    </p:nvSpPr>
                    <p:spPr>
                      <a:xfrm>
                        <a:off x="7543440" y="308880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9" name=""/>
                    <p:cNvGrpSpPr/>
                    <p:nvPr/>
                  </p:nvGrpSpPr>
                  <p:grpSpPr>
                    <a:xfrm>
                      <a:off x="7695720" y="3088800"/>
                      <a:ext cx="228600" cy="75960"/>
                      <a:chOff x="7695720" y="3088800"/>
                      <a:chExt cx="228600" cy="75960"/>
                    </a:xfrm>
                  </p:grpSpPr>
                  <p:sp>
                    <p:nvSpPr>
                      <p:cNvPr id="160" name=""/>
                      <p:cNvSpPr/>
                      <p:nvPr/>
                    </p:nvSpPr>
                    <p:spPr>
                      <a:xfrm>
                        <a:off x="7695720" y="308880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1" name=""/>
                      <p:cNvSpPr/>
                      <p:nvPr/>
                    </p:nvSpPr>
                    <p:spPr>
                      <a:xfrm>
                        <a:off x="7848000" y="308880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8000640" y="3088800"/>
                  <a:ext cx="1142640" cy="75960"/>
                  <a:chOff x="8000640" y="3088800"/>
                  <a:chExt cx="1142640" cy="75960"/>
                </a:xfrm>
              </p:grpSpPr>
              <p:grpSp>
                <p:nvGrpSpPr>
                  <p:cNvPr id="163" name=""/>
                  <p:cNvGrpSpPr/>
                  <p:nvPr/>
                </p:nvGrpSpPr>
                <p:grpSpPr>
                  <a:xfrm>
                    <a:off x="8000640" y="3088800"/>
                    <a:ext cx="533160" cy="75960"/>
                    <a:chOff x="8000640" y="3088800"/>
                    <a:chExt cx="533160" cy="75960"/>
                  </a:xfrm>
                </p:grpSpPr>
                <p:grpSp>
                  <p:nvGrpSpPr>
                    <p:cNvPr id="164" name=""/>
                    <p:cNvGrpSpPr/>
                    <p:nvPr/>
                  </p:nvGrpSpPr>
                  <p:grpSpPr>
                    <a:xfrm>
                      <a:off x="8000640" y="3088800"/>
                      <a:ext cx="228600" cy="75960"/>
                      <a:chOff x="8000640" y="3088800"/>
                      <a:chExt cx="228600" cy="75960"/>
                    </a:xfrm>
                  </p:grpSpPr>
                  <p:sp>
                    <p:nvSpPr>
                      <p:cNvPr id="165" name=""/>
                      <p:cNvSpPr/>
                      <p:nvPr/>
                    </p:nvSpPr>
                    <p:spPr>
                      <a:xfrm>
                        <a:off x="8000640" y="308880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" name=""/>
                      <p:cNvSpPr/>
                      <p:nvPr/>
                    </p:nvSpPr>
                    <p:spPr>
                      <a:xfrm>
                        <a:off x="8152920" y="308880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7" name=""/>
                    <p:cNvGrpSpPr/>
                    <p:nvPr/>
                  </p:nvGrpSpPr>
                  <p:grpSpPr>
                    <a:xfrm>
                      <a:off x="8305200" y="3088800"/>
                      <a:ext cx="228600" cy="75960"/>
                      <a:chOff x="8305200" y="3088800"/>
                      <a:chExt cx="228600" cy="75960"/>
                    </a:xfrm>
                  </p:grpSpPr>
                  <p:sp>
                    <p:nvSpPr>
                      <p:cNvPr id="168" name=""/>
                      <p:cNvSpPr/>
                      <p:nvPr/>
                    </p:nvSpPr>
                    <p:spPr>
                      <a:xfrm>
                        <a:off x="8305200" y="308880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" name=""/>
                      <p:cNvSpPr/>
                      <p:nvPr/>
                    </p:nvSpPr>
                    <p:spPr>
                      <a:xfrm>
                        <a:off x="8457480" y="308880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70" name=""/>
                  <p:cNvGrpSpPr/>
                  <p:nvPr/>
                </p:nvGrpSpPr>
                <p:grpSpPr>
                  <a:xfrm>
                    <a:off x="8610120" y="3088800"/>
                    <a:ext cx="533160" cy="75960"/>
                    <a:chOff x="8610120" y="3088800"/>
                    <a:chExt cx="533160" cy="75960"/>
                  </a:xfrm>
                </p:grpSpPr>
                <p:grpSp>
                  <p:nvGrpSpPr>
                    <p:cNvPr id="171" name=""/>
                    <p:cNvGrpSpPr/>
                    <p:nvPr/>
                  </p:nvGrpSpPr>
                  <p:grpSpPr>
                    <a:xfrm>
                      <a:off x="8610120" y="3088800"/>
                      <a:ext cx="228600" cy="75960"/>
                      <a:chOff x="8610120" y="3088800"/>
                      <a:chExt cx="228600" cy="75960"/>
                    </a:xfrm>
                  </p:grpSpPr>
                  <p:sp>
                    <p:nvSpPr>
                      <p:cNvPr id="172" name=""/>
                      <p:cNvSpPr/>
                      <p:nvPr/>
                    </p:nvSpPr>
                    <p:spPr>
                      <a:xfrm>
                        <a:off x="8610120" y="308880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" name=""/>
                      <p:cNvSpPr/>
                      <p:nvPr/>
                    </p:nvSpPr>
                    <p:spPr>
                      <a:xfrm>
                        <a:off x="8762400" y="308880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4" name=""/>
                    <p:cNvGrpSpPr/>
                    <p:nvPr/>
                  </p:nvGrpSpPr>
                  <p:grpSpPr>
                    <a:xfrm>
                      <a:off x="8914680" y="3088800"/>
                      <a:ext cx="228600" cy="75960"/>
                      <a:chOff x="8914680" y="3088800"/>
                      <a:chExt cx="228600" cy="75960"/>
                    </a:xfrm>
                  </p:grpSpPr>
                  <p:sp>
                    <p:nvSpPr>
                      <p:cNvPr id="175" name=""/>
                      <p:cNvSpPr/>
                      <p:nvPr/>
                    </p:nvSpPr>
                    <p:spPr>
                      <a:xfrm>
                        <a:off x="8914680" y="308880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9066960" y="308880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77" name=""/>
              <p:cNvGrpSpPr/>
              <p:nvPr/>
            </p:nvGrpSpPr>
            <p:grpSpPr>
              <a:xfrm>
                <a:off x="4952880" y="3088800"/>
                <a:ext cx="533160" cy="75960"/>
                <a:chOff x="4952880" y="3088800"/>
                <a:chExt cx="533160" cy="7596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4952880" y="3088800"/>
                  <a:ext cx="228600" cy="75960"/>
                  <a:chOff x="4952880" y="3088800"/>
                  <a:chExt cx="228600" cy="7596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4952880" y="3088800"/>
                    <a:ext cx="7596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5105160" y="3088800"/>
                    <a:ext cx="763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5257440" y="3088800"/>
                  <a:ext cx="228600" cy="75960"/>
                  <a:chOff x="5257440" y="3088800"/>
                  <a:chExt cx="228600" cy="7596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5257440" y="3088800"/>
                    <a:ext cx="7596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5409720" y="3088800"/>
                    <a:ext cx="763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4" name=""/>
              <p:cNvGrpSpPr/>
              <p:nvPr/>
            </p:nvGrpSpPr>
            <p:grpSpPr>
              <a:xfrm>
                <a:off x="5562720" y="3088800"/>
                <a:ext cx="1142640" cy="75960"/>
                <a:chOff x="5562720" y="3088800"/>
                <a:chExt cx="1142640" cy="75960"/>
              </a:xfrm>
            </p:grpSpPr>
            <p:grpSp>
              <p:nvGrpSpPr>
                <p:cNvPr id="185" name=""/>
                <p:cNvGrpSpPr/>
                <p:nvPr/>
              </p:nvGrpSpPr>
              <p:grpSpPr>
                <a:xfrm>
                  <a:off x="5562720" y="3088800"/>
                  <a:ext cx="533160" cy="75960"/>
                  <a:chOff x="5562720" y="3088800"/>
                  <a:chExt cx="533160" cy="7596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562720" y="3088800"/>
                    <a:ext cx="228600" cy="75960"/>
                    <a:chOff x="5562720" y="3088800"/>
                    <a:chExt cx="228600" cy="7596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5562720" y="3088800"/>
                      <a:ext cx="7596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5715000" y="3088800"/>
                      <a:ext cx="763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867280" y="3088800"/>
                    <a:ext cx="228600" cy="75960"/>
                    <a:chOff x="5867280" y="3088800"/>
                    <a:chExt cx="228600" cy="759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867280" y="3088800"/>
                      <a:ext cx="7596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6019560" y="3088800"/>
                      <a:ext cx="763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6172200" y="3088800"/>
                  <a:ext cx="533160" cy="75960"/>
                  <a:chOff x="6172200" y="3088800"/>
                  <a:chExt cx="533160" cy="75960"/>
                </a:xfrm>
              </p:grpSpPr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6172200" y="3088800"/>
                    <a:ext cx="228600" cy="75960"/>
                    <a:chOff x="6172200" y="3088800"/>
                    <a:chExt cx="228600" cy="759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6172200" y="3088800"/>
                      <a:ext cx="7596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6324480" y="3088800"/>
                      <a:ext cx="763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6" name=""/>
                  <p:cNvGrpSpPr/>
                  <p:nvPr/>
                </p:nvGrpSpPr>
                <p:grpSpPr>
                  <a:xfrm>
                    <a:off x="6476760" y="3088800"/>
                    <a:ext cx="228600" cy="75960"/>
                    <a:chOff x="6476760" y="3088800"/>
                    <a:chExt cx="228600" cy="75960"/>
                  </a:xfrm>
                </p:grpSpPr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6476760" y="3088800"/>
                      <a:ext cx="7596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6629040" y="3088800"/>
                      <a:ext cx="763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99" name=""/>
              <p:cNvGrpSpPr/>
              <p:nvPr/>
            </p:nvGrpSpPr>
            <p:grpSpPr>
              <a:xfrm>
                <a:off x="0" y="5222520"/>
                <a:ext cx="4799880" cy="75600"/>
                <a:chOff x="0" y="5222520"/>
                <a:chExt cx="4799880" cy="75600"/>
              </a:xfrm>
            </p:grpSpPr>
            <p:grpSp>
              <p:nvGrpSpPr>
                <p:cNvPr id="200" name=""/>
                <p:cNvGrpSpPr/>
                <p:nvPr/>
              </p:nvGrpSpPr>
              <p:grpSpPr>
                <a:xfrm>
                  <a:off x="2438280" y="5222520"/>
                  <a:ext cx="2361600" cy="75600"/>
                  <a:chOff x="2438280" y="5222520"/>
                  <a:chExt cx="2361600" cy="75600"/>
                </a:xfrm>
              </p:grpSpPr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2438280" y="5222520"/>
                    <a:ext cx="1142640" cy="75600"/>
                    <a:chOff x="2438280" y="5222520"/>
                    <a:chExt cx="1142640" cy="75600"/>
                  </a:xfrm>
                </p:grpSpPr>
                <p:grpSp>
                  <p:nvGrpSpPr>
                    <p:cNvPr id="202" name=""/>
                    <p:cNvGrpSpPr/>
                    <p:nvPr/>
                  </p:nvGrpSpPr>
                  <p:grpSpPr>
                    <a:xfrm>
                      <a:off x="2438280" y="5222520"/>
                      <a:ext cx="533160" cy="75600"/>
                      <a:chOff x="2438280" y="5222520"/>
                      <a:chExt cx="533160" cy="75600"/>
                    </a:xfrm>
                  </p:grpSpPr>
                  <p:grpSp>
                    <p:nvGrpSpPr>
                      <p:cNvPr id="203" name=""/>
                      <p:cNvGrpSpPr/>
                      <p:nvPr/>
                    </p:nvGrpSpPr>
                    <p:grpSpPr>
                      <a:xfrm>
                        <a:off x="2438280" y="5222520"/>
                        <a:ext cx="228600" cy="75600"/>
                        <a:chOff x="2438280" y="5222520"/>
                        <a:chExt cx="228600" cy="75600"/>
                      </a:xfrm>
                    </p:grpSpPr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438280" y="5222520"/>
                          <a:ext cx="75960" cy="7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0" bIns="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590560" y="5222520"/>
                          <a:ext cx="76320" cy="7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0" bIns="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6" name=""/>
                      <p:cNvGrpSpPr/>
                      <p:nvPr/>
                    </p:nvGrpSpPr>
                    <p:grpSpPr>
                      <a:xfrm>
                        <a:off x="2742840" y="5222520"/>
                        <a:ext cx="228600" cy="75600"/>
                        <a:chOff x="2742840" y="5222520"/>
                        <a:chExt cx="228600" cy="75600"/>
                      </a:xfrm>
                    </p:grpSpPr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42840" y="5222520"/>
                          <a:ext cx="75960" cy="7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0" bIns="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895120" y="5222520"/>
                          <a:ext cx="76320" cy="7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0" bIns="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09" name=""/>
                    <p:cNvGrpSpPr/>
                    <p:nvPr/>
                  </p:nvGrpSpPr>
                  <p:grpSpPr>
                    <a:xfrm>
                      <a:off x="3047760" y="5222520"/>
                      <a:ext cx="533160" cy="75600"/>
                      <a:chOff x="3047760" y="5222520"/>
                      <a:chExt cx="533160" cy="75600"/>
                    </a:xfrm>
                  </p:grpSpPr>
                  <p:grpSp>
                    <p:nvGrpSpPr>
                      <p:cNvPr id="210" name=""/>
                      <p:cNvGrpSpPr/>
                      <p:nvPr/>
                    </p:nvGrpSpPr>
                    <p:grpSpPr>
                      <a:xfrm>
                        <a:off x="3047760" y="5222520"/>
                        <a:ext cx="228600" cy="75600"/>
                        <a:chOff x="3047760" y="5222520"/>
                        <a:chExt cx="228600" cy="75600"/>
                      </a:xfrm>
                    </p:grpSpPr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>
                          <a:off x="3047760" y="5222520"/>
                          <a:ext cx="75960" cy="7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0" bIns="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>
                          <a:off x="3200040" y="5222520"/>
                          <a:ext cx="76320" cy="7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0" bIns="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3" name=""/>
                      <p:cNvGrpSpPr/>
                      <p:nvPr/>
                    </p:nvGrpSpPr>
                    <p:grpSpPr>
                      <a:xfrm>
                        <a:off x="3352320" y="5222520"/>
                        <a:ext cx="228600" cy="75600"/>
                        <a:chOff x="3352320" y="5222520"/>
                        <a:chExt cx="228600" cy="75600"/>
                      </a:xfrm>
                    </p:grpSpPr>
                    <p:sp>
                      <p:nvSpPr>
                        <p:cNvPr id="214" name=""/>
                        <p:cNvSpPr/>
                        <p:nvPr/>
                      </p:nvSpPr>
                      <p:spPr>
                        <a:xfrm>
                          <a:off x="3352320" y="5222520"/>
                          <a:ext cx="75960" cy="7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0" bIns="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5" name=""/>
                        <p:cNvSpPr/>
                        <p:nvPr/>
                      </p:nvSpPr>
                      <p:spPr>
                        <a:xfrm>
                          <a:off x="3504600" y="5222520"/>
                          <a:ext cx="76320" cy="7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0" bIns="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3657240" y="5222520"/>
                    <a:ext cx="1142640" cy="75600"/>
                    <a:chOff x="3657240" y="5222520"/>
                    <a:chExt cx="1142640" cy="75600"/>
                  </a:xfrm>
                </p:grpSpPr>
                <p:grpSp>
                  <p:nvGrpSpPr>
                    <p:cNvPr id="217" name=""/>
                    <p:cNvGrpSpPr/>
                    <p:nvPr/>
                  </p:nvGrpSpPr>
                  <p:grpSpPr>
                    <a:xfrm>
                      <a:off x="3657240" y="5222520"/>
                      <a:ext cx="533160" cy="75600"/>
                      <a:chOff x="3657240" y="5222520"/>
                      <a:chExt cx="533160" cy="75600"/>
                    </a:xfrm>
                  </p:grpSpPr>
                  <p:grpSp>
                    <p:nvGrpSpPr>
                      <p:cNvPr id="218" name=""/>
                      <p:cNvGrpSpPr/>
                      <p:nvPr/>
                    </p:nvGrpSpPr>
                    <p:grpSpPr>
                      <a:xfrm>
                        <a:off x="3657240" y="5222520"/>
                        <a:ext cx="228600" cy="75600"/>
                        <a:chOff x="3657240" y="5222520"/>
                        <a:chExt cx="228600" cy="75600"/>
                      </a:xfrm>
                    </p:grpSpPr>
                    <p:sp>
                      <p:nvSpPr>
                        <p:cNvPr id="219" name=""/>
                        <p:cNvSpPr/>
                        <p:nvPr/>
                      </p:nvSpPr>
                      <p:spPr>
                        <a:xfrm>
                          <a:off x="3657240" y="5222520"/>
                          <a:ext cx="75960" cy="7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0" bIns="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0" name=""/>
                        <p:cNvSpPr/>
                        <p:nvPr/>
                      </p:nvSpPr>
                      <p:spPr>
                        <a:xfrm>
                          <a:off x="3809520" y="5222520"/>
                          <a:ext cx="76320" cy="7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0" bIns="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21" name=""/>
                      <p:cNvGrpSpPr/>
                      <p:nvPr/>
                    </p:nvGrpSpPr>
                    <p:grpSpPr>
                      <a:xfrm>
                        <a:off x="3961800" y="5222520"/>
                        <a:ext cx="228600" cy="75600"/>
                        <a:chOff x="3961800" y="5222520"/>
                        <a:chExt cx="228600" cy="75600"/>
                      </a:xfrm>
                    </p:grpSpPr>
                    <p:sp>
                      <p:nvSpPr>
                        <p:cNvPr id="222" name=""/>
                        <p:cNvSpPr/>
                        <p:nvPr/>
                      </p:nvSpPr>
                      <p:spPr>
                        <a:xfrm>
                          <a:off x="3961800" y="5222520"/>
                          <a:ext cx="75960" cy="7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0" bIns="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3" name=""/>
                        <p:cNvSpPr/>
                        <p:nvPr/>
                      </p:nvSpPr>
                      <p:spPr>
                        <a:xfrm>
                          <a:off x="4114080" y="5222520"/>
                          <a:ext cx="76320" cy="7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0" bIns="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24" name=""/>
                    <p:cNvGrpSpPr/>
                    <p:nvPr/>
                  </p:nvGrpSpPr>
                  <p:grpSpPr>
                    <a:xfrm>
                      <a:off x="4266720" y="5222520"/>
                      <a:ext cx="533160" cy="75600"/>
                      <a:chOff x="4266720" y="5222520"/>
                      <a:chExt cx="533160" cy="75600"/>
                    </a:xfrm>
                  </p:grpSpPr>
                  <p:grpSp>
                    <p:nvGrpSpPr>
                      <p:cNvPr id="225" name=""/>
                      <p:cNvGrpSpPr/>
                      <p:nvPr/>
                    </p:nvGrpSpPr>
                    <p:grpSpPr>
                      <a:xfrm>
                        <a:off x="4266720" y="5222520"/>
                        <a:ext cx="228600" cy="75600"/>
                        <a:chOff x="4266720" y="5222520"/>
                        <a:chExt cx="228600" cy="75600"/>
                      </a:xfrm>
                    </p:grpSpPr>
                    <p:sp>
                      <p:nvSpPr>
                        <p:cNvPr id="226" name=""/>
                        <p:cNvSpPr/>
                        <p:nvPr/>
                      </p:nvSpPr>
                      <p:spPr>
                        <a:xfrm>
                          <a:off x="4266720" y="5222520"/>
                          <a:ext cx="75960" cy="7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0" bIns="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>
                          <a:off x="4419000" y="5222520"/>
                          <a:ext cx="76320" cy="7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0" bIns="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28" name=""/>
                      <p:cNvGrpSpPr/>
                      <p:nvPr/>
                    </p:nvGrpSpPr>
                    <p:grpSpPr>
                      <a:xfrm>
                        <a:off x="4571280" y="5222520"/>
                        <a:ext cx="228600" cy="75600"/>
                        <a:chOff x="4571280" y="5222520"/>
                        <a:chExt cx="228600" cy="75600"/>
                      </a:xfrm>
                    </p:grpSpPr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>
                          <a:off x="4571280" y="5222520"/>
                          <a:ext cx="75960" cy="7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0" bIns="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>
                          <a:off x="4723560" y="5222520"/>
                          <a:ext cx="76320" cy="7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0" bIns="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0" y="5222520"/>
                  <a:ext cx="2361600" cy="75600"/>
                  <a:chOff x="0" y="5222520"/>
                  <a:chExt cx="2361600" cy="75600"/>
                </a:xfrm>
              </p:grpSpPr>
              <p:grpSp>
                <p:nvGrpSpPr>
                  <p:cNvPr id="232" name=""/>
                  <p:cNvGrpSpPr/>
                  <p:nvPr/>
                </p:nvGrpSpPr>
                <p:grpSpPr>
                  <a:xfrm>
                    <a:off x="0" y="5222520"/>
                    <a:ext cx="1142640" cy="75600"/>
                    <a:chOff x="0" y="5222520"/>
                    <a:chExt cx="1142640" cy="75600"/>
                  </a:xfrm>
                </p:grpSpPr>
                <p:grpSp>
                  <p:nvGrpSpPr>
                    <p:cNvPr id="233" name=""/>
                    <p:cNvGrpSpPr/>
                    <p:nvPr/>
                  </p:nvGrpSpPr>
                  <p:grpSpPr>
                    <a:xfrm>
                      <a:off x="0" y="5222520"/>
                      <a:ext cx="533160" cy="75600"/>
                      <a:chOff x="0" y="5222520"/>
                      <a:chExt cx="533160" cy="75600"/>
                    </a:xfrm>
                  </p:grpSpPr>
                  <p:grpSp>
                    <p:nvGrpSpPr>
                      <p:cNvPr id="234" name=""/>
                      <p:cNvGrpSpPr/>
                      <p:nvPr/>
                    </p:nvGrpSpPr>
                    <p:grpSpPr>
                      <a:xfrm>
                        <a:off x="0" y="5222520"/>
                        <a:ext cx="228600" cy="75600"/>
                        <a:chOff x="0" y="5222520"/>
                        <a:chExt cx="228600" cy="75600"/>
                      </a:xfrm>
                    </p:grpSpPr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>
                          <a:off x="0" y="5222520"/>
                          <a:ext cx="75960" cy="7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0" bIns="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>
                          <a:off x="152280" y="5222520"/>
                          <a:ext cx="76320" cy="7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0" bIns="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7" name=""/>
                      <p:cNvGrpSpPr/>
                      <p:nvPr/>
                    </p:nvGrpSpPr>
                    <p:grpSpPr>
                      <a:xfrm>
                        <a:off x="304560" y="5222520"/>
                        <a:ext cx="228600" cy="75600"/>
                        <a:chOff x="304560" y="5222520"/>
                        <a:chExt cx="228600" cy="75600"/>
                      </a:xfrm>
                    </p:grpSpPr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304560" y="5222520"/>
                          <a:ext cx="75960" cy="7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0" bIns="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456840" y="5222520"/>
                          <a:ext cx="76320" cy="7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0" bIns="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40" name=""/>
                    <p:cNvGrpSpPr/>
                    <p:nvPr/>
                  </p:nvGrpSpPr>
                  <p:grpSpPr>
                    <a:xfrm>
                      <a:off x="609480" y="5222520"/>
                      <a:ext cx="533160" cy="75600"/>
                      <a:chOff x="609480" y="5222520"/>
                      <a:chExt cx="533160" cy="75600"/>
                    </a:xfrm>
                  </p:grpSpPr>
                  <p:grpSp>
                    <p:nvGrpSpPr>
                      <p:cNvPr id="241" name=""/>
                      <p:cNvGrpSpPr/>
                      <p:nvPr/>
                    </p:nvGrpSpPr>
                    <p:grpSpPr>
                      <a:xfrm>
                        <a:off x="609480" y="5222520"/>
                        <a:ext cx="228600" cy="75600"/>
                        <a:chOff x="609480" y="5222520"/>
                        <a:chExt cx="228600" cy="75600"/>
                      </a:xfrm>
                    </p:grpSpPr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>
                          <a:off x="609480" y="5222520"/>
                          <a:ext cx="75960" cy="7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0" bIns="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>
                          <a:off x="761760" y="5222520"/>
                          <a:ext cx="76320" cy="7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0" bIns="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4" name=""/>
                      <p:cNvGrpSpPr/>
                      <p:nvPr/>
                    </p:nvGrpSpPr>
                    <p:grpSpPr>
                      <a:xfrm>
                        <a:off x="914040" y="5222520"/>
                        <a:ext cx="228600" cy="75600"/>
                        <a:chOff x="914040" y="5222520"/>
                        <a:chExt cx="228600" cy="75600"/>
                      </a:xfrm>
                    </p:grpSpPr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>
                          <a:off x="914040" y="5222520"/>
                          <a:ext cx="75960" cy="7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0" bIns="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>
                          <a:off x="1066320" y="5222520"/>
                          <a:ext cx="76320" cy="7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0" bIns="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47" name=""/>
                  <p:cNvGrpSpPr/>
                  <p:nvPr/>
                </p:nvGrpSpPr>
                <p:grpSpPr>
                  <a:xfrm>
                    <a:off x="1218960" y="5222520"/>
                    <a:ext cx="1142640" cy="75600"/>
                    <a:chOff x="1218960" y="5222520"/>
                    <a:chExt cx="1142640" cy="75600"/>
                  </a:xfrm>
                </p:grpSpPr>
                <p:grpSp>
                  <p:nvGrpSpPr>
                    <p:cNvPr id="248" name=""/>
                    <p:cNvGrpSpPr/>
                    <p:nvPr/>
                  </p:nvGrpSpPr>
                  <p:grpSpPr>
                    <a:xfrm>
                      <a:off x="1218960" y="5222520"/>
                      <a:ext cx="533160" cy="75600"/>
                      <a:chOff x="1218960" y="5222520"/>
                      <a:chExt cx="533160" cy="75600"/>
                    </a:xfrm>
                  </p:grpSpPr>
                  <p:grpSp>
                    <p:nvGrpSpPr>
                      <p:cNvPr id="249" name=""/>
                      <p:cNvGrpSpPr/>
                      <p:nvPr/>
                    </p:nvGrpSpPr>
                    <p:grpSpPr>
                      <a:xfrm>
                        <a:off x="1218960" y="5222520"/>
                        <a:ext cx="228600" cy="75600"/>
                        <a:chOff x="1218960" y="5222520"/>
                        <a:chExt cx="228600" cy="75600"/>
                      </a:xfrm>
                    </p:grpSpPr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>
                          <a:off x="1218960" y="5222520"/>
                          <a:ext cx="75960" cy="7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0" bIns="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>
                          <a:off x="1371240" y="5222520"/>
                          <a:ext cx="76320" cy="7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0" bIns="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52" name=""/>
                      <p:cNvGrpSpPr/>
                      <p:nvPr/>
                    </p:nvGrpSpPr>
                    <p:grpSpPr>
                      <a:xfrm>
                        <a:off x="1523520" y="5222520"/>
                        <a:ext cx="228600" cy="75600"/>
                        <a:chOff x="1523520" y="5222520"/>
                        <a:chExt cx="228600" cy="75600"/>
                      </a:xfrm>
                    </p:grpSpPr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>
                          <a:off x="1523520" y="5222520"/>
                          <a:ext cx="75960" cy="7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0" bIns="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1675800" y="5222520"/>
                          <a:ext cx="76320" cy="7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0" bIns="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55" name=""/>
                    <p:cNvGrpSpPr/>
                    <p:nvPr/>
                  </p:nvGrpSpPr>
                  <p:grpSpPr>
                    <a:xfrm>
                      <a:off x="1828440" y="5222520"/>
                      <a:ext cx="533160" cy="75600"/>
                      <a:chOff x="1828440" y="5222520"/>
                      <a:chExt cx="533160" cy="75600"/>
                    </a:xfrm>
                  </p:grpSpPr>
                  <p:grpSp>
                    <p:nvGrpSpPr>
                      <p:cNvPr id="256" name=""/>
                      <p:cNvGrpSpPr/>
                      <p:nvPr/>
                    </p:nvGrpSpPr>
                    <p:grpSpPr>
                      <a:xfrm>
                        <a:off x="1828440" y="5222520"/>
                        <a:ext cx="228600" cy="75600"/>
                        <a:chOff x="1828440" y="5222520"/>
                        <a:chExt cx="228600" cy="75600"/>
                      </a:xfrm>
                    </p:grpSpPr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>
                          <a:off x="1828440" y="5222520"/>
                          <a:ext cx="75960" cy="7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0" bIns="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>
                          <a:off x="1980720" y="5222520"/>
                          <a:ext cx="76320" cy="7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0" bIns="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59" name=""/>
                      <p:cNvGrpSpPr/>
                      <p:nvPr/>
                    </p:nvGrpSpPr>
                    <p:grpSpPr>
                      <a:xfrm>
                        <a:off x="2133000" y="5222520"/>
                        <a:ext cx="228600" cy="75600"/>
                        <a:chOff x="2133000" y="5222520"/>
                        <a:chExt cx="228600" cy="75600"/>
                      </a:xfrm>
                    </p:grpSpPr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>
                          <a:off x="2133000" y="5222520"/>
                          <a:ext cx="75960" cy="7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0" bIns="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>
                          <a:off x="2285280" y="5222520"/>
                          <a:ext cx="76320" cy="7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0" bIns="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2" name=""/>
              <p:cNvGrpSpPr/>
              <p:nvPr/>
            </p:nvGrpSpPr>
            <p:grpSpPr>
              <a:xfrm>
                <a:off x="6705720" y="5222520"/>
                <a:ext cx="2361600" cy="75600"/>
                <a:chOff x="6705720" y="5222520"/>
                <a:chExt cx="2361600" cy="75600"/>
              </a:xfrm>
            </p:grpSpPr>
            <p:grpSp>
              <p:nvGrpSpPr>
                <p:cNvPr id="263" name=""/>
                <p:cNvGrpSpPr/>
                <p:nvPr/>
              </p:nvGrpSpPr>
              <p:grpSpPr>
                <a:xfrm>
                  <a:off x="6705720" y="5222520"/>
                  <a:ext cx="1142640" cy="75600"/>
                  <a:chOff x="6705720" y="5222520"/>
                  <a:chExt cx="1142640" cy="75600"/>
                </a:xfrm>
              </p:grpSpPr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6705720" y="5222520"/>
                    <a:ext cx="533160" cy="75600"/>
                    <a:chOff x="6705720" y="5222520"/>
                    <a:chExt cx="533160" cy="75600"/>
                  </a:xfrm>
                </p:grpSpPr>
                <p:grpSp>
                  <p:nvGrpSpPr>
                    <p:cNvPr id="265" name=""/>
                    <p:cNvGrpSpPr/>
                    <p:nvPr/>
                  </p:nvGrpSpPr>
                  <p:grpSpPr>
                    <a:xfrm>
                      <a:off x="6705720" y="5222520"/>
                      <a:ext cx="228600" cy="75600"/>
                      <a:chOff x="6705720" y="5222520"/>
                      <a:chExt cx="228600" cy="75600"/>
                    </a:xfrm>
                  </p:grpSpPr>
                  <p:sp>
                    <p:nvSpPr>
                      <p:cNvPr id="266" name=""/>
                      <p:cNvSpPr/>
                      <p:nvPr/>
                    </p:nvSpPr>
                    <p:spPr>
                      <a:xfrm>
                        <a:off x="6705720" y="5222520"/>
                        <a:ext cx="75960" cy="75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8800" bIns="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7" name=""/>
                      <p:cNvSpPr/>
                      <p:nvPr/>
                    </p:nvSpPr>
                    <p:spPr>
                      <a:xfrm>
                        <a:off x="6858000" y="5222520"/>
                        <a:ext cx="76320" cy="75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8800" bIns="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8" name=""/>
                    <p:cNvGrpSpPr/>
                    <p:nvPr/>
                  </p:nvGrpSpPr>
                  <p:grpSpPr>
                    <a:xfrm>
                      <a:off x="7010280" y="5222520"/>
                      <a:ext cx="228600" cy="75600"/>
                      <a:chOff x="7010280" y="5222520"/>
                      <a:chExt cx="228600" cy="75600"/>
                    </a:xfrm>
                  </p:grpSpPr>
                  <p:sp>
                    <p:nvSpPr>
                      <p:cNvPr id="269" name=""/>
                      <p:cNvSpPr/>
                      <p:nvPr/>
                    </p:nvSpPr>
                    <p:spPr>
                      <a:xfrm>
                        <a:off x="7010280" y="5222520"/>
                        <a:ext cx="75960" cy="75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8800" bIns="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0" name=""/>
                      <p:cNvSpPr/>
                      <p:nvPr/>
                    </p:nvSpPr>
                    <p:spPr>
                      <a:xfrm>
                        <a:off x="7162560" y="5222520"/>
                        <a:ext cx="76320" cy="75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8800" bIns="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71" name=""/>
                  <p:cNvGrpSpPr/>
                  <p:nvPr/>
                </p:nvGrpSpPr>
                <p:grpSpPr>
                  <a:xfrm>
                    <a:off x="7315200" y="5222520"/>
                    <a:ext cx="533160" cy="75600"/>
                    <a:chOff x="7315200" y="5222520"/>
                    <a:chExt cx="533160" cy="75600"/>
                  </a:xfrm>
                </p:grpSpPr>
                <p:grpSp>
                  <p:nvGrpSpPr>
                    <p:cNvPr id="272" name=""/>
                    <p:cNvGrpSpPr/>
                    <p:nvPr/>
                  </p:nvGrpSpPr>
                  <p:grpSpPr>
                    <a:xfrm>
                      <a:off x="7315200" y="5222520"/>
                      <a:ext cx="228600" cy="75600"/>
                      <a:chOff x="7315200" y="5222520"/>
                      <a:chExt cx="228600" cy="75600"/>
                    </a:xfrm>
                  </p:grpSpPr>
                  <p:sp>
                    <p:nvSpPr>
                      <p:cNvPr id="273" name=""/>
                      <p:cNvSpPr/>
                      <p:nvPr/>
                    </p:nvSpPr>
                    <p:spPr>
                      <a:xfrm>
                        <a:off x="7315200" y="5222520"/>
                        <a:ext cx="75960" cy="75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8800" bIns="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4" name=""/>
                      <p:cNvSpPr/>
                      <p:nvPr/>
                    </p:nvSpPr>
                    <p:spPr>
                      <a:xfrm>
                        <a:off x="7467480" y="5222520"/>
                        <a:ext cx="76320" cy="75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8800" bIns="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75" name=""/>
                    <p:cNvGrpSpPr/>
                    <p:nvPr/>
                  </p:nvGrpSpPr>
                  <p:grpSpPr>
                    <a:xfrm>
                      <a:off x="7619760" y="5222520"/>
                      <a:ext cx="228600" cy="75600"/>
                      <a:chOff x="7619760" y="5222520"/>
                      <a:chExt cx="228600" cy="75600"/>
                    </a:xfrm>
                  </p:grpSpPr>
                  <p:sp>
                    <p:nvSpPr>
                      <p:cNvPr id="276" name=""/>
                      <p:cNvSpPr/>
                      <p:nvPr/>
                    </p:nvSpPr>
                    <p:spPr>
                      <a:xfrm>
                        <a:off x="7619760" y="5222520"/>
                        <a:ext cx="75960" cy="75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8800" bIns="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7" name=""/>
                      <p:cNvSpPr/>
                      <p:nvPr/>
                    </p:nvSpPr>
                    <p:spPr>
                      <a:xfrm>
                        <a:off x="7772040" y="5222520"/>
                        <a:ext cx="76320" cy="75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8800" bIns="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78" name=""/>
                <p:cNvGrpSpPr/>
                <p:nvPr/>
              </p:nvGrpSpPr>
              <p:grpSpPr>
                <a:xfrm>
                  <a:off x="7924680" y="5222520"/>
                  <a:ext cx="1142640" cy="75600"/>
                  <a:chOff x="7924680" y="5222520"/>
                  <a:chExt cx="1142640" cy="75600"/>
                </a:xfrm>
              </p:grpSpPr>
              <p:grpSp>
                <p:nvGrpSpPr>
                  <p:cNvPr id="279" name=""/>
                  <p:cNvGrpSpPr/>
                  <p:nvPr/>
                </p:nvGrpSpPr>
                <p:grpSpPr>
                  <a:xfrm>
                    <a:off x="7924680" y="5222520"/>
                    <a:ext cx="533160" cy="75600"/>
                    <a:chOff x="7924680" y="5222520"/>
                    <a:chExt cx="533160" cy="75600"/>
                  </a:xfrm>
                </p:grpSpPr>
                <p:grpSp>
                  <p:nvGrpSpPr>
                    <p:cNvPr id="280" name=""/>
                    <p:cNvGrpSpPr/>
                    <p:nvPr/>
                  </p:nvGrpSpPr>
                  <p:grpSpPr>
                    <a:xfrm>
                      <a:off x="7924680" y="5222520"/>
                      <a:ext cx="228600" cy="75600"/>
                      <a:chOff x="7924680" y="5222520"/>
                      <a:chExt cx="228600" cy="75600"/>
                    </a:xfrm>
                  </p:grpSpPr>
                  <p:sp>
                    <p:nvSpPr>
                      <p:cNvPr id="281" name=""/>
                      <p:cNvSpPr/>
                      <p:nvPr/>
                    </p:nvSpPr>
                    <p:spPr>
                      <a:xfrm>
                        <a:off x="7924680" y="5222520"/>
                        <a:ext cx="75960" cy="75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8800" bIns="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2" name=""/>
                      <p:cNvSpPr/>
                      <p:nvPr/>
                    </p:nvSpPr>
                    <p:spPr>
                      <a:xfrm>
                        <a:off x="8076960" y="5222520"/>
                        <a:ext cx="76320" cy="75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8800" bIns="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3" name=""/>
                    <p:cNvGrpSpPr/>
                    <p:nvPr/>
                  </p:nvGrpSpPr>
                  <p:grpSpPr>
                    <a:xfrm>
                      <a:off x="8229240" y="5222520"/>
                      <a:ext cx="228600" cy="75600"/>
                      <a:chOff x="8229240" y="5222520"/>
                      <a:chExt cx="228600" cy="75600"/>
                    </a:xfrm>
                  </p:grpSpPr>
                  <p:sp>
                    <p:nvSpPr>
                      <p:cNvPr id="284" name=""/>
                      <p:cNvSpPr/>
                      <p:nvPr/>
                    </p:nvSpPr>
                    <p:spPr>
                      <a:xfrm>
                        <a:off x="8229240" y="5222520"/>
                        <a:ext cx="75960" cy="75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8800" bIns="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5" name=""/>
                      <p:cNvSpPr/>
                      <p:nvPr/>
                    </p:nvSpPr>
                    <p:spPr>
                      <a:xfrm>
                        <a:off x="8381520" y="5222520"/>
                        <a:ext cx="76320" cy="75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8800" bIns="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8534160" y="5222520"/>
                    <a:ext cx="533160" cy="75600"/>
                    <a:chOff x="8534160" y="5222520"/>
                    <a:chExt cx="533160" cy="75600"/>
                  </a:xfrm>
                </p:grpSpPr>
                <p:grpSp>
                  <p:nvGrpSpPr>
                    <p:cNvPr id="287" name=""/>
                    <p:cNvGrpSpPr/>
                    <p:nvPr/>
                  </p:nvGrpSpPr>
                  <p:grpSpPr>
                    <a:xfrm>
                      <a:off x="8534160" y="5222520"/>
                      <a:ext cx="228600" cy="75600"/>
                      <a:chOff x="8534160" y="5222520"/>
                      <a:chExt cx="228600" cy="75600"/>
                    </a:xfrm>
                  </p:grpSpPr>
                  <p:sp>
                    <p:nvSpPr>
                      <p:cNvPr id="288" name=""/>
                      <p:cNvSpPr/>
                      <p:nvPr/>
                    </p:nvSpPr>
                    <p:spPr>
                      <a:xfrm>
                        <a:off x="8534160" y="5222520"/>
                        <a:ext cx="75960" cy="75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8800" bIns="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9" name=""/>
                      <p:cNvSpPr/>
                      <p:nvPr/>
                    </p:nvSpPr>
                    <p:spPr>
                      <a:xfrm>
                        <a:off x="8686440" y="5222520"/>
                        <a:ext cx="76320" cy="75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8800" bIns="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0" name=""/>
                    <p:cNvGrpSpPr/>
                    <p:nvPr/>
                  </p:nvGrpSpPr>
                  <p:grpSpPr>
                    <a:xfrm>
                      <a:off x="8838720" y="5222520"/>
                      <a:ext cx="228600" cy="75600"/>
                      <a:chOff x="8838720" y="5222520"/>
                      <a:chExt cx="228600" cy="75600"/>
                    </a:xfrm>
                  </p:grpSpPr>
                  <p:sp>
                    <p:nvSpPr>
                      <p:cNvPr id="291" name=""/>
                      <p:cNvSpPr/>
                      <p:nvPr/>
                    </p:nvSpPr>
                    <p:spPr>
                      <a:xfrm>
                        <a:off x="8838720" y="5222520"/>
                        <a:ext cx="75960" cy="75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8800" bIns="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2" name=""/>
                      <p:cNvSpPr/>
                      <p:nvPr/>
                    </p:nvSpPr>
                    <p:spPr>
                      <a:xfrm>
                        <a:off x="8991000" y="5222520"/>
                        <a:ext cx="76320" cy="75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8800" bIns="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293" name=""/>
              <p:cNvGrpSpPr/>
              <p:nvPr/>
            </p:nvGrpSpPr>
            <p:grpSpPr>
              <a:xfrm>
                <a:off x="4876920" y="5222520"/>
                <a:ext cx="533160" cy="75600"/>
                <a:chOff x="4876920" y="5222520"/>
                <a:chExt cx="533160" cy="75600"/>
              </a:xfrm>
            </p:grpSpPr>
            <p:grpSp>
              <p:nvGrpSpPr>
                <p:cNvPr id="294" name=""/>
                <p:cNvGrpSpPr/>
                <p:nvPr/>
              </p:nvGrpSpPr>
              <p:grpSpPr>
                <a:xfrm>
                  <a:off x="4876920" y="5222520"/>
                  <a:ext cx="228600" cy="75600"/>
                  <a:chOff x="4876920" y="5222520"/>
                  <a:chExt cx="228600" cy="7560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>
                    <a:off x="4876920" y="5222520"/>
                    <a:ext cx="75960" cy="756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0" bIns="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029200" y="5222520"/>
                    <a:ext cx="76320" cy="756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0" bIns="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7" name=""/>
                <p:cNvGrpSpPr/>
                <p:nvPr/>
              </p:nvGrpSpPr>
              <p:grpSpPr>
                <a:xfrm>
                  <a:off x="5181480" y="5222520"/>
                  <a:ext cx="228600" cy="75600"/>
                  <a:chOff x="5181480" y="5222520"/>
                  <a:chExt cx="228600" cy="7560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>
                    <a:off x="5181480" y="5222520"/>
                    <a:ext cx="75960" cy="756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0" bIns="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333760" y="5222520"/>
                    <a:ext cx="76320" cy="756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0" bIns="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0" name=""/>
              <p:cNvGrpSpPr/>
              <p:nvPr/>
            </p:nvGrpSpPr>
            <p:grpSpPr>
              <a:xfrm>
                <a:off x="5486400" y="5222520"/>
                <a:ext cx="1142640" cy="75600"/>
                <a:chOff x="5486400" y="5222520"/>
                <a:chExt cx="1142640" cy="75600"/>
              </a:xfrm>
            </p:grpSpPr>
            <p:grpSp>
              <p:nvGrpSpPr>
                <p:cNvPr id="301" name=""/>
                <p:cNvGrpSpPr/>
                <p:nvPr/>
              </p:nvGrpSpPr>
              <p:grpSpPr>
                <a:xfrm>
                  <a:off x="5486400" y="5222520"/>
                  <a:ext cx="533160" cy="75600"/>
                  <a:chOff x="5486400" y="5222520"/>
                  <a:chExt cx="533160" cy="75600"/>
                </a:xfrm>
              </p:grpSpPr>
              <p:grpSp>
                <p:nvGrpSpPr>
                  <p:cNvPr id="302" name=""/>
                  <p:cNvGrpSpPr/>
                  <p:nvPr/>
                </p:nvGrpSpPr>
                <p:grpSpPr>
                  <a:xfrm>
                    <a:off x="5486400" y="5222520"/>
                    <a:ext cx="228600" cy="75600"/>
                    <a:chOff x="5486400" y="5222520"/>
                    <a:chExt cx="228600" cy="75600"/>
                  </a:xfrm>
                </p:grpSpPr>
                <p:sp>
                  <p:nvSpPr>
                    <p:cNvPr id="303" name=""/>
                    <p:cNvSpPr/>
                    <p:nvPr/>
                  </p:nvSpPr>
                  <p:spPr>
                    <a:xfrm>
                      <a:off x="5486400" y="5222520"/>
                      <a:ext cx="75960" cy="756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0" bIns="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5638680" y="5222520"/>
                      <a:ext cx="76320" cy="756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0" bIns="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5" name=""/>
                  <p:cNvGrpSpPr/>
                  <p:nvPr/>
                </p:nvGrpSpPr>
                <p:grpSpPr>
                  <a:xfrm>
                    <a:off x="5790960" y="5222520"/>
                    <a:ext cx="228600" cy="75600"/>
                    <a:chOff x="5790960" y="5222520"/>
                    <a:chExt cx="228600" cy="75600"/>
                  </a:xfrm>
                </p:grpSpPr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5790960" y="5222520"/>
                      <a:ext cx="75960" cy="756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0" bIns="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5943240" y="5222520"/>
                      <a:ext cx="76320" cy="756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0" bIns="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6095880" y="5222520"/>
                  <a:ext cx="533160" cy="75600"/>
                  <a:chOff x="6095880" y="5222520"/>
                  <a:chExt cx="533160" cy="75600"/>
                </a:xfrm>
              </p:grpSpPr>
              <p:grpSp>
                <p:nvGrpSpPr>
                  <p:cNvPr id="309" name=""/>
                  <p:cNvGrpSpPr/>
                  <p:nvPr/>
                </p:nvGrpSpPr>
                <p:grpSpPr>
                  <a:xfrm>
                    <a:off x="6095880" y="5222520"/>
                    <a:ext cx="228600" cy="75600"/>
                    <a:chOff x="6095880" y="5222520"/>
                    <a:chExt cx="228600" cy="75600"/>
                  </a:xfrm>
                </p:grpSpPr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6095880" y="5222520"/>
                      <a:ext cx="75960" cy="756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0" bIns="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6248160" y="5222520"/>
                      <a:ext cx="76320" cy="756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0" bIns="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6400440" y="5222520"/>
                    <a:ext cx="228600" cy="75600"/>
                    <a:chOff x="6400440" y="5222520"/>
                    <a:chExt cx="228600" cy="7560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6400440" y="5222520"/>
                      <a:ext cx="75960" cy="756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0" bIns="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6552720" y="5222520"/>
                      <a:ext cx="76320" cy="756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0" bIns="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pic>
            <p:nvPicPr>
              <p:cNvPr id="315" name="man_looking_watch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3241080"/>
                <a:ext cx="2590920" cy="190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6" name="mtr01" descr=""/>
              <p:cNvPicPr/>
              <p:nvPr/>
            </p:nvPicPr>
            <p:blipFill>
              <a:blip r:embed="rId2"/>
              <a:stretch/>
            </p:blipFill>
            <p:spPr>
              <a:xfrm>
                <a:off x="2743200" y="3241080"/>
                <a:ext cx="3276720" cy="19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7" name="executives_lunch" descr=""/>
              <p:cNvPicPr/>
              <p:nvPr/>
            </p:nvPicPr>
            <p:blipFill>
              <a:blip r:embed="rId3"/>
              <a:stretch/>
            </p:blipFill>
            <p:spPr>
              <a:xfrm>
                <a:off x="6176880" y="3241080"/>
                <a:ext cx="2967120" cy="1949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18" name=""/>
            <p:cNvSpPr/>
            <p:nvPr/>
          </p:nvSpPr>
          <p:spPr>
            <a:xfrm>
              <a:off x="2771640" y="2327040"/>
              <a:ext cx="37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An Attitudinal Surve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00"/>
                </a:solidFill>
                <a:latin typeface="CG Omega"/>
                <a:ea typeface="PMingLiU"/>
              </a:rPr>
              <a:t>71%</a:t>
            </a:r>
            <a:r>
              <a:rPr b="1" lang="zh-TW" sz="3200" spc="-1" strike="noStrike">
                <a:solidFill>
                  <a:srgbClr val="2c8a5b"/>
                </a:solidFill>
                <a:latin typeface="CG Omega"/>
                <a:ea typeface="PMingLiU"/>
              </a:rPr>
              <a:t> </a:t>
            </a:r>
            <a:r>
              <a:rPr b="1" lang="en-US" sz="3200" spc="-1" strike="noStrike">
                <a:solidFill>
                  <a:srgbClr val="2c8a5b"/>
                </a:solidFill>
                <a:latin typeface="CG Omega"/>
                <a:ea typeface="PMingLiU"/>
              </a:rPr>
              <a:t>Consider Themselves Eating Healthily For Lunch</a:t>
            </a:r>
            <a:endParaRPr b="1" lang="en-US" sz="32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357" name=""/>
          <p:cNvSpPr/>
          <p:nvPr/>
        </p:nvSpPr>
        <p:spPr>
          <a:xfrm>
            <a:off x="6629400" y="6095880"/>
            <a:ext cx="23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G Omega"/>
                <a:ea typeface="PMingLiU"/>
              </a:rPr>
              <a:t>Successful samples: 5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533520" y="1905120"/>
            <a:ext cx="8381880" cy="4343400"/>
            <a:chOff x="533520" y="1905120"/>
            <a:chExt cx="8381880" cy="4343400"/>
          </a:xfrm>
        </p:grpSpPr>
        <p:graphicFrame>
          <p:nvGraphicFramePr>
            <p:cNvPr id="359" name=""/>
            <p:cNvGraphicFramePr/>
            <p:nvPr/>
          </p:nvGraphicFramePr>
          <p:xfrm>
            <a:off x="533520" y="1905120"/>
            <a:ext cx="8381880" cy="4343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1905120"/>
                      <a:ext cx="8381880" cy="434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61" name=""/>
            <p:cNvGrpSpPr/>
            <p:nvPr/>
          </p:nvGrpSpPr>
          <p:grpSpPr>
            <a:xfrm>
              <a:off x="1591200" y="2049480"/>
              <a:ext cx="3947400" cy="2769120"/>
              <a:chOff x="1591200" y="2049480"/>
              <a:chExt cx="3947400" cy="2769120"/>
            </a:xfrm>
          </p:grpSpPr>
          <p:sp>
            <p:nvSpPr>
              <p:cNvPr id="362" name=""/>
              <p:cNvSpPr/>
              <p:nvPr/>
            </p:nvSpPr>
            <p:spPr>
              <a:xfrm>
                <a:off x="4358160" y="4419720"/>
                <a:ext cx="1180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Health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591200" y="3200400"/>
                <a:ext cx="1720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Not Health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104200" y="2049480"/>
                <a:ext cx="325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Don’t Know/Hard To Tel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a9400"/>
                </a:solidFill>
                <a:latin typeface="CG Omega"/>
                <a:ea typeface="PMingLiU"/>
              </a:rPr>
              <a:t>BREAKFAST BEHAVIOUR</a:t>
            </a:r>
            <a:endParaRPr b="1" lang="en-US" sz="3600" spc="-1" strike="noStrike">
              <a:solidFill>
                <a:srgbClr val="4a9400"/>
              </a:solidFill>
              <a:latin typeface="CG Omeg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G Omega"/>
                <a:ea typeface="PMingLiU"/>
              </a:rPr>
              <a:t>Almost 60%</a:t>
            </a:r>
            <a:r>
              <a:rPr b="1" lang="en-US" sz="3200" spc="-1" strike="noStrike">
                <a:solidFill>
                  <a:srgbClr val="2c8a5b"/>
                </a:solidFill>
                <a:latin typeface="CG Omega"/>
                <a:ea typeface="PMingLiU"/>
              </a:rPr>
              <a:t> White-Collars</a:t>
            </a:r>
            <a:br>
              <a:rPr sz="3200"/>
            </a:br>
            <a:r>
              <a:rPr b="1" lang="en-US" sz="3200" spc="-1" strike="noStrike">
                <a:solidFill>
                  <a:srgbClr val="2c8a5b"/>
                </a:solidFill>
                <a:latin typeface="CG Omega"/>
                <a:ea typeface="PMingLiU"/>
              </a:rPr>
              <a:t>Eat Ready-Made Breakfast From Stores</a:t>
            </a:r>
            <a:endParaRPr b="1" lang="en-US" sz="32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367" name=""/>
          <p:cNvSpPr/>
          <p:nvPr/>
        </p:nvSpPr>
        <p:spPr>
          <a:xfrm>
            <a:off x="5943600" y="609588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Omega"/>
                <a:ea typeface="PMingLiU"/>
              </a:rPr>
              <a:t>Successful samples: 511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533520" y="1905120"/>
            <a:ext cx="8534160" cy="4343400"/>
            <a:chOff x="533520" y="1905120"/>
            <a:chExt cx="8534160" cy="4343400"/>
          </a:xfrm>
        </p:grpSpPr>
        <p:graphicFrame>
          <p:nvGraphicFramePr>
            <p:cNvPr id="369" name=""/>
            <p:cNvGraphicFramePr/>
            <p:nvPr/>
          </p:nvGraphicFramePr>
          <p:xfrm>
            <a:off x="533520" y="1905120"/>
            <a:ext cx="8076960" cy="4343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1905120"/>
                      <a:ext cx="8076960" cy="434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1" name=""/>
            <p:cNvSpPr/>
            <p:nvPr/>
          </p:nvSpPr>
          <p:spPr>
            <a:xfrm>
              <a:off x="8001000" y="3257640"/>
              <a:ext cx="106668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CG Omega"/>
                  <a:ea typeface="PMingLiU"/>
                </a:rPr>
                <a:t>Buy breakfast at food stores: 58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7620120" y="3048120"/>
              <a:ext cx="380880" cy="1752480"/>
              <a:chOff x="7620120" y="3048120"/>
              <a:chExt cx="380880" cy="1752480"/>
            </a:xfrm>
          </p:grpSpPr>
          <p:sp>
            <p:nvSpPr>
              <p:cNvPr id="373" name=""/>
              <p:cNvSpPr/>
              <p:nvPr/>
            </p:nvSpPr>
            <p:spPr>
              <a:xfrm>
                <a:off x="8001000" y="3048120"/>
                <a:ext cx="0" cy="17524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620120" y="3048120"/>
                <a:ext cx="3808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620120" y="4800600"/>
                <a:ext cx="3808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G Omega"/>
                <a:ea typeface="PMingLiU"/>
              </a:rPr>
              <a:t>Bread</a:t>
            </a:r>
            <a:r>
              <a:rPr b="1" lang="en-US" sz="3200" spc="-1" strike="noStrike">
                <a:solidFill>
                  <a:srgbClr val="2c8a5b"/>
                </a:solidFill>
                <a:latin typeface="CG Omega"/>
                <a:ea typeface="PMingLiU"/>
              </a:rPr>
              <a:t> Is The Most Frequently </a:t>
            </a:r>
            <a:br>
              <a:rPr sz="3200"/>
            </a:br>
            <a:r>
              <a:rPr b="1" lang="en-US" sz="3200" spc="-1" strike="noStrike">
                <a:solidFill>
                  <a:srgbClr val="2c8a5b"/>
                </a:solidFill>
                <a:latin typeface="CG Omega"/>
                <a:ea typeface="PMingLiU"/>
              </a:rPr>
              <a:t>Consumed Breakfast </a:t>
            </a:r>
            <a:r>
              <a:rPr b="1" lang="en-US" sz="3200" spc="-1" strike="noStrike" u="sng">
                <a:solidFill>
                  <a:srgbClr val="2c8a5b"/>
                </a:solidFill>
                <a:uFillTx/>
                <a:latin typeface="CG Omega"/>
                <a:ea typeface="PMingLiU"/>
              </a:rPr>
              <a:t>At Home</a:t>
            </a:r>
            <a:endParaRPr b="1" lang="en-US" sz="32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533520" y="1676520"/>
          <a:ext cx="807696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80769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4876920" y="6080040"/>
            <a:ext cx="35049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Omega"/>
                <a:ea typeface="PMingLiU"/>
              </a:rPr>
              <a:t>Successful samples: 200 (Eat breakfast at ho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Omega"/>
                <a:ea typeface="PMingLiU"/>
              </a:rPr>
              <a:t>Can choose more than one answer: 77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00"/>
                </a:solidFill>
                <a:latin typeface="CG Omega"/>
                <a:ea typeface="PMingLiU"/>
              </a:rPr>
              <a:t>60%</a:t>
            </a:r>
            <a:r>
              <a:rPr b="1" lang="zh-TW" sz="3200" spc="-1" strike="noStrike">
                <a:solidFill>
                  <a:srgbClr val="2c8a5b"/>
                </a:solidFill>
                <a:latin typeface="CG Omega"/>
                <a:ea typeface="PMingLiU"/>
              </a:rPr>
              <a:t> </a:t>
            </a:r>
            <a:r>
              <a:rPr b="1" lang="en-US" sz="3200" spc="-1" strike="noStrike">
                <a:solidFill>
                  <a:srgbClr val="2c8a5b"/>
                </a:solidFill>
                <a:latin typeface="CG Omega"/>
                <a:ea typeface="PMingLiU"/>
              </a:rPr>
              <a:t>Of Those Who </a:t>
            </a:r>
            <a:r>
              <a:rPr b="1" lang="en-US" sz="3200" spc="-1" strike="noStrike" u="sng">
                <a:solidFill>
                  <a:srgbClr val="2c8a5b"/>
                </a:solidFill>
                <a:uFillTx/>
                <a:latin typeface="CG Omega"/>
                <a:ea typeface="PMingLiU"/>
              </a:rPr>
              <a:t>Have Breakfast At Home</a:t>
            </a:r>
            <a:r>
              <a:rPr b="1" lang="en-US" sz="3200" spc="-1" strike="noStrike">
                <a:solidFill>
                  <a:srgbClr val="2c8a5b"/>
                </a:solidFill>
                <a:latin typeface="CG Omega"/>
                <a:ea typeface="PMingLiU"/>
              </a:rPr>
              <a:t> Do Not Drink Skimmed Milk</a:t>
            </a:r>
            <a:endParaRPr b="1" lang="en-US" sz="32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381" name=""/>
          <p:cNvSpPr/>
          <p:nvPr/>
        </p:nvSpPr>
        <p:spPr>
          <a:xfrm>
            <a:off x="4495680" y="6324480"/>
            <a:ext cx="456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G Omega"/>
                <a:ea typeface="PMingLiU"/>
              </a:rPr>
              <a:t>Successful samples:103 (Breakfast at home +drink mil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28600" y="1905120"/>
            <a:ext cx="8686800" cy="4343400"/>
            <a:chOff x="228600" y="1905120"/>
            <a:chExt cx="8686800" cy="4343400"/>
          </a:xfrm>
        </p:grpSpPr>
        <p:graphicFrame>
          <p:nvGraphicFramePr>
            <p:cNvPr id="383" name=""/>
            <p:cNvGraphicFramePr/>
            <p:nvPr/>
          </p:nvGraphicFramePr>
          <p:xfrm>
            <a:off x="228600" y="1905120"/>
            <a:ext cx="8686800" cy="4343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905120"/>
                      <a:ext cx="8686800" cy="434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85" name=""/>
            <p:cNvGrpSpPr/>
            <p:nvPr/>
          </p:nvGrpSpPr>
          <p:grpSpPr>
            <a:xfrm>
              <a:off x="2971800" y="1981080"/>
              <a:ext cx="4037760" cy="4064400"/>
              <a:chOff x="2971800" y="1981080"/>
              <a:chExt cx="4037760" cy="4064400"/>
            </a:xfrm>
          </p:grpSpPr>
          <p:sp>
            <p:nvSpPr>
              <p:cNvPr id="386" name=""/>
              <p:cNvSpPr/>
              <p:nvPr/>
            </p:nvSpPr>
            <p:spPr>
              <a:xfrm>
                <a:off x="3733560" y="5341680"/>
                <a:ext cx="15242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Skimmed Mil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724280" y="3894120"/>
                <a:ext cx="12952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Low Fat Mil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71800" y="3512880"/>
                <a:ext cx="12189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Cream Mil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883680" y="2598480"/>
                <a:ext cx="517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5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751920" y="1981080"/>
                <a:ext cx="325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Don’t Know/Hard To Tel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a5b"/>
                </a:solidFill>
                <a:latin typeface="CG Omega"/>
                <a:ea typeface="PMingLiU"/>
              </a:rPr>
              <a:t>Bread With Stuffing/Sandwich Is The Most  Common </a:t>
            </a:r>
            <a:r>
              <a:rPr b="1" lang="en-US" sz="3200" spc="-1" strike="noStrike" u="sng">
                <a:solidFill>
                  <a:srgbClr val="2c8a5b"/>
                </a:solidFill>
                <a:uFillTx/>
                <a:latin typeface="CG Omega"/>
                <a:ea typeface="PMingLiU"/>
              </a:rPr>
              <a:t>Breakfast</a:t>
            </a:r>
            <a:r>
              <a:rPr b="1" lang="en-US" sz="3200" spc="-1" strike="noStrike">
                <a:solidFill>
                  <a:srgbClr val="2c8a5b"/>
                </a:solidFill>
                <a:latin typeface="CG Omega"/>
                <a:ea typeface="PMingLiU"/>
              </a:rPr>
              <a:t> Of the White-Collars While </a:t>
            </a:r>
            <a:r>
              <a:rPr b="1" lang="en-US" sz="3200" spc="-1" strike="noStrike" u="sng">
                <a:solidFill>
                  <a:srgbClr val="2c8a5b"/>
                </a:solidFill>
                <a:uFillTx/>
                <a:latin typeface="CG Omega"/>
                <a:ea typeface="PMingLiU"/>
              </a:rPr>
              <a:t>Eating Out</a:t>
            </a:r>
            <a:endParaRPr b="1" lang="en-US" sz="32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533520" y="1905120"/>
          <a:ext cx="807696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05120"/>
                    <a:ext cx="80769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"/>
          <p:cNvSpPr/>
          <p:nvPr/>
        </p:nvSpPr>
        <p:spPr>
          <a:xfrm>
            <a:off x="5257800" y="6095880"/>
            <a:ext cx="38862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Omega"/>
                <a:ea typeface="PMingLiU"/>
              </a:rPr>
              <a:t>Successful samples: 293(Eat breakfast away from ho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Omega"/>
                <a:ea typeface="PMingLiU"/>
              </a:rPr>
              <a:t>Can choose more than one answer: 1,08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8a5b"/>
                </a:solidFill>
                <a:latin typeface="CG Omega"/>
                <a:ea typeface="PMingLiU"/>
              </a:rPr>
              <a:t>For Those Who </a:t>
            </a:r>
            <a:r>
              <a:rPr b="1" lang="en-US" sz="2800" spc="-1" strike="noStrike" u="sng">
                <a:solidFill>
                  <a:srgbClr val="2c8a5b"/>
                </a:solidFill>
                <a:uFillTx/>
                <a:latin typeface="CG Omega"/>
                <a:ea typeface="PMingLiU"/>
              </a:rPr>
              <a:t>Eat At Home And Consider Themselves Eating Healthily</a:t>
            </a:r>
            <a:br>
              <a:rPr sz="2800"/>
            </a:br>
            <a:r>
              <a:rPr b="1" lang="en-GB" sz="2800" spc="-1" strike="noStrike">
                <a:solidFill>
                  <a:srgbClr val="2c8a5b"/>
                </a:solidFill>
                <a:latin typeface="CG Omega"/>
                <a:ea typeface="PMingLiU"/>
              </a:rPr>
              <a:t>Will Eat The Following Twice+/Week</a:t>
            </a:r>
            <a:endParaRPr b="1" lang="en-US" sz="28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533520" y="1905120"/>
          <a:ext cx="807696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05120"/>
                    <a:ext cx="80769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"/>
          <p:cNvSpPr/>
          <p:nvPr/>
        </p:nvSpPr>
        <p:spPr>
          <a:xfrm>
            <a:off x="2971800" y="6324480"/>
            <a:ext cx="579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Omega"/>
                <a:ea typeface="PMingLiU"/>
              </a:rPr>
              <a:t>Successful samples: 182 (Breakfast at home + consider themselves eating healthi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8a5b"/>
                </a:solidFill>
                <a:latin typeface="CG Omega"/>
                <a:ea typeface="PMingLiU"/>
              </a:rPr>
              <a:t>For Those Who </a:t>
            </a:r>
            <a:r>
              <a:rPr b="1" lang="en-US" sz="2800" spc="-1" strike="noStrike" u="sng">
                <a:solidFill>
                  <a:srgbClr val="2c8a5b"/>
                </a:solidFill>
                <a:uFillTx/>
                <a:latin typeface="CG Omega"/>
                <a:ea typeface="PMingLiU"/>
              </a:rPr>
              <a:t>Eat Breakfast Away From Home Or Carry-out</a:t>
            </a:r>
            <a:r>
              <a:rPr b="1" lang="en-US" sz="2800" spc="-1" strike="noStrike">
                <a:solidFill>
                  <a:srgbClr val="2c8a5b"/>
                </a:solidFill>
                <a:latin typeface="CG Omega"/>
                <a:ea typeface="PMingLiU"/>
              </a:rPr>
              <a:t>, And </a:t>
            </a:r>
            <a:r>
              <a:rPr b="1" lang="en-US" sz="2800" spc="-1" strike="noStrike" u="sng">
                <a:solidFill>
                  <a:srgbClr val="2c8a5b"/>
                </a:solidFill>
                <a:uFillTx/>
                <a:latin typeface="CG Omega"/>
                <a:ea typeface="PMingLiU"/>
              </a:rPr>
              <a:t>Consider Themselves Eating Healthily</a:t>
            </a:r>
            <a:r>
              <a:rPr b="1" lang="en-US" sz="2800" spc="-1" strike="noStrike">
                <a:solidFill>
                  <a:srgbClr val="2c8a5b"/>
                </a:solidFill>
                <a:latin typeface="CG Omega"/>
                <a:ea typeface="PMingLiU"/>
              </a:rPr>
              <a:t>, Their Breakfast Include:</a:t>
            </a:r>
            <a:endParaRPr b="1" lang="en-US" sz="28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533520" y="1905120"/>
          <a:ext cx="807696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05120"/>
                    <a:ext cx="80769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2362320" y="6248520"/>
            <a:ext cx="632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MingLiU"/>
                <a:ea typeface="PMingLiU"/>
              </a:rPr>
              <a:t>Successful samples: 195 (Breakfast away from home or carry-out + consider themselves eating healthi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a5b"/>
                </a:solidFill>
                <a:latin typeface="CG Omega"/>
                <a:ea typeface="PMingLiU"/>
              </a:rPr>
              <a:t>White-Collars’ Breakfast Behavior Summary</a:t>
            </a:r>
            <a:endParaRPr b="1" lang="en-US" sz="32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60% </a:t>
            </a: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are eating ready-made breakfast from stores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Bread is the most commonly consumed food for breakfast, whether prepared at home or bought from stores. 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Over 70% consider themselves eating healthily for breakfast; yet they are eating a lot of unhealthy food such as low fiber loaf/rolls, high fat, high cholesterol sandwich, fried eggs, canned meat, sausage, etc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Comparatively, for those who are eating breakfast at home, they are choosing much healthier food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9400"/>
                </a:solidFill>
                <a:latin typeface="CG Omega"/>
                <a:ea typeface="PMingLiU"/>
              </a:rPr>
              <a:t>WHITE-COLLAR’S LUNCH BEHAVIOUR</a:t>
            </a:r>
            <a:endParaRPr b="1" lang="en-US" sz="3200" spc="-1" strike="noStrike">
              <a:solidFill>
                <a:srgbClr val="4a9400"/>
              </a:solidFill>
              <a:latin typeface="CG Omeg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a5b"/>
                </a:solidFill>
                <a:latin typeface="CG Omega"/>
                <a:ea typeface="PMingLiU"/>
              </a:rPr>
              <a:t>THE SURVEY OBJECTIVE</a:t>
            </a:r>
            <a:endParaRPr b="1" lang="en-US" sz="32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While SARS has come to an end, WHO alerts that Hong Kong people still needs to be vigilant for future outbreak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With the economy spiraling downwards, the need to eat healthily with limited budget has become a challenge for the Hong Kong people who want to stay healthy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The survey aims at understanding how people adjust their eating behavior, and offering useful suggestions to help them stay healthy in the midst of hardship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00"/>
                </a:solidFill>
                <a:latin typeface="CG Omega"/>
                <a:ea typeface="PMingLiU"/>
              </a:rPr>
              <a:t>65%</a:t>
            </a:r>
            <a:r>
              <a:rPr b="1" lang="zh-TW" sz="3200" spc="-1" strike="noStrike">
                <a:solidFill>
                  <a:srgbClr val="2c8a5b"/>
                </a:solidFill>
                <a:latin typeface="CG Omega"/>
                <a:ea typeface="PMingLiU"/>
              </a:rPr>
              <a:t> </a:t>
            </a:r>
            <a:r>
              <a:rPr b="1" lang="en-US" sz="3200" spc="-1" strike="noStrike">
                <a:solidFill>
                  <a:srgbClr val="2c8a5b"/>
                </a:solidFill>
                <a:latin typeface="CG Omega"/>
                <a:ea typeface="PMingLiU"/>
              </a:rPr>
              <a:t>White-Collars Are Eating Out Or Buying Carry-Out For Lunch </a:t>
            </a:r>
            <a:endParaRPr b="1" lang="en-US" sz="32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407" name=""/>
          <p:cNvSpPr/>
          <p:nvPr/>
        </p:nvSpPr>
        <p:spPr>
          <a:xfrm>
            <a:off x="6392160" y="6022800"/>
            <a:ext cx="21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G Omega"/>
                <a:ea typeface="PMingLiU"/>
              </a:rPr>
              <a:t>Successful samples: 5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960360" y="2441520"/>
            <a:ext cx="5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33520" y="1905120"/>
            <a:ext cx="8076960" cy="4343400"/>
            <a:chOff x="533520" y="1905120"/>
            <a:chExt cx="8076960" cy="4343400"/>
          </a:xfrm>
        </p:grpSpPr>
        <p:graphicFrame>
          <p:nvGraphicFramePr>
            <p:cNvPr id="410" name=""/>
            <p:cNvGraphicFramePr/>
            <p:nvPr/>
          </p:nvGraphicFramePr>
          <p:xfrm>
            <a:off x="533520" y="2209680"/>
            <a:ext cx="8076960" cy="403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209680"/>
                      <a:ext cx="8076960" cy="403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12" name=""/>
            <p:cNvGrpSpPr/>
            <p:nvPr/>
          </p:nvGrpSpPr>
          <p:grpSpPr>
            <a:xfrm>
              <a:off x="2209680" y="3733920"/>
              <a:ext cx="3962520" cy="1694160"/>
              <a:chOff x="2209680" y="3733920"/>
              <a:chExt cx="3962520" cy="1694160"/>
            </a:xfrm>
          </p:grpSpPr>
          <p:sp>
            <p:nvSpPr>
              <p:cNvPr id="413" name=""/>
              <p:cNvSpPr/>
              <p:nvPr/>
            </p:nvSpPr>
            <p:spPr>
              <a:xfrm>
                <a:off x="3505320" y="4724280"/>
                <a:ext cx="2666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Eating Out/Carry-O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209680" y="3733920"/>
                <a:ext cx="19051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Packed Lunc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1770840" y="1905120"/>
              <a:ext cx="325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Don’t Know/Hard To Te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59200" y="2362320"/>
              <a:ext cx="55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9400"/>
                </a:solidFill>
                <a:latin typeface="CG Omega"/>
                <a:ea typeface="PMingLiU"/>
              </a:rPr>
              <a:t>EATING OUT FOR LUNCH: </a:t>
            </a:r>
            <a:br>
              <a:rPr sz="3200"/>
            </a:br>
            <a:r>
              <a:rPr b="1" lang="en-US" sz="3200" spc="-1" strike="noStrike">
                <a:solidFill>
                  <a:srgbClr val="4a9400"/>
                </a:solidFill>
                <a:latin typeface="CG Omega"/>
                <a:ea typeface="PMingLiU"/>
              </a:rPr>
              <a:t>AN ANALYSIS</a:t>
            </a:r>
            <a:endParaRPr b="1" lang="en-US" sz="3200" spc="-1" strike="noStrike">
              <a:solidFill>
                <a:srgbClr val="4a9400"/>
              </a:solidFill>
              <a:latin typeface="CG Omeg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00"/>
                </a:solidFill>
                <a:latin typeface="CG Omega"/>
                <a:ea typeface="PMingLiU"/>
              </a:rPr>
              <a:t>70%</a:t>
            </a:r>
            <a:r>
              <a:rPr b="1" lang="zh-TW" sz="3200" spc="-1" strike="noStrike">
                <a:solidFill>
                  <a:srgbClr val="2c8a5b"/>
                </a:solidFill>
                <a:latin typeface="CG Omega"/>
                <a:ea typeface="PMingLiU"/>
              </a:rPr>
              <a:t> </a:t>
            </a:r>
            <a:r>
              <a:rPr b="1" lang="en-US" sz="3200" spc="-1" strike="noStrike">
                <a:solidFill>
                  <a:srgbClr val="2c8a5b"/>
                </a:solidFill>
                <a:latin typeface="CG Omega"/>
                <a:ea typeface="PMingLiU"/>
              </a:rPr>
              <a:t>Who Are </a:t>
            </a:r>
            <a:r>
              <a:rPr b="1" lang="en-US" sz="3200" spc="-1" strike="noStrike" u="sng">
                <a:solidFill>
                  <a:srgbClr val="2c8a5b"/>
                </a:solidFill>
                <a:uFillTx/>
                <a:latin typeface="CG Omega"/>
                <a:ea typeface="PMingLiU"/>
              </a:rPr>
              <a:t>Eating Out</a:t>
            </a:r>
            <a:br>
              <a:rPr sz="3200"/>
            </a:br>
            <a:r>
              <a:rPr b="1" lang="en-US" sz="3200" spc="-1" strike="noStrike">
                <a:solidFill>
                  <a:srgbClr val="2c8a5b"/>
                </a:solidFill>
                <a:latin typeface="CG Omega"/>
                <a:ea typeface="PMingLiU"/>
              </a:rPr>
              <a:t>Frequent Local Tea Restaurants/Fast Food Stores For </a:t>
            </a:r>
            <a:r>
              <a:rPr b="1" lang="en-US" sz="3200" spc="-1" strike="noStrike" u="sng">
                <a:solidFill>
                  <a:srgbClr val="2c8a5b"/>
                </a:solidFill>
                <a:uFillTx/>
                <a:latin typeface="CG Omega"/>
                <a:ea typeface="PMingLiU"/>
              </a:rPr>
              <a:t>Lunch</a:t>
            </a:r>
            <a:endParaRPr b="1" lang="en-US" sz="32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533520" y="1905120"/>
          <a:ext cx="807696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05120"/>
                    <a:ext cx="80769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"/>
          <p:cNvSpPr/>
          <p:nvPr/>
        </p:nvSpPr>
        <p:spPr>
          <a:xfrm>
            <a:off x="4952880" y="6095880"/>
            <a:ext cx="3886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Omega"/>
                <a:ea typeface="PMingLiU"/>
              </a:rPr>
              <a:t>Successful samples: 334 (eating out for lun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Omega"/>
                <a:ea typeface="PMingLiU"/>
              </a:rPr>
              <a:t>Can choose more than one answer: 53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G Omega"/>
                <a:ea typeface="PMingLiU"/>
              </a:rPr>
              <a:t>Almost Half</a:t>
            </a:r>
            <a:r>
              <a:rPr b="1" lang="en-US" sz="3200" spc="-1" strike="noStrike">
                <a:solidFill>
                  <a:srgbClr val="2c8a5b"/>
                </a:solidFill>
                <a:latin typeface="CG Omega"/>
                <a:ea typeface="PMingLiU"/>
              </a:rPr>
              <a:t> Of Them Are Eating High Fat Meat Such As Spare Ribs, Beef Briskets, And Chicken Wings For Lunch</a:t>
            </a:r>
            <a:endParaRPr b="1" lang="en-US" sz="32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533520" y="1905120"/>
          <a:ext cx="807696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05120"/>
                    <a:ext cx="80769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"/>
          <p:cNvSpPr/>
          <p:nvPr/>
        </p:nvSpPr>
        <p:spPr>
          <a:xfrm>
            <a:off x="5638680" y="6232680"/>
            <a:ext cx="32767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Omega"/>
                <a:ea typeface="PMingLiU"/>
              </a:rPr>
              <a:t>Successful samples: 334 (eating out for lun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Omega"/>
                <a:ea typeface="PMingLiU"/>
              </a:rPr>
              <a:t>Can choose more than one answer: 1,00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8a5b"/>
                </a:solidFill>
                <a:latin typeface="CG Omega"/>
                <a:ea typeface="PMingLiU"/>
              </a:rPr>
              <a:t>For Those Who Are </a:t>
            </a:r>
            <a:r>
              <a:rPr b="1" lang="en-US" sz="2800" spc="-1" strike="noStrike" u="sng">
                <a:solidFill>
                  <a:srgbClr val="2c8a5b"/>
                </a:solidFill>
                <a:uFillTx/>
                <a:latin typeface="CG Omega"/>
                <a:ea typeface="PMingLiU"/>
              </a:rPr>
              <a:t>Eating Out/Buying Carry-Out</a:t>
            </a:r>
            <a:r>
              <a:rPr b="1" lang="en-US" sz="2800" spc="-1" strike="noStrike">
                <a:solidFill>
                  <a:srgbClr val="2c8a5b"/>
                </a:solidFill>
                <a:latin typeface="CG Omega"/>
                <a:ea typeface="PMingLiU"/>
              </a:rPr>
              <a:t> And </a:t>
            </a:r>
            <a:r>
              <a:rPr b="1" lang="en-US" sz="2800" spc="-1" strike="noStrike" u="sng">
                <a:solidFill>
                  <a:srgbClr val="2c8a5b"/>
                </a:solidFill>
                <a:uFillTx/>
                <a:latin typeface="CG Omega"/>
                <a:ea typeface="PMingLiU"/>
              </a:rPr>
              <a:t>Consider Themselves Eating Healthily</a:t>
            </a:r>
            <a:r>
              <a:rPr b="1" lang="en-US" sz="2800" spc="-1" strike="noStrike">
                <a:solidFill>
                  <a:srgbClr val="2c8a5b"/>
                </a:solidFill>
                <a:latin typeface="CG Omega"/>
                <a:ea typeface="PMingLiU"/>
              </a:rPr>
              <a:t>, Their Lunch Include A Lot of Meat</a:t>
            </a:r>
            <a:endParaRPr b="1" lang="en-US" sz="28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533520" y="2311560"/>
          <a:ext cx="8076960" cy="35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11560"/>
                    <a:ext cx="807696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"/>
          <p:cNvSpPr/>
          <p:nvPr/>
        </p:nvSpPr>
        <p:spPr>
          <a:xfrm>
            <a:off x="2971800" y="6278400"/>
            <a:ext cx="59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Omega"/>
                <a:ea typeface="PMingLiU"/>
              </a:rPr>
              <a:t>Successful samples: 210  (eating out for lunch + consider themselves eating healthi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8a5b"/>
                </a:solidFill>
                <a:latin typeface="CG Omega"/>
                <a:ea typeface="PMingLiU"/>
              </a:rPr>
              <a:t>Almost </a:t>
            </a:r>
            <a:r>
              <a:rPr b="1" lang="en-US" sz="3600" spc="-1" strike="noStrike">
                <a:solidFill>
                  <a:srgbClr val="cc0000"/>
                </a:solidFill>
                <a:latin typeface="CG Omega"/>
                <a:ea typeface="PMingLiU"/>
              </a:rPr>
              <a:t>40%</a:t>
            </a:r>
            <a:r>
              <a:rPr b="1" lang="en-US" sz="2800" spc="-1" strike="noStrike">
                <a:solidFill>
                  <a:srgbClr val="2c8a5b"/>
                </a:solidFill>
                <a:latin typeface="CG Omega"/>
                <a:ea typeface="PMingLiU"/>
              </a:rPr>
              <a:t> Who Are Eating Out And Take Chicken For Lunch Are Eating The Skin As Well</a:t>
            </a:r>
            <a:endParaRPr b="1" lang="en-US" sz="28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431" name=""/>
          <p:cNvSpPr/>
          <p:nvPr/>
        </p:nvSpPr>
        <p:spPr>
          <a:xfrm>
            <a:off x="4572000" y="640080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G Omega"/>
                <a:ea typeface="PMingLiU"/>
              </a:rPr>
              <a:t>Successful samples: 243 (eating out + eat chick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228600" y="1897200"/>
            <a:ext cx="8915400" cy="4351320"/>
            <a:chOff x="228600" y="1897200"/>
            <a:chExt cx="8915400" cy="4351320"/>
          </a:xfrm>
        </p:grpSpPr>
        <p:graphicFrame>
          <p:nvGraphicFramePr>
            <p:cNvPr id="433" name=""/>
            <p:cNvGraphicFramePr/>
            <p:nvPr/>
          </p:nvGraphicFramePr>
          <p:xfrm>
            <a:off x="228600" y="1905120"/>
            <a:ext cx="8915400" cy="4343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905120"/>
                      <a:ext cx="8915400" cy="434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35" name=""/>
            <p:cNvGrpSpPr/>
            <p:nvPr/>
          </p:nvGrpSpPr>
          <p:grpSpPr>
            <a:xfrm>
              <a:off x="2761560" y="1897200"/>
              <a:ext cx="3638880" cy="3759480"/>
              <a:chOff x="2761560" y="1897200"/>
              <a:chExt cx="3638880" cy="3759480"/>
            </a:xfrm>
          </p:grpSpPr>
          <p:grpSp>
            <p:nvGrpSpPr>
              <p:cNvPr id="436" name=""/>
              <p:cNvGrpSpPr/>
              <p:nvPr/>
            </p:nvGrpSpPr>
            <p:grpSpPr>
              <a:xfrm>
                <a:off x="2819520" y="3886200"/>
                <a:ext cx="3580920" cy="1770480"/>
                <a:chOff x="2819520" y="3886200"/>
                <a:chExt cx="3580920" cy="177048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800600" y="4343040"/>
                  <a:ext cx="1599840" cy="131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G Omega"/>
                      <a:ea typeface="PMingLiU"/>
                    </a:rPr>
                    <a:t>Chicken Meat Without Ski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2819520" y="3886200"/>
                  <a:ext cx="159984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G Omega"/>
                      <a:ea typeface="PMingLiU"/>
                    </a:rPr>
                    <a:t>Chicken Meat With Ski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9" name=""/>
              <p:cNvSpPr/>
              <p:nvPr/>
            </p:nvSpPr>
            <p:spPr>
              <a:xfrm>
                <a:off x="4038480" y="2438280"/>
                <a:ext cx="74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000" spc="-1" strike="noStrike">
                    <a:solidFill>
                      <a:srgbClr val="000000"/>
                    </a:solidFill>
                    <a:latin typeface="PMingLiU"/>
                    <a:ea typeface="PMingLiU"/>
                  </a:rPr>
                  <a:t>4%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761560" y="1897200"/>
                <a:ext cx="325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Don’t Know/Hard To Tel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a5b"/>
                </a:solidFill>
                <a:latin typeface="CG Omega"/>
                <a:ea typeface="PMingLiU"/>
              </a:rPr>
              <a:t>White-Collars’ Packed Lunch Includes Rice/Noodle/Bread, Vegetable, Meat</a:t>
            </a:r>
            <a:endParaRPr b="1" lang="en-US" sz="32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533520" y="1905120"/>
          <a:ext cx="807696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05120"/>
                    <a:ext cx="80769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"/>
          <p:cNvSpPr/>
          <p:nvPr/>
        </p:nvSpPr>
        <p:spPr>
          <a:xfrm>
            <a:off x="5334120" y="6248520"/>
            <a:ext cx="3581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Omega"/>
                <a:ea typeface="PMingLiU"/>
              </a:rPr>
              <a:t>Successful sample</a:t>
            </a:r>
            <a:r>
              <a:rPr b="0" lang="en-US" sz="1200" spc="-1" strike="noStrike">
                <a:solidFill>
                  <a:srgbClr val="000000"/>
                </a:solidFill>
                <a:latin typeface="CG Omega"/>
                <a:ea typeface="PMingLiU"/>
              </a:rPr>
              <a:t>：</a:t>
            </a:r>
            <a:r>
              <a:rPr b="0" lang="en-US" sz="1200" spc="-1" strike="noStrike">
                <a:solidFill>
                  <a:srgbClr val="000000"/>
                </a:solidFill>
                <a:latin typeface="CG Omega"/>
                <a:ea typeface="PMingLiU"/>
              </a:rPr>
              <a:t>154(packed lun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Omega"/>
                <a:ea typeface="PMingLiU"/>
              </a:rPr>
              <a:t>Can choose more than one answer</a:t>
            </a:r>
            <a:r>
              <a:rPr b="0" lang="en-US" sz="1200" spc="-1" strike="noStrike">
                <a:solidFill>
                  <a:srgbClr val="000000"/>
                </a:solidFill>
                <a:latin typeface="CG Omega"/>
                <a:ea typeface="PMingLiU"/>
              </a:rPr>
              <a:t>：</a:t>
            </a:r>
            <a:r>
              <a:rPr b="0" lang="en-US" sz="1200" spc="-1" strike="noStrike">
                <a:solidFill>
                  <a:srgbClr val="000000"/>
                </a:solidFill>
                <a:latin typeface="CG Omega"/>
                <a:ea typeface="PMingLiU"/>
              </a:rPr>
              <a:t>60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G Omega"/>
                <a:ea typeface="PMingLiU"/>
              </a:rPr>
              <a:t>Half Of Them</a:t>
            </a:r>
            <a:r>
              <a:rPr b="1" lang="en-US" sz="3200" spc="-1" strike="noStrike">
                <a:solidFill>
                  <a:srgbClr val="2c8a5b"/>
                </a:solidFill>
                <a:latin typeface="CG Omega"/>
                <a:ea typeface="PMingLiU"/>
              </a:rPr>
              <a:t> Include Chicken Wings In Their Lunch Box At Least Once A Week</a:t>
            </a:r>
            <a:endParaRPr b="1" lang="en-US" sz="32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533520" y="1752480"/>
          <a:ext cx="807696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0769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"/>
          <p:cNvSpPr/>
          <p:nvPr/>
        </p:nvSpPr>
        <p:spPr>
          <a:xfrm>
            <a:off x="4495680" y="6095880"/>
            <a:ext cx="4114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Omega"/>
                <a:ea typeface="PMingLiU"/>
              </a:rPr>
              <a:t>Successful samples: 154 (packed lun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Omega"/>
                <a:ea typeface="PMingLiU"/>
              </a:rPr>
              <a:t>Can choose more than one answer: 4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a5b"/>
                </a:solidFill>
                <a:latin typeface="CG Omega"/>
                <a:ea typeface="PMingLiU"/>
              </a:rPr>
              <a:t>For Those Who Pack Lunch And Eat Chicken, </a:t>
            </a:r>
            <a:r>
              <a:rPr b="1" lang="en-US" sz="3200" spc="-1" strike="noStrike">
                <a:solidFill>
                  <a:srgbClr val="cc0000"/>
                </a:solidFill>
                <a:latin typeface="CG Omega"/>
                <a:ea typeface="PMingLiU"/>
              </a:rPr>
              <a:t>30%</a:t>
            </a:r>
            <a:r>
              <a:rPr b="1" lang="en-US" sz="3200" spc="-1" strike="noStrike">
                <a:solidFill>
                  <a:srgbClr val="2c8a5b"/>
                </a:solidFill>
                <a:latin typeface="CG Omega"/>
                <a:ea typeface="PMingLiU"/>
              </a:rPr>
              <a:t> Eat The Skin As Well </a:t>
            </a:r>
            <a:endParaRPr b="1" lang="en-US" sz="32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450" name=""/>
          <p:cNvSpPr/>
          <p:nvPr/>
        </p:nvSpPr>
        <p:spPr>
          <a:xfrm>
            <a:off x="4724280" y="6324480"/>
            <a:ext cx="427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G Omega"/>
                <a:ea typeface="PMingLiU"/>
              </a:rPr>
              <a:t>Successful samples: 101 (pack lunch + eat chick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228600" y="1676520"/>
            <a:ext cx="8686800" cy="4495680"/>
            <a:chOff x="228600" y="1676520"/>
            <a:chExt cx="8686800" cy="4495680"/>
          </a:xfrm>
        </p:grpSpPr>
        <p:graphicFrame>
          <p:nvGraphicFramePr>
            <p:cNvPr id="452" name=""/>
            <p:cNvGraphicFramePr/>
            <p:nvPr/>
          </p:nvGraphicFramePr>
          <p:xfrm>
            <a:off x="228600" y="1828800"/>
            <a:ext cx="8686800" cy="4343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828800"/>
                      <a:ext cx="8686800" cy="434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54" name=""/>
            <p:cNvGrpSpPr/>
            <p:nvPr/>
          </p:nvGrpSpPr>
          <p:grpSpPr>
            <a:xfrm>
              <a:off x="2152080" y="1676520"/>
              <a:ext cx="4020120" cy="3294720"/>
              <a:chOff x="2152080" y="1676520"/>
              <a:chExt cx="4020120" cy="3294720"/>
            </a:xfrm>
          </p:grpSpPr>
          <p:sp>
            <p:nvSpPr>
              <p:cNvPr id="455" name=""/>
              <p:cNvSpPr/>
              <p:nvPr/>
            </p:nvSpPr>
            <p:spPr>
              <a:xfrm>
                <a:off x="4572000" y="3962520"/>
                <a:ext cx="16002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Chicken Without Sk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666880" y="3581280"/>
                <a:ext cx="16002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Chicken With Sk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706920" y="2593800"/>
                <a:ext cx="555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000" spc="-1" strike="noStrike">
                    <a:solidFill>
                      <a:srgbClr val="000000"/>
                    </a:solidFill>
                    <a:latin typeface="PMingLiU"/>
                    <a:ea typeface="PMingLiU"/>
                  </a:rPr>
                  <a:t>8%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152080" y="1676520"/>
                <a:ext cx="325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Don’t Know/Hard To Tel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a5b"/>
                </a:solidFill>
                <a:latin typeface="CG Omega"/>
                <a:ea typeface="PMingLiU"/>
              </a:rPr>
              <a:t>For Those Who </a:t>
            </a:r>
            <a:r>
              <a:rPr b="1" lang="en-US" sz="3200" spc="-1" strike="noStrike" u="sng">
                <a:solidFill>
                  <a:srgbClr val="2c8a5b"/>
                </a:solidFill>
                <a:uFillTx/>
                <a:latin typeface="CG Omega"/>
                <a:ea typeface="PMingLiU"/>
              </a:rPr>
              <a:t>Pack Lunch and Consider Themselves Eating Healthily</a:t>
            </a:r>
            <a:r>
              <a:rPr b="1" lang="en-US" sz="3200" spc="-1" strike="noStrike">
                <a:solidFill>
                  <a:srgbClr val="2c8a5b"/>
                </a:solidFill>
                <a:latin typeface="CG Omega"/>
                <a:ea typeface="PMingLiU"/>
              </a:rPr>
              <a:t>, </a:t>
            </a:r>
            <a:br>
              <a:rPr sz="3200"/>
            </a:br>
            <a:r>
              <a:rPr b="1" lang="en-US" sz="3200" spc="-1" strike="noStrike">
                <a:solidFill>
                  <a:srgbClr val="2c8a5b"/>
                </a:solidFill>
                <a:latin typeface="CG Omega"/>
                <a:ea typeface="PMingLiU"/>
              </a:rPr>
              <a:t>Their Lunch Include A Lot Of Meat</a:t>
            </a:r>
            <a:endParaRPr b="1" lang="en-US" sz="32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533520" y="2306520"/>
          <a:ext cx="8076960" cy="35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06520"/>
                    <a:ext cx="8076960" cy="35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4114800" y="6095880"/>
            <a:ext cx="502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Omega"/>
                <a:ea typeface="PMingLiU"/>
              </a:rPr>
              <a:t>Successful samples: 131 (pack lunch + consider eating healthi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a5b"/>
                </a:solidFill>
                <a:latin typeface="CG Omega"/>
                <a:ea typeface="PMingLiU"/>
              </a:rPr>
              <a:t>SURVEY OVERVIEW</a:t>
            </a:r>
            <a:endParaRPr b="1" lang="en-US" sz="32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533520" y="1600200"/>
          <a:ext cx="8076960" cy="4967280"/>
        </p:xfrm>
        <a:graphic>
          <a:graphicData uri="http://schemas.openxmlformats.org/drawingml/2006/table">
            <a:tbl>
              <a:tblPr/>
              <a:tblGrid>
                <a:gridCol w="2415960"/>
                <a:gridCol w="5661000"/>
              </a:tblGrid>
              <a:tr h="92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Obje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3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To understand the eating habits of Hong Kong’s white-collars under economic stress and S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Targ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3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18-49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years old white-collars, with habits of eating breakfast and lun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3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May 29, 2003 - June 3, 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Organ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3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Public Opinion Programme, University of Hong K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3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Telephone interview through random samp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Successful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3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511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Success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3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73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Sampling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f3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Less than 2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a5b"/>
                </a:solidFill>
                <a:latin typeface="CG Omega"/>
                <a:ea typeface="PMingLiU"/>
              </a:rPr>
              <a:t>White-Collars’ Lunch Behavior Summary</a:t>
            </a:r>
            <a:endParaRPr b="1" lang="en-US" sz="32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30% </a:t>
            </a: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bring their own lunch; 70% eat outside or buy carry-out at local tea restaurants/fast food stores. 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High fat meat accounts for a major share of their lunch (e.g. chicken wings, spare ribs, beef briskets, canned meat, fried fish, etc)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Packed lunch also contains a lot of high fat meat (e.g. chicken wings)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70% consider themselves eating healthily. In fact, they are eating a lot of unhealthy, high fat food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4a9400"/>
                </a:solidFill>
                <a:latin typeface="CG Omega"/>
                <a:ea typeface="PMingLiU"/>
              </a:rPr>
              <a:t>THE IMPACT OF ECONOMIC STRESS &amp; SARS ON WHITE-COLLAR’S EATING BEHAVIOUR</a:t>
            </a:r>
            <a:br>
              <a:rPr sz="3200"/>
            </a:br>
            <a:endParaRPr b="1" lang="en-US" sz="3200" spc="-1" strike="noStrike">
              <a:solidFill>
                <a:srgbClr val="4a9400"/>
              </a:solidFill>
              <a:latin typeface="CG Omeg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cc0000"/>
                </a:solidFill>
                <a:latin typeface="CG Omega"/>
                <a:ea typeface="PMingLiU"/>
              </a:rPr>
              <a:t>¼</a:t>
            </a:r>
            <a:r>
              <a:rPr b="1" lang="en-US" sz="3200" spc="-1" strike="noStrike">
                <a:solidFill>
                  <a:srgbClr val="2c8a5b"/>
                </a:solidFill>
                <a:latin typeface="CG Omega"/>
                <a:ea typeface="PMingLiU"/>
              </a:rPr>
              <a:t>White-Collars Are Spending Less On Meals Than One Year Ago </a:t>
            </a:r>
            <a:endParaRPr b="1" lang="en-US" sz="32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467" name=""/>
          <p:cNvSpPr/>
          <p:nvPr/>
        </p:nvSpPr>
        <p:spPr>
          <a:xfrm>
            <a:off x="6773040" y="6324480"/>
            <a:ext cx="21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G Omega"/>
                <a:ea typeface="PMingLiU"/>
              </a:rPr>
              <a:t>Successful samples: 5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209680" y="1712880"/>
            <a:ext cx="5659560" cy="4611600"/>
            <a:chOff x="2209680" y="1712880"/>
            <a:chExt cx="5659560" cy="4611600"/>
          </a:xfrm>
        </p:grpSpPr>
        <p:sp>
          <p:nvSpPr>
            <p:cNvPr id="469" name=""/>
            <p:cNvSpPr/>
            <p:nvPr/>
          </p:nvSpPr>
          <p:spPr>
            <a:xfrm>
              <a:off x="2514600" y="2071800"/>
              <a:ext cx="4140360" cy="4252680"/>
            </a:xfrm>
            <a:custGeom>
              <a:avLst/>
              <a:gdLst/>
              <a:ahLst/>
              <a:rect l="l" t="t" r="r" b="b"/>
              <a:pathLst>
                <a:path w="2608" h="2679">
                  <a:moveTo>
                    <a:pt x="1236" y="0"/>
                  </a:moveTo>
                  <a:lnTo>
                    <a:pt x="1262" y="0"/>
                  </a:lnTo>
                  <a:lnTo>
                    <a:pt x="1288" y="0"/>
                  </a:lnTo>
                  <a:lnTo>
                    <a:pt x="1307" y="0"/>
                  </a:lnTo>
                  <a:lnTo>
                    <a:pt x="1333" y="0"/>
                  </a:lnTo>
                  <a:lnTo>
                    <a:pt x="1359" y="6"/>
                  </a:lnTo>
                  <a:lnTo>
                    <a:pt x="1378" y="6"/>
                  </a:lnTo>
                  <a:lnTo>
                    <a:pt x="1404" y="6"/>
                  </a:lnTo>
                  <a:lnTo>
                    <a:pt x="1430" y="12"/>
                  </a:lnTo>
                  <a:lnTo>
                    <a:pt x="1450" y="12"/>
                  </a:lnTo>
                  <a:lnTo>
                    <a:pt x="1475" y="19"/>
                  </a:lnTo>
                  <a:lnTo>
                    <a:pt x="1501" y="25"/>
                  </a:lnTo>
                  <a:lnTo>
                    <a:pt x="1521" y="25"/>
                  </a:lnTo>
                  <a:lnTo>
                    <a:pt x="1547" y="31"/>
                  </a:lnTo>
                  <a:lnTo>
                    <a:pt x="1566" y="38"/>
                  </a:lnTo>
                  <a:lnTo>
                    <a:pt x="1592" y="44"/>
                  </a:lnTo>
                  <a:lnTo>
                    <a:pt x="1618" y="50"/>
                  </a:lnTo>
                  <a:lnTo>
                    <a:pt x="1637" y="57"/>
                  </a:lnTo>
                  <a:lnTo>
                    <a:pt x="1663" y="63"/>
                  </a:lnTo>
                  <a:lnTo>
                    <a:pt x="1683" y="69"/>
                  </a:lnTo>
                  <a:lnTo>
                    <a:pt x="1708" y="82"/>
                  </a:lnTo>
                  <a:lnTo>
                    <a:pt x="1728" y="88"/>
                  </a:lnTo>
                  <a:lnTo>
                    <a:pt x="1747" y="95"/>
                  </a:lnTo>
                  <a:lnTo>
                    <a:pt x="1773" y="107"/>
                  </a:lnTo>
                  <a:lnTo>
                    <a:pt x="1793" y="114"/>
                  </a:lnTo>
                  <a:lnTo>
                    <a:pt x="1819" y="126"/>
                  </a:lnTo>
                  <a:lnTo>
                    <a:pt x="1838" y="133"/>
                  </a:lnTo>
                  <a:lnTo>
                    <a:pt x="1857" y="145"/>
                  </a:lnTo>
                  <a:lnTo>
                    <a:pt x="1883" y="158"/>
                  </a:lnTo>
                  <a:lnTo>
                    <a:pt x="1903" y="164"/>
                  </a:lnTo>
                  <a:lnTo>
                    <a:pt x="1922" y="177"/>
                  </a:lnTo>
                  <a:lnTo>
                    <a:pt x="1941" y="190"/>
                  </a:lnTo>
                  <a:lnTo>
                    <a:pt x="1961" y="202"/>
                  </a:lnTo>
                  <a:lnTo>
                    <a:pt x="1980" y="215"/>
                  </a:lnTo>
                  <a:lnTo>
                    <a:pt x="2006" y="228"/>
                  </a:lnTo>
                  <a:lnTo>
                    <a:pt x="2026" y="240"/>
                  </a:lnTo>
                  <a:lnTo>
                    <a:pt x="2045" y="253"/>
                  </a:lnTo>
                  <a:lnTo>
                    <a:pt x="2064" y="266"/>
                  </a:lnTo>
                  <a:lnTo>
                    <a:pt x="2077" y="285"/>
                  </a:lnTo>
                  <a:lnTo>
                    <a:pt x="2097" y="297"/>
                  </a:lnTo>
                  <a:lnTo>
                    <a:pt x="2116" y="310"/>
                  </a:lnTo>
                  <a:lnTo>
                    <a:pt x="2136" y="329"/>
                  </a:lnTo>
                  <a:lnTo>
                    <a:pt x="2155" y="342"/>
                  </a:lnTo>
                  <a:lnTo>
                    <a:pt x="2168" y="361"/>
                  </a:lnTo>
                  <a:lnTo>
                    <a:pt x="2187" y="373"/>
                  </a:lnTo>
                  <a:lnTo>
                    <a:pt x="2207" y="392"/>
                  </a:lnTo>
                  <a:lnTo>
                    <a:pt x="2220" y="405"/>
                  </a:lnTo>
                  <a:lnTo>
                    <a:pt x="2239" y="424"/>
                  </a:lnTo>
                  <a:lnTo>
                    <a:pt x="2252" y="443"/>
                  </a:lnTo>
                  <a:lnTo>
                    <a:pt x="2272" y="456"/>
                  </a:lnTo>
                  <a:lnTo>
                    <a:pt x="2284" y="475"/>
                  </a:lnTo>
                  <a:lnTo>
                    <a:pt x="2304" y="494"/>
                  </a:lnTo>
                  <a:lnTo>
                    <a:pt x="2317" y="513"/>
                  </a:lnTo>
                  <a:lnTo>
                    <a:pt x="2330" y="532"/>
                  </a:lnTo>
                  <a:lnTo>
                    <a:pt x="2343" y="551"/>
                  </a:lnTo>
                  <a:lnTo>
                    <a:pt x="2356" y="570"/>
                  </a:lnTo>
                  <a:lnTo>
                    <a:pt x="2375" y="589"/>
                  </a:lnTo>
                  <a:lnTo>
                    <a:pt x="2388" y="608"/>
                  </a:lnTo>
                  <a:lnTo>
                    <a:pt x="2401" y="627"/>
                  </a:lnTo>
                  <a:lnTo>
                    <a:pt x="2414" y="646"/>
                  </a:lnTo>
                  <a:lnTo>
                    <a:pt x="2420" y="665"/>
                  </a:lnTo>
                  <a:lnTo>
                    <a:pt x="2433" y="690"/>
                  </a:lnTo>
                  <a:lnTo>
                    <a:pt x="2446" y="709"/>
                  </a:lnTo>
                  <a:lnTo>
                    <a:pt x="2459" y="728"/>
                  </a:lnTo>
                  <a:lnTo>
                    <a:pt x="2466" y="753"/>
                  </a:lnTo>
                  <a:lnTo>
                    <a:pt x="2479" y="772"/>
                  </a:lnTo>
                  <a:lnTo>
                    <a:pt x="2485" y="791"/>
                  </a:lnTo>
                  <a:lnTo>
                    <a:pt x="2498" y="817"/>
                  </a:lnTo>
                  <a:lnTo>
                    <a:pt x="2505" y="836"/>
                  </a:lnTo>
                  <a:lnTo>
                    <a:pt x="2517" y="855"/>
                  </a:lnTo>
                  <a:lnTo>
                    <a:pt x="2524" y="880"/>
                  </a:lnTo>
                  <a:lnTo>
                    <a:pt x="2530" y="899"/>
                  </a:lnTo>
                  <a:lnTo>
                    <a:pt x="2537" y="924"/>
                  </a:lnTo>
                  <a:lnTo>
                    <a:pt x="2550" y="943"/>
                  </a:lnTo>
                  <a:lnTo>
                    <a:pt x="2556" y="969"/>
                  </a:lnTo>
                  <a:lnTo>
                    <a:pt x="2563" y="994"/>
                  </a:lnTo>
                  <a:lnTo>
                    <a:pt x="2563" y="1013"/>
                  </a:lnTo>
                  <a:lnTo>
                    <a:pt x="2569" y="1038"/>
                  </a:lnTo>
                  <a:lnTo>
                    <a:pt x="2576" y="1057"/>
                  </a:lnTo>
                  <a:lnTo>
                    <a:pt x="2582" y="1083"/>
                  </a:lnTo>
                  <a:lnTo>
                    <a:pt x="2589" y="1108"/>
                  </a:lnTo>
                  <a:lnTo>
                    <a:pt x="2589" y="1127"/>
                  </a:lnTo>
                  <a:lnTo>
                    <a:pt x="2595" y="1152"/>
                  </a:lnTo>
                  <a:lnTo>
                    <a:pt x="2595" y="1171"/>
                  </a:lnTo>
                  <a:lnTo>
                    <a:pt x="2602" y="1197"/>
                  </a:lnTo>
                  <a:lnTo>
                    <a:pt x="2602" y="1222"/>
                  </a:lnTo>
                  <a:lnTo>
                    <a:pt x="2602" y="1241"/>
                  </a:lnTo>
                  <a:lnTo>
                    <a:pt x="2602" y="1266"/>
                  </a:lnTo>
                  <a:lnTo>
                    <a:pt x="2608" y="1292"/>
                  </a:lnTo>
                  <a:lnTo>
                    <a:pt x="2608" y="1317"/>
                  </a:lnTo>
                  <a:lnTo>
                    <a:pt x="2608" y="1336"/>
                  </a:lnTo>
                  <a:lnTo>
                    <a:pt x="2608" y="1361"/>
                  </a:lnTo>
                  <a:lnTo>
                    <a:pt x="2608" y="1387"/>
                  </a:lnTo>
                  <a:lnTo>
                    <a:pt x="2602" y="1406"/>
                  </a:lnTo>
                  <a:lnTo>
                    <a:pt x="2602" y="1431"/>
                  </a:lnTo>
                  <a:lnTo>
                    <a:pt x="2602" y="1456"/>
                  </a:lnTo>
                  <a:lnTo>
                    <a:pt x="2602" y="1475"/>
                  </a:lnTo>
                  <a:lnTo>
                    <a:pt x="2595" y="1501"/>
                  </a:lnTo>
                  <a:lnTo>
                    <a:pt x="2595" y="1526"/>
                  </a:lnTo>
                  <a:lnTo>
                    <a:pt x="2589" y="1545"/>
                  </a:lnTo>
                  <a:lnTo>
                    <a:pt x="2589" y="1570"/>
                  </a:lnTo>
                  <a:lnTo>
                    <a:pt x="2582" y="1596"/>
                  </a:lnTo>
                  <a:lnTo>
                    <a:pt x="2576" y="1615"/>
                  </a:lnTo>
                  <a:lnTo>
                    <a:pt x="2569" y="1640"/>
                  </a:lnTo>
                  <a:lnTo>
                    <a:pt x="2563" y="1659"/>
                  </a:lnTo>
                  <a:lnTo>
                    <a:pt x="2563" y="1684"/>
                  </a:lnTo>
                  <a:lnTo>
                    <a:pt x="2556" y="1710"/>
                  </a:lnTo>
                  <a:lnTo>
                    <a:pt x="2550" y="1729"/>
                  </a:lnTo>
                  <a:lnTo>
                    <a:pt x="2537" y="1754"/>
                  </a:lnTo>
                  <a:lnTo>
                    <a:pt x="2530" y="1773"/>
                  </a:lnTo>
                  <a:lnTo>
                    <a:pt x="2524" y="1798"/>
                  </a:lnTo>
                  <a:lnTo>
                    <a:pt x="2517" y="1817"/>
                  </a:lnTo>
                  <a:lnTo>
                    <a:pt x="2505" y="1836"/>
                  </a:lnTo>
                  <a:lnTo>
                    <a:pt x="2498" y="1862"/>
                  </a:lnTo>
                  <a:lnTo>
                    <a:pt x="2485" y="1881"/>
                  </a:lnTo>
                  <a:lnTo>
                    <a:pt x="2479" y="1906"/>
                  </a:lnTo>
                  <a:lnTo>
                    <a:pt x="2466" y="1925"/>
                  </a:lnTo>
                  <a:lnTo>
                    <a:pt x="2459" y="1944"/>
                  </a:lnTo>
                  <a:lnTo>
                    <a:pt x="2446" y="1969"/>
                  </a:lnTo>
                  <a:lnTo>
                    <a:pt x="2433" y="1988"/>
                  </a:lnTo>
                  <a:lnTo>
                    <a:pt x="2420" y="2007"/>
                  </a:lnTo>
                  <a:lnTo>
                    <a:pt x="2414" y="2026"/>
                  </a:lnTo>
                  <a:lnTo>
                    <a:pt x="2401" y="2045"/>
                  </a:lnTo>
                  <a:lnTo>
                    <a:pt x="2388" y="2064"/>
                  </a:lnTo>
                  <a:lnTo>
                    <a:pt x="2388" y="2064"/>
                  </a:lnTo>
                  <a:lnTo>
                    <a:pt x="2375" y="2090"/>
                  </a:lnTo>
                  <a:lnTo>
                    <a:pt x="2356" y="2109"/>
                  </a:lnTo>
                  <a:lnTo>
                    <a:pt x="2343" y="2128"/>
                  </a:lnTo>
                  <a:lnTo>
                    <a:pt x="2330" y="2147"/>
                  </a:lnTo>
                  <a:lnTo>
                    <a:pt x="2317" y="2159"/>
                  </a:lnTo>
                  <a:lnTo>
                    <a:pt x="2304" y="2178"/>
                  </a:lnTo>
                  <a:lnTo>
                    <a:pt x="2284" y="2197"/>
                  </a:lnTo>
                  <a:lnTo>
                    <a:pt x="2272" y="2216"/>
                  </a:lnTo>
                  <a:lnTo>
                    <a:pt x="2252" y="2235"/>
                  </a:lnTo>
                  <a:lnTo>
                    <a:pt x="2239" y="2248"/>
                  </a:lnTo>
                  <a:lnTo>
                    <a:pt x="2220" y="2267"/>
                  </a:lnTo>
                  <a:lnTo>
                    <a:pt x="2207" y="2286"/>
                  </a:lnTo>
                  <a:lnTo>
                    <a:pt x="2187" y="2299"/>
                  </a:lnTo>
                  <a:lnTo>
                    <a:pt x="2168" y="2318"/>
                  </a:lnTo>
                  <a:lnTo>
                    <a:pt x="2155" y="2330"/>
                  </a:lnTo>
                  <a:lnTo>
                    <a:pt x="2136" y="2349"/>
                  </a:lnTo>
                  <a:lnTo>
                    <a:pt x="2116" y="2362"/>
                  </a:lnTo>
                  <a:lnTo>
                    <a:pt x="2097" y="2381"/>
                  </a:lnTo>
                  <a:lnTo>
                    <a:pt x="2077" y="2394"/>
                  </a:lnTo>
                  <a:lnTo>
                    <a:pt x="2064" y="2406"/>
                  </a:lnTo>
                  <a:lnTo>
                    <a:pt x="2045" y="2419"/>
                  </a:lnTo>
                  <a:lnTo>
                    <a:pt x="2026" y="2432"/>
                  </a:lnTo>
                  <a:lnTo>
                    <a:pt x="2006" y="2451"/>
                  </a:lnTo>
                  <a:lnTo>
                    <a:pt x="1980" y="2463"/>
                  </a:lnTo>
                  <a:lnTo>
                    <a:pt x="1961" y="2476"/>
                  </a:lnTo>
                  <a:lnTo>
                    <a:pt x="1941" y="2489"/>
                  </a:lnTo>
                  <a:lnTo>
                    <a:pt x="1922" y="2495"/>
                  </a:lnTo>
                  <a:lnTo>
                    <a:pt x="1903" y="2508"/>
                  </a:lnTo>
                  <a:lnTo>
                    <a:pt x="1883" y="2520"/>
                  </a:lnTo>
                  <a:lnTo>
                    <a:pt x="1857" y="2533"/>
                  </a:lnTo>
                  <a:lnTo>
                    <a:pt x="1838" y="2539"/>
                  </a:lnTo>
                  <a:lnTo>
                    <a:pt x="1819" y="2552"/>
                  </a:lnTo>
                  <a:lnTo>
                    <a:pt x="1793" y="2558"/>
                  </a:lnTo>
                  <a:lnTo>
                    <a:pt x="1773" y="2571"/>
                  </a:lnTo>
                  <a:lnTo>
                    <a:pt x="1747" y="2577"/>
                  </a:lnTo>
                  <a:lnTo>
                    <a:pt x="1728" y="2590"/>
                  </a:lnTo>
                  <a:lnTo>
                    <a:pt x="1708" y="2596"/>
                  </a:lnTo>
                  <a:lnTo>
                    <a:pt x="1683" y="2603"/>
                  </a:lnTo>
                  <a:lnTo>
                    <a:pt x="1663" y="2609"/>
                  </a:lnTo>
                  <a:lnTo>
                    <a:pt x="1637" y="2622"/>
                  </a:lnTo>
                  <a:lnTo>
                    <a:pt x="1618" y="2628"/>
                  </a:lnTo>
                  <a:lnTo>
                    <a:pt x="1592" y="2634"/>
                  </a:lnTo>
                  <a:lnTo>
                    <a:pt x="1566" y="2634"/>
                  </a:lnTo>
                  <a:lnTo>
                    <a:pt x="1547" y="2641"/>
                  </a:lnTo>
                  <a:lnTo>
                    <a:pt x="1521" y="2647"/>
                  </a:lnTo>
                  <a:lnTo>
                    <a:pt x="1501" y="2653"/>
                  </a:lnTo>
                  <a:lnTo>
                    <a:pt x="1475" y="2660"/>
                  </a:lnTo>
                  <a:lnTo>
                    <a:pt x="1450" y="2660"/>
                  </a:lnTo>
                  <a:lnTo>
                    <a:pt x="1430" y="2666"/>
                  </a:lnTo>
                  <a:lnTo>
                    <a:pt x="1404" y="2666"/>
                  </a:lnTo>
                  <a:lnTo>
                    <a:pt x="1378" y="2672"/>
                  </a:lnTo>
                  <a:lnTo>
                    <a:pt x="1359" y="2672"/>
                  </a:lnTo>
                  <a:lnTo>
                    <a:pt x="1333" y="2672"/>
                  </a:lnTo>
                  <a:lnTo>
                    <a:pt x="1307" y="2672"/>
                  </a:lnTo>
                  <a:lnTo>
                    <a:pt x="1288" y="2679"/>
                  </a:lnTo>
                  <a:lnTo>
                    <a:pt x="1262" y="2679"/>
                  </a:lnTo>
                  <a:lnTo>
                    <a:pt x="1236" y="2679"/>
                  </a:lnTo>
                  <a:lnTo>
                    <a:pt x="1217" y="2679"/>
                  </a:lnTo>
                  <a:lnTo>
                    <a:pt x="1191" y="2679"/>
                  </a:lnTo>
                  <a:lnTo>
                    <a:pt x="1165" y="2672"/>
                  </a:lnTo>
                  <a:lnTo>
                    <a:pt x="1139" y="2672"/>
                  </a:lnTo>
                  <a:lnTo>
                    <a:pt x="1120" y="2672"/>
                  </a:lnTo>
                  <a:lnTo>
                    <a:pt x="1094" y="2672"/>
                  </a:lnTo>
                  <a:lnTo>
                    <a:pt x="1068" y="2666"/>
                  </a:lnTo>
                  <a:lnTo>
                    <a:pt x="1048" y="2666"/>
                  </a:lnTo>
                  <a:lnTo>
                    <a:pt x="1022" y="2660"/>
                  </a:lnTo>
                  <a:lnTo>
                    <a:pt x="1003" y="2660"/>
                  </a:lnTo>
                  <a:lnTo>
                    <a:pt x="977" y="2653"/>
                  </a:lnTo>
                  <a:lnTo>
                    <a:pt x="951" y="2647"/>
                  </a:lnTo>
                  <a:lnTo>
                    <a:pt x="932" y="2641"/>
                  </a:lnTo>
                  <a:lnTo>
                    <a:pt x="906" y="2634"/>
                  </a:lnTo>
                  <a:lnTo>
                    <a:pt x="887" y="2634"/>
                  </a:lnTo>
                  <a:lnTo>
                    <a:pt x="861" y="2628"/>
                  </a:lnTo>
                  <a:lnTo>
                    <a:pt x="835" y="2622"/>
                  </a:lnTo>
                  <a:lnTo>
                    <a:pt x="815" y="2609"/>
                  </a:lnTo>
                  <a:lnTo>
                    <a:pt x="789" y="2603"/>
                  </a:lnTo>
                  <a:lnTo>
                    <a:pt x="770" y="2596"/>
                  </a:lnTo>
                  <a:lnTo>
                    <a:pt x="744" y="2590"/>
                  </a:lnTo>
                  <a:lnTo>
                    <a:pt x="725" y="2577"/>
                  </a:lnTo>
                  <a:lnTo>
                    <a:pt x="705" y="2571"/>
                  </a:lnTo>
                  <a:lnTo>
                    <a:pt x="679" y="2558"/>
                  </a:lnTo>
                  <a:lnTo>
                    <a:pt x="660" y="2552"/>
                  </a:lnTo>
                  <a:lnTo>
                    <a:pt x="641" y="2539"/>
                  </a:lnTo>
                  <a:lnTo>
                    <a:pt x="615" y="2533"/>
                  </a:lnTo>
                  <a:lnTo>
                    <a:pt x="595" y="2520"/>
                  </a:lnTo>
                  <a:lnTo>
                    <a:pt x="576" y="2508"/>
                  </a:lnTo>
                  <a:lnTo>
                    <a:pt x="550" y="2495"/>
                  </a:lnTo>
                  <a:lnTo>
                    <a:pt x="531" y="2489"/>
                  </a:lnTo>
                  <a:lnTo>
                    <a:pt x="511" y="2476"/>
                  </a:lnTo>
                  <a:lnTo>
                    <a:pt x="492" y="2463"/>
                  </a:lnTo>
                  <a:lnTo>
                    <a:pt x="472" y="2451"/>
                  </a:lnTo>
                  <a:lnTo>
                    <a:pt x="453" y="2432"/>
                  </a:lnTo>
                  <a:lnTo>
                    <a:pt x="434" y="2419"/>
                  </a:lnTo>
                  <a:lnTo>
                    <a:pt x="414" y="2406"/>
                  </a:lnTo>
                  <a:lnTo>
                    <a:pt x="395" y="2394"/>
                  </a:lnTo>
                  <a:lnTo>
                    <a:pt x="375" y="2381"/>
                  </a:lnTo>
                  <a:lnTo>
                    <a:pt x="356" y="2362"/>
                  </a:lnTo>
                  <a:lnTo>
                    <a:pt x="336" y="2349"/>
                  </a:lnTo>
                  <a:lnTo>
                    <a:pt x="323" y="2330"/>
                  </a:lnTo>
                  <a:lnTo>
                    <a:pt x="304" y="2318"/>
                  </a:lnTo>
                  <a:lnTo>
                    <a:pt x="285" y="2299"/>
                  </a:lnTo>
                  <a:lnTo>
                    <a:pt x="272" y="2286"/>
                  </a:lnTo>
                  <a:lnTo>
                    <a:pt x="252" y="2267"/>
                  </a:lnTo>
                  <a:lnTo>
                    <a:pt x="239" y="2248"/>
                  </a:lnTo>
                  <a:lnTo>
                    <a:pt x="220" y="2235"/>
                  </a:lnTo>
                  <a:lnTo>
                    <a:pt x="207" y="2216"/>
                  </a:lnTo>
                  <a:lnTo>
                    <a:pt x="188" y="2197"/>
                  </a:lnTo>
                  <a:lnTo>
                    <a:pt x="175" y="2178"/>
                  </a:lnTo>
                  <a:lnTo>
                    <a:pt x="162" y="2159"/>
                  </a:lnTo>
                  <a:lnTo>
                    <a:pt x="142" y="2147"/>
                  </a:lnTo>
                  <a:lnTo>
                    <a:pt x="129" y="2128"/>
                  </a:lnTo>
                  <a:lnTo>
                    <a:pt x="116" y="2109"/>
                  </a:lnTo>
                  <a:lnTo>
                    <a:pt x="103" y="2090"/>
                  </a:lnTo>
                  <a:lnTo>
                    <a:pt x="91" y="2064"/>
                  </a:lnTo>
                  <a:lnTo>
                    <a:pt x="78" y="2045"/>
                  </a:lnTo>
                  <a:lnTo>
                    <a:pt x="65" y="2026"/>
                  </a:lnTo>
                  <a:lnTo>
                    <a:pt x="52" y="2007"/>
                  </a:lnTo>
                  <a:lnTo>
                    <a:pt x="39" y="1988"/>
                  </a:lnTo>
                  <a:lnTo>
                    <a:pt x="32" y="1969"/>
                  </a:lnTo>
                  <a:lnTo>
                    <a:pt x="19" y="1944"/>
                  </a:lnTo>
                  <a:lnTo>
                    <a:pt x="6" y="1925"/>
                  </a:lnTo>
                  <a:lnTo>
                    <a:pt x="0" y="1906"/>
                  </a:lnTo>
                  <a:lnTo>
                    <a:pt x="1236" y="1336"/>
                  </a:lnTo>
                  <a:lnTo>
                    <a:pt x="1236" y="0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308320" y="2293920"/>
              <a:ext cx="2168280" cy="2825640"/>
            </a:xfrm>
            <a:custGeom>
              <a:avLst/>
              <a:gdLst/>
              <a:ahLst/>
              <a:rect l="l" t="t" r="r" b="b"/>
              <a:pathLst>
                <a:path w="1366" h="1780">
                  <a:moveTo>
                    <a:pt x="130" y="1780"/>
                  </a:moveTo>
                  <a:lnTo>
                    <a:pt x="117" y="1755"/>
                  </a:lnTo>
                  <a:lnTo>
                    <a:pt x="110" y="1736"/>
                  </a:lnTo>
                  <a:lnTo>
                    <a:pt x="98" y="1710"/>
                  </a:lnTo>
                  <a:lnTo>
                    <a:pt x="91" y="1691"/>
                  </a:lnTo>
                  <a:lnTo>
                    <a:pt x="85" y="1672"/>
                  </a:lnTo>
                  <a:lnTo>
                    <a:pt x="72" y="1647"/>
                  </a:lnTo>
                  <a:lnTo>
                    <a:pt x="65" y="1628"/>
                  </a:lnTo>
                  <a:lnTo>
                    <a:pt x="59" y="1603"/>
                  </a:lnTo>
                  <a:lnTo>
                    <a:pt x="52" y="1584"/>
                  </a:lnTo>
                  <a:lnTo>
                    <a:pt x="46" y="1558"/>
                  </a:lnTo>
                  <a:lnTo>
                    <a:pt x="39" y="1533"/>
                  </a:lnTo>
                  <a:lnTo>
                    <a:pt x="33" y="1514"/>
                  </a:lnTo>
                  <a:lnTo>
                    <a:pt x="26" y="1489"/>
                  </a:lnTo>
                  <a:lnTo>
                    <a:pt x="26" y="1470"/>
                  </a:lnTo>
                  <a:lnTo>
                    <a:pt x="20" y="1444"/>
                  </a:lnTo>
                  <a:lnTo>
                    <a:pt x="13" y="1419"/>
                  </a:lnTo>
                  <a:lnTo>
                    <a:pt x="13" y="1400"/>
                  </a:lnTo>
                  <a:lnTo>
                    <a:pt x="7" y="1375"/>
                  </a:lnTo>
                  <a:lnTo>
                    <a:pt x="7" y="1349"/>
                  </a:lnTo>
                  <a:lnTo>
                    <a:pt x="7" y="1330"/>
                  </a:lnTo>
                  <a:lnTo>
                    <a:pt x="0" y="1305"/>
                  </a:lnTo>
                  <a:lnTo>
                    <a:pt x="0" y="1280"/>
                  </a:lnTo>
                  <a:lnTo>
                    <a:pt x="0" y="1261"/>
                  </a:lnTo>
                  <a:lnTo>
                    <a:pt x="0" y="1235"/>
                  </a:lnTo>
                  <a:lnTo>
                    <a:pt x="0" y="1210"/>
                  </a:lnTo>
                  <a:lnTo>
                    <a:pt x="0" y="1191"/>
                  </a:lnTo>
                  <a:lnTo>
                    <a:pt x="0" y="1166"/>
                  </a:lnTo>
                  <a:lnTo>
                    <a:pt x="0" y="1140"/>
                  </a:lnTo>
                  <a:lnTo>
                    <a:pt x="0" y="1115"/>
                  </a:lnTo>
                  <a:lnTo>
                    <a:pt x="7" y="1096"/>
                  </a:lnTo>
                  <a:lnTo>
                    <a:pt x="7" y="1071"/>
                  </a:lnTo>
                  <a:lnTo>
                    <a:pt x="7" y="1045"/>
                  </a:lnTo>
                  <a:lnTo>
                    <a:pt x="13" y="1026"/>
                  </a:lnTo>
                  <a:lnTo>
                    <a:pt x="13" y="1001"/>
                  </a:lnTo>
                  <a:lnTo>
                    <a:pt x="20" y="982"/>
                  </a:lnTo>
                  <a:lnTo>
                    <a:pt x="26" y="957"/>
                  </a:lnTo>
                  <a:lnTo>
                    <a:pt x="26" y="931"/>
                  </a:lnTo>
                  <a:lnTo>
                    <a:pt x="33" y="912"/>
                  </a:lnTo>
                  <a:lnTo>
                    <a:pt x="39" y="887"/>
                  </a:lnTo>
                  <a:lnTo>
                    <a:pt x="46" y="868"/>
                  </a:lnTo>
                  <a:lnTo>
                    <a:pt x="52" y="843"/>
                  </a:lnTo>
                  <a:lnTo>
                    <a:pt x="59" y="817"/>
                  </a:lnTo>
                  <a:lnTo>
                    <a:pt x="65" y="798"/>
                  </a:lnTo>
                  <a:lnTo>
                    <a:pt x="72" y="773"/>
                  </a:lnTo>
                  <a:lnTo>
                    <a:pt x="85" y="754"/>
                  </a:lnTo>
                  <a:lnTo>
                    <a:pt x="91" y="729"/>
                  </a:lnTo>
                  <a:lnTo>
                    <a:pt x="98" y="710"/>
                  </a:lnTo>
                  <a:lnTo>
                    <a:pt x="110" y="691"/>
                  </a:lnTo>
                  <a:lnTo>
                    <a:pt x="117" y="665"/>
                  </a:lnTo>
                  <a:lnTo>
                    <a:pt x="130" y="646"/>
                  </a:lnTo>
                  <a:lnTo>
                    <a:pt x="136" y="627"/>
                  </a:lnTo>
                  <a:lnTo>
                    <a:pt x="149" y="602"/>
                  </a:lnTo>
                  <a:lnTo>
                    <a:pt x="162" y="583"/>
                  </a:lnTo>
                  <a:lnTo>
                    <a:pt x="169" y="564"/>
                  </a:lnTo>
                  <a:lnTo>
                    <a:pt x="182" y="539"/>
                  </a:lnTo>
                  <a:lnTo>
                    <a:pt x="195" y="520"/>
                  </a:lnTo>
                  <a:lnTo>
                    <a:pt x="208" y="501"/>
                  </a:lnTo>
                  <a:lnTo>
                    <a:pt x="221" y="482"/>
                  </a:lnTo>
                  <a:lnTo>
                    <a:pt x="233" y="463"/>
                  </a:lnTo>
                  <a:lnTo>
                    <a:pt x="246" y="444"/>
                  </a:lnTo>
                  <a:lnTo>
                    <a:pt x="259" y="425"/>
                  </a:lnTo>
                  <a:lnTo>
                    <a:pt x="272" y="406"/>
                  </a:lnTo>
                  <a:lnTo>
                    <a:pt x="292" y="387"/>
                  </a:lnTo>
                  <a:lnTo>
                    <a:pt x="305" y="368"/>
                  </a:lnTo>
                  <a:lnTo>
                    <a:pt x="318" y="349"/>
                  </a:lnTo>
                  <a:lnTo>
                    <a:pt x="337" y="330"/>
                  </a:lnTo>
                  <a:lnTo>
                    <a:pt x="350" y="317"/>
                  </a:lnTo>
                  <a:lnTo>
                    <a:pt x="369" y="298"/>
                  </a:lnTo>
                  <a:lnTo>
                    <a:pt x="382" y="279"/>
                  </a:lnTo>
                  <a:lnTo>
                    <a:pt x="402" y="266"/>
                  </a:lnTo>
                  <a:lnTo>
                    <a:pt x="415" y="247"/>
                  </a:lnTo>
                  <a:lnTo>
                    <a:pt x="434" y="235"/>
                  </a:lnTo>
                  <a:lnTo>
                    <a:pt x="453" y="216"/>
                  </a:lnTo>
                  <a:lnTo>
                    <a:pt x="466" y="203"/>
                  </a:lnTo>
                  <a:lnTo>
                    <a:pt x="486" y="184"/>
                  </a:lnTo>
                  <a:lnTo>
                    <a:pt x="505" y="171"/>
                  </a:lnTo>
                  <a:lnTo>
                    <a:pt x="525" y="159"/>
                  </a:lnTo>
                  <a:lnTo>
                    <a:pt x="544" y="140"/>
                  </a:lnTo>
                  <a:lnTo>
                    <a:pt x="564" y="127"/>
                  </a:lnTo>
                  <a:lnTo>
                    <a:pt x="583" y="114"/>
                  </a:lnTo>
                  <a:lnTo>
                    <a:pt x="602" y="102"/>
                  </a:lnTo>
                  <a:lnTo>
                    <a:pt x="622" y="89"/>
                  </a:lnTo>
                  <a:lnTo>
                    <a:pt x="641" y="76"/>
                  </a:lnTo>
                  <a:lnTo>
                    <a:pt x="661" y="64"/>
                  </a:lnTo>
                  <a:lnTo>
                    <a:pt x="680" y="51"/>
                  </a:lnTo>
                  <a:lnTo>
                    <a:pt x="706" y="38"/>
                  </a:lnTo>
                  <a:lnTo>
                    <a:pt x="725" y="32"/>
                  </a:lnTo>
                  <a:lnTo>
                    <a:pt x="745" y="19"/>
                  </a:lnTo>
                  <a:lnTo>
                    <a:pt x="771" y="7"/>
                  </a:lnTo>
                  <a:lnTo>
                    <a:pt x="790" y="0"/>
                  </a:lnTo>
                  <a:lnTo>
                    <a:pt x="1366" y="1210"/>
                  </a:lnTo>
                  <a:lnTo>
                    <a:pt x="130" y="178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62200" y="2093760"/>
              <a:ext cx="914400" cy="2121120"/>
            </a:xfrm>
            <a:custGeom>
              <a:avLst/>
              <a:gdLst/>
              <a:ahLst/>
              <a:rect l="l" t="t" r="r" b="b"/>
              <a:pathLst>
                <a:path w="576" h="1336">
                  <a:moveTo>
                    <a:pt x="0" y="126"/>
                  </a:moveTo>
                  <a:lnTo>
                    <a:pt x="19" y="114"/>
                  </a:lnTo>
                  <a:lnTo>
                    <a:pt x="45" y="107"/>
                  </a:lnTo>
                  <a:lnTo>
                    <a:pt x="65" y="95"/>
                  </a:lnTo>
                  <a:lnTo>
                    <a:pt x="84" y="88"/>
                  </a:lnTo>
                  <a:lnTo>
                    <a:pt x="110" y="82"/>
                  </a:lnTo>
                  <a:lnTo>
                    <a:pt x="129" y="69"/>
                  </a:lnTo>
                  <a:lnTo>
                    <a:pt x="155" y="63"/>
                  </a:lnTo>
                  <a:lnTo>
                    <a:pt x="175" y="57"/>
                  </a:lnTo>
                  <a:lnTo>
                    <a:pt x="201" y="50"/>
                  </a:lnTo>
                  <a:lnTo>
                    <a:pt x="227" y="44"/>
                  </a:lnTo>
                  <a:lnTo>
                    <a:pt x="246" y="38"/>
                  </a:lnTo>
                  <a:lnTo>
                    <a:pt x="272" y="31"/>
                  </a:lnTo>
                  <a:lnTo>
                    <a:pt x="291" y="25"/>
                  </a:lnTo>
                  <a:lnTo>
                    <a:pt x="317" y="25"/>
                  </a:lnTo>
                  <a:lnTo>
                    <a:pt x="343" y="19"/>
                  </a:lnTo>
                  <a:lnTo>
                    <a:pt x="362" y="12"/>
                  </a:lnTo>
                  <a:lnTo>
                    <a:pt x="388" y="12"/>
                  </a:lnTo>
                  <a:lnTo>
                    <a:pt x="408" y="6"/>
                  </a:lnTo>
                  <a:lnTo>
                    <a:pt x="434" y="6"/>
                  </a:lnTo>
                  <a:lnTo>
                    <a:pt x="460" y="6"/>
                  </a:lnTo>
                  <a:lnTo>
                    <a:pt x="479" y="0"/>
                  </a:lnTo>
                  <a:lnTo>
                    <a:pt x="576" y="133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322880" y="2093760"/>
              <a:ext cx="153720" cy="2121120"/>
            </a:xfrm>
            <a:custGeom>
              <a:avLst/>
              <a:gdLst/>
              <a:ahLst/>
              <a:rect l="l" t="t" r="r" b="b"/>
              <a:pathLst>
                <a:path w="97" h="1336">
                  <a:moveTo>
                    <a:pt x="0" y="0"/>
                  </a:moveTo>
                  <a:lnTo>
                    <a:pt x="26" y="0"/>
                  </a:lnTo>
                  <a:lnTo>
                    <a:pt x="26" y="0"/>
                  </a:lnTo>
                  <a:lnTo>
                    <a:pt x="52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97" y="0"/>
                  </a:lnTo>
                  <a:lnTo>
                    <a:pt x="97" y="13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99800" y="2505240"/>
              <a:ext cx="393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1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6%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057480" y="3309840"/>
              <a:ext cx="54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1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25%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203800" y="3983040"/>
              <a:ext cx="54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1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68%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362320" y="3846600"/>
              <a:ext cx="1752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Spending L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14800" y="45324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No Differ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209680" y="2093760"/>
              <a:ext cx="1905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Spending M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024800" y="1712880"/>
              <a:ext cx="384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&lt;1%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Don’t Know/Hard To Te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00"/>
                </a:solidFill>
                <a:latin typeface="CG Omega"/>
                <a:ea typeface="PMingLiU"/>
              </a:rPr>
              <a:t>30%</a:t>
            </a:r>
            <a:r>
              <a:rPr b="1" lang="zh-TW" sz="3200" spc="-1" strike="noStrike">
                <a:solidFill>
                  <a:srgbClr val="2c8a5b"/>
                </a:solidFill>
                <a:latin typeface="CG Omega"/>
                <a:ea typeface="PMingLiU"/>
              </a:rPr>
              <a:t> </a:t>
            </a:r>
            <a:r>
              <a:rPr b="1" lang="en-US" sz="3200" spc="-1" strike="noStrike">
                <a:solidFill>
                  <a:srgbClr val="2c8a5b"/>
                </a:solidFill>
                <a:latin typeface="CG Omega"/>
                <a:ea typeface="PMingLiU"/>
              </a:rPr>
              <a:t>Have Changed Their Choice Of Food Over The Past Year</a:t>
            </a:r>
            <a:endParaRPr b="1" lang="en-US" sz="32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481" name=""/>
          <p:cNvSpPr/>
          <p:nvPr/>
        </p:nvSpPr>
        <p:spPr>
          <a:xfrm>
            <a:off x="6849360" y="6175440"/>
            <a:ext cx="21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G Omega"/>
                <a:ea typeface="PMingLiU"/>
              </a:rPr>
              <a:t>Successful samples: 5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533520" y="2209680"/>
            <a:ext cx="8076960" cy="4038840"/>
            <a:chOff x="533520" y="2209680"/>
            <a:chExt cx="8076960" cy="4038840"/>
          </a:xfrm>
        </p:grpSpPr>
        <p:graphicFrame>
          <p:nvGraphicFramePr>
            <p:cNvPr id="483" name=""/>
            <p:cNvGraphicFramePr/>
            <p:nvPr/>
          </p:nvGraphicFramePr>
          <p:xfrm>
            <a:off x="533520" y="2209680"/>
            <a:ext cx="8076960" cy="403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209680"/>
                      <a:ext cx="8076960" cy="403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85" name=""/>
            <p:cNvGrpSpPr/>
            <p:nvPr/>
          </p:nvGrpSpPr>
          <p:grpSpPr>
            <a:xfrm>
              <a:off x="2286000" y="3505320"/>
              <a:ext cx="3809880" cy="1465560"/>
              <a:chOff x="2286000" y="3505320"/>
              <a:chExt cx="3809880" cy="1465560"/>
            </a:xfrm>
          </p:grpSpPr>
          <p:sp>
            <p:nvSpPr>
              <p:cNvPr id="486" name=""/>
              <p:cNvSpPr/>
              <p:nvPr/>
            </p:nvSpPr>
            <p:spPr>
              <a:xfrm>
                <a:off x="2286000" y="3505320"/>
                <a:ext cx="2209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Choice Of Food Chang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352680" y="4572000"/>
                <a:ext cx="274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No Chang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00"/>
                </a:solidFill>
                <a:latin typeface="CG Omega"/>
                <a:ea typeface="PMingLiU"/>
              </a:rPr>
              <a:t>70%</a:t>
            </a:r>
            <a:r>
              <a:rPr b="1" lang="zh-TW" sz="3200" spc="-1" strike="noStrike">
                <a:solidFill>
                  <a:srgbClr val="2c8a5b"/>
                </a:solidFill>
                <a:latin typeface="CG Omega"/>
                <a:ea typeface="PMingLiU"/>
              </a:rPr>
              <a:t> </a:t>
            </a:r>
            <a:r>
              <a:rPr b="1" lang="en-US" sz="3200" spc="-1" strike="noStrike">
                <a:solidFill>
                  <a:srgbClr val="2c8a5b"/>
                </a:solidFill>
                <a:latin typeface="CG Omega"/>
                <a:ea typeface="PMingLiU"/>
              </a:rPr>
              <a:t>White-Collars Demand Balanced Diets</a:t>
            </a:r>
            <a:endParaRPr b="1" lang="en-US" sz="32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533520" y="1905120"/>
          <a:ext cx="807696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05120"/>
                    <a:ext cx="80769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"/>
          <p:cNvSpPr/>
          <p:nvPr/>
        </p:nvSpPr>
        <p:spPr>
          <a:xfrm>
            <a:off x="3505320" y="5867280"/>
            <a:ext cx="49528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Omega"/>
                <a:ea typeface="PMingLiU"/>
              </a:rPr>
              <a:t>Successful samples: 163 (those who have changed choice of foo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Omega"/>
                <a:ea typeface="PMingLiU"/>
              </a:rPr>
              <a:t>Can choose more than one answer:17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00"/>
                </a:solidFill>
                <a:latin typeface="CG Omega"/>
                <a:ea typeface="PMingLiU"/>
              </a:rPr>
              <a:t>16%</a:t>
            </a:r>
            <a:r>
              <a:rPr b="1" lang="zh-TW" sz="3200" spc="-1" strike="noStrike">
                <a:solidFill>
                  <a:srgbClr val="2c8a5b"/>
                </a:solidFill>
                <a:latin typeface="CG Omega"/>
                <a:ea typeface="PMingLiU"/>
              </a:rPr>
              <a:t> </a:t>
            </a:r>
            <a:r>
              <a:rPr b="1" lang="en-US" sz="3200" spc="-1" strike="noStrike">
                <a:solidFill>
                  <a:srgbClr val="2c8a5b"/>
                </a:solidFill>
                <a:latin typeface="CG Omega"/>
                <a:ea typeface="PMingLiU"/>
              </a:rPr>
              <a:t>Skip Lunch And Shift To Cheaper Afternoon Tea</a:t>
            </a:r>
            <a:endParaRPr b="1" lang="en-US" sz="32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493" name=""/>
          <p:cNvSpPr/>
          <p:nvPr/>
        </p:nvSpPr>
        <p:spPr>
          <a:xfrm>
            <a:off x="6468120" y="6248520"/>
            <a:ext cx="21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G Omega"/>
                <a:ea typeface="PMingLiU"/>
              </a:rPr>
              <a:t>Successful samples: 5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533520" y="1981080"/>
            <a:ext cx="8076960" cy="4267440"/>
            <a:chOff x="533520" y="1981080"/>
            <a:chExt cx="8076960" cy="4267440"/>
          </a:xfrm>
        </p:grpSpPr>
        <p:graphicFrame>
          <p:nvGraphicFramePr>
            <p:cNvPr id="495" name=""/>
            <p:cNvGraphicFramePr/>
            <p:nvPr/>
          </p:nvGraphicFramePr>
          <p:xfrm>
            <a:off x="533520" y="2286000"/>
            <a:ext cx="8076960" cy="3962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286000"/>
                      <a:ext cx="8076960" cy="396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97" name=""/>
            <p:cNvGrpSpPr/>
            <p:nvPr/>
          </p:nvGrpSpPr>
          <p:grpSpPr>
            <a:xfrm>
              <a:off x="1569240" y="1981080"/>
              <a:ext cx="4907880" cy="3066120"/>
              <a:chOff x="1569240" y="1981080"/>
              <a:chExt cx="4907880" cy="3066120"/>
            </a:xfrm>
          </p:grpSpPr>
          <p:sp>
            <p:nvSpPr>
              <p:cNvPr id="498" name=""/>
              <p:cNvSpPr/>
              <p:nvPr/>
            </p:nvSpPr>
            <p:spPr>
              <a:xfrm>
                <a:off x="4419720" y="2895480"/>
                <a:ext cx="205740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Skip Lunch, Shift To Afternoon Tea Men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733920" y="464832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N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569240" y="1981080"/>
                <a:ext cx="369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2%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Don’t Know/Hard To Tel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a9400"/>
                </a:solidFill>
                <a:latin typeface="CG Omega"/>
                <a:ea typeface="PMingLiU"/>
              </a:rPr>
              <a:t>WHITE COLLARS WANT HEALTHIER DIETS</a:t>
            </a:r>
            <a:endParaRPr b="1" lang="en-US" sz="3600" spc="-1" strike="noStrike">
              <a:solidFill>
                <a:srgbClr val="4a9400"/>
              </a:solidFill>
              <a:latin typeface="CG Omeg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a5b"/>
                </a:solidFill>
                <a:latin typeface="CG Omega"/>
                <a:ea typeface="PMingLiU"/>
              </a:rPr>
              <a:t>Over </a:t>
            </a:r>
            <a:r>
              <a:rPr b="1" lang="en-US" sz="4000" spc="-1" strike="noStrike">
                <a:solidFill>
                  <a:srgbClr val="cc0000"/>
                </a:solidFill>
                <a:latin typeface="CG Omega"/>
                <a:ea typeface="PMingLiU"/>
              </a:rPr>
              <a:t>60%</a:t>
            </a:r>
            <a:r>
              <a:rPr b="1" lang="en-US" sz="3200" spc="-1" strike="noStrike">
                <a:solidFill>
                  <a:srgbClr val="2c8a5b"/>
                </a:solidFill>
                <a:latin typeface="CG Omega"/>
                <a:ea typeface="PMingLiU"/>
              </a:rPr>
              <a:t> White-Collars</a:t>
            </a:r>
            <a:br>
              <a:rPr sz="3200"/>
            </a:br>
            <a:r>
              <a:rPr b="1" lang="en-US" sz="3200" spc="-1" strike="noStrike">
                <a:solidFill>
                  <a:srgbClr val="2c8a5b"/>
                </a:solidFill>
                <a:latin typeface="CG Omega"/>
                <a:ea typeface="PMingLiU"/>
              </a:rPr>
              <a:t>Consider Food At Restaurants Unhealthy</a:t>
            </a:r>
            <a:endParaRPr b="1" lang="en-US" sz="32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503" name=""/>
          <p:cNvSpPr/>
          <p:nvPr/>
        </p:nvSpPr>
        <p:spPr>
          <a:xfrm>
            <a:off x="6849360" y="6175440"/>
            <a:ext cx="21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G Omega"/>
                <a:ea typeface="PMingLiU"/>
              </a:rPr>
              <a:t>Successful samples: 5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533520" y="2286000"/>
            <a:ext cx="8076960" cy="3962520"/>
            <a:chOff x="533520" y="2286000"/>
            <a:chExt cx="8076960" cy="3962520"/>
          </a:xfrm>
        </p:grpSpPr>
        <p:graphicFrame>
          <p:nvGraphicFramePr>
            <p:cNvPr id="505" name=""/>
            <p:cNvGraphicFramePr/>
            <p:nvPr/>
          </p:nvGraphicFramePr>
          <p:xfrm>
            <a:off x="533520" y="2286000"/>
            <a:ext cx="8076960" cy="3962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286000"/>
                      <a:ext cx="8076960" cy="396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07" name=""/>
            <p:cNvGrpSpPr/>
            <p:nvPr/>
          </p:nvGrpSpPr>
          <p:grpSpPr>
            <a:xfrm>
              <a:off x="3048120" y="2895480"/>
              <a:ext cx="3357360" cy="2197080"/>
              <a:chOff x="3048120" y="2895480"/>
              <a:chExt cx="3357360" cy="2197080"/>
            </a:xfrm>
          </p:grpSpPr>
          <p:sp>
            <p:nvSpPr>
              <p:cNvPr id="508" name=""/>
              <p:cNvSpPr/>
              <p:nvPr/>
            </p:nvSpPr>
            <p:spPr>
              <a:xfrm>
                <a:off x="5105520" y="2971800"/>
                <a:ext cx="1299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Health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886200" y="472428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Unhealth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048120" y="2895480"/>
                <a:ext cx="17524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Don’t Know /Hard To Tel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a5b"/>
                </a:solidFill>
                <a:latin typeface="CG Omega"/>
                <a:ea typeface="PMingLiU"/>
              </a:rPr>
              <a:t>Of Those Who Consider Food At Restaurants Unhealthy, They Said The Food There Is Too Greasy</a:t>
            </a:r>
            <a:endParaRPr b="1" lang="en-US" sz="32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533520" y="1905120"/>
          <a:ext cx="807696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05120"/>
                    <a:ext cx="80769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"/>
          <p:cNvSpPr/>
          <p:nvPr/>
        </p:nvSpPr>
        <p:spPr>
          <a:xfrm>
            <a:off x="3733920" y="6019920"/>
            <a:ext cx="5181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Omega"/>
                <a:ea typeface="PMingLiU"/>
              </a:rPr>
              <a:t>Successful samples: 311 (consider food at restaurants unhealth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Omega"/>
                <a:ea typeface="PMingLiU"/>
              </a:rPr>
              <a:t>Can choose more than one answer: 55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920" y="45720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en-GB" sz="900" spc="-1" strike="noStrike">
                <a:solidFill>
                  <a:srgbClr val="000000"/>
                </a:solidFill>
                <a:latin typeface="CG Omega"/>
                <a:ea typeface="PMingLiU"/>
              </a:rPr>
              <a:t>Including Too Much Salt, Artificial Colouring, Sugar, Not Fresh Enough, Not Enough Nutrition, Portion Too Large, etc)</a:t>
            </a:r>
            <a:r>
              <a:rPr b="0" lang="en-US" sz="900" spc="-1" strike="noStrike">
                <a:solidFill>
                  <a:srgbClr val="000000"/>
                </a:solidFill>
                <a:latin typeface="CG Omega"/>
                <a:ea typeface="PMingLiU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G Omega"/>
                <a:ea typeface="PMingLiU"/>
              </a:rPr>
              <a:t>Over 80%</a:t>
            </a:r>
            <a:r>
              <a:rPr b="1" lang="en-US" sz="3200" spc="-1" strike="noStrike">
                <a:solidFill>
                  <a:srgbClr val="2c8a5b"/>
                </a:solidFill>
                <a:latin typeface="CG Omega"/>
                <a:ea typeface="PMingLiU"/>
              </a:rPr>
              <a:t> </a:t>
            </a:r>
            <a:r>
              <a:rPr b="1" lang="en-US" sz="2800" spc="-1" strike="noStrike">
                <a:solidFill>
                  <a:srgbClr val="2c8a5b"/>
                </a:solidFill>
                <a:latin typeface="CG Omega"/>
                <a:ea typeface="PMingLiU"/>
              </a:rPr>
              <a:t>Consider Eating Out </a:t>
            </a:r>
            <a:br>
              <a:rPr sz="2800"/>
            </a:br>
            <a:r>
              <a:rPr b="1" lang="en-US" sz="2800" spc="-1" strike="noStrike">
                <a:solidFill>
                  <a:srgbClr val="2c8a5b"/>
                </a:solidFill>
                <a:latin typeface="CG Omega"/>
                <a:ea typeface="PMingLiU"/>
              </a:rPr>
              <a:t>Too Frequently Will Lead To Health Problems</a:t>
            </a:r>
            <a:endParaRPr b="1" lang="en-US" sz="28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517" name=""/>
          <p:cNvSpPr/>
          <p:nvPr/>
        </p:nvSpPr>
        <p:spPr>
          <a:xfrm>
            <a:off x="6849360" y="6175440"/>
            <a:ext cx="21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G Omega"/>
                <a:ea typeface="PMingLiU"/>
              </a:rPr>
              <a:t>Successful samples: 5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533520" y="1905120"/>
            <a:ext cx="8076960" cy="4343400"/>
            <a:chOff x="533520" y="1905120"/>
            <a:chExt cx="8076960" cy="4343400"/>
          </a:xfrm>
        </p:grpSpPr>
        <p:graphicFrame>
          <p:nvGraphicFramePr>
            <p:cNvPr id="519" name=""/>
            <p:cNvGraphicFramePr/>
            <p:nvPr/>
          </p:nvGraphicFramePr>
          <p:xfrm>
            <a:off x="533520" y="1905120"/>
            <a:ext cx="8076960" cy="4343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1905120"/>
                      <a:ext cx="8076960" cy="434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21" name=""/>
            <p:cNvGrpSpPr/>
            <p:nvPr/>
          </p:nvGrpSpPr>
          <p:grpSpPr>
            <a:xfrm>
              <a:off x="3276720" y="2057400"/>
              <a:ext cx="3685320" cy="3218400"/>
              <a:chOff x="3276720" y="2057400"/>
              <a:chExt cx="3685320" cy="3218400"/>
            </a:xfrm>
          </p:grpSpPr>
          <p:sp>
            <p:nvSpPr>
              <p:cNvPr id="522" name=""/>
              <p:cNvSpPr/>
              <p:nvPr/>
            </p:nvSpPr>
            <p:spPr>
              <a:xfrm>
                <a:off x="3581280" y="4267080"/>
                <a:ext cx="24386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Eating out too often will lead to health problem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276720" y="327672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N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704400" y="2057400"/>
                <a:ext cx="325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Don’t Know/Hard To Tel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853080" y="2754360"/>
                <a:ext cx="555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000" spc="-1" strike="noStrike">
                    <a:solidFill>
                      <a:srgbClr val="000000"/>
                    </a:solidFill>
                    <a:latin typeface="PMingLiU"/>
                    <a:ea typeface="PMingLiU"/>
                  </a:rPr>
                  <a:t>6%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9400"/>
                </a:solidFill>
                <a:latin typeface="CG Omega"/>
                <a:ea typeface="PMingLiU"/>
              </a:rPr>
              <a:t>SURVEY RESULTS</a:t>
            </a:r>
            <a:endParaRPr b="1" lang="en-US" sz="3200" spc="-1" strike="noStrike">
              <a:solidFill>
                <a:srgbClr val="4a9400"/>
              </a:solidFill>
              <a:latin typeface="CG Omeg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c8a5b"/>
                </a:solidFill>
                <a:latin typeface="CG Omega"/>
                <a:ea typeface="PMingLiU"/>
              </a:rPr>
              <a:t>High Cholesterol And Over-weight Are The Main Health Problems</a:t>
            </a:r>
            <a:br>
              <a:rPr sz="3200"/>
            </a:br>
            <a:endParaRPr b="1" lang="en-US" sz="32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533520" y="1676520"/>
          <a:ext cx="807696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80769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2895480" y="6126120"/>
            <a:ext cx="60199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Omega"/>
                <a:ea typeface="PMingLiU"/>
              </a:rPr>
              <a:t>Successful samples: 415 (consider eating out frequently will lead to health proble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Omega"/>
                <a:ea typeface="PMingLiU"/>
              </a:rPr>
              <a:t>Can choose more than one answer: 1,14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00"/>
                </a:solidFill>
                <a:latin typeface="CG Omega"/>
                <a:ea typeface="PMingLiU"/>
              </a:rPr>
              <a:t>56% </a:t>
            </a:r>
            <a:r>
              <a:rPr b="1" lang="en-US" sz="2800" spc="-1" strike="noStrike">
                <a:solidFill>
                  <a:srgbClr val="2c8a5b"/>
                </a:solidFill>
                <a:latin typeface="CG Omega"/>
                <a:ea typeface="PMingLiU"/>
              </a:rPr>
              <a:t>White-Collars Consider There Is A Lack Of Healthy Choice While Eating Out/Buying Carry-Out</a:t>
            </a:r>
            <a:endParaRPr b="1" lang="en-US" sz="28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531" name=""/>
          <p:cNvSpPr/>
          <p:nvPr/>
        </p:nvSpPr>
        <p:spPr>
          <a:xfrm>
            <a:off x="6768720" y="6099120"/>
            <a:ext cx="217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G Omega"/>
                <a:ea typeface="PMingLiU"/>
              </a:rPr>
              <a:t>successful samples: 5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533520" y="2057400"/>
            <a:ext cx="8076960" cy="4038480"/>
            <a:chOff x="533520" y="2057400"/>
            <a:chExt cx="8076960" cy="4038480"/>
          </a:xfrm>
        </p:grpSpPr>
        <p:graphicFrame>
          <p:nvGraphicFramePr>
            <p:cNvPr id="533" name=""/>
            <p:cNvGraphicFramePr/>
            <p:nvPr/>
          </p:nvGraphicFramePr>
          <p:xfrm>
            <a:off x="533520" y="2286000"/>
            <a:ext cx="8076960" cy="3809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286000"/>
                      <a:ext cx="8076960" cy="380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35" name=""/>
            <p:cNvGrpSpPr/>
            <p:nvPr/>
          </p:nvGrpSpPr>
          <p:grpSpPr>
            <a:xfrm>
              <a:off x="914400" y="2057400"/>
              <a:ext cx="5638680" cy="3294720"/>
              <a:chOff x="914400" y="2057400"/>
              <a:chExt cx="5638680" cy="3294720"/>
            </a:xfrm>
          </p:grpSpPr>
          <p:sp>
            <p:nvSpPr>
              <p:cNvPr id="536" name=""/>
              <p:cNvSpPr/>
              <p:nvPr/>
            </p:nvSpPr>
            <p:spPr>
              <a:xfrm>
                <a:off x="3276720" y="4648320"/>
                <a:ext cx="1523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Not enoug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419720" y="3733920"/>
                <a:ext cx="2133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Enough Choic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914400" y="2286000"/>
                <a:ext cx="266688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Doesn’t Matter Adjust By Themselv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039200" y="2895480"/>
                <a:ext cx="56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000" spc="-1" strike="noStrike">
                    <a:solidFill>
                      <a:srgbClr val="000000"/>
                    </a:solidFill>
                    <a:latin typeface="Times New Roman"/>
                    <a:ea typeface="PMingLiU"/>
                  </a:rPr>
                  <a:t>7%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733920" y="2057400"/>
                <a:ext cx="2133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Don’t Know /Hard To Tel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G Omega"/>
                <a:ea typeface="PMingLiU"/>
              </a:rPr>
              <a:t>Almost 80% </a:t>
            </a:r>
            <a:r>
              <a:rPr b="1" lang="en-US" sz="2800" spc="-1" strike="noStrike">
                <a:solidFill>
                  <a:srgbClr val="2c8a5b"/>
                </a:solidFill>
                <a:latin typeface="CG Omega"/>
                <a:ea typeface="PMingLiU"/>
              </a:rPr>
              <a:t>Indicate A Willingness To Change Their Eating Habits For The Sake Of Health</a:t>
            </a:r>
            <a:endParaRPr b="1" lang="en-US" sz="28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542" name=""/>
          <p:cNvSpPr/>
          <p:nvPr/>
        </p:nvSpPr>
        <p:spPr>
          <a:xfrm>
            <a:off x="6019920" y="6095880"/>
            <a:ext cx="30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G Omega"/>
                <a:ea typeface="PMingLiU"/>
              </a:rPr>
              <a:t>Successful samples: 5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533520" y="1981080"/>
            <a:ext cx="8076960" cy="4267440"/>
            <a:chOff x="533520" y="1981080"/>
            <a:chExt cx="8076960" cy="4267440"/>
          </a:xfrm>
        </p:grpSpPr>
        <p:graphicFrame>
          <p:nvGraphicFramePr>
            <p:cNvPr id="544" name=""/>
            <p:cNvGraphicFramePr/>
            <p:nvPr/>
          </p:nvGraphicFramePr>
          <p:xfrm>
            <a:off x="533520" y="2286000"/>
            <a:ext cx="8076960" cy="3962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286000"/>
                      <a:ext cx="8076960" cy="396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46" name=""/>
            <p:cNvGrpSpPr/>
            <p:nvPr/>
          </p:nvGrpSpPr>
          <p:grpSpPr>
            <a:xfrm>
              <a:off x="2485440" y="1981080"/>
              <a:ext cx="3610440" cy="2913480"/>
              <a:chOff x="2485440" y="1981080"/>
              <a:chExt cx="3610440" cy="2913480"/>
            </a:xfrm>
          </p:grpSpPr>
          <p:sp>
            <p:nvSpPr>
              <p:cNvPr id="547" name=""/>
              <p:cNvSpPr/>
              <p:nvPr/>
            </p:nvSpPr>
            <p:spPr>
              <a:xfrm>
                <a:off x="3124080" y="4495680"/>
                <a:ext cx="2971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Willing To Chang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895480" y="3276720"/>
                <a:ext cx="1143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Not Will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886920" y="2590920"/>
                <a:ext cx="56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000" spc="-1" strike="noStrike">
                    <a:solidFill>
                      <a:srgbClr val="000000"/>
                    </a:solidFill>
                    <a:latin typeface="Times New Roman"/>
                    <a:ea typeface="PMingLiU"/>
                  </a:rPr>
                  <a:t>7%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485440" y="1981080"/>
                <a:ext cx="325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Don’t Know/Hard To Tel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a9400"/>
                </a:solidFill>
                <a:latin typeface="CG Omega"/>
                <a:ea typeface="PMingLiU"/>
              </a:rPr>
              <a:t>CONCLUSION</a:t>
            </a:r>
            <a:endParaRPr b="1" lang="en-US" sz="3600" spc="-1" strike="noStrike">
              <a:solidFill>
                <a:srgbClr val="4a9400"/>
              </a:solidFill>
              <a:latin typeface="CG Omeg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a5b"/>
                </a:solidFill>
                <a:latin typeface="CG Omega"/>
                <a:ea typeface="PMingLiU"/>
              </a:rPr>
              <a:t>White-Collars Are Eating High-Fat, Low-Fiber Food Which Is Harmful To Health</a:t>
            </a:r>
            <a:endParaRPr b="1" lang="en-US" sz="32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White-collars have experienced more job-related stress under the economic downturn and SARS. As a result, they have become more health-conscious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White-collars demand cheaper, healthy diets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White-collars are setting higher standard for healthy, balanced diets, and are willing to change their eating behavior for the sake of good health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a5b"/>
                </a:solidFill>
                <a:latin typeface="CG Omega"/>
                <a:ea typeface="PMingLiU"/>
              </a:rPr>
              <a:t>Let’s Maintain A Healthy Body</a:t>
            </a:r>
            <a:br>
              <a:rPr sz="3200"/>
            </a:br>
            <a:r>
              <a:rPr b="1" lang="en-US" sz="3200" spc="-1" strike="noStrike">
                <a:solidFill>
                  <a:srgbClr val="2c8a5b"/>
                </a:solidFill>
                <a:latin typeface="CG Omega"/>
                <a:ea typeface="PMingLiU"/>
              </a:rPr>
              <a:t>Together We Can Endure The Hardship</a:t>
            </a:r>
            <a:br>
              <a:rPr sz="3200"/>
            </a:br>
            <a:endParaRPr b="1" lang="en-US" sz="32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Thrifty as they are, white-collars are still looking for healthy (low fat) diets. 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They are dissatisfied with greasy food at restaurants, and are fully aware of the high cholesterol, over-weight and heart problems associated with it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How to strike a balance between a tight budget and a healthy eating need has become a key challenge for them. 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A balanced diet, with a regular intake of high-fiber, low-fat food such as fruit, vegetable, white meat, oats, etc, are more important than expensive health supplements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Restaurants can provide economical and healthy food, and help Hong Kong people to stay healthy in order to survive through the economic hardship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a9400"/>
                </a:solidFill>
                <a:latin typeface="CG Omega"/>
                <a:ea typeface="PMingLiU"/>
              </a:rPr>
              <a:t>The End</a:t>
            </a:r>
            <a:endParaRPr b="1" lang="en-US" sz="3600" spc="-1" strike="noStrike">
              <a:solidFill>
                <a:srgbClr val="4a9400"/>
              </a:solidFill>
              <a:latin typeface="CG Omeg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9400"/>
                </a:solidFill>
                <a:latin typeface="CG Omega"/>
                <a:ea typeface="PMingLiU"/>
              </a:rPr>
              <a:t>WHITE-COLLAR’S JOB-RELATED STRESS</a:t>
            </a:r>
            <a:br>
              <a:rPr sz="2800"/>
            </a:br>
            <a:r>
              <a:rPr b="1" lang="en-US" sz="2800" spc="-1" strike="noStrike">
                <a:solidFill>
                  <a:srgbClr val="4a9400"/>
                </a:solidFill>
                <a:latin typeface="CG Omega"/>
                <a:ea typeface="PMingLiU"/>
              </a:rPr>
              <a:t>UNDER ECONOMIC DOWNTURN &amp; SARS</a:t>
            </a:r>
            <a:endParaRPr b="1" lang="en-US" sz="2800" spc="-1" strike="noStrike">
              <a:solidFill>
                <a:srgbClr val="4a9400"/>
              </a:solidFill>
              <a:latin typeface="CG Omeg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G Omega"/>
                <a:ea typeface="PMingLiU"/>
              </a:rPr>
              <a:t>ALMOST 60%</a:t>
            </a:r>
            <a:r>
              <a:rPr b="1" lang="en-US" sz="3200" spc="-1" strike="noStrike">
                <a:solidFill>
                  <a:srgbClr val="ff0000"/>
                </a:solidFill>
                <a:latin typeface="CG Omega"/>
                <a:ea typeface="PMingLiU"/>
              </a:rPr>
              <a:t> </a:t>
            </a:r>
            <a:r>
              <a:rPr b="1" lang="en-US" sz="3200" spc="-1" strike="noStrike">
                <a:solidFill>
                  <a:srgbClr val="2c8a5b"/>
                </a:solidFill>
                <a:latin typeface="CG Omega"/>
                <a:ea typeface="PMingLiU"/>
              </a:rPr>
              <a:t>White-collars Have Higher Job-Related Stress Compared To A Year Ago</a:t>
            </a:r>
            <a:endParaRPr b="1" lang="en-US" sz="32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326" name=""/>
          <p:cNvSpPr/>
          <p:nvPr/>
        </p:nvSpPr>
        <p:spPr>
          <a:xfrm>
            <a:off x="6010920" y="6172200"/>
            <a:ext cx="21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G Omega"/>
                <a:ea typeface="PMingLiU"/>
              </a:rPr>
              <a:t>Successful samples: 5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801720" y="2133720"/>
            <a:ext cx="7692840" cy="4030560"/>
            <a:chOff x="801720" y="2133720"/>
            <a:chExt cx="7692840" cy="4030560"/>
          </a:xfrm>
        </p:grpSpPr>
        <p:graphicFrame>
          <p:nvGraphicFramePr>
            <p:cNvPr id="328" name=""/>
            <p:cNvGraphicFramePr/>
            <p:nvPr/>
          </p:nvGraphicFramePr>
          <p:xfrm>
            <a:off x="801720" y="2443320"/>
            <a:ext cx="7692840" cy="3720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01720" y="2443320"/>
                      <a:ext cx="7692840" cy="372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30" name=""/>
            <p:cNvGrpSpPr/>
            <p:nvPr/>
          </p:nvGrpSpPr>
          <p:grpSpPr>
            <a:xfrm>
              <a:off x="1371600" y="2133720"/>
              <a:ext cx="6381360" cy="3294720"/>
              <a:chOff x="1371600" y="2133720"/>
              <a:chExt cx="6381360" cy="3294720"/>
            </a:xfrm>
          </p:grpSpPr>
          <p:sp>
            <p:nvSpPr>
              <p:cNvPr id="331" name=""/>
              <p:cNvSpPr/>
              <p:nvPr/>
            </p:nvSpPr>
            <p:spPr>
              <a:xfrm>
                <a:off x="2666880" y="3962520"/>
                <a:ext cx="1523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No Differen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495680" y="4114800"/>
                <a:ext cx="182880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Work Pressure Higher Than Befo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371600" y="2133720"/>
                <a:ext cx="28954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Less Work Pressure Than Befo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055040" y="2133720"/>
                <a:ext cx="369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1%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Don’t Know/Hard To Tel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G Omega"/>
                <a:ea typeface="PMingLiU"/>
              </a:rPr>
              <a:t>More Than Half</a:t>
            </a:r>
            <a:r>
              <a:rPr b="1" lang="en-US" sz="3200" spc="-1" strike="noStrike">
                <a:solidFill>
                  <a:srgbClr val="2c8a5b"/>
                </a:solidFill>
                <a:latin typeface="CG Omega"/>
                <a:ea typeface="PMingLiU"/>
              </a:rPr>
              <a:t> Of The White-Collars Are Paying More Attention To Healthy Diet Because Of SARS</a:t>
            </a:r>
            <a:endParaRPr b="1" lang="en-US" sz="32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336" name=""/>
          <p:cNvSpPr/>
          <p:nvPr/>
        </p:nvSpPr>
        <p:spPr>
          <a:xfrm>
            <a:off x="6163560" y="6172200"/>
            <a:ext cx="21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G Omega"/>
                <a:ea typeface="PMingLiU"/>
              </a:rPr>
              <a:t>Successful samples: 5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533520" y="2209680"/>
            <a:ext cx="8076960" cy="4038840"/>
            <a:chOff x="533520" y="2209680"/>
            <a:chExt cx="8076960" cy="4038840"/>
          </a:xfrm>
        </p:grpSpPr>
        <p:graphicFrame>
          <p:nvGraphicFramePr>
            <p:cNvPr id="338" name=""/>
            <p:cNvGraphicFramePr/>
            <p:nvPr/>
          </p:nvGraphicFramePr>
          <p:xfrm>
            <a:off x="533520" y="2209680"/>
            <a:ext cx="8076960" cy="403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209680"/>
                      <a:ext cx="8076960" cy="403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40" name=""/>
            <p:cNvGrpSpPr/>
            <p:nvPr/>
          </p:nvGrpSpPr>
          <p:grpSpPr>
            <a:xfrm>
              <a:off x="2590920" y="2362320"/>
              <a:ext cx="3809880" cy="3142440"/>
              <a:chOff x="2590920" y="2362320"/>
              <a:chExt cx="3809880" cy="3142440"/>
            </a:xfrm>
          </p:grpSpPr>
          <p:grpSp>
            <p:nvGrpSpPr>
              <p:cNvPr id="341" name=""/>
              <p:cNvGrpSpPr/>
              <p:nvPr/>
            </p:nvGrpSpPr>
            <p:grpSpPr>
              <a:xfrm>
                <a:off x="2666880" y="4267440"/>
                <a:ext cx="3733920" cy="1237320"/>
                <a:chOff x="2666880" y="4267440"/>
                <a:chExt cx="3733920" cy="123732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2666880" y="4267440"/>
                  <a:ext cx="15242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G Omega"/>
                      <a:ea typeface="PMingLiU"/>
                    </a:rPr>
                    <a:t>No Differenc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4343400" y="4496040"/>
                  <a:ext cx="205740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G Omega"/>
                      <a:ea typeface="PMingLiU"/>
                    </a:rPr>
                    <a:t>Pay More Attention Than Befo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4" name=""/>
              <p:cNvSpPr/>
              <p:nvPr/>
            </p:nvSpPr>
            <p:spPr>
              <a:xfrm>
                <a:off x="2590920" y="2362320"/>
                <a:ext cx="175248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&lt;1%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Pay less Attention Than Before   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267080" y="2438640"/>
                <a:ext cx="17528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&lt;1%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Don’t Know/Hard To Tel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9400"/>
                </a:solidFill>
                <a:latin typeface="CG Omega"/>
                <a:ea typeface="PMingLiU"/>
              </a:rPr>
              <a:t>DO WHITE-COLLARS CONSIDER THEMSELEVS EATING HEALTHILY?</a:t>
            </a:r>
            <a:endParaRPr b="1" lang="en-US" sz="2800" spc="-1" strike="noStrike">
              <a:solidFill>
                <a:srgbClr val="4a9400"/>
              </a:solidFill>
              <a:latin typeface="CG Omeg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00"/>
                </a:solidFill>
                <a:latin typeface="CG Omega"/>
                <a:ea typeface="PMingLiU"/>
              </a:rPr>
              <a:t>76%</a:t>
            </a:r>
            <a:r>
              <a:rPr b="1" lang="zh-TW" sz="3200" spc="-1" strike="noStrike">
                <a:solidFill>
                  <a:srgbClr val="2c8a5b"/>
                </a:solidFill>
                <a:latin typeface="CG Omega"/>
                <a:ea typeface="PMingLiU"/>
              </a:rPr>
              <a:t> </a:t>
            </a:r>
            <a:r>
              <a:rPr b="1" lang="en-US" sz="3200" spc="-1" strike="noStrike">
                <a:solidFill>
                  <a:srgbClr val="2c8a5b"/>
                </a:solidFill>
                <a:latin typeface="CG Omega"/>
                <a:ea typeface="PMingLiU"/>
              </a:rPr>
              <a:t>White-Collars Consider</a:t>
            </a:r>
            <a:br>
              <a:rPr sz="3200"/>
            </a:br>
            <a:r>
              <a:rPr b="1" lang="en-US" sz="3200" spc="-1" strike="noStrike">
                <a:solidFill>
                  <a:srgbClr val="2c8a5b"/>
                </a:solidFill>
                <a:latin typeface="CG Omega"/>
                <a:ea typeface="PMingLiU"/>
              </a:rPr>
              <a:t>Themselves Eating Healthily For Breakfast</a:t>
            </a:r>
            <a:endParaRPr b="1" lang="en-US" sz="32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348" name=""/>
          <p:cNvSpPr/>
          <p:nvPr/>
        </p:nvSpPr>
        <p:spPr>
          <a:xfrm>
            <a:off x="6315840" y="5946840"/>
            <a:ext cx="21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G Omega"/>
                <a:ea typeface="PMingLiU"/>
              </a:rPr>
              <a:t>Successful samples: 5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533520" y="1905120"/>
            <a:ext cx="8305560" cy="4343400"/>
            <a:chOff x="533520" y="1905120"/>
            <a:chExt cx="8305560" cy="4343400"/>
          </a:xfrm>
        </p:grpSpPr>
        <p:graphicFrame>
          <p:nvGraphicFramePr>
            <p:cNvPr id="350" name=""/>
            <p:cNvGraphicFramePr/>
            <p:nvPr/>
          </p:nvGraphicFramePr>
          <p:xfrm>
            <a:off x="533520" y="1905120"/>
            <a:ext cx="8305560" cy="4343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1905120"/>
                      <a:ext cx="8305560" cy="434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52" name=""/>
            <p:cNvGrpSpPr/>
            <p:nvPr/>
          </p:nvGrpSpPr>
          <p:grpSpPr>
            <a:xfrm>
              <a:off x="656640" y="2133720"/>
              <a:ext cx="5134680" cy="2608560"/>
              <a:chOff x="656640" y="2133720"/>
              <a:chExt cx="5134680" cy="2608560"/>
            </a:xfrm>
          </p:grpSpPr>
          <p:sp>
            <p:nvSpPr>
              <p:cNvPr id="353" name=""/>
              <p:cNvSpPr/>
              <p:nvPr/>
            </p:nvSpPr>
            <p:spPr>
              <a:xfrm>
                <a:off x="4267080" y="4343400"/>
                <a:ext cx="152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Health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600200" y="2133720"/>
                <a:ext cx="251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Not Health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56640" y="2971800"/>
                <a:ext cx="325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Don’t Know/Hard To Tel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02:22:46Z</dcterms:created>
  <dc:creator>Grey Worldwide</dc:creator>
  <dc:description/>
  <dc:language>en-US</dc:language>
  <cp:lastModifiedBy>HKUPOP</cp:lastModifiedBy>
  <dcterms:modified xsi:type="dcterms:W3CDTF">2003-07-09T04:12:03Z</dcterms:modified>
  <cp:revision>448</cp:revision>
  <dc:subject/>
  <dc:title>PowerPoint Presentation</dc:title>
</cp:coreProperties>
</file>