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70F684-760A-4607-9269-B1DEA2C12A1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002-6390-4B8E-8E83-31B0545A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7541-7416-4F24-9B4D-5AFE3367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726-98BE-43A3-B4A1-284CACFC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92B-3CE1-45C1-B68B-CAF3E38B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84D-3BD9-4AE3-A8DE-EDB5E2A0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CCC6-CEB2-4B8D-8027-0FBD7106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8E0-C849-49A9-913F-AC0E2E5D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DBAF-BBAC-47EE-B870-51763308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A50-B247-4F84-A278-21A29E54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CAA-2CB8-492C-9F6C-E8EBD7D8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0AD-83C9-41A8-A856-B8680DCB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9CC-4BF7-4ADC-81E2-DF36F93B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8F54-872D-489B-BCF3-FE7A58E68FBC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en-US" sz="37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i="1" lang="en-US" sz="3700" spc="-1" strike="noStrike">
                <a:solidFill>
                  <a:srgbClr val="ffffcc"/>
                </a:solidFill>
                <a:latin typeface="Times New Roman"/>
              </a:rPr>
              <a:t>Survey on Public’s Reception and Perception of Volunteer Services”</a:t>
            </a:r>
            <a:br>
              <a:rPr sz="3700"/>
            </a:br>
            <a:endParaRPr b="0" lang="en-US" sz="37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15238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676520" y="129528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ffff"/>
                </a:solidFill>
                <a:latin typeface="Times New Roman"/>
              </a:rPr>
              <a:t>Perceived Hourly rate of Organized Volunteer Work</a:t>
            </a:r>
            <a:endParaRPr b="0" lang="en-US" sz="29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2209680"/>
          <a:ext cx="8486640" cy="403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486640" cy="40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324480" y="1981080"/>
            <a:ext cx="2286000" cy="9554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Mean:</a:t>
            </a:r>
            <a:r>
              <a:rPr b="0" i="1" lang="en-US" sz="1900" spc="-1" strike="noStrike">
                <a:solidFill>
                  <a:srgbClr val="000066"/>
                </a:solidFill>
                <a:latin typeface="新細明體"/>
              </a:rPr>
              <a:t>  </a:t>
            </a: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$76.3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Standard error: </a:t>
            </a:r>
            <a:r>
              <a:rPr b="0" i="1" lang="en-US" sz="1900" spc="-1" strike="noStrike">
                <a:solidFill>
                  <a:srgbClr val="000066"/>
                </a:solidFill>
                <a:latin typeface="新細明體"/>
              </a:rPr>
              <a:t> </a:t>
            </a: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$30.0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914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zh-TW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[Excluding those who are certain that they have not participated in organized volunteering over the past 12 months ]</a:t>
            </a:r>
            <a:r>
              <a:rPr b="1" lang="zh-TW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ffff"/>
                </a:solidFill>
                <a:latin typeface="Times New Roman"/>
              </a:rPr>
              <a:t>Main Service Recipients over the past 12 months</a:t>
            </a:r>
            <a:br>
              <a:rPr sz="3300"/>
            </a:br>
            <a:endParaRPr b="0" lang="en-US" sz="33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31840" y="1768320"/>
          <a:ext cx="857232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768320"/>
                    <a:ext cx="857232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33520" y="9144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zh-TW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[Excluding those who are certain that they have not participated in organized volunteering over the past 12 months ]</a:t>
            </a:r>
            <a:r>
              <a:rPr b="1" lang="zh-TW" sz="37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28240" y="7617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00" spc="-1" strike="noStrike">
                <a:solidFill>
                  <a:srgbClr val="ccffff"/>
                </a:solidFill>
                <a:latin typeface="Times New Roman"/>
              </a:rPr>
              <a:t>Nature of Volunteering Service Participated in </a:t>
            </a:r>
            <a:br>
              <a:rPr sz="3300"/>
            </a:br>
            <a:endParaRPr b="0" lang="en-US" sz="33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99880" y="1660680"/>
          <a:ext cx="8680680" cy="503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660680"/>
                    <a:ext cx="8680680" cy="50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33520" y="8380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zh-TW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[Only ask those who have participated in organized volunteering before]</a:t>
            </a:r>
            <a:r>
              <a:rPr b="1" lang="zh-TW" sz="37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Channels for Learning about Ways to Participate in Volunteering</a:t>
            </a:r>
            <a:r>
              <a:rPr b="1" lang="en-US" sz="4300" spc="-1" strike="noStrike">
                <a:solidFill>
                  <a:srgbClr val="ccffff"/>
                </a:solidFill>
                <a:latin typeface="Times New Roman"/>
              </a:rPr>
              <a:t>  </a:t>
            </a:r>
            <a:br>
              <a:rPr sz="4300"/>
            </a:br>
            <a:r>
              <a:rPr b="1" lang="en-US" sz="4300" spc="-1" strike="noStrike">
                <a:solidFill>
                  <a:srgbClr val="ccffff"/>
                </a:solidFill>
                <a:latin typeface="新細明體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ask those who have participated in organized volunteering before ]</a:t>
            </a:r>
            <a:r>
              <a:rPr b="1" lang="en-US" sz="42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1600200"/>
          <a:ext cx="8763120" cy="48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76312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Reasons for Participating in Volunteer Work</a:t>
            </a:r>
            <a:br>
              <a:rPr sz="4300"/>
            </a:br>
            <a:r>
              <a:rPr b="1" lang="en-US" sz="4300" spc="-1" strike="noStrike">
                <a:solidFill>
                  <a:srgbClr val="ccffff"/>
                </a:solidFill>
                <a:latin typeface="新細明體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ask those who have participated in organized volunteering before ]</a:t>
            </a:r>
            <a:r>
              <a:rPr b="1" lang="en-US" sz="42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99880" y="1619280"/>
          <a:ext cx="903456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619280"/>
                    <a:ext cx="9034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Need for Training before Participating in Volunteer Work</a:t>
            </a:r>
            <a:br>
              <a:rPr sz="4300"/>
            </a:b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71440" y="1795320"/>
          <a:ext cx="8477280" cy="45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1795320"/>
                    <a:ext cx="8477280" cy="45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57200" y="12193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zh-TW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[Only ask those who have participated in organized volunteering before]</a:t>
            </a:r>
            <a:r>
              <a:rPr b="1" lang="zh-TW" sz="37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90560" y="1447920"/>
            <a:ext cx="5638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ccecff"/>
                </a:solidFill>
                <a:latin typeface="Times New Roman"/>
              </a:rPr>
              <a:t>About one-quarter of respondents had participated in organized volunteering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ccecff"/>
                </a:solidFill>
                <a:latin typeface="Times New Roman"/>
              </a:rPr>
              <a:t>About one-seventh volunteered over the past year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ccecff"/>
                </a:solidFill>
                <a:latin typeface="Times New Roman"/>
              </a:rPr>
              <a:t>12 times on average and 3 hours each time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ccecff"/>
                </a:solidFill>
                <a:latin typeface="Times New Roman"/>
              </a:rPr>
              <a:t>Perceived monetary value contributed was</a:t>
            </a:r>
            <a:r>
              <a:rPr b="1" lang="zh-TW" sz="2100" spc="-1" strike="noStrike">
                <a:solidFill>
                  <a:srgbClr val="ccecff"/>
                </a:solidFill>
                <a:latin typeface="Times New Roman"/>
              </a:rPr>
              <a:t>＄</a:t>
            </a:r>
            <a:r>
              <a:rPr b="1" lang="zh-TW" sz="2100" spc="-1" strike="noStrike">
                <a:solidFill>
                  <a:srgbClr val="ccecff"/>
                </a:solidFill>
                <a:latin typeface="Times New Roman"/>
              </a:rPr>
              <a:t>2700 per person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ccecff"/>
                </a:solidFill>
                <a:latin typeface="Times New Roman"/>
              </a:rPr>
              <a:t>Service recipients were mainly educational organizations, religious bodies and social organizations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ccecff"/>
                </a:solidFill>
                <a:latin typeface="Times New Roman"/>
              </a:rPr>
              <a:t>Volunteer services provided were mainly visiting and recreational activities 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ccecff"/>
                </a:solidFill>
                <a:latin typeface="Times New Roman"/>
              </a:rPr>
              <a:t>Main channels were through friends and schools 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533160" y="2133360"/>
            <a:ext cx="79246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Experience &amp; Motive of Participating in Volunteer work</a:t>
            </a: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：</a:t>
            </a:r>
            <a:br>
              <a:rPr sz="2000"/>
            </a:b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utual Aid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imes New Roman"/>
              </a:rPr>
              <a:t>Mutual Aid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15667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Mutual aid generally refers to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>
              <a:lnSpc>
                <a:spcPct val="100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e spontaneous behaviors aiming to help others that are not organiz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>
              <a:lnSpc>
                <a:spcPct val="100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would happen from time to ti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For example</a:t>
            </a:r>
            <a:r>
              <a:rPr b="1" lang="zh-CN" sz="24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helping the elderly cross the roads, helping your elderly neighbor for daily necessity and taking care of neighbor’s childre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617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perience of Participating in 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utual Aid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61880" y="1824120"/>
          <a:ext cx="8191440" cy="46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824120"/>
                    <a:ext cx="819144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Contact Information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03680" indent="-28036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Date of survey      </a:t>
            </a:r>
            <a:r>
              <a:rPr b="1" lang="zh-CN" sz="2500" spc="-1" strike="noStrike">
                <a:solidFill>
                  <a:srgbClr val="ccffff"/>
                </a:solidFill>
                <a:latin typeface="Times New Roman"/>
              </a:rPr>
              <a:t>： </a:t>
            </a: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28 Sep – 5 Oct 2001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2803680" indent="-28036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Target population</a:t>
            </a:r>
            <a:r>
              <a:rPr b="1" lang="zh-CN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Cantonese-speaking population of Hong Kong aged 15 or abov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2803680" indent="-28036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Survey method     </a:t>
            </a:r>
            <a:r>
              <a:rPr b="1" lang="zh-CN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Telephone survey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2803680" indent="-28036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Sample size           </a:t>
            </a:r>
            <a:r>
              <a:rPr b="1" lang="zh-CN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1,555 successful case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2803680" indent="-28036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Response rate       </a:t>
            </a:r>
            <a:r>
              <a:rPr b="1" lang="zh-CN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64.2%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2803680" indent="-28036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Standard error     </a:t>
            </a:r>
            <a:r>
              <a:rPr b="1" lang="zh-CN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Less than 1.3%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ffff"/>
                </a:solidFill>
                <a:latin typeface="Times New Roman"/>
              </a:rPr>
              <a:t>Last Participation in</a:t>
            </a:r>
            <a:r>
              <a:rPr b="1" lang="en-US" sz="3900" spc="-1" strike="noStrike">
                <a:solidFill>
                  <a:srgbClr val="ccffff"/>
                </a:solidFill>
                <a:latin typeface="新細明體"/>
              </a:rPr>
              <a:t> </a:t>
            </a:r>
            <a:r>
              <a:rPr b="1" lang="en-US" sz="3900" spc="-1" strike="noStrike">
                <a:solidFill>
                  <a:srgbClr val="ccffff"/>
                </a:solidFill>
                <a:latin typeface="Times New Roman"/>
              </a:rPr>
              <a:t>Mutual Aid</a:t>
            </a:r>
            <a:br>
              <a:rPr sz="4200"/>
            </a:b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ask those who have participated in mutual aid before]</a:t>
            </a:r>
            <a:r>
              <a:rPr b="1" lang="en-US" sz="4200" spc="-1" strike="noStrike">
                <a:solidFill>
                  <a:srgbClr val="ccffff"/>
                </a:solidFill>
                <a:latin typeface="新細明體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53880" y="1700280"/>
          <a:ext cx="8721720" cy="484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1700280"/>
                    <a:ext cx="872172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No. of times Participated in Mutual Aid over the past 12 months</a:t>
            </a:r>
            <a:r>
              <a:rPr b="1" lang="en-US" sz="3500" spc="-1" strike="noStrike">
                <a:solidFill>
                  <a:srgbClr val="ccffff"/>
                </a:solidFill>
                <a:latin typeface="新細明體"/>
              </a:rPr>
              <a:t> </a:t>
            </a:r>
            <a:br>
              <a:rPr sz="3500"/>
            </a:br>
            <a:r>
              <a:rPr b="1" lang="en-US" sz="1800" spc="-1" strike="noStrike">
                <a:solidFill>
                  <a:srgbClr val="ccffff"/>
                </a:solidFill>
                <a:latin typeface="新細明體"/>
              </a:rPr>
              <a:t>[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Excluding those who are certain that they have not participated in mutual aid over the past 12 months</a:t>
            </a:r>
            <a:r>
              <a:rPr b="1" lang="en-US" sz="1800" spc="-1" strike="noStrike">
                <a:solidFill>
                  <a:srgbClr val="ccffff"/>
                </a:solidFill>
                <a:latin typeface="新細明體"/>
              </a:rPr>
              <a:t>]</a:t>
            </a:r>
            <a:r>
              <a:rPr b="1" lang="en-US" sz="3700" spc="-1" strike="noStrike">
                <a:solidFill>
                  <a:srgbClr val="ccffff"/>
                </a:solidFill>
                <a:latin typeface="新細明體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39840" y="1604880"/>
          <a:ext cx="8342280" cy="492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1604880"/>
                    <a:ext cx="8342280" cy="49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400800" y="1752480"/>
            <a:ext cx="2133720" cy="9554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Mean:</a:t>
            </a:r>
            <a:r>
              <a:rPr b="0" i="1" lang="en-US" sz="1900" spc="-1" strike="noStrike">
                <a:solidFill>
                  <a:srgbClr val="000066"/>
                </a:solidFill>
                <a:latin typeface="新細明體"/>
              </a:rPr>
              <a:t> </a:t>
            </a: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18.5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Standard error: 3.44 </a:t>
            </a:r>
            <a:r>
              <a:rPr b="0" i="1" lang="en-US" sz="1900" spc="-1" strike="noStrike">
                <a:solidFill>
                  <a:srgbClr val="000066"/>
                </a:solidFill>
                <a:latin typeface="新細明體"/>
              </a:rPr>
              <a:t> 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No. of hours Participated in Mutual Aid over the past 12 months</a:t>
            </a:r>
            <a:r>
              <a:rPr b="1" lang="en-US" sz="3500" spc="-1" strike="noStrike">
                <a:solidFill>
                  <a:srgbClr val="ccffff"/>
                </a:solidFill>
                <a:latin typeface="新細明體"/>
              </a:rPr>
              <a:t> </a:t>
            </a:r>
            <a:br>
              <a:rPr sz="3700"/>
            </a:br>
            <a:endParaRPr b="0" lang="en-US" sz="35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99880" y="1986120"/>
          <a:ext cx="8885520" cy="453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986120"/>
                    <a:ext cx="888552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248520" y="1676520"/>
            <a:ext cx="2361960" cy="70956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Mean:</a:t>
            </a:r>
            <a:r>
              <a:rPr b="0" i="1" lang="en-US" sz="1900" spc="-1" strike="noStrike">
                <a:solidFill>
                  <a:srgbClr val="000066"/>
                </a:solidFill>
                <a:latin typeface="新細明體"/>
              </a:rPr>
              <a:t> </a:t>
            </a: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21.9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Standard error: 6.61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1430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Excluding those who are certain that they have not participated in mutual aid over the past 12 months ]</a:t>
            </a:r>
            <a:r>
              <a:rPr b="1" lang="en-US" sz="37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ffff"/>
                </a:solidFill>
                <a:latin typeface="Times New Roman"/>
              </a:rPr>
              <a:t>Perceived Hourly rate of Mutual Aid</a:t>
            </a:r>
            <a:r>
              <a:rPr b="1" lang="en-US" sz="2900" spc="-1" strike="noStrike">
                <a:solidFill>
                  <a:srgbClr val="ccffff"/>
                </a:solidFill>
                <a:latin typeface="新細明體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16000" y="2362320"/>
          <a:ext cx="867384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2362320"/>
                    <a:ext cx="86738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324480" y="2057400"/>
            <a:ext cx="2362320" cy="9554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Mean:</a:t>
            </a:r>
            <a:r>
              <a:rPr b="0" i="1" lang="en-US" sz="1900" spc="-1" strike="noStrike">
                <a:solidFill>
                  <a:srgbClr val="000066"/>
                </a:solidFill>
                <a:latin typeface="新細明體"/>
              </a:rPr>
              <a:t> </a:t>
            </a: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$32.4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Standard error: $1.83</a:t>
            </a:r>
            <a:r>
              <a:rPr b="0" i="1" lang="en-US" sz="1900" spc="-1" strike="noStrike">
                <a:solidFill>
                  <a:srgbClr val="000066"/>
                </a:solidFill>
                <a:latin typeface="新細明體"/>
              </a:rPr>
              <a:t> 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TW" sz="1800" spc="-1" strike="noStrike">
                <a:solidFill>
                  <a:srgbClr val="ccffff"/>
                </a:solidFill>
                <a:latin typeface="新細明體"/>
              </a:rPr>
              <a:t> </a:t>
            </a:r>
            <a:r>
              <a:rPr b="1" lang="zh-TW" sz="1800" spc="-1" strike="noStrike">
                <a:solidFill>
                  <a:srgbClr val="ccffff"/>
                </a:solidFill>
                <a:latin typeface="新細明體"/>
              </a:rPr>
              <a:t>[</a:t>
            </a: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Excluding those who are certain that they have not participated in mutual aid over the past 12 months </a:t>
            </a:r>
            <a:r>
              <a:rPr b="1" lang="zh-TW" sz="1800" spc="-1" strike="noStrike">
                <a:solidFill>
                  <a:srgbClr val="ccffff"/>
                </a:solidFill>
                <a:latin typeface="新細明體"/>
              </a:rPr>
              <a:t>]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14600" y="1752120"/>
            <a:ext cx="5562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More than half of the respondents had  participated in mutual aid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About one-third volunteered over the past year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Almost 20 times on average and 1 hour each time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Perceived monetary value contributed was </a:t>
            </a:r>
            <a:r>
              <a:rPr b="1" lang="zh-CN" sz="2100" spc="-1" strike="noStrike">
                <a:solidFill>
                  <a:srgbClr val="ccecff"/>
                </a:solidFill>
                <a:latin typeface="Times New Roman"/>
              </a:rPr>
              <a:t>＄</a:t>
            </a: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700 per person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Broadly speaking, over 60% of respondents had participated in any form of volunteer work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About two-fifth volunteered over the last year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ntion and Reasons for Future Volunteer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Intention for Participating in Volunteering again</a:t>
            </a:r>
            <a:br>
              <a:rPr sz="3000"/>
            </a:b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ask those who have participated in volunteer work ]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38080" y="1905120"/>
          <a:ext cx="7558200" cy="45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55820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Reasons for not Volunteer in the future</a:t>
            </a:r>
            <a:br>
              <a:rPr sz="4000"/>
            </a:b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ask those who will not continue to volunteer in the future]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17440" y="1619280"/>
          <a:ext cx="8763120" cy="480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619280"/>
                    <a:ext cx="8763120" cy="48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ffff"/>
                </a:solidFill>
                <a:latin typeface="Times New Roman"/>
              </a:rPr>
              <a:t>Reasons for not Participating in Volunteer Work</a:t>
            </a:r>
            <a:br>
              <a:rPr sz="3400"/>
            </a:b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ask those who have never participated in volunteer work]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99880" y="1619280"/>
          <a:ext cx="870768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619280"/>
                    <a:ext cx="870768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Intention for Future Volunteering</a:t>
            </a:r>
            <a:br>
              <a:rPr sz="4000"/>
            </a:b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ask those who have never participated in volunteer work ]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53880" y="1986120"/>
          <a:ext cx="8313840" cy="42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1986120"/>
                    <a:ext cx="831384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Presentation Outlin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ecff"/>
                </a:solidFill>
                <a:latin typeface="Times New Roman"/>
              </a:rPr>
              <a:t>Organized Volunteering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Defini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Experience &amp; Motiv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Contribution &amp; Val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ervice Recipien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ecff"/>
                </a:solidFill>
                <a:latin typeface="Times New Roman"/>
              </a:rPr>
              <a:t>Mutual Aid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Defini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Experience &amp; Motiv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Contribution &amp; Val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800" y="198072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ecff"/>
                </a:solidFill>
                <a:latin typeface="Times New Roman"/>
              </a:rPr>
              <a:t>Future Trend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Intention for Future Volunteer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Motivation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indranc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ecff"/>
                </a:solidFill>
                <a:latin typeface="Times New Roman"/>
              </a:rPr>
              <a:t>Support &amp; Barriers of Development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General Evalu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ocial Influenc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ocial Status of Volunte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Direction of Developmen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Reasons for Future Participation in Volunteer Work</a:t>
            </a:r>
            <a:r>
              <a:rPr b="1" lang="en-US" sz="4300" spc="-1" strike="noStrike">
                <a:solidFill>
                  <a:srgbClr val="ccffff"/>
                </a:solidFill>
                <a:latin typeface="Times New Roman"/>
              </a:rPr>
              <a:t> </a:t>
            </a:r>
            <a:br>
              <a:rPr sz="4300"/>
            </a:b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ask those who would consider to volunteer in the future ]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12840" y="1687680"/>
          <a:ext cx="8572320" cy="483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1687680"/>
                    <a:ext cx="8572320" cy="48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General Motivations for People who Participate in Volunteering</a:t>
            </a:r>
            <a:endParaRPr b="0" lang="en-US" sz="25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17440" y="1687680"/>
          <a:ext cx="8858160" cy="46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687680"/>
                    <a:ext cx="885816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ffff"/>
                </a:solidFill>
                <a:latin typeface="Times New Roman"/>
              </a:rPr>
              <a:t>General Hindrances for People who do not Participate in Volunteering</a:t>
            </a:r>
            <a:endParaRPr b="0" lang="en-US" sz="23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8840" y="1170000"/>
          <a:ext cx="8858160" cy="544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840" y="1170000"/>
                    <a:ext cx="8858160" cy="54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Social Influenc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ff"/>
                </a:solidFill>
                <a:latin typeface="Times New Roman"/>
              </a:rPr>
              <a:t>Experience of Encouraging Others to Participate in Volunteering</a:t>
            </a:r>
            <a:br>
              <a:rPr sz="3800"/>
            </a:b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(including organized volunteering and mutual aid)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09480" y="1905120"/>
          <a:ext cx="7918560" cy="44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7918560" cy="44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ff"/>
                </a:solidFill>
                <a:latin typeface="Times New Roman"/>
              </a:rPr>
              <a:t>Experience of being Encouraged to Participate in Volunteering</a:t>
            </a:r>
            <a:br>
              <a:rPr sz="3800"/>
            </a:br>
            <a:endParaRPr b="0" lang="en-US" sz="3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838080" y="1905120"/>
          <a:ext cx="7558200" cy="45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55820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Main Source of Encouragement</a:t>
            </a:r>
            <a:br>
              <a:rPr sz="4300"/>
            </a:b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ask those who have been encouraged to participate in volunteering]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99880" y="1619280"/>
          <a:ext cx="872172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619280"/>
                    <a:ext cx="87217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228600" y="21333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Evaluation of the Barriers and Expectations of Volunteer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ffff"/>
                </a:solidFill>
                <a:latin typeface="Times New Roman"/>
              </a:rPr>
              <a:t>Barriers to the Local Development of Volunteering</a:t>
            </a:r>
            <a:br>
              <a:rPr sz="4300"/>
            </a:b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(including organized volunteering and mutual aid)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99880" y="1619280"/>
          <a:ext cx="8707680" cy="49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619280"/>
                    <a:ext cx="870768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Ways to Promote Local Volunteer Service</a:t>
            </a:r>
            <a:br>
              <a:rPr sz="3800"/>
            </a:b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(including organized volunteering and mutual aid)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85840" y="1755720"/>
          <a:ext cx="8858160" cy="47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755720"/>
                    <a:ext cx="885816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Experience &amp; Motive of Participating in Volunteer work</a:t>
            </a: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：</a:t>
            </a:r>
            <a:br>
              <a:rPr sz="4400"/>
            </a:b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Organized Volunteer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The Ideal Supporting Body for Developing Local Volunteering</a:t>
            </a:r>
            <a:endParaRPr b="0" lang="en-US" sz="3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1880" y="1604880"/>
          <a:ext cx="8315280" cy="46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604880"/>
                    <a:ext cx="831528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Perceived Social Status of Volunteers in Hong Kong</a:t>
            </a:r>
            <a:endParaRPr b="0" lang="en-US" sz="3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36440" y="2068560"/>
          <a:ext cx="8680680" cy="36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2068560"/>
                    <a:ext cx="868068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14240" y="1447920"/>
            <a:ext cx="5791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The sense of mutual aid of Hong Kong people was fair, over 60% had ever participated in any form of volunteer wor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Two-fifth of respondents volunteered over the past 12 month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The majority of those who had volunteered said they would continue to volunte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alf of those who had never volunteered said they would consider volunteer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Most people positively assessed volunteers and thought that volunteers were being respect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Most people perceived helping others and serving the community were the motivations for volunteering, but a waste of time was their major hindranc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437920" y="1828800"/>
            <a:ext cx="58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Mutual encouragement to volunteer only occurred among 30% to 40% of respondents, the main source came from their friend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For future development, opinions were split between improving economic condition, injecting resources, cultivating the atmosphere for volunteering, more promotion, more governmental assistance and cultivating the care for oth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Forty-seven percent of the overall sample thought that development of volunteering should ideally be supported by non-government bodies while 38% mentioned governmen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773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ecff"/>
                </a:solidFill>
                <a:latin typeface="Times New Roman"/>
                <a:ea typeface="細明體"/>
              </a:rPr>
              <a:t>THANK YOU</a:t>
            </a:r>
            <a:endParaRPr b="0" lang="en-US" sz="7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imes New Roman"/>
              </a:rPr>
              <a:t>Organized Volunteer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98560" y="15667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Organized volunteering generally refers to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>
              <a:lnSpc>
                <a:spcPct val="100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any services that are provided by aspiring individuals who are willing to contribute their time and effor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>
              <a:lnSpc>
                <a:spcPct val="100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for no retur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>
              <a:lnSpc>
                <a:spcPct val="100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for improving the communit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>
              <a:lnSpc>
                <a:spcPct val="100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organized by voluntary organizations or group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For example</a:t>
            </a:r>
            <a:r>
              <a:rPr b="1" lang="zh-CN" sz="24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visiting, escorting, providing clerical work, homework tutoring as well as joining Kai Fong Association and Alumnu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perience of Participating in 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rganized Volunteering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62120" y="1828800"/>
          <a:ext cx="7543800" cy="446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54380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Last Participation in Organized Volunteering</a:t>
            </a:r>
            <a:r>
              <a:rPr b="1" lang="en-US" sz="4200" spc="-1" strike="noStrike">
                <a:solidFill>
                  <a:srgbClr val="ccffff"/>
                </a:solidFill>
                <a:latin typeface="新細明體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53880" y="1714680"/>
          <a:ext cx="862668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1714680"/>
                    <a:ext cx="86266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0492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zh-TW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[Only ask those who have participated in organized volunteering before ]</a:t>
            </a:r>
            <a:r>
              <a:rPr b="1" lang="zh-TW" sz="37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No. of times Participated in Organized Volunteering over the past 12 months</a:t>
            </a:r>
            <a:endParaRPr b="0" lang="en-US" sz="37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39840" y="2286000"/>
          <a:ext cx="8381880" cy="42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2286000"/>
                    <a:ext cx="838188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6248520" y="2133720"/>
            <a:ext cx="2286000" cy="9554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Mean:</a:t>
            </a:r>
            <a:r>
              <a:rPr b="0" i="1" lang="en-US" sz="1900" spc="-1" strike="noStrike">
                <a:solidFill>
                  <a:srgbClr val="000066"/>
                </a:solidFill>
                <a:latin typeface="新細明體"/>
              </a:rPr>
              <a:t>  </a:t>
            </a: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11.9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Standard error : </a:t>
            </a:r>
            <a:r>
              <a:rPr b="0" i="1" lang="en-US" sz="1900" spc="-1" strike="noStrike">
                <a:solidFill>
                  <a:srgbClr val="000066"/>
                </a:solidFill>
                <a:latin typeface="新細明體"/>
              </a:rPr>
              <a:t> </a:t>
            </a: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2.41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2952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zh-TW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[Excluding those who are certain that they have not participated in organized volunteering over the past 12 months ]</a:t>
            </a:r>
            <a:r>
              <a:rPr b="1" lang="zh-TW" sz="37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No. of hours Participated in Organized Volunteering over the past 12 months</a:t>
            </a:r>
            <a:endParaRPr b="0" lang="en-US" sz="3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99880" y="1986120"/>
          <a:ext cx="8885520" cy="453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986120"/>
                    <a:ext cx="888552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324480" y="2133720"/>
            <a:ext cx="2590920" cy="58716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ffff"/>
                </a:solidFill>
                <a:latin typeface="新細明體"/>
              </a:rPr>
              <a:t>Mean:</a:t>
            </a:r>
            <a:r>
              <a:rPr b="0" i="1" lang="en-US" sz="1800" spc="-1" strike="noStrike">
                <a:solidFill>
                  <a:srgbClr val="000066"/>
                </a:solidFill>
                <a:latin typeface="新細明體"/>
              </a:rPr>
              <a:t>  </a:t>
            </a:r>
            <a:r>
              <a:rPr b="0" i="1" lang="en-US" sz="1800" spc="-1" strike="noStrike">
                <a:solidFill>
                  <a:srgbClr val="ccffff"/>
                </a:solidFill>
                <a:latin typeface="新細明體"/>
              </a:rPr>
              <a:t>34.8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ffff"/>
                </a:solidFill>
                <a:latin typeface="新細明體"/>
              </a:rPr>
              <a:t>Standard error: </a:t>
            </a:r>
            <a:r>
              <a:rPr b="0" i="1" lang="en-US" sz="1800" spc="-1" strike="noStrike">
                <a:solidFill>
                  <a:srgbClr val="000066"/>
                </a:solidFill>
                <a:latin typeface="新細明體"/>
              </a:rPr>
              <a:t> </a:t>
            </a:r>
            <a:r>
              <a:rPr b="0" i="1" lang="en-US" sz="1800" spc="-1" strike="noStrike">
                <a:solidFill>
                  <a:srgbClr val="ccffff"/>
                </a:solidFill>
                <a:latin typeface="新細明體"/>
              </a:rPr>
              <a:t>6.42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2193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zh-TW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[Excluding those who are certain that they have not participated in organized volunteering over the past 12 months ]</a:t>
            </a:r>
            <a:r>
              <a:rPr b="1" lang="zh-TW" sz="37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cliff</cp:lastModifiedBy>
  <cp:lastPrinted>2001-04-04T10:00:24Z</cp:lastPrinted>
  <dcterms:modified xsi:type="dcterms:W3CDTF">2002-09-02T06:13:21Z</dcterms:modified>
  <cp:revision>363</cp:revision>
  <dc:subject/>
  <dc:title>無投影片標題</dc:title>
</cp:coreProperties>
</file>