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351C1D-C51F-4271-81AD-55DC9309BD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078-43F6-45C9-934E-98A365BD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84E-056B-4DC7-916F-E24A6456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B99-7C5F-4765-B29D-8E29C8B6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EC5-2D3D-4264-BE2F-D363DC3E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069-1E69-4D3C-B3B2-198E511C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A15-597A-4BC8-80FC-AA266AD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9DC-1224-4BA3-9A8C-42C77768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6A6-3888-44AB-B1F8-20324D3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4A8-0161-4133-94E5-70B5572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C51-2B5A-491C-A83B-3586A1E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8CE-C1D4-4DAA-BA6F-BBE97ED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93B-BF2C-447C-ABC5-65994DB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240-1383-4941-8124-0DA7EE7F14C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Study on Public’s Reception and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Perception of Volunteer Services”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144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762120"/>
          <a:ext cx="16095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16095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0" y="4648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9 November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times Participated in Volunteer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7920" y="1371600"/>
          <a:ext cx="6476760" cy="4811760"/>
        </p:xfrm>
        <a:graphic>
          <a:graphicData uri="http://schemas.openxmlformats.org/drawingml/2006/table">
            <a:tbl>
              <a:tblPr/>
              <a:tblGrid>
                <a:gridCol w="1601640"/>
                <a:gridCol w="2473200"/>
                <a:gridCol w="2401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 ti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 times or abov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. of hours Participated in Volunteering*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1295280"/>
          <a:ext cx="5791320" cy="29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579132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59436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participated in volunteering over the past 12 months 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6218280" cy="278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6218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09880" y="1523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3047760" cy="1415880"/>
        </p:xfrm>
        <a:graphic>
          <a:graphicData uri="http://schemas.openxmlformats.org/drawingml/2006/table">
            <a:tbl>
              <a:tblPr/>
              <a:tblGrid>
                <a:gridCol w="838080"/>
                <a:gridCol w="1143000"/>
                <a:gridCol w="10666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.8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9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1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rceived Hourly Rate of Volunteer Work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05120"/>
          <a:ext cx="6477120" cy="4346280"/>
        </p:xfrm>
        <a:graphic>
          <a:graphicData uri="http://schemas.openxmlformats.org/drawingml/2006/table">
            <a:tbl>
              <a:tblPr/>
              <a:tblGrid>
                <a:gridCol w="1676520"/>
                <a:gridCol w="2590560"/>
                <a:gridCol w="22100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0 - $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0 -$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20 -$2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0 -$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40 -$4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50 -$5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60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76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2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30.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.8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380880"/>
          <a:ext cx="642132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64213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808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Volunteers Deployed*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3657600"/>
          <a:ext cx="588816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58881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32004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Service Hours Contributed b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Volunteer* 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2485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received any volunteering service over the past 12 month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06668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.3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53080" y="434340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tention of Involvemen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1905120"/>
          <a:ext cx="7010280" cy="379404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2590560"/>
              </a:tblGrid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ing*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968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ployment of 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participated in any form of volunteer work befor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28800" y="3886200"/>
          <a:ext cx="5689440" cy="27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86200"/>
                    <a:ext cx="56894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13716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asons for not Volunteering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52280" y="609480"/>
          <a:ext cx="8381880" cy="32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609480"/>
                    <a:ext cx="83818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68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ntion for Future Volunteering*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4008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never participated in volunteer work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ement</a:t>
            </a:r>
            <a:br>
              <a:rPr sz="3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2819520"/>
          <a:ext cx="6705360" cy="1925640"/>
        </p:xfrm>
        <a:graphic>
          <a:graphicData uri="http://schemas.openxmlformats.org/drawingml/2006/table">
            <a:tbl>
              <a:tblPr/>
              <a:tblGrid>
                <a:gridCol w="1271520"/>
                <a:gridCol w="2797200"/>
                <a:gridCol w="2636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encouraging oth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being encourag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2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br>
              <a:rPr sz="1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Base = 5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447920"/>
          <a:ext cx="786636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866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62120" y="5105520"/>
            <a:ext cx="75438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, business corporations, the elderly and new immigrant center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ood entry point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Barriers and Expec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9528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articipation: Actual and inten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arriers and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Evaluation of provider agencies and the local cul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top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81080"/>
            <a:ext cx="78487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arriers to the Development of Volunteer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295280"/>
          <a:ext cx="8305920" cy="4584960"/>
        </p:xfrm>
        <a:graphic>
          <a:graphicData uri="http://schemas.openxmlformats.org/drawingml/2006/table">
            <a:tbl>
              <a:tblPr/>
              <a:tblGrid>
                <a:gridCol w="3797280"/>
                <a:gridCol w="2432160"/>
                <a:gridCol w="20764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time of HK peopl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or economic condi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resourc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atmosphere for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care for others of HK peopl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assistance from 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promo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fluence of the mass medi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19920" y="2057400"/>
            <a:ext cx="304560" cy="228600"/>
          </a:xfrm>
          <a:prstGeom prst="wedgeRoundRectCallout">
            <a:avLst>
              <a:gd name="adj1" fmla="val -109375"/>
              <a:gd name="adj2" fmla="val -34722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2362320"/>
            <a:ext cx="304560" cy="228600"/>
          </a:xfrm>
          <a:prstGeom prst="wedgeRoundRectCallout">
            <a:avLst>
              <a:gd name="adj1" fmla="val -115106"/>
              <a:gd name="adj2" fmla="val -3958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743200"/>
            <a:ext cx="304920" cy="228600"/>
          </a:xfrm>
          <a:prstGeom prst="wedgeRoundRectCallout">
            <a:avLst>
              <a:gd name="adj1" fmla="val -113541"/>
              <a:gd name="adj2" fmla="val -13194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2743200"/>
            <a:ext cx="304920" cy="228600"/>
          </a:xfrm>
          <a:prstGeom prst="wedgeRoundRectCallout">
            <a:avLst>
              <a:gd name="adj1" fmla="val -96875"/>
              <a:gd name="adj2" fmla="val 1388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1981080"/>
            <a:ext cx="304920" cy="228600"/>
          </a:xfrm>
          <a:prstGeom prst="wedgeRoundRectCallout">
            <a:avLst>
              <a:gd name="adj1" fmla="val -102083"/>
              <a:gd name="adj2" fmla="val 763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2362320"/>
            <a:ext cx="304920" cy="228600"/>
          </a:xfrm>
          <a:prstGeom prst="wedgeRoundRectCallout">
            <a:avLst>
              <a:gd name="adj1" fmla="val -81773"/>
              <a:gd name="adj2" fmla="val 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ays to Promote Volunte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295280"/>
          <a:ext cx="7391160" cy="4999320"/>
        </p:xfrm>
        <a:graphic>
          <a:graphicData uri="http://schemas.openxmlformats.org/drawingml/2006/table">
            <a:tbl>
              <a:tblPr/>
              <a:tblGrid>
                <a:gridCol w="3735360"/>
                <a:gridCol w="1828800"/>
                <a:gridCol w="1827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economic condition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nject more resource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atmosphere for volunteer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promo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governmental assistance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care for others among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conduct of the mass media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ivic educa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ompliments to the volunteer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 (please specify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248520" y="1981080"/>
            <a:ext cx="304560" cy="228600"/>
          </a:xfrm>
          <a:prstGeom prst="wedgeRoundRectCallout">
            <a:avLst>
              <a:gd name="adj1" fmla="val -95833"/>
              <a:gd name="adj2" fmla="val -229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286000"/>
            <a:ext cx="304560" cy="228600"/>
          </a:xfrm>
          <a:prstGeom prst="wedgeRoundRectCallout">
            <a:avLst>
              <a:gd name="adj1" fmla="val -66666"/>
              <a:gd name="adj2" fmla="val 48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666880"/>
            <a:ext cx="304920" cy="228600"/>
          </a:xfrm>
          <a:prstGeom prst="wedgeRoundRectCallout">
            <a:avLst>
              <a:gd name="adj1" fmla="val -104166"/>
              <a:gd name="adj2" fmla="val -173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590920"/>
            <a:ext cx="304560" cy="228600"/>
          </a:xfrm>
          <a:prstGeom prst="wedgeRoundRectCallout">
            <a:avLst>
              <a:gd name="adj1" fmla="val -135416"/>
              <a:gd name="adj2" fmla="val 2777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3505320"/>
            <a:ext cx="304560" cy="228600"/>
          </a:xfrm>
          <a:prstGeom prst="wedgeRoundRectCallout">
            <a:avLst>
              <a:gd name="adj1" fmla="val -83333"/>
              <a:gd name="adj2" fmla="val -6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2286000"/>
            <a:ext cx="304560" cy="228600"/>
          </a:xfrm>
          <a:prstGeom prst="wedgeRoundRectCallout">
            <a:avLst>
              <a:gd name="adj1" fmla="val -80731"/>
              <a:gd name="adj2" fmla="val -20833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Most Preferred Supporting Bod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2859120"/>
        </p:xfrm>
        <a:graphic>
          <a:graphicData uri="http://schemas.openxmlformats.org/drawingml/2006/table">
            <a:tbl>
              <a:tblPr/>
              <a:tblGrid>
                <a:gridCol w="3598920"/>
                <a:gridCol w="2238480"/>
                <a:gridCol w="22399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ople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government organiza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ll of the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09480" y="4724280"/>
            <a:ext cx="88394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enuine support from government is indispensable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ore civic education needed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dditional resources from government and all walks of life urged (service recipient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362320"/>
            <a:ext cx="304560" cy="228600"/>
          </a:xfrm>
          <a:prstGeom prst="wedgeRoundRectCallout">
            <a:avLst>
              <a:gd name="adj1" fmla="val -102606"/>
              <a:gd name="adj2" fmla="val 0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743200"/>
            <a:ext cx="304560" cy="228600"/>
          </a:xfrm>
          <a:prstGeom prst="wedgeRoundRectCallout">
            <a:avLst>
              <a:gd name="adj1" fmla="val -63023"/>
              <a:gd name="adj2" fmla="val -76388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124080"/>
            <a:ext cx="304560" cy="228600"/>
          </a:xfrm>
          <a:prstGeom prst="wedgeRoundRectCallout">
            <a:avLst>
              <a:gd name="adj1" fmla="val -90106"/>
              <a:gd name="adj2" fmla="val -1111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124080"/>
            <a:ext cx="304560" cy="228600"/>
          </a:xfrm>
          <a:prstGeom prst="wedgeRoundRectCallout">
            <a:avLst>
              <a:gd name="adj1" fmla="val -100523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04920" cy="228600"/>
          </a:xfrm>
          <a:prstGeom prst="wedgeRoundRectCallout">
            <a:avLst>
              <a:gd name="adj1" fmla="val -115625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2362320"/>
            <a:ext cx="304920" cy="228600"/>
          </a:xfrm>
          <a:prstGeom prst="wedgeRoundRectCallout">
            <a:avLst>
              <a:gd name="adj1" fmla="val -81250"/>
              <a:gd name="adj2" fmla="val -11805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rceived Social Status of Volunte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514600"/>
          <a:ext cx="7238880" cy="2678040"/>
        </p:xfrm>
        <a:graphic>
          <a:graphicData uri="http://schemas.openxmlformats.org/drawingml/2006/table">
            <a:tbl>
              <a:tblPr/>
              <a:tblGrid>
                <a:gridCol w="2879640"/>
                <a:gridCol w="2024280"/>
                <a:gridCol w="233496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ectab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essenti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respecte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Nature of Volunteering Service 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371600"/>
          <a:ext cx="7925040" cy="49500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eiv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*Service Need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1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Recreational activiti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Visit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lerical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Promotion and community-educ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Escorting servic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Homework tuto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ounsel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Skill coach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Labour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6095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Excluding those who are certain that they would not deploy volunteers aga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2057400"/>
            <a:ext cx="2743200" cy="990720"/>
            <a:chOff x="5334120" y="2057400"/>
            <a:chExt cx="2743200" cy="99072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30492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2438280"/>
              <a:ext cx="304920" cy="228600"/>
            </a:xfrm>
            <a:prstGeom prst="wedgeRoundRectCallout">
              <a:avLst>
                <a:gd name="adj1" fmla="val -91666"/>
                <a:gd name="adj2" fmla="val -694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2400" y="2819520"/>
              <a:ext cx="304920" cy="228600"/>
            </a:xfrm>
            <a:prstGeom prst="wedgeRoundRectCallout">
              <a:avLst>
                <a:gd name="adj1" fmla="val -79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057400"/>
              <a:ext cx="304560" cy="228600"/>
            </a:xfrm>
            <a:prstGeom prst="wedgeRoundRectCallout">
              <a:avLst>
                <a:gd name="adj1" fmla="val -108333"/>
                <a:gd name="adj2" fmla="val 15972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4120" y="2438280"/>
              <a:ext cx="30456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4120" y="2819520"/>
              <a:ext cx="304560" cy="228600"/>
            </a:xfrm>
            <a:prstGeom prst="wedgeRoundRectCallout">
              <a:avLst>
                <a:gd name="adj1" fmla="val -95833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valuation of Provider Agencies and the Local Cultur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7621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Servic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7778520" cy="42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8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Satisfaction with Various Aspects of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Provider Agenci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1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676520"/>
          <a:ext cx="80010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8001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the Influence of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Government Policies and Local Cul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600200"/>
          <a:ext cx="761976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197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ther Topic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80880" y="2781360"/>
          <a:ext cx="721368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81360"/>
                    <a:ext cx="7213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752480" y="152280"/>
          <a:ext cx="7101000" cy="395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52280"/>
                    <a:ext cx="7101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Motivation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52280" y="3200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Hindrance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hannels for Learning about Ways to Volunte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 for Training before Volunteering</a:t>
            </a:r>
            <a:br>
              <a:rPr sz="3600"/>
            </a:b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1143000"/>
          <a:ext cx="723888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238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520" y="1143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876920"/>
            <a:ext cx="74674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uccess of volunteer services greatly enhanced by adequate traini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gular training programs for potential and existing volunteers urg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General Publ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Over 60% of HK people had ever participated in any form         of volunteer work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he majority of those who had volunteered  would continue       to volunteer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alf of those who had never volunteered would consider       volunteerin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      volunteers were being respected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elping others and serving the community were perceived as       the motivations for volunteering, while a waste of time as the       major hindrance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Service Recipi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ur-fifths of organization representatives had ever received volunteering service within one month ag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 deployed 237 volunteers on average in the past year, each volunteer provided an average of 25 service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Volunteer services received and needed in future were      mainly recreational activities and visit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rangement of volunteering service provided by volunteer provider agencies and the performance of volunteers      positively evalu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cus Group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133720"/>
            <a:ext cx="7239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mmunications and mutual understand between volunteer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nd organizations considered importa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ost-service follow-ups and training needed for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velopment of systematic database of volunteers called fo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upport from government (more resources) urg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re research on volunteerism to be initi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52388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One: Quantitative telephone survey of the general public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wo: Quantitative telephone survey of the service recipients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hree: Qualitative focus group stud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ontact Information of Telephone Survey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1600200"/>
          <a:ext cx="7619760" cy="4657680"/>
        </p:xfrm>
        <a:graphic>
          <a:graphicData uri="http://schemas.openxmlformats.org/drawingml/2006/table">
            <a:tbl>
              <a:tblPr/>
              <a:tblGrid>
                <a:gridCol w="2361960"/>
                <a:gridCol w="2895840"/>
                <a:gridCol w="236196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On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Tw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/9 – 5/10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/10 – 5/11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 555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1.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3.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Cantonese-speakers aged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ndom 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eighting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djusted according to age-sex distribution reported in 2001 Censu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appli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ormation of Focus Group Studie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05120"/>
          <a:ext cx="7772400" cy="3848040"/>
        </p:xfrm>
        <a:graphic>
          <a:graphicData uri="http://schemas.openxmlformats.org/drawingml/2006/table">
            <a:tbl>
              <a:tblPr/>
              <a:tblGrid>
                <a:gridCol w="2716200"/>
                <a:gridCol w="2389320"/>
                <a:gridCol w="266688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/12/200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/01/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ocus group discussions with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d moderato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articipation: Ac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d Inten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360" y="1066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Volunteering</a:t>
            </a:r>
            <a:br>
              <a:rPr sz="32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=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743200"/>
          <a:ext cx="7924680" cy="2895480"/>
        </p:xfrm>
        <a:graphic>
          <a:graphicData uri="http://schemas.openxmlformats.org/drawingml/2006/table">
            <a:tbl>
              <a:tblPr/>
              <a:tblGrid>
                <a:gridCol w="914040"/>
                <a:gridCol w="2667240"/>
                <a:gridCol w="1828800"/>
                <a:gridCol w="2514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Organized Volunteering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Mutual Aid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EITHER Organized Volunteering or Mutual Ai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Last Participation in Volunteering</a:t>
            </a:r>
            <a:r>
              <a:rPr b="1" lang="en-US" sz="28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1640" y="692280"/>
          <a:ext cx="724536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692280"/>
                    <a:ext cx="72453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1847880"/>
          <a:ext cx="8686800" cy="50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47880"/>
                    <a:ext cx="86868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981080"/>
            <a:ext cx="3733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348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648320"/>
            <a:ext cx="37339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859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chan</cp:lastModifiedBy>
  <cp:lastPrinted>2001-04-04T10:00:24Z</cp:lastPrinted>
  <dcterms:modified xsi:type="dcterms:W3CDTF">2003-04-09T02:13:04Z</dcterms:modified>
  <cp:revision>616</cp:revision>
  <dc:subject/>
  <dc:title>無投影片標題</dc:title>
</cp:coreProperties>
</file>