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80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6B77CDD-7B0E-4546-9B6A-1AAE177E0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C716B0-E785-417D-801A-268F19054A2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7415FF-AFEA-45FF-BE8D-CC48C7EFF8D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A2.31 Q 32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lease rate your general impression of HKHA using a scale ranging from 0 to 100, 0 indicating extremely bad, while 100 indicating extremely good. How many marks would you give HKH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48B4AB-859E-4AE6-93E7-D03581A01FD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e A2.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29.  Do you think the staff of public hospitals under HKHA concerns about patient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AC428E-3D83-4EDD-BEE7-BAAD86B2090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A2.25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26. Do you think HKHA is willing to accept public opinio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49F27B6-C7FD-4F67-A5AA-AE57EFADB85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953B0B-7F5E-4C7D-B2F1-E3D88E709AE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78D280-EB45-4371-8279-7CEF8A25479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8B4C36-ECD1-42F7-9706-B4BEFD8B5A1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5596AA-B6C2-46F2-8E06-E91D8D8EF31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3CDD42-01B8-4023-A6E1-DF02AE79E40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A5EC9A-3341-48F2-BA2C-A9F2E470703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23CD04-7FA8-4E6E-BA77-D227F823B8E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D9601B-804B-4148-B91E-79AC4CBBC52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9869E78-873A-458A-9725-694151587F1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246487-4EC4-4190-87BD-98039982D8A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57184A-2D54-4700-9A43-55C27E36E9B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FA0135-DA1E-4131-928D-64C9EC9CA53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C18EB1-83BC-4EC7-9DF1-B37537BF8E9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9480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6D3068-60A8-49E4-AE49-6700159BEFE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738320"/>
            <a:ext cx="502920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A2.1 Q 1On the whole, how satisfied are you with the medical services currently provided in Hong Ko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019-AD99-4D95-934A-B4E4BADE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185-DB36-4A9B-A1FA-CE6E1A38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0C9-853C-4926-9B7E-76B4F847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C03-09C9-4CB3-A8C1-F08EE10E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1BB-05D9-470C-BBBC-FD17A5BC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96B-EC5E-4680-B1B7-713072AA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013-8107-4D81-8126-FB79C538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B86-EA52-41CB-B1E1-EE4576F2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814-3BA2-41D7-83D6-2D9ED332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E2C-0C7F-42A2-95CF-7C5ED7D8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817-E09B-4F13-A400-95A137C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789-D11C-4F11-A8BA-BAB0D85F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500"/>
            </a:gs>
            <a:gs pos="50000">
              <a:srgbClr val="006600"/>
            </a:gs>
            <a:gs pos="100000">
              <a:srgbClr val="002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E0D5-4D91-4FAC-B340-839172819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68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Between Public and Expert Opinions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民眾意見</a:t>
            </a:r>
            <a:r>
              <a:rPr b="1" i="1" lang="en-US" sz="3400" spc="-1" strike="noStrike">
                <a:solidFill>
                  <a:srgbClr val="ffffcc"/>
                </a:solidFill>
                <a:latin typeface="Times New Roman"/>
              </a:rPr>
              <a:t>與專業判斷</a:t>
            </a:r>
            <a:endParaRPr b="0" lang="en-US" sz="3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90920" y="5400720"/>
            <a:ext cx="434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55640" y="51166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22 / 3 / 201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3489480" y="1096920"/>
            <a:ext cx="4647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Object 11"/>
          <p:cNvGraphicFramePr/>
          <p:nvPr/>
        </p:nvGraphicFramePr>
        <p:xfrm>
          <a:off x="1660680" y="86832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86832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lease rate your general impression of HKHA </a:t>
            </a: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using a scale ranging from 0 to 100</a:t>
            </a:r>
            <a:br>
              <a:rPr sz="24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ll respondents: 1,174 in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2" name="Object 5" descr=""/>
          <p:cNvPicPr/>
          <p:nvPr/>
        </p:nvPicPr>
        <p:blipFill>
          <a:blip r:embed="rId1"/>
          <a:stretch/>
        </p:blipFill>
        <p:spPr>
          <a:xfrm>
            <a:off x="-11160" y="1873080"/>
            <a:ext cx="8774280" cy="490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Do you think the staff of public hospitals under</a:t>
            </a:r>
            <a:br>
              <a:rPr sz="2600"/>
            </a:br>
            <a:r>
              <a:rPr b="1" lang="en-US" sz="26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HKHA concerns about patients?</a:t>
            </a:r>
            <a:br>
              <a:rPr sz="26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ll respondents: 1,173 in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5" name="Object 4" descr=""/>
          <p:cNvPicPr/>
          <p:nvPr/>
        </p:nvPicPr>
        <p:blipFill>
          <a:blip r:embed="rId1"/>
          <a:stretch/>
        </p:blipFill>
        <p:spPr>
          <a:xfrm>
            <a:off x="0" y="1828800"/>
            <a:ext cx="8726400" cy="474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Do you think HKHA is willing to accept public opinion?</a:t>
            </a:r>
            <a:br>
              <a:rPr sz="26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ll respondents: 1,172 in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8" name="Object 4" descr=""/>
          <p:cNvPicPr/>
          <p:nvPr/>
        </p:nvPicPr>
        <p:blipFill>
          <a:blip r:embed="rId1"/>
          <a:stretch/>
        </p:blipFill>
        <p:spPr>
          <a:xfrm>
            <a:off x="0" y="1633680"/>
            <a:ext cx="8839080" cy="522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Health Related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Survey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me Health Related Surveys by POP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Rectangle 2052"/>
          <p:cNvSpPr/>
          <p:nvPr/>
        </p:nvSpPr>
        <p:spPr>
          <a:xfrm>
            <a:off x="914400" y="1413000"/>
            <a:ext cx="7543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Line 2053"/>
          <p:cNvSpPr/>
          <p:nvPr/>
        </p:nvSpPr>
        <p:spPr>
          <a:xfrm>
            <a:off x="685800" y="1197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55640" y="1413000"/>
          <a:ext cx="7488360" cy="4835520"/>
        </p:xfrm>
        <a:graphic>
          <a:graphicData uri="http://schemas.openxmlformats.org/drawingml/2006/table">
            <a:tbl>
              <a:tblPr/>
              <a:tblGrid>
                <a:gridCol w="1069920"/>
                <a:gridCol w="6418440"/>
              </a:tblGrid>
              <a:tr h="8222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Hong Kong Citizens’ attitude towards and awareness of influenza vaccination 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pinion Survey on HK Citizens’ Sleep Disturbance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Promotion of Public Private Interface - Electronic Patient Record (PPI-ePR), Health Care Voucher Scheme (HCVS) and Elderly Vaccination Subsidy Scheme (EVSS) at HA SOPC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Hepatitis B and Liver Canc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Type 2 Diabetes Patients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 – 12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Smoking and Health of Hong Kong Wom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Public Awareness of the Safety Limits of Alcohol Consumption and Alcoholic Liver 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breastfeeding and infant feed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481040"/>
          <a:ext cx="7620120" cy="4792680"/>
        </p:xfrm>
        <a:graphic>
          <a:graphicData uri="http://schemas.openxmlformats.org/drawingml/2006/table">
            <a:tbl>
              <a:tblPr/>
              <a:tblGrid>
                <a:gridCol w="1015920"/>
                <a:gridCol w="6604200"/>
              </a:tblGrid>
              <a:tr h="4874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Cancer and Targeted Therap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Evaluation Study on Enhancing Communication Strategies with the Implementation of Recommendations for the “eHR” 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Public Preparedness and Responses to Influenza A (H1N1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09 – now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valuation Survey on the Effectiveness of Love Teeth Campaign (annual survey with 2 rounds per year) 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f Public Attitudes towards Psychosis in Hong Ko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e5e5"/>
                          </a:solidFill>
                          <a:latin typeface="Times New Roman"/>
                        </a:rPr>
                        <a:t>Survey Service for Health Risk Assessment of HA staff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06 – now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urvey on Work Life Balance of the Hong Kong Working Population (annual survey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29520" marR="2952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me Health Related Surveys by POP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" name="Line 2053"/>
          <p:cNvSpPr/>
          <p:nvPr/>
        </p:nvSpPr>
        <p:spPr>
          <a:xfrm>
            <a:off x="685800" y="1197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General Observ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533520" y="47628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Nature of Public Opinion  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民意的特性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187280" y="1916280"/>
            <a:ext cx="68900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is volati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Instant polls describe instant reaction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racking polls map long term chang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public may be uneduca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Engagement brings opinion chang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Quality deliberation brings quality opin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is shaped by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leaders should be properly brief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surveys should be carefully rea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762120" y="15573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53352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Times New Roman"/>
              </a:rPr>
              <a:t>Legitimation of Expert Opin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Times New Roman"/>
              </a:rPr>
              <a:t>專業判斷合理化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187280" y="1916280"/>
            <a:ext cx="68900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Expert opinion needs to be understoo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by opinion lead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by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by the stakehold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by the publi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Expert opinion needs to be deba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among expe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before the publi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Expert judgment needs to be trus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762120" y="155736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533520" y="54936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Times New Roman"/>
              </a:rPr>
              <a:t>Expert vs Public  </a:t>
            </a:r>
            <a:r>
              <a:rPr b="1" lang="en-US" sz="3000" spc="-1" strike="noStrike">
                <a:solidFill>
                  <a:srgbClr val="ffff99"/>
                </a:solidFill>
                <a:latin typeface="Times New Roman"/>
              </a:rPr>
              <a:t>專業與民眾之間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4360" y="1557360"/>
            <a:ext cx="7920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takeholder interest needs to be consider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customer satisfaction – hospital users, clinic patients, family members, patient groups, potential users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staff morale – communication and grievan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ehicles for engage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e-platforms, mobile applic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focus groups, public forums, deliberative forums, deliberative pol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Mechanisms for legiti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public and stakeholder opinion survey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civil referendu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773280" y="12682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Outline of Sharing 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分享大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066680" y="2133720"/>
            <a:ext cx="70106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ree exampl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ird POP survey on the Budget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HKHA corporate image survey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Some health related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Nature of public opin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Legitimation of expert opin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lling the ga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 and 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Q &amp; 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533520" y="549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ird POP survey on the Budge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港大民研第三次財政預算案調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236600" y="5732640"/>
            <a:ext cx="6889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outh China Morning Post  22/3/201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743280" cy="35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533520" y="549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ird POP survey on the Budge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港大民研第三次財政預算案調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36600" y="5732640"/>
            <a:ext cx="6889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Ming Pao 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明報 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22/3/201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127320" y="2017800"/>
            <a:ext cx="3110040" cy="351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533520" y="549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ird POP survey on the Budge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港大民研第三次財政預算案調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685800" y="184464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042920" y="2276640"/>
            <a:ext cx="7263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CMP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：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sang’s budget gets 50 out of 1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明報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： 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預算案評分微升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經濟日報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： 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預算案滿意度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50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分剛合格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文匯報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：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預算案滿意度升至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50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分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星島日報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：《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預算案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》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評分微升至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50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分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信報：反駁財爺福利負擔論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內文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5796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whole story…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公報全文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68360" y="1569960"/>
            <a:ext cx="8323200" cy="468144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>
            <a:off x="468360" y="1268280"/>
            <a:ext cx="83232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HKHA Corporate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Times New Roman"/>
                <a:ea typeface="細明體"/>
              </a:rPr>
              <a:t>Image Survey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HKHA Annual Corporate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age Surveys (1995-2002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Rectangle 2052"/>
          <p:cNvSpPr/>
          <p:nvPr/>
        </p:nvSpPr>
        <p:spPr>
          <a:xfrm>
            <a:off x="914400" y="2133720"/>
            <a:ext cx="75438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uring June 1995 – July 2002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8 annual surveys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n HK people’s impression of HKHA’s services and image were conducted independently by HKUPO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Over 1,000 local citizens aged 18 or above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re successfully interviewed by telephone each time, including both HA users and non-user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mall ad ho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urvey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re also conducted on irregular basis, covering topical issues like medical insurance, A&amp;E service charges, Patients’ Charter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Line 2053"/>
          <p:cNvSpPr/>
          <p:nvPr/>
        </p:nvSpPr>
        <p:spPr>
          <a:xfrm>
            <a:off x="685800" y="1916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 the whole, how satisfied are you with the medical</a:t>
            </a:r>
            <a:br>
              <a:rPr sz="24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ervices currently provided in Hong Kong?</a:t>
            </a:r>
            <a:br>
              <a:rPr sz="28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All respondents: 1,174 in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9" name="Object 5" descr=""/>
          <p:cNvPicPr/>
          <p:nvPr/>
        </p:nvPicPr>
        <p:blipFill>
          <a:blip r:embed="rId1"/>
          <a:stretch/>
        </p:blipFill>
        <p:spPr>
          <a:xfrm>
            <a:off x="19080" y="1600200"/>
            <a:ext cx="8763120" cy="491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Robert Chung</cp:lastModifiedBy>
  <cp:lastPrinted>2001-04-04T10:00:24Z</cp:lastPrinted>
  <dcterms:modified xsi:type="dcterms:W3CDTF">2013-03-22T06:47:02Z</dcterms:modified>
  <cp:revision>772</cp:revision>
  <dc:subject/>
  <dc:title>無投影片標題</dc:title>
</cp:coreProperties>
</file>