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280E1D-078E-473F-87B3-5021E34460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920922-9113-4B79-B0B6-0F8BD0CC7F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6F93CC7-72ED-4874-842D-19A97BCAF5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AD4B4C-8872-459B-B17D-1CBAB75CF3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9E863CD-2ED3-499C-880C-06A1B61E7C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9CEF14-F055-4465-9CC1-28800A22B3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98121F-BA55-462A-A835-E761F39B62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BC061B4-683D-4CF7-ADA5-9F7135D369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877179-3F0B-4790-829F-7E2CF050E6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B7A99A1-0D5D-46B3-B231-7BA6401C5F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037AE5-098D-4244-9940-671C8BCAC0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AB49EB9-BC34-443C-B07C-A7D8877E21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2E39B0C-B99F-4164-ACC4-94AF8DC9A6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18E85E9-6AD2-403B-907F-FF7957C34C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218181-E8FB-4404-9758-952F6B2AB0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28473D9-ACB2-4F06-897D-87C6FB96BD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DC0E9C-C219-4479-BD4B-CF9A6057FC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1F0B137-A883-4A01-89AC-124EF53C60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5D1DAF-A3F2-40E3-A2D5-4BFB5F3DE8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9E911DA-D202-4A6F-A1D7-2A25835FED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77257E-47C7-4BA6-A923-8C32E8D696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D5AC90B-FD5C-44C6-82B1-CD36C48570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7B9AF0-E352-4229-B2F3-B2BFCCC210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B019C7D-AC79-4E3A-A015-8529A06F4C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F6AC09B-EE1A-49CF-8894-288C81E32D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410E21A-13BC-413C-9F2D-01673F729D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748B093-DD62-4B26-ACE6-232779C2B9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0F72F4A-1C5A-4FF0-B8EC-C6653D2FEE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080A-BC90-4F52-A513-E01E4E71C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F0D3-15BB-44CC-B091-63316184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CA4B-4E3E-4FCD-8F27-3C69804D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EAFD-7682-4A8F-9515-75D2698A8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78E4-0413-4036-A8A3-C807289CE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992B-BE03-404E-B357-F305E229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E5FA-D242-4F3D-A62B-00776A97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F639-C48B-45F1-A196-C7B3B8B3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8117-06B4-4B45-A051-1D99B481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11C0-130A-4451-894B-F7776CB1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4410-C5B4-4923-A77C-57382457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FC23-489D-460A-9E3F-7CE7C077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B361-D4C4-4C38-9FA7-EBAAE981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D6CE-B533-4162-9AD6-FF0C8F44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D818-A2BE-4192-B829-9BC57553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88AB-4594-49BE-916B-9D9A5F57B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2460-70CF-425C-9538-BCD837C14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1447-899B-43F7-A0AE-5B62B95E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AE6E-2043-4028-80CD-F70E36ED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02B9-CF2C-4FA8-B055-E7F86EBA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0D97-6D1E-4E56-8BB7-3890A87B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1E56-5D4E-4F86-80DA-A96B2D17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480D-97A8-4119-AF9D-C8F3858F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80A8-39BD-4681-80DE-33A51004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FE4D-1FBE-40CC-A195-F9661394053A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2B45-28AA-4CAE-A435-866FD6B326C3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120928/index.html#mediaReport" TargetMode="External"/><Relationship Id="rId2" Type="http://schemas.openxmlformats.org/officeDocument/2006/relationships/hyperlink" Target="http://hkupop.hku.hk/english/resources/workshops/20120928/index.html#mediaRepor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120928/resources/3_press_release_2012aug29.pdf" TargetMode="External"/><Relationship Id="rId2" Type="http://schemas.openxmlformats.org/officeDocument/2006/relationships/hyperlink" Target="http://hkupop.hku.hk/english/resources/workshops/20120928/resources/3_press_release_2012aug29.pdf" TargetMode="External"/><Relationship Id="rId3" Type="http://schemas.openxmlformats.org/officeDocument/2006/relationships/hyperlink" Target="http://hkupop.hku.hk/english/resources/workshops/20120928/resources/4_introduction_script.pdf" TargetMode="External"/><Relationship Id="rId4" Type="http://schemas.openxmlformats.org/officeDocument/2006/relationships/hyperlink" Target="http://hkupop.hku.hk/english/resources/workshops/20120928/resources/5_exit_poll_charter.pdf" TargetMode="External"/><Relationship Id="rId5" Type="http://schemas.openxmlformats.org/officeDocument/2006/relationships/hyperlink" Target="http://hkupop.hku.hk/english/resources/workshops/20120928/resources/5_exit_poll_charter.pdf" TargetMode="External"/><Relationship Id="rId6" Type="http://schemas.openxmlformats.org/officeDocument/2006/relationships/hyperlink" Target="http://hkupop.hku.hk/english/resources/workshops/20120928/resources/6_media_digest.pdf" TargetMode="External"/><Relationship Id="rId7" Type="http://schemas.openxmlformats.org/officeDocument/2006/relationships/hyperlink" Target="http://hkupop.hku.hk/english/resources/workshops/20120928/resources/6_media_digest.pdf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120928/resources/7_press_release_2012sep07.pdf" TargetMode="External"/><Relationship Id="rId2" Type="http://schemas.openxmlformats.org/officeDocument/2006/relationships/hyperlink" Target="http://hkupop.hku.hk/english/resources/workshops/20120928/resources/7_press_release_2012sep07.pdf" TargetMode="External"/><Relationship Id="rId3" Type="http://schemas.openxmlformats.org/officeDocument/2006/relationships/hyperlink" Target="http://hkupop.hku.hk/english/resources/workshops/20120928/resources/8_article_MP_word_version.pdf" TargetMode="External"/><Relationship Id="rId4" Type="http://schemas.openxmlformats.org/officeDocument/2006/relationships/hyperlink" Target="http://hkupop.hku.hk/english/resources/workshops/20120928/resources/8_article_MP_word_version.pdf" TargetMode="External"/><Relationship Id="rId5" Type="http://schemas.openxmlformats.org/officeDocument/2006/relationships/hyperlink" Target="http://hkupop.hku.hk/english/resources/workshops/20120928/resources/9_article_MP_print_version.jpg" TargetMode="External"/><Relationship Id="rId6" Type="http://schemas.openxmlformats.org/officeDocument/2006/relationships/hyperlink" Target="http://hkupop.hku.hk/english/resources/workshops/20120928/resources/9_article_MP_print_version.jpg" TargetMode="External"/><Relationship Id="rId7" Type="http://schemas.openxmlformats.org/officeDocument/2006/relationships/hyperlink" Target="http://hkupop.hku.hk/english/resources/workshops/20120928/resources/10_list_of_105_poll_stations.xlsx" TargetMode="External"/><Relationship Id="rId8" Type="http://schemas.openxmlformats.org/officeDocument/2006/relationships/hyperlink" Target="http://hkupop.hku.hk/english/resources/workshops/20120928/resources/10_list_of_105_poll_stations.xlsx" TargetMode="External"/><Relationship Id="rId9" Type="http://schemas.openxmlformats.org/officeDocument/2006/relationships/hyperlink" Target="http://hkupop.hku.hk/english/resources/workshops/20120928/resources/11_Charters_signed.pdf" TargetMode="External"/><Relationship Id="rId10" Type="http://schemas.openxmlformats.org/officeDocument/2006/relationships/hyperlink" Target="http://hkupop.hku.hk/english/resources/workshops/20120928/resources/12_interviewers_pledge.pdf" TargetMode="External"/><Relationship Id="rId11" Type="http://schemas.openxmlformats.org/officeDocument/2006/relationships/hyperlink" Target="http://hkupop.hku.hk/english/resources/workshops/20120928/resources/12_interviewers_pledge.pdf" TargetMode="External"/><Relationship Id="rId12" Type="http://schemas.openxmlformats.org/officeDocument/2006/relationships/hyperlink" Target="http://hkupop.hku.hk/english/resources/workshops/20120928/resources/13_booklet_cover.jpg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052"/>
          <p:cNvSpPr/>
          <p:nvPr/>
        </p:nvSpPr>
        <p:spPr>
          <a:xfrm>
            <a:off x="1116000" y="765000"/>
            <a:ext cx="7128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ty College of City University of Hong Ko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on of Social Scienc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Lectu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2895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e Challenge of Exit Po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2057"/>
          <p:cNvSpPr/>
          <p:nvPr/>
        </p:nvSpPr>
        <p:spPr>
          <a:xfrm>
            <a:off x="1116000" y="4581360"/>
            <a:ext cx="71280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ert Chu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 of Public Opinion Programme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versity of Hong Ko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 September 201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058"/>
          <p:cNvSpPr/>
          <p:nvPr/>
        </p:nvSpPr>
        <p:spPr>
          <a:xfrm>
            <a:off x="1143000" y="2781360"/>
            <a:ext cx="7086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059"/>
          <p:cNvSpPr/>
          <p:nvPr/>
        </p:nvSpPr>
        <p:spPr>
          <a:xfrm>
            <a:off x="1143000" y="4149720"/>
            <a:ext cx="7086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6327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Operational detail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Rectangle 6" descr=""/>
          <p:cNvPicPr/>
          <p:nvPr/>
        </p:nvPicPr>
        <p:blipFill>
          <a:blip r:embed="rId1"/>
          <a:stretch/>
        </p:blipFill>
        <p:spPr>
          <a:xfrm>
            <a:off x="669960" y="1762200"/>
            <a:ext cx="7931160" cy="4565520"/>
          </a:xfrm>
          <a:prstGeom prst="rect">
            <a:avLst/>
          </a:prstGeom>
          <a:ln w="0">
            <a:noFill/>
          </a:ln>
        </p:spPr>
      </p:pic>
      <p:sp>
        <p:nvSpPr>
          <p:cNvPr id="134" name="Line 4"/>
          <p:cNvSpPr/>
          <p:nvPr/>
        </p:nvSpPr>
        <p:spPr>
          <a:xfrm>
            <a:off x="762120" y="1484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5B14-4427-417B-81F0-A0BFFB2693D8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6327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Key questions in the questionnaire 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55640" y="1628640"/>
            <a:ext cx="756144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buClr>
                <a:srgbClr val="800080"/>
              </a:buClr>
              <a:buSzPct val="75000"/>
              <a:buFont typeface="Arial"/>
              <a:buChar char="•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vote tod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buClr>
                <a:srgbClr val="800080"/>
              </a:buClr>
              <a:buSzPct val="75000"/>
              <a:buFont typeface="Arial"/>
              <a:buChar char="•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candidate did you chose in you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graphical constitu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buClr>
                <a:srgbClr val="800080"/>
              </a:buClr>
              <a:buSzPct val="75000"/>
              <a:buFont typeface="Arial"/>
              <a:buChar char="•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you make your decision mainly out of your support for certain candidates, political parties, the combination of candidates on a list, or split voting strateg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buClr>
                <a:srgbClr val="800080"/>
              </a:buClr>
              <a:buSzPct val="75000"/>
              <a:buFont typeface="Arial"/>
              <a:buChar char="•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 what channels did you get to know the candidat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buClr>
                <a:srgbClr val="800080"/>
              </a:buClr>
              <a:buSzPct val="75000"/>
              <a:buFont typeface="Arial"/>
              <a:buChar char="•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did you make up your mind to vote for this/these candidate(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buClr>
                <a:srgbClr val="800080"/>
              </a:buClr>
              <a:buSzPct val="75000"/>
              <a:buFont typeface="Arial"/>
              <a:buChar char="•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id you vote in the geographical constituency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8 LC el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buClr>
                <a:srgbClr val="800080"/>
              </a:buClr>
              <a:buSzPct val="75000"/>
              <a:buFont typeface="Arial"/>
              <a:buChar char="•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id you vote today in the 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 District Counc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el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buClr>
                <a:srgbClr val="800080"/>
              </a:buClr>
              <a:buSzPct val="75000"/>
              <a:buFont typeface="Arial"/>
              <a:buChar char="•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buClr>
                <a:srgbClr val="800080"/>
              </a:buClr>
              <a:buSzPct val="75000"/>
              <a:buFont typeface="Arial"/>
              <a:buChar char="•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Background information: Gender, age, educatio, occupation, e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762120" y="1484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FA0E-5E0B-45D5-BC58-BF71213AE4F4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539640" y="6308640"/>
            <a:ext cx="46800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Link to real questionnaire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(link #14)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6327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Newspaper report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62120" y="6021360"/>
            <a:ext cx="784224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ea typeface="標楷體"/>
              </a:rPr>
              <a:t>Link to newspaper clippings</a:t>
            </a:r>
            <a:r>
              <a:rPr b="0" i="1" lang="en-US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 (link #1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762120" y="1484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88FE-77F6-434C-8426-658F0F93C9B6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O:\share\LC\LC2012\Exit Poll\20120928_CityU_talk\materials\Others\LC_2a_20120910_SCMP_Super seats boost voter turnout.jpg"/>
          <p:cNvPicPr/>
          <p:nvPr/>
        </p:nvPicPr>
        <p:blipFill>
          <a:blip r:embed="rId1"/>
          <a:stretch/>
        </p:blipFill>
        <p:spPr>
          <a:xfrm>
            <a:off x="1116000" y="1628640"/>
            <a:ext cx="64022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33000" y="446040"/>
            <a:ext cx="85345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Accuracy of Prediction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leased at 10:30 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828720" y="1484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42840" y="1700280"/>
          <a:ext cx="7429680" cy="4537080"/>
        </p:xfrm>
        <a:graphic>
          <a:graphicData uri="http://schemas.openxmlformats.org/drawingml/2006/table">
            <a:tbl>
              <a:tblPr/>
              <a:tblGrid>
                <a:gridCol w="1757520"/>
                <a:gridCol w="1440000"/>
                <a:gridCol w="1295280"/>
                <a:gridCol w="1297080"/>
                <a:gridCol w="1639800"/>
              </a:tblGrid>
              <a:tr h="558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 od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er chanc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qual chanc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nc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1872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K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/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3/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/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n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5/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nW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/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/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/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3/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TW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8/1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 D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/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2/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4316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al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f497d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9/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/1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21/3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5/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0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f497d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0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f497d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60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f497d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0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f497d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sp>
        <p:nvSpPr>
          <p:cNvPr id="14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49B9-ABDD-4BB6-97DE-75A7E418A5ED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539640" y="6308640"/>
            <a:ext cx="38880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Link to online data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(link #16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33000" y="446040"/>
            <a:ext cx="85345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Accuracy of Prediction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leased at 11:30 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828720" y="1484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42840" y="1700280"/>
          <a:ext cx="7429680" cy="4537080"/>
        </p:xfrm>
        <a:graphic>
          <a:graphicData uri="http://schemas.openxmlformats.org/drawingml/2006/table">
            <a:tbl>
              <a:tblPr/>
              <a:tblGrid>
                <a:gridCol w="1757520"/>
                <a:gridCol w="1440000"/>
                <a:gridCol w="1295280"/>
                <a:gridCol w="1297080"/>
                <a:gridCol w="1639800"/>
              </a:tblGrid>
              <a:tr h="558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 od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er chanc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qual chanc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nc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1872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K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n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nW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/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/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TW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/1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 D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/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4316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al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f497d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/1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/1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/2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f497d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5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f497d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f497d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f497d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sp>
        <p:nvSpPr>
          <p:cNvPr id="15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AA16-9CEF-4626-A47E-305847A8948E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539640" y="6308640"/>
            <a:ext cx="40608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Link to online data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(link #17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3000" y="446040"/>
            <a:ext cx="85345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Accuracy of Prediction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leased at 1:00 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Line 3"/>
          <p:cNvSpPr/>
          <p:nvPr/>
        </p:nvSpPr>
        <p:spPr>
          <a:xfrm>
            <a:off x="828720" y="1484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42840" y="1700280"/>
          <a:ext cx="7429680" cy="4537080"/>
        </p:xfrm>
        <a:graphic>
          <a:graphicData uri="http://schemas.openxmlformats.org/drawingml/2006/table">
            <a:tbl>
              <a:tblPr/>
              <a:tblGrid>
                <a:gridCol w="1757520"/>
                <a:gridCol w="1440000"/>
                <a:gridCol w="1295280"/>
                <a:gridCol w="1297080"/>
                <a:gridCol w="1639800"/>
              </a:tblGrid>
              <a:tr h="558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 od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er chanc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qual chanc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nc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1872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K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/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1/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2/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n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2/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2/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nW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/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/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/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2/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TW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/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7/1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 D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5/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4316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al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f497d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0/2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7/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13/2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/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0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f497d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7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f497d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5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f497d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0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f497d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sp>
        <p:nvSpPr>
          <p:cNvPr id="15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A5E2-0052-44FF-8CBF-CA4351EC51BB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539640" y="6308640"/>
            <a:ext cx="48243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Link to online data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(link #18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33000" y="446040"/>
            <a:ext cx="85345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Accuracy of Prediction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leased at 5:00 am</a:t>
            </a:r>
            <a:br>
              <a:rPr sz="2800"/>
            </a:b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標楷體"/>
              </a:rPr>
              <a:t>(based on exit poll and early vote count result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Line 3"/>
          <p:cNvSpPr/>
          <p:nvPr/>
        </p:nvSpPr>
        <p:spPr>
          <a:xfrm>
            <a:off x="828720" y="1484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942840" y="1700280"/>
          <a:ext cx="7589880" cy="4537080"/>
        </p:xfrm>
        <a:graphic>
          <a:graphicData uri="http://schemas.openxmlformats.org/drawingml/2006/table">
            <a:tbl>
              <a:tblPr/>
              <a:tblGrid>
                <a:gridCol w="1471680"/>
                <a:gridCol w="1206720"/>
                <a:gridCol w="1206360"/>
                <a:gridCol w="1085760"/>
                <a:gridCol w="1085760"/>
                <a:gridCol w="1533600"/>
              </a:tblGrid>
              <a:tr h="558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ul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 od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er chanc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qual chanc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nc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1872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K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/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/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n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/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2/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nW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/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6/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/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/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TW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/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/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/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3/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 D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5/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/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4316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al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872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f497d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/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3/2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7/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7/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/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0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f497d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0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f497d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0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f497d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7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f497d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0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f497d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sp>
        <p:nvSpPr>
          <p:cNvPr id="16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7DFD-6AFB-47AA-AF4E-77644B7A2DED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539640" y="6308640"/>
            <a:ext cx="28083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Link to online data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(link #19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3000" y="446040"/>
            <a:ext cx="85345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Accuracy of Predictions for HKI GC</a:t>
            </a:r>
            <a:br>
              <a:rPr sz="2800"/>
            </a:b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標楷體"/>
              </a:rPr>
              <a:t>(based on exit poll and early vote count result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828720" y="1484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5281-9648-4F3B-8E70-634741148E02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Chart 7" descr=""/>
          <p:cNvPicPr/>
          <p:nvPr/>
        </p:nvPicPr>
        <p:blipFill>
          <a:blip r:embed="rId1"/>
          <a:stretch/>
        </p:blipFill>
        <p:spPr>
          <a:xfrm>
            <a:off x="706320" y="1542960"/>
            <a:ext cx="7791480" cy="49132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"/>
          <p:cNvSpPr/>
          <p:nvPr/>
        </p:nvSpPr>
        <p:spPr>
          <a:xfrm>
            <a:off x="539640" y="6308640"/>
            <a:ext cx="28083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* red portion = mis-predic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33000" y="446040"/>
            <a:ext cx="85345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Accuracy of Predictions for KlnE GC</a:t>
            </a:r>
            <a:br>
              <a:rPr sz="2800"/>
            </a:b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標楷體"/>
              </a:rPr>
              <a:t>(based on exit poll and early vote count result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Line 3"/>
          <p:cNvSpPr/>
          <p:nvPr/>
        </p:nvSpPr>
        <p:spPr>
          <a:xfrm>
            <a:off x="828720" y="1484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CDB5-1799-4589-9526-D1296296316B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Chart 5" descr=""/>
          <p:cNvPicPr/>
          <p:nvPr/>
        </p:nvPicPr>
        <p:blipFill>
          <a:blip r:embed="rId1"/>
          <a:stretch/>
        </p:blipFill>
        <p:spPr>
          <a:xfrm>
            <a:off x="596880" y="1627200"/>
            <a:ext cx="8010720" cy="4767120"/>
          </a:xfrm>
          <a:prstGeom prst="rect">
            <a:avLst/>
          </a:prstGeom>
          <a:ln w="0">
            <a:noFill/>
          </a:ln>
        </p:spPr>
      </p:pic>
      <p:sp>
        <p:nvSpPr>
          <p:cNvPr id="175" name="TextBox 2"/>
          <p:cNvSpPr/>
          <p:nvPr/>
        </p:nvSpPr>
        <p:spPr>
          <a:xfrm>
            <a:off x="539640" y="6308640"/>
            <a:ext cx="28083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* red portion = mis-predic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33000" y="446040"/>
            <a:ext cx="85345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Accuracy of Predictions for KlnW GC</a:t>
            </a:r>
            <a:br>
              <a:rPr sz="2800"/>
            </a:b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標楷體"/>
              </a:rPr>
              <a:t>(based on exit poll and early vote count result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828720" y="1484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9C28-114E-40F7-91FD-9C97BF938C1E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Chart 6" descr=""/>
          <p:cNvPicPr/>
          <p:nvPr/>
        </p:nvPicPr>
        <p:blipFill>
          <a:blip r:embed="rId1"/>
          <a:stretch/>
        </p:blipFill>
        <p:spPr>
          <a:xfrm>
            <a:off x="487440" y="1627200"/>
            <a:ext cx="8223120" cy="4829040"/>
          </a:xfrm>
          <a:prstGeom prst="rect">
            <a:avLst/>
          </a:prstGeom>
          <a:ln w="0">
            <a:noFill/>
          </a:ln>
        </p:spPr>
      </p:pic>
      <p:sp>
        <p:nvSpPr>
          <p:cNvPr id="180" name="TextBox 2"/>
          <p:cNvSpPr/>
          <p:nvPr/>
        </p:nvSpPr>
        <p:spPr>
          <a:xfrm>
            <a:off x="539640" y="6308640"/>
            <a:ext cx="28083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* red portion = mis-predic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7640" y="549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e story begin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835280" y="2060640"/>
            <a:ext cx="612144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268200">
              <a:lnSpc>
                <a:spcPct val="120000"/>
              </a:lnSpc>
              <a:buClr>
                <a:srgbClr val="800080"/>
              </a:buClr>
              <a:buSzPct val="75000"/>
              <a:buFont typeface="Arial"/>
              <a:buChar char="•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Times New Roman"/>
                <a:ea typeface="標楷體"/>
                <a:hlinkClick r:id="rId1"/>
              </a:rPr>
              <a:t>Cable TV news report at 10:30 pm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(link #1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268200">
              <a:lnSpc>
                <a:spcPct val="120000"/>
              </a:lnSpc>
              <a:buClr>
                <a:srgbClr val="800080"/>
              </a:buClr>
              <a:buSzPct val="75000"/>
              <a:buFont typeface="Arial"/>
              <a:buChar char="•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Times New Roman"/>
                <a:ea typeface="標楷體"/>
                <a:hlinkClick r:id="rId2"/>
              </a:rPr>
              <a:t>NowTV news report at 10:30 pm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(link #2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ine 4"/>
          <p:cNvSpPr/>
          <p:nvPr/>
        </p:nvSpPr>
        <p:spPr>
          <a:xfrm>
            <a:off x="762120" y="1484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957E-F060-42FF-BA29-AF7AEF7D6842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33000" y="446040"/>
            <a:ext cx="85345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Accuracy of Predictions for NTE GC</a:t>
            </a:r>
            <a:br>
              <a:rPr sz="2800"/>
            </a:b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標楷體"/>
              </a:rPr>
              <a:t>(based on exit poll and early vote count result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Line 3"/>
          <p:cNvSpPr/>
          <p:nvPr/>
        </p:nvSpPr>
        <p:spPr>
          <a:xfrm>
            <a:off x="828720" y="1484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F222-D852-4D90-B93A-EDFCE61B6E54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Chart 6" descr=""/>
          <p:cNvPicPr/>
          <p:nvPr/>
        </p:nvPicPr>
        <p:blipFill>
          <a:blip r:embed="rId1"/>
          <a:stretch/>
        </p:blipFill>
        <p:spPr>
          <a:xfrm>
            <a:off x="469800" y="1627200"/>
            <a:ext cx="8369280" cy="4968720"/>
          </a:xfrm>
          <a:prstGeom prst="rect">
            <a:avLst/>
          </a:prstGeom>
          <a:ln w="0">
            <a:noFill/>
          </a:ln>
        </p:spPr>
      </p:pic>
      <p:sp>
        <p:nvSpPr>
          <p:cNvPr id="185" name="TextBox 2"/>
          <p:cNvSpPr/>
          <p:nvPr/>
        </p:nvSpPr>
        <p:spPr>
          <a:xfrm>
            <a:off x="539640" y="6373800"/>
            <a:ext cx="28083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* red portion = mis-predic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33000" y="446040"/>
            <a:ext cx="85345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Accuracy of Predictions for NTW GC</a:t>
            </a:r>
            <a:br>
              <a:rPr sz="2800"/>
            </a:b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標楷體"/>
              </a:rPr>
              <a:t>(based on exit poll and early vote count result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Line 3"/>
          <p:cNvSpPr/>
          <p:nvPr/>
        </p:nvSpPr>
        <p:spPr>
          <a:xfrm>
            <a:off x="828720" y="1484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A479-F048-4BC0-9127-65A413CE3F71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Chart 5" descr=""/>
          <p:cNvPicPr/>
          <p:nvPr/>
        </p:nvPicPr>
        <p:blipFill>
          <a:blip r:embed="rId1"/>
          <a:stretch/>
        </p:blipFill>
        <p:spPr>
          <a:xfrm>
            <a:off x="633240" y="1517760"/>
            <a:ext cx="7937640" cy="4986360"/>
          </a:xfrm>
          <a:prstGeom prst="rect">
            <a:avLst/>
          </a:prstGeom>
          <a:ln w="0">
            <a:noFill/>
          </a:ln>
        </p:spPr>
      </p:pic>
      <p:sp>
        <p:nvSpPr>
          <p:cNvPr id="190" name="TextBox 2"/>
          <p:cNvSpPr/>
          <p:nvPr/>
        </p:nvSpPr>
        <p:spPr>
          <a:xfrm>
            <a:off x="539640" y="6308640"/>
            <a:ext cx="28083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* red portion = mis-predic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33000" y="446040"/>
            <a:ext cx="85345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Accuracy of Predictions for Super DC</a:t>
            </a:r>
            <a:br>
              <a:rPr sz="2800"/>
            </a:b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標楷體"/>
              </a:rPr>
              <a:t>(based on exit poll and early vote count result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Line 3"/>
          <p:cNvSpPr/>
          <p:nvPr/>
        </p:nvSpPr>
        <p:spPr>
          <a:xfrm>
            <a:off x="828720" y="1484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AF17-1AA4-45ED-869B-1F9966D7C733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Chart 5" descr=""/>
          <p:cNvPicPr/>
          <p:nvPr/>
        </p:nvPicPr>
        <p:blipFill>
          <a:blip r:embed="rId1"/>
          <a:stretch/>
        </p:blipFill>
        <p:spPr>
          <a:xfrm>
            <a:off x="450720" y="1554120"/>
            <a:ext cx="8296560" cy="4913280"/>
          </a:xfrm>
          <a:prstGeom prst="rect">
            <a:avLst/>
          </a:prstGeom>
          <a:ln w="0">
            <a:noFill/>
          </a:ln>
        </p:spPr>
      </p:pic>
      <p:sp>
        <p:nvSpPr>
          <p:cNvPr id="195" name="TextBox 2"/>
          <p:cNvSpPr/>
          <p:nvPr/>
        </p:nvSpPr>
        <p:spPr>
          <a:xfrm>
            <a:off x="539640" y="6308640"/>
            <a:ext cx="28083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* red portion = mis-predic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33000" y="446040"/>
            <a:ext cx="85345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Exit Poll Response R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Line 3"/>
          <p:cNvSpPr/>
          <p:nvPr/>
        </p:nvSpPr>
        <p:spPr>
          <a:xfrm>
            <a:off x="828720" y="1484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814320" y="1700280"/>
          <a:ext cx="7589880" cy="4162320"/>
        </p:xfrm>
        <a:graphic>
          <a:graphicData uri="http://schemas.openxmlformats.org/drawingml/2006/table">
            <a:tbl>
              <a:tblPr/>
              <a:tblGrid>
                <a:gridCol w="1471680"/>
                <a:gridCol w="1224000"/>
                <a:gridCol w="1278000"/>
                <a:gridCol w="1168200"/>
                <a:gridCol w="1224000"/>
                <a:gridCol w="1224000"/>
              </a:tblGrid>
              <a:tr h="831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C 201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C 201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y-electio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C 2008 ^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C 200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y-elec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C 200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833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-Se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-Ma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-Se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De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Se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831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onse ra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53.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66.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51.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66.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66.7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833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of statio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831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ple Siz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4,917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,562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8,75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,424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9,223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sp>
        <p:nvSpPr>
          <p:cNvPr id="19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3268-D747-4FA9-AA90-794B1416FC97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2"/>
          <p:cNvSpPr/>
          <p:nvPr/>
        </p:nvSpPr>
        <p:spPr>
          <a:xfrm>
            <a:off x="539640" y="6021360"/>
            <a:ext cx="698508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^ a total of 951 cases from 14 stations were removed due to data quality problem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33000" y="446040"/>
            <a:ext cx="85345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Exit Poll Response R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Line 3"/>
          <p:cNvSpPr/>
          <p:nvPr/>
        </p:nvSpPr>
        <p:spPr>
          <a:xfrm>
            <a:off x="828720" y="1484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814320" y="1700280"/>
          <a:ext cx="7589880" cy="4162320"/>
        </p:xfrm>
        <a:graphic>
          <a:graphicData uri="http://schemas.openxmlformats.org/drawingml/2006/table">
            <a:tbl>
              <a:tblPr/>
              <a:tblGrid>
                <a:gridCol w="1471680"/>
                <a:gridCol w="1224000"/>
                <a:gridCol w="1278000"/>
                <a:gridCol w="1168200"/>
                <a:gridCol w="1224000"/>
                <a:gridCol w="1224000"/>
              </a:tblGrid>
              <a:tr h="831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C 2012 *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C 201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y-electio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C 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C 200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y-elec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C 200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833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-Se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-Ma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-Se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De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Se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831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onse ra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53.5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66.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51.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66.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66.7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833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of statio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9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831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ple Siz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3,663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,562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8,75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,424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9,223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sp>
        <p:nvSpPr>
          <p:cNvPr id="20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435E-7156-4CBE-A5DD-76AB852E3D9B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2"/>
          <p:cNvSpPr/>
          <p:nvPr/>
        </p:nvSpPr>
        <p:spPr>
          <a:xfrm>
            <a:off x="539640" y="6021360"/>
            <a:ext cx="79200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* a total of 1,254 cases from 10 stations will need to be removed due to data quality problem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4E98-FAD9-4086-BA39-B1913885BBF2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95280" y="1341360"/>
          <a:ext cx="8240760" cy="4608720"/>
        </p:xfrm>
        <a:graphic>
          <a:graphicData uri="http://schemas.openxmlformats.org/drawingml/2006/table">
            <a:tbl>
              <a:tblPr/>
              <a:tblGrid>
                <a:gridCol w="1042920"/>
                <a:gridCol w="849240"/>
                <a:gridCol w="771840"/>
                <a:gridCol w="917280"/>
                <a:gridCol w="835200"/>
                <a:gridCol w="834840"/>
                <a:gridCol w="836640"/>
                <a:gridCol w="835200"/>
                <a:gridCol w="636480"/>
                <a:gridCol w="95400"/>
                <a:gridCol w="585720"/>
              </a:tblGrid>
              <a:tr h="282600">
                <a:tc rowSpan="2"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ckout period for pre-election opinion poll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ys (prior to an election) of polls banned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8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egal restrictions on the conduct of exit poll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ely banned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ned inside the polling statio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ned outside close to polling statio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restriction – no exit polls conducted to dat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restriction – some exit polls conducted toda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n’t know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used to answe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i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ong Kong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cau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aiwa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 gridSpan="11"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Summar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0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umber of countries affected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out of 8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“yes”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5%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8%)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5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(41%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1%)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2%)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1%)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%)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%)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Exit poll restrictions in different countries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from WAPOR Freedom Poll Survey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2"/>
          <p:cNvSpPr/>
          <p:nvPr/>
        </p:nvSpPr>
        <p:spPr>
          <a:xfrm>
            <a:off x="250920" y="6093000"/>
            <a:ext cx="47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Link to WAPOR Guidelines for Exit Polls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0000"/>
                </a:solidFill>
                <a:latin typeface="Times New Roman"/>
              </a:rPr>
              <a:t>(link #20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Link to complete list of 85 countries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0000"/>
                </a:solidFill>
                <a:latin typeface="Times New Roman"/>
              </a:rPr>
              <a:t>(link #21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632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Answering the challenges of exit polls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26560" y="2707920"/>
            <a:ext cx="7417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conduct exit poll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o release exit poll resul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accurate are exit poll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we boycott partisan exit poll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755640" y="198900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FEB9-28C0-4A4C-841B-082DFA3BFCD2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2"/>
          <p:cNvSpPr/>
          <p:nvPr/>
        </p:nvSpPr>
        <p:spPr>
          <a:xfrm>
            <a:off x="611280" y="6021360"/>
            <a:ext cx="56880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Link to Hong Kong Letter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(link #22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5640" y="2637000"/>
            <a:ext cx="77724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 n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533520" y="2852640"/>
            <a:ext cx="80769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54E7-B691-49FB-AE53-7266F3DD6A31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7640" y="549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e timeline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4"/>
          <p:cNvSpPr/>
          <p:nvPr/>
        </p:nvSpPr>
        <p:spPr>
          <a:xfrm>
            <a:off x="762120" y="1484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20C4-99E9-4E63-AD95-EF5DB645424D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26920" y="1844640"/>
            <a:ext cx="74901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01720" indent="-1701720">
              <a:lnSpc>
                <a:spcPct val="100000"/>
              </a:lnSpc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Early August: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Liaison with sponsors, and determining the scale of op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01720" indent="-1701720">
              <a:lnSpc>
                <a:spcPct val="100000"/>
              </a:lnSpc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Mid-August: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Recruitment of interview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01720" indent="-1701720">
              <a:lnSpc>
                <a:spcPct val="100000"/>
              </a:lnSpc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August 29: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First press conference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 – Explaining exit polls, introducing new arrangements, and call for volunte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01720" indent="-1701720">
              <a:lnSpc>
                <a:spcPct val="100000"/>
              </a:lnSpc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August 30: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Submission of application to Registration and Electoral Office (RE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01720" indent="-1701720">
              <a:lnSpc>
                <a:spcPct val="100000"/>
              </a:lnSpc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Early Sept: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Trainings for exit poll interview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01720" indent="-1701720">
              <a:lnSpc>
                <a:spcPct val="100000"/>
              </a:lnSpc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September 7: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Second press conference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 – Explaining rolling poll results, announcing 105 selected polling stations, introducing online platforms, and calling people’s support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01720" indent="-1701720">
              <a:lnSpc>
                <a:spcPct val="100000"/>
              </a:lnSpc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September 9: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Election d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7640" y="549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First Press Conference on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August 2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762120" y="1268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988B-E353-48D1-8353-903B8C092F52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O:\photos\20120829_LC_Exit_Poll_PC\Kelvin\DSC_1281.JPG"/>
          <p:cNvPicPr/>
          <p:nvPr/>
        </p:nvPicPr>
        <p:blipFill>
          <a:blip r:embed="rId1"/>
          <a:stretch/>
        </p:blipFill>
        <p:spPr>
          <a:xfrm>
            <a:off x="611280" y="1628640"/>
            <a:ext cx="4386240" cy="2913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O:\photos\20120829_LC_Exit_Poll_PC\Kelvin\DSC_1356.JPG"/>
          <p:cNvPicPr/>
          <p:nvPr/>
        </p:nvPicPr>
        <p:blipFill>
          <a:blip r:embed="rId2"/>
          <a:stretch/>
        </p:blipFill>
        <p:spPr>
          <a:xfrm>
            <a:off x="5580000" y="1916280"/>
            <a:ext cx="2654280" cy="3779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O:\photos\20120829_LC_Exit_Poll_PC\Kelvin\DSC_0583.jpg"/>
          <p:cNvPicPr/>
          <p:nvPr/>
        </p:nvPicPr>
        <p:blipFill>
          <a:blip r:embed="rId3"/>
          <a:stretch/>
        </p:blipFill>
        <p:spPr>
          <a:xfrm>
            <a:off x="971640" y="3429000"/>
            <a:ext cx="4968720" cy="310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7640" y="549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First Press Conference on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August 2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29720" y="1773360"/>
            <a:ext cx="8163000" cy="39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343080" indent="-343080">
              <a:lnSpc>
                <a:spcPct val="120000"/>
              </a:lnSpc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標楷體"/>
              </a:rPr>
              <a:t>The Press K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標楷體"/>
                <a:hlinkClick r:id="rId1"/>
              </a:rPr>
              <a:t>Press release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標楷體"/>
                <a:hlinkClick r:id="rId2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標楷體"/>
              </a:rPr>
              <a:t>(in Chinese)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(link #3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標楷體"/>
                <a:hlinkClick r:id="rId3"/>
              </a:rPr>
              <a:t>Introduction script of exit poll questionnaire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(link #4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標楷體"/>
                <a:hlinkClick r:id="rId4"/>
              </a:rPr>
              <a:t>Exit Poll Charter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標楷體"/>
                <a:hlinkClick r:id="rId5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標楷體"/>
              </a:rPr>
              <a:t>(in Chinese)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(link #5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標楷體"/>
                <a:hlinkClick r:id="rId6"/>
              </a:rPr>
              <a:t>“Media Digest” article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標楷體"/>
                <a:hlinkClick r:id="rId7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標楷體"/>
              </a:rPr>
              <a:t>(August 2012)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(link #6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755640" y="1484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B2EF-8AE7-458C-926B-AE82557F523A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7640" y="549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Second Press Conference on September 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762120" y="1268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FDF9-FAB3-4199-A1A2-DC4F689E59B7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O:\photos\20120907_LC_Exit_Poll_PC\DSC_1460.JPG"/>
          <p:cNvPicPr/>
          <p:nvPr/>
        </p:nvPicPr>
        <p:blipFill>
          <a:blip r:embed="rId1"/>
          <a:stretch/>
        </p:blipFill>
        <p:spPr>
          <a:xfrm>
            <a:off x="2771640" y="1757520"/>
            <a:ext cx="5986440" cy="3975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O:\photos\20120907_LC_Exit_Poll_PC\DSC_1472.JPG"/>
          <p:cNvPicPr/>
          <p:nvPr/>
        </p:nvPicPr>
        <p:blipFill>
          <a:blip r:embed="rId2"/>
          <a:stretch/>
        </p:blipFill>
        <p:spPr>
          <a:xfrm>
            <a:off x="250920" y="2133720"/>
            <a:ext cx="2808360" cy="43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Second Press Conference on September 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30080" y="1267920"/>
            <a:ext cx="823464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343080" indent="-343080">
              <a:lnSpc>
                <a:spcPct val="120000"/>
              </a:lnSpc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標楷體"/>
              </a:rPr>
              <a:t>The Press K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標楷體"/>
                <a:hlinkClick r:id="rId1"/>
              </a:rPr>
              <a:t>Press release on LC rolling poll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標楷體"/>
                <a:hlinkClick r:id="rId2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link #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Article entitled “How to Interpret Rolling Polls”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word version)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link #8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Article entitled “How to Interpret Rolling Polls”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printed version by MingPao newspaper)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link #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List of 105 stations selected for exit polls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link #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Signed Exit Poll Charters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link #1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Pledges by exit poll staff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link #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Booklet entitled “Collection of Articles for 2004 LC election”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link #13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755640" y="105264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8ED7-6683-4247-871C-56FF19D7798C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7640" y="549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Exit Poll – New Meas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26560" y="1916280"/>
            <a:ext cx="7417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icitly inform all respondents that the data would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be used for election engineer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ulation of POP’s operation from other operators, to prevent data leak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 sponsors required to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 a char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laining the usage of data and the timing of data transmis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options for respondents, like moving away from the polling stations, or keeping the data unprocessed until voting ends at 10:30 p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safety margins when calling the winners, and more sophisticated data processing procedu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762120" y="1484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C266-CC5D-4D3C-A373-C44A5A95367C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e operation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762120" y="1268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6C02-E0AB-46C3-A460-769B3078B2F3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7" descr="C:\Users\frank.lee\Desktop\Frank\My Pictures\20100516_LC_byelection_Frank\Picture 004.jpg"/>
          <p:cNvPicPr/>
          <p:nvPr/>
        </p:nvPicPr>
        <p:blipFill>
          <a:blip r:embed="rId1"/>
          <a:stretch/>
        </p:blipFill>
        <p:spPr>
          <a:xfrm>
            <a:off x="468360" y="1557360"/>
            <a:ext cx="4127400" cy="2832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F:\LC 2012\Photos\IMG_1393.JPG"/>
          <p:cNvPicPr/>
          <p:nvPr/>
        </p:nvPicPr>
        <p:blipFill>
          <a:blip r:embed="rId2"/>
          <a:stretch/>
        </p:blipFill>
        <p:spPr>
          <a:xfrm>
            <a:off x="3492360" y="1916280"/>
            <a:ext cx="4499280" cy="2938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O:\photos\20120909_LC_election_exit_poll\IMG_6439.JPG"/>
          <p:cNvPicPr/>
          <p:nvPr/>
        </p:nvPicPr>
        <p:blipFill>
          <a:blip r:embed="rId3"/>
          <a:stretch/>
        </p:blipFill>
        <p:spPr>
          <a:xfrm>
            <a:off x="1116000" y="2781360"/>
            <a:ext cx="4854600" cy="3639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F:\LC 2012\Photos\IMG_1356.JPG"/>
          <p:cNvPicPr/>
          <p:nvPr/>
        </p:nvPicPr>
        <p:blipFill>
          <a:blip r:embed="rId4"/>
          <a:stretch/>
        </p:blipFill>
        <p:spPr>
          <a:xfrm>
            <a:off x="4356000" y="3284640"/>
            <a:ext cx="4498920" cy="337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Andy Kwok</cp:lastModifiedBy>
  <cp:lastPrinted>2012-09-28T01:55:51Z</cp:lastPrinted>
  <dcterms:modified xsi:type="dcterms:W3CDTF">2012-09-28T07:18:46Z</dcterms:modified>
  <cp:revision>1597</cp:revision>
  <dc:subject/>
  <dc:title>無投影片標題</dc:title>
</cp:coreProperties>
</file>