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HK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HK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B9D2-18F8-4572-A086-E22200BF2D62}" type="slidenum">
              <a:rPr b="0" lang="zh-H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9601-5007-45F0-BA72-D462CDED9C1D}" type="slidenum">
              <a:rPr b="0" lang="zh-H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9DC9-5161-40E4-8C80-B49CEAE7642E}" type="slidenum">
              <a:rPr b="0" lang="zh-H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E670-0571-4854-BCB3-E55D58095354}" type="slidenum">
              <a:rPr b="0" lang="zh-H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1416-041A-4179-84A9-6B36BEF9FCAF}" type="slidenum">
              <a:rPr b="0" lang="zh-H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CB5E-7199-4131-B57B-45515905C4A3}" type="slidenum">
              <a:rPr b="0" lang="zh-H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F2A2-FE5D-41DF-8F14-3B08338F91BA}" type="slidenum">
              <a:rPr b="0" lang="zh-H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F844-DCB7-4871-B7B5-7338710664AC}" type="slidenum">
              <a:rPr b="0" lang="zh-H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8F92-75CF-444A-A423-1A68D1CD5910}" type="slidenum">
              <a:rPr b="0" lang="zh-H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22FA-F879-46E7-94D4-A5DE99EBA4C8}" type="slidenum">
              <a:rPr b="0" lang="zh-H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63C9-AE33-489F-906D-F2A8D3802EC0}" type="slidenum">
              <a:rPr b="0" lang="zh-H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5FEE-95DB-47E5-8CA6-88A60E3B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2EAD-F23D-4BE6-9EF8-5A8642D7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F0FE-42FD-4C6B-81CE-800F1460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F550-536E-45AF-83C3-59A010AB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DAE04-48DA-4DCF-AD0C-FD95C875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A1BB-6A22-4982-A2F1-79C72AD0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04DA-5651-4442-BF8B-4321CEFB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3FA7-FE8B-4362-AAE9-38BA1E60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458A-8758-4004-B569-18B7B9A1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4299-B745-49D4-B1D3-931ED85D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779D-4651-427F-B03A-1CFF2E12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9EC5-8005-4F49-8D13-B3A01835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0bd0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10cf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HK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6250-0C0A-46C2-8ABE-DD0731BCADF3}" type="slidenum">
              <a:rPr b="0" lang="zh-HK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HK" sz="12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7715-E6D8-4116-8640-CC4C05C535FF}" type="datetime">
              <a:rPr b="0" lang="zh-HK" sz="1200" spc="-1" strike="noStrike">
                <a:solidFill>
                  <a:srgbClr val="dbf5f9"/>
                </a:solidFill>
                <a:latin typeface="Calibri"/>
              </a:rPr>
              <a:t>26年7月30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popcon.hk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416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通識教育研討會 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2012</a:t>
            </a:r>
            <a:br>
              <a:rPr sz="1000"/>
            </a:br>
            <a:br>
              <a:rPr sz="1000"/>
            </a:br>
            <a:r>
              <a:rPr b="1" lang="zh-TW" sz="2400" spc="-1" strike="noStrike">
                <a:solidFill>
                  <a:srgbClr val="04617b"/>
                </a:solidFill>
                <a:latin typeface="Cambria"/>
              </a:rPr>
              <a:t>香港教育學院</a:t>
            </a:r>
            <a:r>
              <a:rPr b="0" lang="zh-TW" sz="2400" spc="-1" strike="noStrike">
                <a:solidFill>
                  <a:srgbClr val="04617b"/>
                </a:solidFill>
                <a:latin typeface="Cambria"/>
              </a:rPr>
              <a:t>、</a:t>
            </a:r>
            <a:r>
              <a:rPr b="1" lang="zh-TW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香港教育專業人員協會  及  香港通識教育教師聯會  合辦</a:t>
            </a:r>
            <a:br>
              <a:rPr sz="1000"/>
            </a:br>
            <a:br>
              <a:rPr sz="1000"/>
            </a:br>
            <a:r>
              <a:rPr b="1" lang="en-US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2012 </a:t>
            </a:r>
            <a:r>
              <a:rPr b="1" lang="zh-TW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年 </a:t>
            </a:r>
            <a:r>
              <a:rPr b="1" lang="en-US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6 </a:t>
            </a:r>
            <a:r>
              <a:rPr b="1" lang="zh-TW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月 </a:t>
            </a:r>
            <a:r>
              <a:rPr b="1" lang="en-US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19 </a:t>
            </a:r>
            <a:r>
              <a:rPr b="1" lang="zh-TW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日</a:t>
            </a:r>
            <a:endParaRPr b="0" lang="en-US" sz="24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62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鍾庭耀博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香港大學民意研究計劃總監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5"/>
          <p:cNvSpPr/>
          <p:nvPr/>
        </p:nvSpPr>
        <p:spPr>
          <a:xfrm>
            <a:off x="684360" y="3213000"/>
            <a:ext cx="7127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中港矛盾</a:t>
            </a:r>
            <a:r>
              <a:rPr b="1" lang="zh-TW" sz="5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多面睇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76201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通識學習  </a:t>
            </a:r>
            <a:r>
              <a:rPr b="1" lang="zh-TW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與  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opCon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85" name="Content Placeholder 2"/>
          <p:cNvSpPr/>
          <p:nvPr/>
        </p:nvSpPr>
        <p:spPr>
          <a:xfrm>
            <a:off x="611280" y="1916280"/>
            <a:ext cx="727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F3B5-185F-4FB6-B2E2-5A220000A485}" type="slidenum">
              <a:rPr b="0" lang="zh-HK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7488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香港大學民意研究計劃  與  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通識學習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1520" y="2057040"/>
            <a:ext cx="76201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611280" y="1413000"/>
            <a:ext cx="727380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「香港大學民意網站」：</a:t>
            </a:r>
            <a:r>
              <a:rPr b="0" lang="en-US" sz="2400" spc="-1" strike="noStrike" u="sng">
                <a:solidFill>
                  <a:srgbClr val="f49100"/>
                </a:solidFill>
                <a:uFillTx/>
                <a:latin typeface="Times New Roman"/>
                <a:ea typeface="Times New Roman"/>
                <a:hlinkClick r:id="rId1"/>
              </a:rPr>
              <a:t>http://hkupop.hku.h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民意調查 </a:t>
            </a:r>
            <a:r>
              <a:rPr b="1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民族問題 </a:t>
            </a:r>
            <a:r>
              <a:rPr b="1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bd0d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身分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bd0d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巿民對各地政府的觀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bd0d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巿民對各地人民的觀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網上資源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民意研究講座及工作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Con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普及民意平台」：</a:t>
            </a:r>
            <a:r>
              <a:rPr b="0" lang="en-US" sz="2400" spc="-1" strike="noStrike" u="sng">
                <a:solidFill>
                  <a:srgbClr val="f49100"/>
                </a:solidFill>
                <a:uFillTx/>
                <a:latin typeface="Times New Roman"/>
                <a:ea typeface="Times New Roman"/>
                <a:hlinkClick r:id="rId2"/>
              </a:rPr>
              <a:t>http://popcon.h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民意討論、 有獎遊戲、 時事新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3001-2076-4225-B9EB-BB65FCEE2102}" type="slidenum">
              <a:rPr b="0" lang="zh-HK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620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民意調查：香港巿民身分認同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5" descr=""/>
          <p:cNvPicPr/>
          <p:nvPr/>
        </p:nvPicPr>
        <p:blipFill>
          <a:blip r:embed="rId1"/>
          <a:stretch/>
        </p:blipFill>
        <p:spPr>
          <a:xfrm>
            <a:off x="324000" y="1335240"/>
            <a:ext cx="7850160" cy="512100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6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72E8-8B3A-42D7-B034-1F8D743003C0}" type="slidenum">
              <a:rPr b="0" lang="zh-HK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620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民意調查：香港巿民身分認同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hart 6" descr=""/>
          <p:cNvPicPr/>
          <p:nvPr/>
        </p:nvPicPr>
        <p:blipFill>
          <a:blip r:embed="rId1"/>
          <a:stretch/>
        </p:blipFill>
        <p:spPr>
          <a:xfrm>
            <a:off x="324000" y="1335240"/>
            <a:ext cx="7918200" cy="5121000"/>
          </a:xfrm>
          <a:prstGeom prst="rect">
            <a:avLst/>
          </a:prstGeom>
          <a:ln w="0">
            <a:noFill/>
          </a:ln>
        </p:spPr>
      </p:pic>
      <p:sp>
        <p:nvSpPr>
          <p:cNvPr id="64" name="Slide Number Placeholder 4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7179-3A86-4C12-8428-D7AB661E582A}" type="slidenum">
              <a:rPr b="0" lang="zh-HK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620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民意調查：香港巿民身分認同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6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8181-D9D8-4EAE-9EE2-02FE39C58350}" type="slidenum">
              <a:rPr b="0" lang="zh-HK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hart 6" descr=""/>
          <p:cNvPicPr/>
          <p:nvPr/>
        </p:nvPicPr>
        <p:blipFill>
          <a:blip r:embed="rId1"/>
          <a:stretch/>
        </p:blipFill>
        <p:spPr>
          <a:xfrm>
            <a:off x="324000" y="1335240"/>
            <a:ext cx="799128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620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民意調查：香港巿民身分認同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812E-6C35-42AF-BC24-806B45921F62}" type="slidenum">
              <a:rPr b="0" lang="zh-HK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hart 5" descr=""/>
          <p:cNvPicPr/>
          <p:nvPr/>
        </p:nvPicPr>
        <p:blipFill>
          <a:blip r:embed="rId1"/>
          <a:stretch/>
        </p:blipFill>
        <p:spPr>
          <a:xfrm>
            <a:off x="324000" y="1335240"/>
            <a:ext cx="78501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民意調查：政府／人民觀感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536840"/>
            <a:ext cx="7427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9640" y="1397160"/>
          <a:ext cx="7417080" cy="4768560"/>
        </p:xfrm>
        <a:graphic>
          <a:graphicData uri="http://schemas.openxmlformats.org/drawingml/2006/table">
            <a:tbl>
              <a:tblPr/>
              <a:tblGrid>
                <a:gridCol w="2471760"/>
                <a:gridCol w="2473560"/>
                <a:gridCol w="2471760"/>
              </a:tblGrid>
              <a:tr h="95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好感</a:t>
                      </a:r>
                      <a:br>
                        <a:rPr sz="3200"/>
                      </a:b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地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人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政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954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香港自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52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54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台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54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澳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76" name="Slide Number Placehold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87CC-BCE1-41F1-9CB4-D117A2475223}" type="slidenum">
              <a:rPr b="0" lang="zh-HK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從民意調查  看  </a:t>
            </a:r>
            <a:r>
              <a:rPr b="1" lang="zh-TW" sz="3200" spc="-1" strike="noStrike">
                <a:solidFill>
                  <a:srgbClr val="ff0000"/>
                </a:solidFill>
                <a:latin typeface="Cambria"/>
              </a:rPr>
              <a:t>中港矛盾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468360" y="1484280"/>
            <a:ext cx="762012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ts val="3197"/>
              </a:lnSpc>
              <a:spcBef>
                <a:spcPts val="1199"/>
              </a:spcBef>
              <a:spcAft>
                <a:spcPts val="601"/>
              </a:spcAft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「香港巿民中無論是狹義或廣義地自稱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『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香港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』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比率，都比狹義或廣義地自稱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『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國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』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比率高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……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當中自稱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『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國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』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比率更跌至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以來的新低 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2011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年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12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月市民身分認同調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3197"/>
              </a:lnSpc>
              <a:spcBef>
                <a:spcPts val="1199"/>
              </a:spcBef>
              <a:spcAft>
                <a:spcPts val="601"/>
              </a:spcAft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「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香港巿民對各地人民的好感，全部都高於對當地政府的好感，大陸除外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……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香港巿民對所有人民都是好感居多，大陸及菲律賓人除外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2012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年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5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月各地政府及人民的觀感調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3197"/>
              </a:lnSpc>
              <a:spcBef>
                <a:spcPts val="1199"/>
              </a:spcBef>
              <a:spcAft>
                <a:spcPts val="601"/>
              </a:spcAft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調查項目與通識課程單元二（今日香港－－身份和身份認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）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和單元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（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現代中國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－－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中國的改革開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）互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細明體"/>
              </a:rPr>
              <a:t>相呼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8B89-9A58-4926-BBED-287309F3EFB4}" type="slidenum">
              <a:rPr b="0" lang="zh-HK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76201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通識學習  </a:t>
            </a:r>
            <a:r>
              <a:rPr b="1" lang="zh-TW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與  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opCon</a:t>
            </a:r>
            <a:endParaRPr b="0" lang="en-US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1520" y="20570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611280" y="1773360"/>
            <a:ext cx="72738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ts val="3197"/>
              </a:lnSpc>
              <a:spcBef>
                <a:spcPts val="1199"/>
              </a:spcBef>
              <a:spcAft>
                <a:spcPts val="1199"/>
              </a:spcAft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細明體"/>
              </a:rPr>
              <a:t>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細明體"/>
              </a:rPr>
              <a:t>POPCON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細明體"/>
              </a:rPr>
              <a:t>普及民意平台」 由民研計劃設立，是一個集社交、娛樂、消費、教育於一身的綜合平台。目的是透過趣味活動和獎勵計劃，驅動平台成員積極參與各類與社會息息相關的討論和活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ts val="3197"/>
              </a:lnSpc>
              <a:spcBef>
                <a:spcPts val="1199"/>
              </a:spcBef>
              <a:spcAft>
                <a:spcPts val="1199"/>
              </a:spcAft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細明體"/>
              </a:rPr>
              <a:t>三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細明體"/>
              </a:rPr>
              <a:t>大活動範疇：「 民意討論」、「 有獎遊戲」、「 時事新聞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ts val="3197"/>
              </a:lnSpc>
              <a:spcBef>
                <a:spcPts val="1199"/>
              </a:spcBef>
              <a:spcAft>
                <a:spcPts val="1199"/>
              </a:spcAft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細明體"/>
              </a:rPr>
              <a:t>「 民意討論」的設計能讓用戶共同參與討論時事大事，並從多角度思考及分析不同立場的理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FDA0-7821-46B8-B950-BEE87F644C23}" type="slidenum">
              <a:rPr b="0" lang="zh-HK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14:49:06Z</dcterms:created>
  <dc:creator>Edward Tai</dc:creator>
  <dc:description/>
  <dc:language>en-US</dc:language>
  <cp:lastModifiedBy>Esther Or</cp:lastModifiedBy>
  <dcterms:modified xsi:type="dcterms:W3CDTF">2012-06-18T02:46:57Z</dcterms:modified>
  <cp:revision>26</cp:revision>
  <dc:subject/>
  <dc:title>通識教育研討會 教協會，2012年6月19日</dc:title>
</cp:coreProperties>
</file>