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807-ABE4-4A8B-9B12-868BB8F0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55C-3060-455C-8C1A-1EB4B9F9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791-F804-4BAC-856E-61A15789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5C5-8207-408D-9E7F-9214FFD9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B3D-F09B-4F76-9898-A28939DD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FDD-1D68-4A00-AC88-CD252C63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6F7-D091-4D04-9C04-10C211E3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9E8-767A-4A75-A1A4-442BC9AD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B0EE-889F-4215-A371-FC370F95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1E1-A0EA-478C-90EE-B0853741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8A1-336E-493C-B76F-54771843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934-3FEE-4143-AB38-082C9550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21087-F87A-43D3-8FC7-8057E0B90CA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SimSun"/>
              </a:rPr>
              <a:t>Questionnaires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SimSun"/>
              </a:rPr>
              <a:t>問卷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Calibri"/>
              <a:ea typeface="SimSun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SimSun"/>
              </a:rPr>
              <a:t>Center for Deliberative Democracy, Stanford Universit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457200" y="4419720"/>
            <a:ext cx="7620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协商民意调查和定量研究方法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Deliberative Polling &amp; Quantitative Resear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问卷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Questionnaires –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之前和之后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before &amp; after delibe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SimSun"/>
              </a:rPr>
              <a:t>政策态度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Policy Attitud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Example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例：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How important is constructing road X in this village?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在这村里建这条道路有多重要？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SimSun"/>
              </a:rPr>
              <a:t>价值观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Val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Example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例：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How important is this to you and your family’s daily life convenience?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对您为您家人生话方便有多大重要？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SimSun"/>
              </a:rPr>
              <a:t>Center for Deliberative Democracy, Stanford Universit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协商民意调查和定量研究方法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Deliberative Polling &amp; Quantitative Resear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SimSun"/>
              </a:rPr>
              <a:t>知识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Example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例：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Which of the below is not a major product of Zeguo Township?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下例的哪个产品不是泽国镇的主要产品？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SimSun"/>
              </a:rPr>
              <a:t>人口统计／人基本情况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Demographi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Example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例：性别，年龄，等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SimSun"/>
              </a:rPr>
              <a:t>评估问题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Evaluation Ques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Example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例：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What are your views on the entire day of deliberation?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您对今天的协商讨论的看法？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SimSun"/>
              </a:rPr>
              <a:t>問卷注意事項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SimSun"/>
              </a:rPr>
              <a:t>Be aware: Questionnair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SimSun"/>
              </a:rPr>
              <a:t>設計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Constr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Length, participants, types of ques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SimSun"/>
              </a:rPr>
              <a:t>問題標度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Question sca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1 to 5, 1 to 7, 0 to 10 s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SimSun"/>
              </a:rPr>
              <a:t>Differences between scale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同意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不同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Agree/Disagree;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贊同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反對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Favor/Oppose;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重要／不重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Important/Unimporta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SimSun"/>
              </a:rPr>
              <a:t>注意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SimSun"/>
              </a:rPr>
              <a:t>Be aware: 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SimSun"/>
              </a:rPr>
              <a:t>认同偏差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SimSun"/>
              </a:rPr>
              <a:t>Acquiescence Bia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SimSun"/>
              </a:rPr>
              <a:t>Center for Deliberative Democracy, Stanford Universit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SimSun"/>
              </a:rPr>
              <a:t>問卷注意事項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SimSun"/>
              </a:rPr>
              <a:t>Be aware: Questionnai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SimSun"/>
              </a:rPr>
              <a:t>問題順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Question or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General to Specific? Specific to General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例如 人口統計問題在最後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i.e. demographic questions at the e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SimSun"/>
              </a:rPr>
              <a:t>雙重含義問題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Double-barreled ques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Example: Should the government spend less money on military and more money on education?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政府是否应该花多点钱在军事，少点钱在教育？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SimSun"/>
              </a:rPr>
              <a:t>問卷注意事項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SimSun"/>
              </a:rPr>
              <a:t>Be aware: Questionnair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問題中的信息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Information in ques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不知道或不適用選項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Don‘t Know or N/A Op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短或長的問卷調查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Shorter vs. longer surve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前期測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Pre-test surve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SimSun"/>
              </a:rPr>
              <a:t>Center for Deliberative Democracy, Stanford Universit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SimSun"/>
              </a:rPr>
              <a:t>問卷注意事項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SimSun"/>
              </a:rPr>
              <a:t>Be aware: Questionnair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收集方法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Method of Colle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面對面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In-person:  longer interviews, personal connection, more cost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郵寄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Mail: less costs, low response rate, significant ti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電話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Phone: less costs, lower tolerance for long interviews, small window to ca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網絡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Internet: cost and time effective, no interview bias, must have computer or acc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SimSun"/>
              </a:rPr>
              <a:t>Center for Deliberative Democracy, Stanford Universit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SimSun"/>
              </a:rPr>
              <a:t>協商民意調查與定量研究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SimSun"/>
              </a:rPr>
              <a:t>Deliberative Polling &amp; Quantitative Research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筆錄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Transcrip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研究筆錄來獲得對協商更深入的理解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Study the transcripts for deeper understanding on discuss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比較筆錄和問卷結果 （有效性）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Compare the results of issues in the transcripts to the questionnaires (validit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SimSun"/>
              </a:rPr>
              <a:t>Center for Deliberative Democracy, Stanford Universit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0:33:39Z</dcterms:created>
  <dc:creator>Alice Siu</dc:creator>
  <dc:description/>
  <dc:language>en-US</dc:language>
  <cp:lastModifiedBy>Andy Kwok</cp:lastModifiedBy>
  <dcterms:modified xsi:type="dcterms:W3CDTF">2011-12-14T04:41:31Z</dcterms:modified>
  <cp:revision>4</cp:revision>
  <dc:subject/>
  <dc:title>Questionnaires問卷</dc:title>
</cp:coreProperties>
</file>