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AD2997-AF83-4131-8E94-8A8A55268E1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C91662-D725-4FB0-B6EB-768FB82CA2A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148E4A-EEE1-4023-B278-127569948135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27BBB4-C30B-41C5-A4CB-865814E8663D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92FF6-2079-4DAA-811F-4F0191450869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ADAACF-D9F1-4C9A-B355-64C6B7EDEB0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1F3271-F0BF-442B-A5BE-5925FE5AF84A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D0C-9191-473F-9E0C-247E936C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C9B-A49B-4B76-A922-C7374C22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0AF-31DD-4D9D-B12C-701864CB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FC0-BE5E-468D-8915-397EC5DC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BD72-018A-4C46-BE29-6FD5AB18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773-FC2C-4CBC-9DA9-4004659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0DAB-151B-40ED-BA0C-8A29533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480-AC8C-45FF-927F-C017BD0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1F9-D72A-4163-8EB7-DDDC8358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41C-2F52-4E96-9914-15FF077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A721-1EE9-469D-BC11-2D69C20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C08-33D4-4D5A-A7F5-9DF0D8A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F656-1344-4275-8939-7B7F6C9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DFD-5026-4307-8719-FADBA2D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6034-4B4E-4D5C-933D-900920D4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87EF-4B9B-4BB5-AD01-37F808D5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4DD2-0F7E-47B2-AEDD-5602C61B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311-20FD-4FD6-8C84-5EB156D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107-50C1-41B5-BBEA-CF25BBD2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ED0-6F0E-4EC0-9BB5-2DCDDB5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54E-8678-4FC4-8AEA-B48FEC4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206-C4D2-488A-B5D1-700BD4A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D43-3B26-4A40-B187-017B975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590-7BBC-4FD6-90C6-5B389EA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579-665D-4B6E-B782-F14D65C1A2C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E67F-3F70-4B15-A814-F7D9D9B9385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2496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DELIBERATIVE DEMOCRAC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NSULTATION, AND THE MEDIA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July 2011</a:t>
            </a: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litics of Collating Public Opinion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 Cases of Misrepresentation of Public Opinion in Hong Ko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5640" y="486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rt CH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versity of Hong K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storical Setting of the 1988 Inciden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2: Talks on the future of Hong Ko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4: Major review of HK’s constitutional development; Sino-British Joint Declaration 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7: Another review of constitutional reform – the question of 1988 direct ele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n Paper, White Paper, direction elections deferred to 199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ng Kong government faked opinion data in support of the de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8 – 1991 – 1995 – 1997 – 2002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storical Setting of the 2003 Inciden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 July: HKSAR Chief Executive entere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rm of off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 Sep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posals to Implement Article 23 of the Basic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a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endium of Submi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KSAR Government faked opinion data ag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Feb: National Security B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1: 500,000 people took to the str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5: Government insisted on legislation on July 9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6: One key cabinet member re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7: Government postponed legisl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16: Key officials re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Sep 5: Government withdrew the Bill from the legislative program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tegy of British HK Government (1988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8487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1,589 submissions grouped into 3 categories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organizations and individu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nion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1: pre-printed forms (73,767) lumped with individual submissions,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boosting opposition r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2: Two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biased opin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olls conducted by a marketing firm, to prove marginal public opposi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3: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etitions considered not rati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21 petitions – 23,866 supporters vs 295 opponent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: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3-0 “support” became a 1-2 marginal “opposition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tegy of HKSAR Government (2003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12800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0,909 submissions made by 369,612 individuals and over 1,000 organiz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egorization by typ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organiz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individu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in the form of standard letters and pre-printed opinion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egorization by inclination,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overnment conclusion: 67.5% support, 28.2% opposed, 4.3% un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if we count names/signatures (embedded in all submissions), conclusio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hould be 36.9% support, 60.2% opposed, 2.8% un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705800" cy="34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cy is the rule of the peopl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y the peo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ut Hong Kong has never been a democracy, before or after 1997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mocratic governments needs the backing of public opinion to justify it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o they are always tempted to fake opinion research finding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a strong need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ofessional stand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nducting surve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running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ublic consul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Valued Acer Customer</cp:lastModifiedBy>
  <cp:lastPrinted>2000-02-18T04:31:22Z</cp:lastPrinted>
  <dcterms:modified xsi:type="dcterms:W3CDTF">2011-07-10T04:29:37Z</dcterms:modified>
  <cp:revision>116</cp:revision>
  <dc:subject/>
  <dc:title>Project Overview</dc:title>
</cp:coreProperties>
</file>