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7B0211-59E6-462C-A530-CEB0EC887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885BE0-EF91-4081-A3B3-CEE579B66DD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8E428E-9A08-46AF-B165-13B9E62957B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C2023D-2CA9-4ECB-9C0A-26A8B309D57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01B5AF-0558-42B1-B4A3-D2E9AFB405C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782782-0566-4E2B-8EDC-306594E416F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46A271-AE34-4DA5-89A3-A6B45BE2907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5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95F9DD-7B7E-40F8-913D-04135D6455B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E218EF-DC66-4CAD-BDCC-79B8FAAB901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21316DA-32E2-4E67-865E-1401F435F1B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EF680B-079A-4678-BB20-1FB87DC8794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5936DF-80BE-468C-9AF0-685B00174A9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BAB726-D023-43C7-BECA-BFCA85D5CA4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E3C9166-8F45-4E10-BD43-88AE38099CA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734924-77B1-4C65-B680-9551282AA99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C15DF4F-B935-4A82-9218-81F8DC2855B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50231B-1F39-40C4-997B-3BE664D0EC7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72AC1C-FDD1-49EF-AB12-54329BA54D3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A2F0EB-515E-4AC6-8BA5-A4011CEE824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2EACC5-7D25-47B7-95ED-DE45C2BE1D0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4B86E1-98B5-498A-96F5-31B2035EFE8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F6B-FA44-440A-B5F3-A4DD1575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9B9-71B0-4690-86F2-92A22C9A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87A-3150-4886-97E5-A4E8E87E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1E8-936C-4004-9FDE-E779CA1C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11B-9E26-4811-B48D-99E165E0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C32-21BF-4684-9A0B-B877158E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E35-FB09-44D0-A2A0-AAFCE842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3AF-E531-4516-87B7-49241449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F13-9F57-4A08-BF3D-D596BF55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085-E172-489D-9F61-18E8EC73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5C1-81EC-4AFA-8136-6A9FE1BE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9B6-1B77-46B2-9428-49D989FE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D883-4067-48FA-BF93-CA856C7BFA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opcon.hkupop.hku.hk/" TargetMode="External"/><Relationship Id="rId2" Type="http://schemas.openxmlformats.org/officeDocument/2006/relationships/hyperlink" Target="http://popcon.hkupop.hku.hk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57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Lecture at 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City University of Hong Kon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, 25 March 2011</a:t>
            </a:r>
            <a:br>
              <a:rPr sz="2400"/>
            </a:br>
            <a:r>
              <a:rPr b="1" i="1" lang="en-GB" sz="10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   </a:t>
            </a:r>
            <a:br>
              <a:rPr sz="2400"/>
            </a:b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“</a:t>
            </a:r>
            <a:r>
              <a:rPr b="1" i="1" lang="en-US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TV Audience Studies: TVAI and QMI</a:t>
            </a: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”</a:t>
            </a:r>
            <a:br>
              <a:rPr sz="2800"/>
            </a:b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857160" y="5429160"/>
            <a:ext cx="75438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57200" y="311472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457200" y="486720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BA13-E8BE-4D46-B497-B4456CE112F0}" type="slidenum"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01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roducing TVAS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定質部分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ffff00"/>
                </a:solidFill>
                <a:uFillTx/>
                <a:latin typeface="新細明體"/>
              </a:rPr>
              <a:t>觀眾意見交流會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 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– 從一般公眾或特定組群中，隨機抽出電視觀眾進行焦點討論，收集有關人士對</a:t>
            </a:r>
            <a:r>
              <a:rPr b="0" lang="zh-HK" sz="2000" spc="-1" strike="noStrike">
                <a:solidFill>
                  <a:srgbClr val="ccecff"/>
                </a:solidFill>
                <a:latin typeface="新細明體"/>
              </a:rPr>
              <a:t>不同議題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的詳細意見</a:t>
            </a:r>
            <a:r>
              <a:rPr b="0" lang="en-US" sz="2000" spc="-1" strike="noStrike">
                <a:solidFill>
                  <a:srgbClr val="ccecff"/>
                </a:solidFill>
                <a:latin typeface="新細明體"/>
              </a:rPr>
              <a:t>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其他活動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ffff00"/>
                </a:solidFill>
                <a:uFillTx/>
                <a:latin typeface="新細明體"/>
              </a:rPr>
              <a:t>網上平台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 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– 透過嶄新</a:t>
            </a:r>
            <a:r>
              <a:rPr b="0" lang="zh-HK" sz="2000" spc="-1" strike="noStrike">
                <a:solidFill>
                  <a:srgbClr val="ccecff"/>
                </a:solidFill>
                <a:latin typeface="新細明體"/>
              </a:rPr>
              <a:t>的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網上平台，蒐集</a:t>
            </a:r>
            <a:r>
              <a:rPr b="0" lang="zh-HK" sz="2000" spc="-1" strike="noStrike">
                <a:solidFill>
                  <a:srgbClr val="ccecff"/>
                </a:solidFill>
                <a:latin typeface="新細明體"/>
              </a:rPr>
              <a:t>年青組群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的意見。網上平台將會包括娛樂、遊戲、討論、和其他公眾事務活動</a:t>
            </a:r>
            <a:r>
              <a:rPr b="0" lang="en-US" sz="20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ccecff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舉辦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新細明體"/>
              </a:rPr>
              <a:t>學術研討會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和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新細明體"/>
              </a:rPr>
              <a:t>專業工作坊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，與業界和學界分享成果</a:t>
            </a:r>
            <a:r>
              <a:rPr b="0" lang="en-US" sz="20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755640" y="1700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VAS Sur</a:t>
            </a: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v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2011 Round 1 Resul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8424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684360" y="1484280"/>
            <a:ext cx="763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a06"/>
                </a:solidFill>
                <a:latin typeface="Times New Roman"/>
              </a:rPr>
              <a:t>Audience size of new media (any last 7 day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84360" y="5157720"/>
            <a:ext cx="77040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問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: 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過去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七日內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，您有冇</a:t>
            </a:r>
            <a:r>
              <a:rPr b="0" lang="zh-TW" sz="16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連續收</a:t>
            </a:r>
            <a:r>
              <a:rPr b="0" lang="zh-HK" sz="16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睇電視節目</a:t>
            </a:r>
            <a:r>
              <a:rPr b="0" lang="zh-TW" sz="16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5</a:t>
            </a:r>
            <a:r>
              <a:rPr b="0" lang="zh-TW" sz="16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分鐘或以上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呢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?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收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嘅定義係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包括透過電視機、互聯網、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YouTube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、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手提電話、以及其他方法收睇直播、重播、或者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嘅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自己重溫電視節目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只要過去</a:t>
            </a:r>
            <a:r>
              <a:rPr b="0" lang="zh-HK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七日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內連續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5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分鐘或以上就算有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。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問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2: 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咁您喺</a:t>
            </a:r>
            <a:r>
              <a:rPr b="0" lang="zh-TW" sz="16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透過乜野工具收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呢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D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電視節目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?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4360" y="2276640"/>
          <a:ext cx="7632720" cy="2199960"/>
        </p:xfrm>
        <a:graphic>
          <a:graphicData uri="http://schemas.openxmlformats.org/drawingml/2006/table">
            <a:tbl>
              <a:tblPr/>
              <a:tblGrid>
                <a:gridCol w="1163520"/>
                <a:gridCol w="1017720"/>
                <a:gridCol w="1120680"/>
                <a:gridCol w="1009440"/>
                <a:gridCol w="1516320"/>
                <a:gridCol w="1805040"/>
              </a:tblGrid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兩週調查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綜合結果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樣本人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推算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看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電視機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^)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推算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電腦及其他工具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^)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推算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整體樣本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1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99%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4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56%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特選群組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後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即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-29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歲人士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99%)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br>
                        <a:rPr sz="1400"/>
                      </a:b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68%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8"/>
          <p:cNvSpPr/>
          <p:nvPr/>
        </p:nvSpPr>
        <p:spPr>
          <a:xfrm>
            <a:off x="684360" y="4581360"/>
            <a:ext cx="77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#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根據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2010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年年中的最新香港人口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(9+)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總數為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6,345,600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推算。</a:t>
            </a:r>
            <a:br>
              <a:rPr sz="1200"/>
            </a:b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^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電視機包括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數碼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高清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電視機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及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其他傳統電視機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，而其他工具包括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電腦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手提電話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交通工具資訊系統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等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755640" y="1341360"/>
          <a:ext cx="7561440" cy="4017960"/>
        </p:xfrm>
        <a:graphic>
          <a:graphicData uri="http://schemas.openxmlformats.org/drawingml/2006/table">
            <a:tbl>
              <a:tblPr/>
              <a:tblGrid>
                <a:gridCol w="1584360"/>
                <a:gridCol w="1440000"/>
                <a:gridCol w="1152360"/>
                <a:gridCol w="1584360"/>
                <a:gridCol w="1800360"/>
              </a:tblGrid>
              <a:tr h="562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調查週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收視人口推算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#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 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萬位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收看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電視機觀眾人口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#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萬位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電腦及其他工具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#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觀眾人口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萬位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2.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2.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.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6.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4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0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9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0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.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0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3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6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0.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5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2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9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0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1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5.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5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5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520"/>
          <p:cNvSpPr/>
          <p:nvPr/>
        </p:nvSpPr>
        <p:spPr>
          <a:xfrm>
            <a:off x="755640" y="54450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#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根據 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2010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年年中的最新香港人口 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(9+)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總數為 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6,345,600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推算       </a:t>
            </a:r>
            <a:r>
              <a:rPr b="0" i="1" lang="en-US" sz="8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0" i="1" lang="en-US" sz="8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Rectangle 305"/>
          <p:cNvSpPr/>
          <p:nvPr/>
        </p:nvSpPr>
        <p:spPr>
          <a:xfrm>
            <a:off x="900000" y="333360"/>
            <a:ext cx="74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VAS Survey 2011 Round 1: TV Audience Siz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文字方塊 1"/>
          <p:cNvSpPr/>
          <p:nvPr/>
        </p:nvSpPr>
        <p:spPr>
          <a:xfrm>
            <a:off x="755640" y="5878440"/>
            <a:ext cx="7561440" cy="368280"/>
          </a:xfrm>
          <a:prstGeom prst="rect">
            <a:avLst/>
          </a:prstGeom>
          <a:solidFill>
            <a:srgbClr val="2f79aa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每週電視觀眾數目約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00 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萬，以非電視機收看者約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50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-400 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萬。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755640" y="1052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20"/>
          <p:cNvSpPr/>
          <p:nvPr/>
        </p:nvSpPr>
        <p:spPr>
          <a:xfrm>
            <a:off x="826920" y="5445000"/>
            <a:ext cx="740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註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 *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次樣本數目不足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30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，數據從略            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#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根據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010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年年中的最新香港人口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(9+)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總數為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,345,600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推算       </a:t>
            </a:r>
            <a:r>
              <a:rPr b="0" i="1" lang="en-US" sz="8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0" i="1" lang="en-US" sz="8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0000" y="1413000"/>
          <a:ext cx="7417080" cy="3828960"/>
        </p:xfrm>
        <a:graphic>
          <a:graphicData uri="http://schemas.openxmlformats.org/drawingml/2006/table">
            <a:tbl>
              <a:tblPr/>
              <a:tblGrid>
                <a:gridCol w="2033640"/>
                <a:gridCol w="1312920"/>
                <a:gridCol w="1050840"/>
                <a:gridCol w="1443240"/>
                <a:gridCol w="1576440"/>
              </a:tblGrid>
              <a:tr h="562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調查週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收視人口推算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# 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萬位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收看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電視機觀眾人口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# 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萬位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電腦及其他工具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觀眾人口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#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萬位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6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3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1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2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8.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3.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6.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1.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1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6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4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0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8.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3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05"/>
          <p:cNvSpPr/>
          <p:nvPr/>
        </p:nvSpPr>
        <p:spPr>
          <a:xfrm>
            <a:off x="539640" y="476280"/>
            <a:ext cx="815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VAS Survey 2011 Round 1: ATV Audience Siz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文字方塊 1"/>
          <p:cNvSpPr/>
          <p:nvPr/>
        </p:nvSpPr>
        <p:spPr>
          <a:xfrm>
            <a:off x="826920" y="6021360"/>
            <a:ext cx="7490160" cy="368280"/>
          </a:xfrm>
          <a:prstGeom prst="rect">
            <a:avLst/>
          </a:prstGeom>
          <a:solidFill>
            <a:srgbClr val="2f79aa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亞視每週觀眾數目超過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50 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萬，以非電視機收看者約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-40 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萬。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84132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8424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44200" y="33336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VAS Survey 2011 Round 1: Programme Audienc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51040" y="4437000"/>
            <a:ext cx="7681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問題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過去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七日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內，您有冇連續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鐘或以上收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睇亞視既</a:t>
            </a:r>
            <a:r>
              <a:rPr b="0" lang="zh-TW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「</a:t>
            </a:r>
            <a:r>
              <a:rPr b="0" lang="zh-HK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新聞報導</a:t>
            </a:r>
            <a:r>
              <a:rPr b="0" lang="zh-TW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」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節目？包括透過電視機、互聯網、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Tub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、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手提電話、以及其他方法收睇直播、重播、或者自己重溫呢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節目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。 如有，請您話比我聽您有幾欣賞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亞視既新聞報導節目？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請您用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-100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嚟評分，</a:t>
            </a:r>
            <a:r>
              <a:rPr b="0" lang="zh-TW" sz="14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0</a:t>
            </a:r>
            <a:r>
              <a:rPr b="0" lang="zh-TW" sz="14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分代表非常之唔欣賞，</a:t>
            </a:r>
            <a:r>
              <a:rPr b="0" lang="zh-TW" sz="14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50</a:t>
            </a:r>
            <a:r>
              <a:rPr b="0" lang="zh-TW" sz="14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分代表一半半，</a:t>
            </a:r>
            <a:r>
              <a:rPr b="0" lang="zh-TW" sz="14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100</a:t>
            </a:r>
            <a:r>
              <a:rPr b="0" lang="zh-TW" sz="14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分代表非常之欣賞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。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問題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過去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七日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內，您有冇連續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鐘或以上收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睇亞視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播放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既</a:t>
            </a:r>
            <a:r>
              <a:rPr b="0" lang="zh-TW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「第 </a:t>
            </a:r>
            <a:r>
              <a:rPr b="0" lang="zh-TW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33 </a:t>
            </a:r>
            <a:r>
              <a:rPr b="0" lang="zh-TW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屆十大中文金曲頒獎音樂會」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？包括透過電視機、互聯網、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Tub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、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手提電話、以及其他方法收睇直播、重播、或者自己重溫呢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節目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。如有，請您話比我聽您有幾欣賞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亞視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播放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既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「第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屆十大中文金曲頒獎音樂會」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節目？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請您用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-100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嚟評分，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代表非常之唔欣賞，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代表一半半，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代表非常之欣賞。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900000" y="3860640"/>
            <a:ext cx="746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#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根據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2010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年年中的最新香港人口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(9+)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總數為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6,345,600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推算。</a:t>
            </a:r>
            <a:br>
              <a:rPr sz="1200"/>
            </a:b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^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為香港電台製作之節目，並於亞視率先播映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0000" y="1484280"/>
          <a:ext cx="7488360" cy="2243160"/>
        </p:xfrm>
        <a:graphic>
          <a:graphicData uri="http://schemas.openxmlformats.org/drawingml/2006/table">
            <a:tbl>
              <a:tblPr/>
              <a:tblGrid>
                <a:gridCol w="3240360"/>
                <a:gridCol w="2016000"/>
                <a:gridCol w="2232000"/>
              </a:tblGrid>
              <a:tr h="7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首兩週綜合結果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樣本人數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推算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新聞報導節目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調查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9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6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 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 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屆十大中文金曲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頒獎音樂會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^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二週調查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9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7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Line 5"/>
          <p:cNvSpPr/>
          <p:nvPr/>
        </p:nvSpPr>
        <p:spPr>
          <a:xfrm>
            <a:off x="82692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VAS Survey 2011 Round 1s: VR and A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4360" y="1773360"/>
          <a:ext cx="7561080" cy="4332240"/>
        </p:xfrm>
        <a:graphic>
          <a:graphicData uri="http://schemas.openxmlformats.org/drawingml/2006/table">
            <a:tbl>
              <a:tblPr/>
              <a:tblGrid>
                <a:gridCol w="601560"/>
                <a:gridCol w="2206440"/>
                <a:gridCol w="1152720"/>
                <a:gridCol w="1439640"/>
                <a:gridCol w="1008360"/>
                <a:gridCol w="115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節目名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調查週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推算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看 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新聞報導節目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6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十大中文金曲頒獎音樂會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二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7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回首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系列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5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敗犬男大聯盟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二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敗犬男大聯盟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四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2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亞洲早晨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五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9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品味珠三角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三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香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 go go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V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焦點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三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香港望族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四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848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VAS Survey 2011 Round 1: Audience Preferenc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1989000"/>
          <a:ext cx="7345440" cy="3954600"/>
        </p:xfrm>
        <a:graphic>
          <a:graphicData uri="http://schemas.openxmlformats.org/drawingml/2006/table">
            <a:tbl>
              <a:tblPr/>
              <a:tblGrid>
                <a:gridCol w="4537080"/>
                <a:gridCol w="280836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節目類型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百分比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新聞報導／時事特輯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本地製作劇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外購劇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娛樂／消費／飲食／潮流資訊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Line 5"/>
          <p:cNvSpPr/>
          <p:nvPr/>
        </p:nvSpPr>
        <p:spPr>
          <a:xfrm>
            <a:off x="755640" y="1557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042920" y="1700280"/>
          <a:ext cx="7129440" cy="4392720"/>
        </p:xfrm>
        <a:graphic>
          <a:graphicData uri="http://schemas.openxmlformats.org/drawingml/2006/table">
            <a:tbl>
              <a:tblPr/>
              <a:tblGrid>
                <a:gridCol w="4543560"/>
                <a:gridCol w="2585880"/>
              </a:tblGrid>
              <a:tr h="75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節目種類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欣賞指數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新聞報導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時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財經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金融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紀綠片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教育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資訊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0.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體育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賽事直播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.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本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外購劇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9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綜藝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娛樂節目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7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文字方塊 5"/>
          <p:cNvSpPr/>
          <p:nvPr/>
        </p:nvSpPr>
        <p:spPr>
          <a:xfrm>
            <a:off x="826920" y="47628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VAS Survey 2011 Round 1: Audience Prefere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755640" y="1268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915920"/>
            <a:ext cx="698652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a06"/>
                </a:solidFill>
                <a:latin typeface="新細明體"/>
              </a:rPr>
              <a:t>「電視節目優眾指數解說」</a:t>
            </a:r>
            <a:br>
              <a:rPr sz="3200"/>
            </a:br>
            <a:br>
              <a:rPr sz="3200"/>
            </a:br>
            <a:r>
              <a:rPr b="1" lang="zh-HK" sz="3200" spc="-1" strike="noStrike">
                <a:solidFill>
                  <a:srgbClr val="ffffff"/>
                </a:solidFill>
                <a:latin typeface="新細明體"/>
              </a:rPr>
              <a:t>（請</a:t>
            </a:r>
            <a:r>
              <a:rPr b="1" lang="en-US" sz="3200" spc="-1" strike="noStrike">
                <a:solidFill>
                  <a:srgbClr val="ffffff"/>
                </a:solidFill>
                <a:latin typeface="新細明體"/>
              </a:rPr>
              <a:t>參閱教材）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47640" y="3429000"/>
            <a:ext cx="61930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4360" y="9810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New SESE e-Platform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11280" y="2708280"/>
            <a:ext cx="792144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lease try the following e-platform 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://popcon.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SESE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= Social-networking, Entertainment, Shopping and Educ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POPCON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= POP Consult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755640" y="2349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785880" y="1714680"/>
            <a:ext cx="764388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urse COM2116: Audience Analysis and Media Strategies – “to teach students variou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ethods in audience analysi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nd the purposes, philosophies, and methods of … evaluating programming content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line referenc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a) http://hkupop.hku/hk/english/tvai/index.htm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b) http://www.rthk.org.hk/special/tvai/2010/ 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utline of presenta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a) TVAI surveys: design, operation and selected resul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b) QMI surveys: conceptualization and selected resul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) POPCON online platfor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42960" y="5716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785880" y="1643040"/>
            <a:ext cx="792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POP TVAI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hkupop.hku.hk/english/tvai/index.html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RTHK TVAI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rthk.org.hk/special/tvai/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References and column articles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unl.edu/wapor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aapor.org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esomar.org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ncpp.org </a:t>
            </a: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gallup.com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857160" y="13572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1357200" y="2928960"/>
            <a:ext cx="257184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143000" y="264312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lease make use of the HKU POP Site 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workshop, “</a:t>
            </a: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CityU11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85880" y="357120"/>
            <a:ext cx="7619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VAI Survey 2010 (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Quarter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755640" y="1052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85880" y="1341360"/>
          <a:ext cx="7531200" cy="4919760"/>
        </p:xfrm>
        <a:graphic>
          <a:graphicData uri="http://schemas.openxmlformats.org/drawingml/2006/table">
            <a:tbl>
              <a:tblPr/>
              <a:tblGrid>
                <a:gridCol w="492120"/>
                <a:gridCol w="2604960"/>
                <a:gridCol w="1055880"/>
                <a:gridCol w="1055520"/>
                <a:gridCol w="1336680"/>
                <a:gridCol w="986040"/>
              </a:tblGrid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 of Programm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VA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dec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raters / TV audienc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ange in TVA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火速救兵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巾幗梟雄之義海豪情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鏗鏘集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.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5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星期日檔案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.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0.27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政情大事回顧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.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聞透視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4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歷史系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 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.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國際博奕大事回顧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0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故事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1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築跡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0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.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1.63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VAI Survey 2010 (Full Year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85880" y="1773360"/>
          <a:ext cx="7458120" cy="4289400"/>
        </p:xfrm>
        <a:graphic>
          <a:graphicData uri="http://schemas.openxmlformats.org/drawingml/2006/table">
            <a:tbl>
              <a:tblPr/>
              <a:tblGrid>
                <a:gridCol w="439560"/>
                <a:gridCol w="2260800"/>
                <a:gridCol w="888840"/>
                <a:gridCol w="824040"/>
                <a:gridCol w="888840"/>
                <a:gridCol w="887400"/>
                <a:gridCol w="1268640"/>
              </a:tblGrid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 of Programm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VAI Q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VAI Q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VAI Q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VAI Q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火速救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鏗鏘集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3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7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7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巾幗梟雄之義海豪情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反斗英語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政情大事回顧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星期二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日檔案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9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1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愛回家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霎時感動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8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5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歷史系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 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聞透視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0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VAI Survey 2010 Year-end Commentar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539640" y="1700280"/>
            <a:ext cx="80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欣賞指數調查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的方法在兩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年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微調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之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後，調查節目名單由各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電視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台平均分配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透過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提名方法建立，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新聞財經報道節目則以整體評分取代個別節目評分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。微調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過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後，名列前茅的優質節目仍然可與微調以前的調查結果比較，兼可騰出資源測試更多有利業界發展的題目。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綜合過去一年四季的調查顯示，香港電台製作的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劇集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「火速救兵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一炮而紅奪得全年最高欣賞指數，令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劇集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節目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連續兩年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奪得冠軍。此外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無綫劇集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「巾幗梟雄之義海豪情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亦排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三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，令欣賞指數調查首年出現兩個劇集節目名列三甲。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品牌節目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方面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，港台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鏗鏘集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、無綫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星期二／日檔案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新聞透視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，繼續獲得佳績，分別排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六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十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。此外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年終回顧節目繼續獲得好評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前二十位中包括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港台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en-US" sz="2100" spc="-1" strike="noStrike">
                <a:solidFill>
                  <a:srgbClr val="fffa06"/>
                </a:solidFill>
                <a:latin typeface="Times New Roman"/>
              </a:rPr>
              <a:t>2010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香港政情大事回顧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en-US" sz="2100" spc="-1" strike="noStrike">
                <a:solidFill>
                  <a:srgbClr val="fffa06"/>
                </a:solidFill>
                <a:latin typeface="Times New Roman"/>
              </a:rPr>
              <a:t>2010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國際博奕大事回顧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，以及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亞視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回首</a:t>
            </a:r>
            <a:r>
              <a:rPr b="0" lang="en-US" sz="2100" spc="-1" strike="noStrike">
                <a:solidFill>
                  <a:srgbClr val="fffa06"/>
                </a:solidFill>
                <a:latin typeface="Times New Roman"/>
              </a:rPr>
              <a:t>2009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系列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。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至於新聞財經報道節目方面，有線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電視得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分最高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然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是無綫電視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en-US" sz="2100" spc="-1" strike="noStrike">
                <a:solidFill>
                  <a:srgbClr val="ccecff"/>
                </a:solidFill>
                <a:latin typeface="Times New Roman"/>
              </a:rPr>
              <a:t>NOW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寬頻電視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亞洲電視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香港寬頻電視。」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roducing TVAS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「電視觀眾研究」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826920" y="1628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785880" y="2060640"/>
            <a:ext cx="7643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a06"/>
                </a:solidFill>
                <a:latin typeface="Times New Roman"/>
              </a:rPr>
              <a:t>研究目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發展一套科學、全面而具代表性的電視觀眾研究，範圍</a:t>
            </a:r>
            <a:r>
              <a:rPr b="0" lang="zh-TW" sz="2400" spc="-1" strike="noStrike">
                <a:solidFill>
                  <a:srgbClr val="fffa06"/>
                </a:solidFill>
                <a:latin typeface="Times New Roman"/>
              </a:rPr>
              <a:t>覆蓋所有觀賞渠道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，包括新興網上媒體及流動電子裝置，與時並進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為電視業界及廣告商戶提供多元價值指標，兼顧電視節目的</a:t>
            </a:r>
            <a:r>
              <a:rPr b="0" lang="zh-TW" sz="2400" spc="-1" strike="noStrike">
                <a:solidFill>
                  <a:srgbClr val="fffa06"/>
                </a:solidFill>
                <a:latin typeface="Times New Roman"/>
              </a:rPr>
              <a:t>「叫好」及「叫座」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能力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為學術界提供研究數據，透過深入分析和學術會議探討電視媒體的發展方向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785880" y="549360"/>
            <a:ext cx="761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roducing TVA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785880" y="1773360"/>
            <a:ext cx="764388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a06"/>
                </a:solidFill>
                <a:latin typeface="Times New Roman"/>
              </a:rPr>
              <a:t>研究特點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a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港大民研計劃全權負責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「電視觀眾研究」所有設計及執行工作，對研究的方法和結果全面負責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整項研究將會圍繞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「定質」和「定量」兩個主軸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發展，立體分析各個觀眾組群的意見和行為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針對年青組群的特質和新興媒體的作用，民研計劃會透過嶄新的網上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en-US" sz="2000" spc="-1" strike="noStrike">
                <a:solidFill>
                  <a:srgbClr val="fffa06"/>
                </a:solidFill>
                <a:latin typeface="Times New Roman"/>
              </a:rPr>
              <a:t>POPCON 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普及民意平台」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蒐集意見和數據，網址為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popcon.hkupop.hku.hk/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研究計劃將會建構一個結合「收視比率」和「欣賞指數」，以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分為「正常基數」的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「優眾指數」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MI, Quality-Mass Index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），反映電視節目的「叫好」和「叫座」能力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33D4-447B-42A9-89EE-A79FB7D01D78}" type="slidenum"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01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roducing TVAS</a:t>
            </a:r>
            <a:r>
              <a:rPr b="1" lang="zh-TW" sz="3200" spc="-1" strike="noStrike">
                <a:solidFill>
                  <a:srgbClr val="fffa06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54236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定量部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27120" indent="-2653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2200" spc="-1" strike="noStrike" u="sng">
                <a:solidFill>
                  <a:srgbClr val="ffff00"/>
                </a:solidFill>
                <a:uFillTx/>
                <a:latin typeface="新細明體"/>
              </a:rPr>
              <a:t>追蹤電話調查</a:t>
            </a:r>
            <a:r>
              <a:rPr b="0" lang="zh-HK" sz="2200" spc="-1" strike="noStrike">
                <a:solidFill>
                  <a:srgbClr val="ffff00"/>
                </a:solidFill>
                <a:latin typeface="新細明體"/>
              </a:rPr>
              <a:t> 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–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目標對象為 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9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歲或以上之電視觀眾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，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每星期進行一次，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每次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抽樣調查起碼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65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0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個成功樣本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，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以量度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電視節目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的「叫好」及「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叫座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」程度，亦即觀眾人數及其對製作質素的評價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，以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「優眾指數」進行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立體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分析</a:t>
            </a:r>
            <a:r>
              <a:rPr b="0" lang="en-US" sz="2200" spc="-1" strike="noStrike">
                <a:solidFill>
                  <a:srgbClr val="ccecff"/>
                </a:solidFill>
                <a:latin typeface="新細明體"/>
              </a:rPr>
              <a:t>。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627120" indent="-2653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2200" spc="-1" strike="noStrike" u="sng">
                <a:solidFill>
                  <a:srgbClr val="ffff00"/>
                </a:solidFill>
                <a:uFillTx/>
                <a:latin typeface="新細明體"/>
              </a:rPr>
              <a:t>基準電話</a:t>
            </a:r>
            <a:r>
              <a:rPr b="1" lang="zh-TW" sz="2200" spc="-1" strike="noStrike" u="sng">
                <a:solidFill>
                  <a:srgbClr val="ffff00"/>
                </a:solidFill>
                <a:uFillTx/>
                <a:latin typeface="新細明體"/>
              </a:rPr>
              <a:t>調查</a:t>
            </a:r>
            <a:r>
              <a:rPr b="0" lang="zh-TW" sz="2200" spc="-1" strike="noStrike">
                <a:solidFill>
                  <a:srgbClr val="ffff00"/>
                </a:solidFill>
                <a:latin typeface="新細明體"/>
              </a:rPr>
              <a:t> 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–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目標對象為 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9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歲或以上之電視觀眾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，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每八個星期進行一次，每次抽樣調查起碼 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2,000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個成功樣本，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為各項定量研究項目提供更加深入的分析</a:t>
            </a:r>
            <a:r>
              <a:rPr b="0" lang="en-US" sz="22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755640" y="1628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11-03-25T05:28:38Z</dcterms:modified>
  <cp:revision>759</cp:revision>
  <dc:subject/>
  <dc:title>無投影片標題</dc:title>
</cp:coreProperties>
</file>