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960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51C197D-2AAC-400E-8DFD-44C407391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9861E6A-7D30-4799-BB50-53DD49CEE822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68E186B-4A5D-4C48-9001-76843CCA1A29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24AF5DD-17A1-459D-90F7-F7B9431B57DD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32F7E93-2A3F-42C9-80C5-6E794B6A95C3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8837A97-B7A5-493A-8B7D-18D74BF753D9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695B359-5E6D-417C-AACC-65D0AC592A89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3D50EF2-22DD-4014-B575-D46EAC622EBD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566F6B8-EEDE-4779-8095-D97D2C0AAF2A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A87F37C-066C-4E4C-867C-86A4FAEB843A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C771B37-6F02-46D2-B9C5-049D9DBB11B0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03B4-DC3E-493B-A604-10FA00E40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FA73-2B12-4FF7-84F7-F98FEE43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54F5-8AB4-46CC-85ED-B0E72374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EB7A-5009-4C42-BA58-B5D8EF94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233F-E758-4768-B86C-A51EC55A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0E9B-658F-49A6-BE58-82804926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D67B-EF1B-4739-9808-5439805E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BFF1-822E-4F3E-979E-79B10486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FD7E-D4E0-4039-8C33-9232106F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C4F8-5199-4962-8273-599A2A61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C42C-FD72-49D9-AC10-FBA2D9FA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CAA8-9587-4FC5-8FB9-E4D1D316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500"/>
            </a:gs>
            <a:gs pos="50000">
              <a:srgbClr val="006600"/>
            </a:gs>
            <a:gs pos="100000">
              <a:srgbClr val="002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C218-6634-47F1-B4DD-3E72B928A5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924280"/>
            <a:ext cx="91440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a06"/>
                </a:solidFill>
                <a:latin typeface="Times New Roman"/>
                <a:ea typeface="TSC USong S TT"/>
              </a:rPr>
              <a:t>From TVAI to QMI</a:t>
            </a:r>
            <a:br>
              <a:rPr sz="3000"/>
            </a:br>
            <a:r>
              <a:rPr b="1" i="1" lang="en-GB" sz="2800" spc="-1" strike="noStrike">
                <a:solidFill>
                  <a:srgbClr val="fffa06"/>
                </a:solidFill>
                <a:latin typeface="Times New Roman"/>
                <a:ea typeface="TSC USong S TT"/>
              </a:rPr>
              <a:t>從「欣賞指數」到「優眾指數」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Rectangle 2052"/>
          <p:cNvSpPr/>
          <p:nvPr/>
        </p:nvSpPr>
        <p:spPr>
          <a:xfrm>
            <a:off x="3419640" y="981000"/>
            <a:ext cx="5029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50" name="Object 2053" descr=""/>
          <p:cNvPicPr/>
          <p:nvPr/>
        </p:nvPicPr>
        <p:blipFill>
          <a:blip r:embed="rId1"/>
          <a:stretch/>
        </p:blipFill>
        <p:spPr>
          <a:xfrm>
            <a:off x="1476360" y="765000"/>
            <a:ext cx="153684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055"/>
          <p:cNvSpPr/>
          <p:nvPr/>
        </p:nvSpPr>
        <p:spPr>
          <a:xfrm>
            <a:off x="826920" y="4653000"/>
            <a:ext cx="754380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Dr Robert CHUNG Ting-yiu 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鍾庭耀博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(Director of Public Opinion Programme  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民意研究計劃總監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23/3/201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Line 2059"/>
          <p:cNvSpPr/>
          <p:nvPr/>
        </p:nvSpPr>
        <p:spPr>
          <a:xfrm>
            <a:off x="468360" y="2781360"/>
            <a:ext cx="815328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Line 2060"/>
          <p:cNvSpPr/>
          <p:nvPr/>
        </p:nvSpPr>
        <p:spPr>
          <a:xfrm>
            <a:off x="395280" y="4365720"/>
            <a:ext cx="815328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560" y="1915920"/>
            <a:ext cx="6986520" cy="28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優眾指數優眾指數</a:t>
            </a:r>
            <a:br>
              <a:rPr sz="3200"/>
            </a:b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定義及計算方法</a:t>
            </a:r>
            <a:br>
              <a:rPr sz="3200"/>
            </a:br>
            <a:br>
              <a:rPr sz="3200"/>
            </a:br>
            <a:r>
              <a:rPr b="1" lang="zh-HK" sz="3200" spc="-1" strike="noStrike">
                <a:solidFill>
                  <a:srgbClr val="ffffff"/>
                </a:solidFill>
                <a:latin typeface="新細明體"/>
              </a:rPr>
              <a:t>（請</a:t>
            </a:r>
            <a:r>
              <a:rPr b="1" lang="en-US" sz="3200" spc="-1" strike="noStrike">
                <a:solidFill>
                  <a:srgbClr val="ffffff"/>
                </a:solidFill>
                <a:latin typeface="新細明體"/>
              </a:rPr>
              <a:t>參閱教材）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2106720" y="3135240"/>
            <a:ext cx="5029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82480" y="290628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85800" y="838080"/>
            <a:ext cx="76201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ferenc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參考資料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116000" y="2349360"/>
            <a:ext cx="6858000" cy="36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lick on HKU POP Site  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點擊港大民意網站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/hkupop.hku.h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OP Resources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網上資源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 Lectures and Workshops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研究講座及工作坊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[ today’s workshop 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今日講座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, “</a:t>
            </a:r>
            <a:r>
              <a:rPr b="1" lang="en-US" sz="2800" spc="-1" strike="noStrike">
                <a:solidFill>
                  <a:srgbClr val="fffa06"/>
                </a:solidFill>
                <a:latin typeface="Times New Roman"/>
              </a:rPr>
              <a:t>BU11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” ]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Line 6"/>
          <p:cNvSpPr/>
          <p:nvPr/>
        </p:nvSpPr>
        <p:spPr>
          <a:xfrm>
            <a:off x="684360" y="1989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68360" y="476280"/>
            <a:ext cx="82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010 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電視節目欣賞指數調查  第四季度結果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684360" y="1413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85880" y="1773360"/>
          <a:ext cx="7458120" cy="4200480"/>
        </p:xfrm>
        <a:graphic>
          <a:graphicData uri="http://schemas.openxmlformats.org/drawingml/2006/table">
            <a:tbl>
              <a:tblPr/>
              <a:tblGrid>
                <a:gridCol w="500040"/>
                <a:gridCol w="2565360"/>
                <a:gridCol w="1008000"/>
                <a:gridCol w="936720"/>
                <a:gridCol w="1008000"/>
                <a:gridCol w="1440000"/>
              </a:tblGrid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電視節目名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欣賞指數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dec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標準誤差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dec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認知比率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欣賞指數變化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火速救兵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8.5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7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.5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巾幗梟雄之義海豪情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無綫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4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5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4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鏗鏘集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4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9.1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0.5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星期日檔案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無綫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4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.8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0.27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香港政情大事回顧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7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.8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新聞透視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無綫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7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4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.6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0.4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香港歷史系列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 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4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6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9.0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國際博奕大事回顧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0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7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.5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香港故事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.1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5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.5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香港築跡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無綫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.0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5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5.0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1.63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矩形 7"/>
          <p:cNvSpPr/>
          <p:nvPr/>
        </p:nvSpPr>
        <p:spPr>
          <a:xfrm>
            <a:off x="719280" y="6093000"/>
            <a:ext cx="77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認知比率＝評分人數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收看電視總人數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468360" y="476280"/>
            <a:ext cx="82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010 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電視節目欣賞指數調查  全年結果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Line 5"/>
          <p:cNvSpPr/>
          <p:nvPr/>
        </p:nvSpPr>
        <p:spPr>
          <a:xfrm>
            <a:off x="684360" y="1413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85880" y="1773360"/>
          <a:ext cx="7458120" cy="4289400"/>
        </p:xfrm>
        <a:graphic>
          <a:graphicData uri="http://schemas.openxmlformats.org/drawingml/2006/table">
            <a:tbl>
              <a:tblPr/>
              <a:tblGrid>
                <a:gridCol w="439560"/>
                <a:gridCol w="2260800"/>
                <a:gridCol w="888840"/>
                <a:gridCol w="824040"/>
                <a:gridCol w="888840"/>
                <a:gridCol w="887400"/>
                <a:gridCol w="1268640"/>
              </a:tblGrid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電視節目名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247680"/>
                          <a:tab algn="l" pos="2381400"/>
                          <a:tab algn="l" pos="2990880"/>
                          <a:tab algn="l" pos="4743360"/>
                          <a:tab algn="l" pos="5686560"/>
                          <a:tab algn="l" pos="6108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欣賞指數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247680"/>
                          <a:tab algn="l" pos="2381400"/>
                          <a:tab algn="l" pos="2990880"/>
                          <a:tab algn="l" pos="4743360"/>
                          <a:tab algn="l" pos="5686560"/>
                          <a:tab algn="l" pos="6108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247680"/>
                          <a:tab algn="l" pos="2381400"/>
                          <a:tab algn="l" pos="2990880"/>
                          <a:tab algn="l" pos="4743360"/>
                          <a:tab algn="l" pos="5686560"/>
                          <a:tab algn="l" pos="6108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欣賞指數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247680"/>
                          <a:tab algn="l" pos="2381400"/>
                          <a:tab algn="l" pos="2990880"/>
                          <a:tab algn="l" pos="4743360"/>
                          <a:tab algn="l" pos="5686560"/>
                          <a:tab algn="l" pos="6108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247680"/>
                          <a:tab algn="l" pos="2381400"/>
                          <a:tab algn="l" pos="2990880"/>
                          <a:tab algn="l" pos="4743360"/>
                          <a:tab algn="l" pos="5686560"/>
                          <a:tab algn="l" pos="6108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欣賞指數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247680"/>
                          <a:tab algn="l" pos="2381400"/>
                          <a:tab algn="l" pos="2990880"/>
                          <a:tab algn="l" pos="4743360"/>
                          <a:tab algn="l" pos="5686560"/>
                          <a:tab algn="l" pos="6108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247680"/>
                          <a:tab algn="l" pos="2381400"/>
                          <a:tab algn="l" pos="2990880"/>
                          <a:tab algn="l" pos="4743360"/>
                          <a:tab algn="l" pos="5686560"/>
                          <a:tab algn="l" pos="6108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欣賞指數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247680"/>
                          <a:tab algn="l" pos="2381400"/>
                          <a:tab algn="l" pos="2990880"/>
                          <a:tab algn="l" pos="4743360"/>
                          <a:tab algn="l" pos="5686560"/>
                          <a:tab algn="l" pos="6108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247680"/>
                          <a:tab algn="l" pos="2381400"/>
                          <a:tab algn="l" pos="2990880"/>
                          <a:tab algn="l" pos="4743360"/>
                          <a:tab algn="l" pos="5686560"/>
                          <a:tab algn="l" pos="6108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平均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247680"/>
                          <a:tab algn="l" pos="2381400"/>
                          <a:tab algn="l" pos="2990880"/>
                          <a:tab algn="l" pos="4743360"/>
                          <a:tab algn="l" pos="5686560"/>
                          <a:tab algn="l" pos="6108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欣賞指數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marL="95400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火速救兵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8.5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8.5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marL="95400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鏗鏘集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4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8.3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7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7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marL="95400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巾幗梟雄之義海豪情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無綫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4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4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marL="95400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反斗英語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marL="95400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香港政情大事回顧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marL="95400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星期二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日檔案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無綫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9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1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marL="95400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愛回家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7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7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marL="95400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霎時感動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無綫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.8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5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marL="95400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香港歷史系列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 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4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4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marL="95400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新聞透視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無綫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0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.4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7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4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68360" y="476280"/>
            <a:ext cx="82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010 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電視節目欣賞指數調查  全年結果評論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Line 5"/>
          <p:cNvSpPr/>
          <p:nvPr/>
        </p:nvSpPr>
        <p:spPr>
          <a:xfrm>
            <a:off x="684360" y="1413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矩形 7"/>
          <p:cNvSpPr/>
          <p:nvPr/>
        </p:nvSpPr>
        <p:spPr>
          <a:xfrm>
            <a:off x="539640" y="1700280"/>
            <a:ext cx="806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「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欣賞指數調查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的方法在兩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年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前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微調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之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後，調查節目名單由各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電視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台平均分配，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透過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提名方法建立，而</a:t>
            </a:r>
            <a:r>
              <a:rPr b="0" lang="zh-TW" sz="2100" spc="-1" strike="noStrike">
                <a:solidFill>
                  <a:srgbClr val="fffa06"/>
                </a:solidFill>
                <a:latin typeface="Times New Roman"/>
              </a:rPr>
              <a:t>新聞財經報道節目則以整體評分取代個別節目評分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。微調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過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後，名列前茅的優質節目仍然可與微調以前的調查結果比較，兼可騰出資源測試更多有利業界發展的題目。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綜合過去一年四季的調查顯示，香港電台製作的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劇集</a:t>
            </a:r>
            <a:r>
              <a:rPr b="0" lang="zh-TW" sz="2100" spc="-1" strike="noStrike">
                <a:solidFill>
                  <a:srgbClr val="fffa06"/>
                </a:solidFill>
                <a:latin typeface="Times New Roman"/>
              </a:rPr>
              <a:t>「火速救兵」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，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一炮而紅奪得全年最高欣賞指數，令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劇集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節目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連續兩年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奪得冠軍。此外，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無綫劇集</a:t>
            </a:r>
            <a:r>
              <a:rPr b="0" lang="zh-TW" sz="2100" spc="-1" strike="noStrike">
                <a:solidFill>
                  <a:srgbClr val="fffa06"/>
                </a:solidFill>
                <a:latin typeface="Times New Roman"/>
              </a:rPr>
              <a:t>「巾幗梟雄之義海豪情」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亦排名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第三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，令欣賞指數調查首年出現兩個劇集節目名列三甲。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品牌節目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方面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，港台的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「</a:t>
            </a:r>
            <a:r>
              <a:rPr b="0" lang="zh-TW" sz="2100" spc="-1" strike="noStrike">
                <a:solidFill>
                  <a:srgbClr val="fffa06"/>
                </a:solidFill>
                <a:latin typeface="Times New Roman"/>
              </a:rPr>
              <a:t>鏗鏘集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」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、無綫的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「</a:t>
            </a:r>
            <a:r>
              <a:rPr b="0" lang="zh-TW" sz="2100" spc="-1" strike="noStrike">
                <a:solidFill>
                  <a:srgbClr val="fffa06"/>
                </a:solidFill>
                <a:latin typeface="Times New Roman"/>
              </a:rPr>
              <a:t>星期二／日檔案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」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和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「</a:t>
            </a:r>
            <a:r>
              <a:rPr b="0" lang="zh-TW" sz="2100" spc="-1" strike="noStrike">
                <a:solidFill>
                  <a:srgbClr val="fffa06"/>
                </a:solidFill>
                <a:latin typeface="Times New Roman"/>
              </a:rPr>
              <a:t>新聞透視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」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，繼續獲得佳績，分別排名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第二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、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第六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和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第十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。此外，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年終回顧節目繼續獲得好評，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前二十位中包括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港台的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「</a:t>
            </a:r>
            <a:r>
              <a:rPr b="0" lang="en-US" sz="2100" spc="-1" strike="noStrike">
                <a:solidFill>
                  <a:srgbClr val="fffa06"/>
                </a:solidFill>
                <a:latin typeface="Times New Roman"/>
              </a:rPr>
              <a:t>2010</a:t>
            </a:r>
            <a:r>
              <a:rPr b="0" lang="zh-TW" sz="2100" spc="-1" strike="noStrike">
                <a:solidFill>
                  <a:srgbClr val="fffa06"/>
                </a:solidFill>
                <a:latin typeface="Times New Roman"/>
              </a:rPr>
              <a:t>香港政情大事回顧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」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和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「</a:t>
            </a:r>
            <a:r>
              <a:rPr b="0" lang="en-US" sz="2100" spc="-1" strike="noStrike">
                <a:solidFill>
                  <a:srgbClr val="fffa06"/>
                </a:solidFill>
                <a:latin typeface="Times New Roman"/>
              </a:rPr>
              <a:t>2010</a:t>
            </a:r>
            <a:r>
              <a:rPr b="0" lang="zh-TW" sz="2100" spc="-1" strike="noStrike">
                <a:solidFill>
                  <a:srgbClr val="fffa06"/>
                </a:solidFill>
                <a:latin typeface="Times New Roman"/>
              </a:rPr>
              <a:t>國際博奕大事回顧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」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，以及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亞視的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「</a:t>
            </a:r>
            <a:r>
              <a:rPr b="0" lang="zh-TW" sz="2100" spc="-1" strike="noStrike">
                <a:solidFill>
                  <a:srgbClr val="fffa06"/>
                </a:solidFill>
                <a:latin typeface="Times New Roman"/>
              </a:rPr>
              <a:t>回首</a:t>
            </a:r>
            <a:r>
              <a:rPr b="0" lang="en-US" sz="2100" spc="-1" strike="noStrike">
                <a:solidFill>
                  <a:srgbClr val="fffa06"/>
                </a:solidFill>
                <a:latin typeface="Times New Roman"/>
              </a:rPr>
              <a:t>2009</a:t>
            </a:r>
            <a:r>
              <a:rPr b="0" lang="zh-TW" sz="2100" spc="-1" strike="noStrike">
                <a:solidFill>
                  <a:srgbClr val="fffa06"/>
                </a:solidFill>
                <a:latin typeface="Times New Roman"/>
              </a:rPr>
              <a:t>系列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」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。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至於新聞財經報道節目方面，有線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電視得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分最高，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然後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是無綫電視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、</a:t>
            </a:r>
            <a:r>
              <a:rPr b="0" lang="en-US" sz="2100" spc="-1" strike="noStrike">
                <a:solidFill>
                  <a:srgbClr val="ccecff"/>
                </a:solidFill>
                <a:latin typeface="Times New Roman"/>
              </a:rPr>
              <a:t>NOW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寬頻電視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、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亞洲電視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和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香港寬頻電視。」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「電視觀眾研究」簡介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Line 5"/>
          <p:cNvSpPr/>
          <p:nvPr/>
        </p:nvSpPr>
        <p:spPr>
          <a:xfrm>
            <a:off x="785880" y="1500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785880" y="2060640"/>
            <a:ext cx="76438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a06"/>
                </a:solidFill>
                <a:latin typeface="Times New Roman"/>
              </a:rPr>
              <a:t>研究目的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發展一套科學、全面而具代表性的電視觀眾研究，範圍</a:t>
            </a:r>
            <a:r>
              <a:rPr b="0" lang="zh-TW" sz="2400" spc="-1" strike="noStrike">
                <a:solidFill>
                  <a:srgbClr val="fffa06"/>
                </a:solidFill>
                <a:latin typeface="Times New Roman"/>
              </a:rPr>
              <a:t>覆蓋所有觀賞渠道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，包括新興網上媒體及流動電子裝置，與時並進。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為電視業界及廣告商戶提供多元價值指標，兼顧電視節目的</a:t>
            </a:r>
            <a:r>
              <a:rPr b="0" lang="zh-TW" sz="2400" spc="-1" strike="noStrike">
                <a:solidFill>
                  <a:srgbClr val="fffa06"/>
                </a:solidFill>
                <a:latin typeface="Times New Roman"/>
              </a:rPr>
              <a:t>「叫好」及「叫座」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能力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為學術界提供研究數據，透過深入分析和學術會議探討電視媒體的發展方向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785880" y="696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「電視觀眾研究」簡介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Line 5"/>
          <p:cNvSpPr/>
          <p:nvPr/>
        </p:nvSpPr>
        <p:spPr>
          <a:xfrm>
            <a:off x="785880" y="1500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785880" y="1773360"/>
            <a:ext cx="7643880" cy="28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a06"/>
                </a:solidFill>
                <a:latin typeface="Times New Roman"/>
              </a:rPr>
              <a:t>研究特點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fffa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a06"/>
                </a:solidFill>
                <a:latin typeface="Times New Roman"/>
              </a:rPr>
              <a:t>港大民研計劃全權負責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「電視觀眾研究」所有設計及執行工作，對研究的方法和結果全面負責。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整項研究將會圍繞</a:t>
            </a:r>
            <a:r>
              <a:rPr b="0" lang="zh-TW" sz="2000" spc="-1" strike="noStrike">
                <a:solidFill>
                  <a:srgbClr val="fffa06"/>
                </a:solidFill>
                <a:latin typeface="Times New Roman"/>
              </a:rPr>
              <a:t>「定質」和「定量」兩個主軸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發展，立體分析各個觀眾組群的意見和行為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針對年青組群的特質和新興媒體的作用，民研計劃會透過嶄新的網上</a:t>
            </a:r>
            <a:r>
              <a:rPr b="0" lang="zh-TW" sz="2000" spc="-1" strike="noStrike">
                <a:solidFill>
                  <a:srgbClr val="fffa06"/>
                </a:solidFill>
                <a:latin typeface="Times New Roman"/>
              </a:rPr>
              <a:t>「</a:t>
            </a:r>
            <a:r>
              <a:rPr b="0" lang="en-US" sz="2000" spc="-1" strike="noStrike">
                <a:solidFill>
                  <a:srgbClr val="fffa06"/>
                </a:solidFill>
                <a:latin typeface="Times New Roman"/>
              </a:rPr>
              <a:t>POPCON </a:t>
            </a:r>
            <a:r>
              <a:rPr b="0" lang="zh-TW" sz="2000" spc="-1" strike="noStrike">
                <a:solidFill>
                  <a:srgbClr val="fffa06"/>
                </a:solidFill>
                <a:latin typeface="Times New Roman"/>
              </a:rPr>
              <a:t>普及民意平台」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蒐集意見和數據，網址為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popcon.hkupop.hku.hk/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。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研究計劃將會建構一個結合「收視比率」和「欣賞指數」，以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0 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分為「正常基數」的</a:t>
            </a:r>
            <a:r>
              <a:rPr b="0" lang="zh-TW" sz="2000" spc="-1" strike="noStrike">
                <a:solidFill>
                  <a:srgbClr val="fffa06"/>
                </a:solidFill>
                <a:latin typeface="Times New Roman"/>
              </a:rPr>
              <a:t>「優眾指數」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MI, Quality-Mass Index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），反映電視節目的「叫好」和「叫座」能力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68360" y="476280"/>
            <a:ext cx="82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第一輪「電視觀眾研究」調查結果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Line 5"/>
          <p:cNvSpPr/>
          <p:nvPr/>
        </p:nvSpPr>
        <p:spPr>
          <a:xfrm>
            <a:off x="684360" y="1413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84240" y="634356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1042920" y="1484280"/>
            <a:ext cx="7543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fffa06"/>
                </a:solidFill>
                <a:latin typeface="新細明體"/>
              </a:rPr>
              <a:t>新興媒體觀眾數目 </a:t>
            </a:r>
            <a:r>
              <a:rPr b="0" lang="zh-TW" sz="2200" spc="-1" strike="noStrike">
                <a:solidFill>
                  <a:srgbClr val="fffa06"/>
                </a:solidFill>
                <a:latin typeface="新細明體"/>
              </a:rPr>
              <a:t>(</a:t>
            </a:r>
            <a:r>
              <a:rPr b="0" lang="zh-TW" sz="2200" spc="-1" strike="noStrike">
                <a:solidFill>
                  <a:srgbClr val="fffa06"/>
                </a:solidFill>
                <a:latin typeface="新細明體"/>
              </a:rPr>
              <a:t>以週眾計</a:t>
            </a:r>
            <a:r>
              <a:rPr b="0" lang="zh-TW" sz="2200" spc="-1" strike="noStrike">
                <a:solidFill>
                  <a:srgbClr val="fffa06"/>
                </a:solidFill>
                <a:latin typeface="新細明體"/>
              </a:rPr>
              <a:t>)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84360" y="5157720"/>
            <a:ext cx="77040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問題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1: 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過去</a:t>
            </a:r>
            <a:r>
              <a:rPr b="0" lang="zh-HK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七日內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，您有冇連續收</a:t>
            </a:r>
            <a:r>
              <a:rPr b="0" lang="zh-HK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睇電視節目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5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分鐘或以上呢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?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收</a:t>
            </a:r>
            <a:r>
              <a:rPr b="0" lang="zh-HK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睇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嘅定義係</a:t>
            </a:r>
            <a:r>
              <a:rPr b="0" lang="zh-HK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包括透過電視機、互聯網、</a:t>
            </a:r>
            <a:r>
              <a:rPr b="0" lang="en-US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YouTube</a:t>
            </a:r>
            <a:r>
              <a:rPr b="0" lang="en-US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、</a:t>
            </a:r>
            <a:r>
              <a:rPr b="0" lang="zh-HK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手提電話、以及其他方法收睇直播、重播、或者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嘅</a:t>
            </a:r>
            <a:r>
              <a:rPr b="0" lang="zh-HK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自己重溫電視節目，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只要過去</a:t>
            </a:r>
            <a:r>
              <a:rPr b="0" lang="zh-HK" sz="1600" spc="-1" strike="noStrike" u="sng">
                <a:solidFill>
                  <a:srgbClr val="ccecff"/>
                </a:solidFill>
                <a:uFillTx/>
                <a:latin typeface="Times New Roman"/>
                <a:ea typeface="Times New Roman"/>
              </a:rPr>
              <a:t>七日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內連續</a:t>
            </a:r>
            <a:r>
              <a:rPr b="0" lang="zh-HK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睇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5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分鐘或以上就算有</a:t>
            </a:r>
            <a:r>
              <a:rPr b="0" lang="zh-HK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睇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。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問題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2: 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咁您喺透過乜野工具收睇呢</a:t>
            </a:r>
            <a:r>
              <a:rPr b="0" lang="en-US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D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電視節目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?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4360" y="2276640"/>
          <a:ext cx="7632720" cy="2199960"/>
        </p:xfrm>
        <a:graphic>
          <a:graphicData uri="http://schemas.openxmlformats.org/drawingml/2006/table">
            <a:tbl>
              <a:tblPr/>
              <a:tblGrid>
                <a:gridCol w="1162080"/>
                <a:gridCol w="1017360"/>
                <a:gridCol w="1120680"/>
                <a:gridCol w="1009800"/>
                <a:gridCol w="1515960"/>
                <a:gridCol w="1806840"/>
              </a:tblGrid>
              <a:tr h="79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兩週調查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綜合結果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樣本人數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收視人口推算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萬位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#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收看比率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收視人口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電視機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^)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推算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萬位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# 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收視人口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電腦及其他工具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^)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推算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萬位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# 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整體樣本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31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4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8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 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99%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4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56%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特選群組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: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後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即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-29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歲人士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4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6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1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99%) 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1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br>
                        <a:rPr sz="1400"/>
                      </a:b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68%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Rectangle 8"/>
          <p:cNvSpPr/>
          <p:nvPr/>
        </p:nvSpPr>
        <p:spPr>
          <a:xfrm>
            <a:off x="684360" y="4581360"/>
            <a:ext cx="770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# 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根據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2010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年年中的最新香港人口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(9+)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總數為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6,345,600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推算。</a:t>
            </a:r>
            <a:br>
              <a:rPr sz="1200"/>
            </a:b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^ 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電視機包括</a:t>
            </a:r>
            <a:r>
              <a:rPr b="0" lang="zh-HK" sz="1200" spc="-1" strike="noStrike">
                <a:solidFill>
                  <a:srgbClr val="ccecff"/>
                </a:solidFill>
                <a:latin typeface="Times New Roman"/>
              </a:rPr>
              <a:t>數碼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高清</a:t>
            </a:r>
            <a:r>
              <a:rPr b="0" lang="zh-HK" sz="1200" spc="-1" strike="noStrike">
                <a:solidFill>
                  <a:srgbClr val="ccecff"/>
                </a:solidFill>
                <a:latin typeface="Times New Roman"/>
              </a:rPr>
              <a:t>電視機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及</a:t>
            </a:r>
            <a:r>
              <a:rPr b="0" lang="zh-HK" sz="1200" spc="-1" strike="noStrike">
                <a:solidFill>
                  <a:srgbClr val="ccecff"/>
                </a:solidFill>
                <a:latin typeface="Times New Roman"/>
              </a:rPr>
              <a:t>其他傳統電視機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，而其他工具包括</a:t>
            </a:r>
            <a:r>
              <a:rPr b="0" lang="zh-HK" sz="1200" spc="-1" strike="noStrike">
                <a:solidFill>
                  <a:srgbClr val="ccecff"/>
                </a:solidFill>
                <a:latin typeface="Times New Roman"/>
              </a:rPr>
              <a:t>電腦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、</a:t>
            </a:r>
            <a:r>
              <a:rPr b="0" lang="zh-HK" sz="1200" spc="-1" strike="noStrike">
                <a:solidFill>
                  <a:srgbClr val="ccecff"/>
                </a:solidFill>
                <a:latin typeface="Times New Roman"/>
              </a:rPr>
              <a:t>手提電話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、</a:t>
            </a:r>
            <a:r>
              <a:rPr b="0" lang="zh-HK" sz="1200" spc="-1" strike="noStrike">
                <a:solidFill>
                  <a:srgbClr val="ccecff"/>
                </a:solidFill>
                <a:latin typeface="Times New Roman"/>
              </a:rPr>
              <a:t>交通工具資訊系統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等。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68360" y="476280"/>
            <a:ext cx="82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第一輪「電視觀眾研究」調查結果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Line 5"/>
          <p:cNvSpPr/>
          <p:nvPr/>
        </p:nvSpPr>
        <p:spPr>
          <a:xfrm>
            <a:off x="684360" y="1413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84360" y="1773360"/>
          <a:ext cx="7559640" cy="4332240"/>
        </p:xfrm>
        <a:graphic>
          <a:graphicData uri="http://schemas.openxmlformats.org/drawingml/2006/table">
            <a:tbl>
              <a:tblPr/>
              <a:tblGrid>
                <a:gridCol w="601560"/>
                <a:gridCol w="2206440"/>
                <a:gridCol w="1150920"/>
                <a:gridCol w="1441440"/>
                <a:gridCol w="1008360"/>
                <a:gridCol w="115092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節目名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調查週數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收視人口推算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萬位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收看 比率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欣賞指數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新聞報導節目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一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6.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.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十大中文金曲頒獎音樂會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二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7.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.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回首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0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系列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一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5.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.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敗犬男大聯盟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二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9.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.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敗犬男大聯盟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四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2.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9.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亞洲早晨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五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9.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.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品味珠三角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三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4.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.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香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o go go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一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.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2.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TV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焦點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三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7.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.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香港望族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四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.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8.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Valued Acer Customer</cp:lastModifiedBy>
  <cp:lastPrinted>2001-04-04T10:00:24Z</cp:lastPrinted>
  <dcterms:modified xsi:type="dcterms:W3CDTF">2011-03-23T02:11:05Z</dcterms:modified>
  <cp:revision>731</cp:revision>
  <dc:subject/>
  <dc:title>無投影片標題</dc:title>
</cp:coreProperties>
</file>