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C46FE8E-1597-49BD-A2D6-134C313A6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715E7C-AFB0-4E3A-A482-269869ADCF8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328961-171B-4250-B21E-4EF86E561E9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9F4346-8395-4E7C-8115-19BA7695EEB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98EE5F-D4DF-4957-9640-9FE9AD8B9C0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F7BC1C-1AE7-4633-B766-7E8543625BE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490F9E-D356-4746-8DEB-EEBCC7BC780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3075AA-9673-4D2F-8AC3-4A46C0EBB56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DF6E3E-7E24-46E0-A15D-B8A1AF957DC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BAB33C-4F05-43F2-86FF-830956CE55B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558211-9960-4388-9B89-5AA18BF3D2B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C80F3B-8DB9-4AEF-92F9-4D09C42AA14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3D9440-DBA1-4462-8499-56017E1D5D2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5EA-D5A9-4F8B-9538-7EAD1D59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6CB-20BF-46FE-A44E-006D9A6C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02E-8905-4A17-8A6F-94E8337F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9A0-A344-4E62-A389-6703BE42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213-A40D-43C4-AD6B-5454C864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888-822A-4DEC-A42F-B948E2C8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5FD-052D-43E8-B04D-A37944CE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ACF-AE5A-46AF-9EAE-08AD2A99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9C4-3B44-488D-B14D-4A98334F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393-4EB3-4D67-9F25-5348CF81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2DE-95B8-4C75-9F62-F6280AA5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DA8-9CED-4C9A-945F-69CCE4B5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DF60-F90E-4050-B953-545DC62D45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12228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「如何進行科學民意調查」講座系列</a:t>
            </a:r>
            <a:br>
              <a:rPr sz="2000"/>
            </a:br>
            <a:r>
              <a:rPr b="1" i="1" lang="en-GB" sz="9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000"/>
            </a:b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「共創兩地民情新紀元」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06056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90792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785880" y="5157720"/>
            <a:ext cx="754380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香港大學 民意研究計劃 總監 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31/7/20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287964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63248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928800" y="1916280"/>
            <a:ext cx="757224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報導機構須要在發放調查結果後為公眾人士（包括傳媒及其他民意研究者）提供下列有關該等調查的資料：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研究機構的名稱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選樣的方法，及若果採用隨機抽樣的話，回應的比率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樣本的數目，及各項加權方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調查結果的準確程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問卷中有關部分的提問方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785880" y="15717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928800" y="2071800"/>
            <a:ext cx="757224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電子傳媒必須在報導民意調查時提供下列有 關該等調查的基本資料：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研究機構的名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樣本的數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42960" y="571680"/>
            <a:ext cx="7929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網上參考資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785880" y="1916280"/>
            <a:ext cx="774684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References and articles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POR (World Association for Public Opinion Research)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www.unl.edu/wapo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POR (American Association for Public Opinion Research)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www.aapor.or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www.esomar.or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CPP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National Council on Public Polls of USA) website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www.ncpp.or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allup polls at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http://gallup.co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857160" y="1500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06720" y="320688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82480" y="2978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6922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香港大學民意網站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下載是次講座內容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網上資源  </a:t>
            </a:r>
            <a:r>
              <a:rPr b="1" lang="en-US" sz="26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民意研究講座及工作坊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如何進行科學民意調查講座系列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「共創兩地民情研究新紀元」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 “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macau10”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760320" y="19875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82480" y="39337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84360" y="333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民意網站：講座資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75564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82480" y="39337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84360" y="333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民意網站：澳門研究系列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75564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82480" y="39337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4360" y="333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民意網站：澳門研究系列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Line 6"/>
          <p:cNvSpPr/>
          <p:nvPr/>
        </p:nvSpPr>
        <p:spPr>
          <a:xfrm>
            <a:off x="75564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82480" y="39337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84360" y="333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民意網站：服務政策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116000" y="242100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75564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000080" y="1857240"/>
            <a:ext cx="735804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</a:rPr>
              <a:t>研究機構的責任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可自由地進行及發表各項民意研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接受專業或法律考慮以外的任何限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採用旨在誤導社會人士的研究工具或方法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不應刻意曲解研究結果以達致不準或不確的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在其研究結果被嚴重曲解時應要挺身而出，向傳媒或受眾發放 適當的數據或聲明以正視聽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標準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928800" y="1714680"/>
            <a:ext cx="757224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研究機構須要在發放調查結果後為公眾人士（包括傳媒及其他民意研究者）提供下列有關該等調查的資料：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贊助機構的名稱（如果存在的話）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研究的目的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的對象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的日期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選樣的方法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回應的比率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被訪者的背景資料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各項統計程序及方法，包括樣本基數及加權方法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調查結果的準確度，包括抽樣誤差（如果適用的話）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問卷全份及訪問員守則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國際專業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標準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簡介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1000080" y="1857240"/>
            <a:ext cx="73580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</a:rPr>
              <a:t>報導機構的責任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必須遵從一切現行有關傳媒工作的各項專業守則，尤其是關於報導事實及對資料準確性的要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應讓其受眾知道其已遵從本守則內的規範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倘若報導機構亦有進行民意調查的話，必須遵從本守則內一切有關民意研究者的各項規範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</a:rPr>
              <a:t>不得防礙其他民意研究者履行本守則內的各項責任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10-07-30T20:55:40Z</dcterms:modified>
  <cp:revision>767</cp:revision>
  <dc:subject/>
  <dc:title>無投影片標題</dc:title>
</cp:coreProperties>
</file>