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C104BB-EBCB-4C5F-89CD-503908648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7D6FB15-B8AD-4A56-B4C8-05BCEAB96A1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98073D2-39D3-4BBB-844A-04CFCC6FFC5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CC3BD4-42B2-4AFC-BC82-B5C80757627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32E1000-F7EA-4675-8A1D-111E9011AB3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C47EC1-6D37-4C41-BDDE-2858FC36DFD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AE684F-2337-426A-AE6F-96A50466F8C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311-CBD6-47B2-BB65-C927C491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657-2215-4787-8E18-E3D06334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50D-6259-4DF6-B6E3-ED4F5575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467-ACE9-4100-B429-9B1B4063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818-CDCB-4229-A924-E6DD4434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0F7-D272-4FBA-8B0B-947391E6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277-DD7E-493C-BC04-BB5307E1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A11-B12F-454E-B89A-8950CD46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2F8-D430-499A-8CC4-FAAAC159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D5E-138D-4983-ACDA-A6372848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C32-67E2-4A10-929F-C234FF74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DA8-E78C-48FE-8181-6E5B311B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0014-F7C5-49D5-A1D9-9958696D9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57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Lecture at </a:t>
            </a:r>
            <a:r>
              <a:rPr b="1" i="1" lang="en-GB" sz="24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City University of Hong Kon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, 9 February 2010</a:t>
            </a:r>
            <a:br>
              <a:rPr sz="2400"/>
            </a:br>
            <a:r>
              <a:rPr b="1" i="1" lang="en-GB" sz="10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    </a:t>
            </a:r>
            <a:br>
              <a:rPr sz="2400"/>
            </a:br>
            <a:r>
              <a:rPr b="1" i="1" lang="en-GB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“</a:t>
            </a:r>
            <a:r>
              <a:rPr b="1" i="1" lang="en-US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Television Appreciation Index Research</a:t>
            </a:r>
            <a:r>
              <a:rPr b="1" i="1" lang="en-GB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”</a:t>
            </a:r>
            <a:br>
              <a:rPr sz="2800"/>
            </a:b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2052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0" name="Object 2053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15368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055"/>
          <p:cNvSpPr/>
          <p:nvPr/>
        </p:nvSpPr>
        <p:spPr>
          <a:xfrm>
            <a:off x="857160" y="5429160"/>
            <a:ext cx="75438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Line 2059"/>
          <p:cNvSpPr/>
          <p:nvPr/>
        </p:nvSpPr>
        <p:spPr>
          <a:xfrm>
            <a:off x="457200" y="311472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60"/>
          <p:cNvSpPr/>
          <p:nvPr/>
        </p:nvSpPr>
        <p:spPr>
          <a:xfrm>
            <a:off x="457200" y="486720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785880" y="1714680"/>
            <a:ext cx="764388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urse COM2116: Audience Analysis and Media Strategies – “to teach students variou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method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in audience analysis and the purposes,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philosophi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and methods of … evaluating programming content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pic for this week: “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levision Appreciation Index Researc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nline referenc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a) http://hkupop.hku/hk/english/tvai/index.htm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b) http://www.rthk.org.hk/special/tvai/2009/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utline of presenta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a) Media reports of opinion survey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b) TVAI surveys: methodology and repor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143000" y="264312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lease make use of the HKU POP Site –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[ today’s workshop, “</a:t>
            </a:r>
            <a:r>
              <a:rPr b="1" lang="en-US" sz="2800" spc="-1" strike="noStrike">
                <a:solidFill>
                  <a:srgbClr val="fffa06"/>
                </a:solidFill>
                <a:latin typeface="Times New Roman"/>
              </a:rPr>
              <a:t>CityU10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dia Report of Opinion Survey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785880" y="1857240"/>
            <a:ext cx="7643880" cy="41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ne example today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pularity of CE Donald Tsang and the principal official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9 February 2010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 in all, CE Donald Tsang’s popularity i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still low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ng Yan-lung remains to be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ost popula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Secretary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…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th the approval and disapproval rates of Eva Cheng have gone up by 7 percentage points, indicating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split in opinio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mong those who recently developed a view on her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…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official falls under the category of ‘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idea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’ performance …  ‘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pressin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’ or ‘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isastrou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’ 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…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 for the reasons affecting the popularity change of these officials, readers can make their own judgment using detailed records shown in our ‘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Opinion Dai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’ feature page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785880" y="357120"/>
            <a:ext cx="7619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levision Appreciation Index Survey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714240" y="1000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785880" y="1214280"/>
            <a:ext cx="76438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I09w3_report.doc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I09w4_Intro_v1.doc”,  “AI09w4_contact info_v1.doc”, “AI09w4_result_v1.doc”, “AI09w4_app1_v1.doc”, “AI09w4_app2_DEMO.doc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85880" y="2786040"/>
          <a:ext cx="7643880" cy="3475080"/>
        </p:xfrm>
        <a:graphic>
          <a:graphicData uri="http://schemas.openxmlformats.org/drawingml/2006/table">
            <a:tbl>
              <a:tblPr/>
              <a:tblGrid>
                <a:gridCol w="500040"/>
                <a:gridCol w="2643120"/>
                <a:gridCol w="1071720"/>
                <a:gridCol w="1071360"/>
                <a:gridCol w="1357560"/>
                <a:gridCol w="1000080"/>
              </a:tblGrid>
              <a:tr h="42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me of Programm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VAI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dec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raters / TV audienc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ange in TVAI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世界大事回顧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0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.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鏗鏘集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6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.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0.2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星期二檔案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.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1.0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政治大事回顧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1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.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活著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5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.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醫生與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.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大事回顧系列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.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新聞透視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3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.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0.5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霎時感動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2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.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1.7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海關故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7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.2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765000" y="2774880"/>
          <a:ext cx="7655040" cy="3530520"/>
        </p:xfrm>
        <a:graphic>
          <a:graphicData uri="http://schemas.openxmlformats.org/drawingml/2006/table">
            <a:tbl>
              <a:tblPr/>
              <a:tblGrid>
                <a:gridCol w="7655040"/>
              </a:tblGrid>
              <a:tr h="35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5716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785880" y="1643040"/>
            <a:ext cx="7929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POP TVAI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hkupop.hku.hk/english/tvai/index.html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RTHK TVAI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rthk.org.hk/special/tvai/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References and column articles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hkupop.hku.hk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WAPOR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unl.edu/wapor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AAPOR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aapor.org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esomar.org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NCPP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ncpp.org </a:t>
            </a: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(National Council on Public Polls of USA)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gallup.com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857160" y="13572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1357200" y="2928960"/>
            <a:ext cx="257184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</cp:lastModifiedBy>
  <cp:lastPrinted>2001-04-04T10:00:24Z</cp:lastPrinted>
  <dcterms:modified xsi:type="dcterms:W3CDTF">2010-02-09T04:56:43Z</dcterms:modified>
  <cp:revision>717</cp:revision>
  <dc:subject/>
  <dc:title>無投影片標題</dc:title>
</cp:coreProperties>
</file>