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C2B154-14B0-433B-BD20-06184D73C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74499F-6834-4186-A1CA-8A1DFC754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263F40-67C7-4491-9F10-4FB3B7594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01A365-946E-4D6C-B228-702FA8997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32F69A-C213-484F-828D-9EAB0382B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5CCBD8-1CF2-498E-B266-992AA5A9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D20346-18B5-4FB1-9CD2-0EC84A06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F2E0B2-DAB0-4A63-B4EF-6618B0AA4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323017-BD78-4399-B313-86E502251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A2CD77-DA03-461C-B1B9-151F390A2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494003-DD08-4803-93E8-810C0B4B6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5935EC-8522-4267-9DB9-63FD69AEC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4F371D-B6F0-4E89-9B2F-F0F61D43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15394E-DEFC-4F55-9FE3-C4AFB18AE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192FDD-FCB8-42B4-A92E-D54F44D8A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825993-ECE9-404F-B1F6-DDF7158F7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4CD8A3-FD3B-4607-9041-457F36965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7DF8E9-77DE-4362-A71F-DE63F06B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F0A294-5A3C-4B0B-B808-9ABB48F4A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985114-6A90-4360-AFD5-35215519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3054BB-C3F9-4EBF-8FEF-AF795592E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6899FA-C187-4082-86E5-47817C8A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5774B9-AACF-4167-B80C-04B95FA17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ADBBA3-7FB9-43F5-9E91-9BCC62D73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486939-C192-4ED8-B2A6-5F52318A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28B-B7C2-4ABB-9F34-8FB7937D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6AB-A046-40A5-A4B7-7F207524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F97-BC07-4A13-8A8B-F4DA4A3E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2D6-6941-473E-B59A-0A52DA62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9E5-0A5A-4248-94D6-7D9E3AF8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A42-8897-4496-B1D9-519F44E1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025-30FD-456B-9A48-CA890E6C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289-F5E2-48F7-9897-E999D51F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A8E-5FE0-4068-9CEE-D1D6287E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EF2-AD77-4344-8B6F-AA3B5DC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752-8C76-4582-9B4E-1093C3FD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7D0-0752-4324-B077-CA13742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40CC-7559-419B-9D19-77472A790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「工聯愛國工運發展」研討會</a:t>
            </a:r>
            <a:br>
              <a:rPr sz="800"/>
            </a:br>
            <a:br>
              <a:rPr sz="800"/>
            </a:br>
            <a:r>
              <a:rPr b="1" lang="zh-TW" sz="2800" spc="-1" strike="noStrike">
                <a:solidFill>
                  <a:srgbClr val="e9ad17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「香港工會聯合會民調評分概覽」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1523880" y="99072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7"/>
          <p:cNvSpPr/>
          <p:nvPr/>
        </p:nvSpPr>
        <p:spPr>
          <a:xfrm>
            <a:off x="1071720" y="557208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鍾庭耀博士（香港大學民意研究計劃主任）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14720" y="4929120"/>
            <a:ext cx="5410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8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Rectangle 2052"/>
          <p:cNvSpPr/>
          <p:nvPr/>
        </p:nvSpPr>
        <p:spPr>
          <a:xfrm>
            <a:off x="3429000" y="1000080"/>
            <a:ext cx="50292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Line 2059"/>
          <p:cNvSpPr/>
          <p:nvPr/>
        </p:nvSpPr>
        <p:spPr>
          <a:xfrm>
            <a:off x="428760" y="300024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Line 2059"/>
          <p:cNvSpPr/>
          <p:nvPr/>
        </p:nvSpPr>
        <p:spPr>
          <a:xfrm>
            <a:off x="500040" y="45720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教育程度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中學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00040" y="1241280"/>
            <a:ext cx="814392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教育程度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大專或以上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95360" y="1214280"/>
            <a:ext cx="81486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行政及專業人員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86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文職及服務人員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勞動工人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學生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71600" y="1214280"/>
            <a:ext cx="817236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全職主婦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登記選民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登記選民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登記選民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非登記選民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00040" y="1211400"/>
            <a:ext cx="81439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性別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8148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2209680" y="36576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680" y="15717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14240" y="1000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下載講座資料方法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>
            <a:off x="785880" y="23572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57160" y="2790720"/>
            <a:ext cx="7715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香港大學民意網站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網上資源 </a:t>
            </a:r>
            <a:r>
              <a:rPr b="1" lang="zh-TW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 民意研究講座及工作坊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「工聯愛國工運發展」研討會（密碼 “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hkftu”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年齡組別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0040" y="1228680"/>
            <a:ext cx="8148600" cy="53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教育程度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822024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60" name="Picture 2" descr="c:\program files\eudora71_07oct\data\attach\FTU_workshop_occ_chart.jpg"/>
          <p:cNvPicPr/>
          <p:nvPr/>
        </p:nvPicPr>
        <p:blipFill>
          <a:blip r:embed="rId1"/>
          <a:stretch/>
        </p:blipFill>
        <p:spPr>
          <a:xfrm>
            <a:off x="428760" y="1214280"/>
            <a:ext cx="8200800" cy="53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登記選民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報告完畢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整體評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性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男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性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女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92120" y="1214280"/>
            <a:ext cx="8151840" cy="53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年齡組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18-29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年齡組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30-49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3744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年齡組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50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或以上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教育程度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小學或以下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00040" y="1192320"/>
            <a:ext cx="8143920" cy="537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08-05-09T10:18:15Z</dcterms:modified>
  <cp:revision>718</cp:revision>
  <dc:subject/>
  <dc:title>無投影片標題</dc:title>
</cp:coreProperties>
</file>