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6F61EE-EB55-4A1C-89F0-D14E801B6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D4DBE2-A7AA-4D9B-8F53-2678DF328D1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BF8F07-B9F4-4484-8D7B-4CAE740539A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FFA0F2-F0C7-4ACD-8C34-20A04D21921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201FD8-E8E9-4393-B993-BEBA3821CEF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4E5ADE-D1D1-4A3E-B697-1EDA1A2CFE6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114078-B664-44D8-AD6F-E003F4A7864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9B591A-D580-46DD-BE10-65A9B39603E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D85FDE-2626-4922-9616-52F34A84DC9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49CC30-7FDD-482E-9769-C2257522C3F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85CD5A-6640-4884-B525-4BAA2FBCD7E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8A3D19-7BC7-44A7-8ACC-9A61023D540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A7C626-1393-405B-896C-5B65868D217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A6DD08-18CE-40B0-8566-12C178DC11D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10A55B-521A-4949-B39B-86C20BFA93C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AF88CC-A49E-46FE-BBFF-086E3C93349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C70903-ADE3-4196-A51B-6821DCE78C1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AC17B1-9945-4FB1-AE45-152E0C364C5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B80504-A567-4BEF-873D-E0BE049BB75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B55-0C2E-4601-AB1A-1CB48C02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A8D-FE05-4BFE-B93B-4A5642AD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03F-B3DB-4E93-8EDE-1D2DAFBB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28A-F810-448F-9E52-D1B7FF14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AA9-F810-45A1-899E-C8B16DDF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E40-B598-4C3A-A4CD-2D5E0FD1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E3B-1B6B-4E6A-B96A-3D491102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9A17-1568-40F9-8281-FF2208FD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526-7DE6-4891-B5A9-64FDB6F5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C0B-CBCE-4CF4-8BDC-1D473692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7FA-6D22-439B-8F7B-CC5CCB67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A91-5F36-4B39-9DB7-7453838C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FA60-AB3A-4AF7-AFEA-BC7D2400A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從民意數字看新聞自由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429000" y="10666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1523880" y="99072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7"/>
          <p:cNvSpPr/>
          <p:nvPr/>
        </p:nvSpPr>
        <p:spPr>
          <a:xfrm>
            <a:off x="1143000" y="5500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鍾庭耀博士（香港大學民意研究計劃主任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071800" y="4786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008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Line 2059"/>
          <p:cNvSpPr/>
          <p:nvPr/>
        </p:nvSpPr>
        <p:spPr>
          <a:xfrm>
            <a:off x="571680" y="307188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Line 2059"/>
          <p:cNvSpPr/>
          <p:nvPr/>
        </p:nvSpPr>
        <p:spPr>
          <a:xfrm>
            <a:off x="571680" y="428616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新聞自由滿意程度：移民因素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" name="圖片 2" descr="bar06.jpg"/>
          <p:cNvPicPr/>
          <p:nvPr/>
        </p:nvPicPr>
        <p:blipFill>
          <a:blip r:embed="rId1"/>
          <a:stretch/>
        </p:blipFill>
        <p:spPr>
          <a:xfrm>
            <a:off x="285840" y="1214280"/>
            <a:ext cx="85723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新聞自由滿意程度：移民因素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圖片 2" descr="bar07.jpg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新聞自由滿意程度：移民因素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0" name="圖片 2" descr="bar02.jpg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新聞自由滿意程度：移民因素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5" name="圖片 2" descr="bar05.jpg"/>
          <p:cNvPicPr/>
          <p:nvPr/>
        </p:nvPicPr>
        <p:blipFill>
          <a:blip r:embed="rId1"/>
          <a:stretch/>
        </p:blipFill>
        <p:spPr>
          <a:xfrm>
            <a:off x="214200" y="1214280"/>
            <a:ext cx="87156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85880" y="4287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「八卦」雜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因素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214200" y="121428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1235160" y="2571840"/>
          <a:ext cx="790884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5160" y="2571840"/>
                    <a:ext cx="79088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矩形 6"/>
          <p:cNvSpPr/>
          <p:nvPr/>
        </p:nvSpPr>
        <p:spPr>
          <a:xfrm>
            <a:off x="642960" y="1500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不論你有冇睇娛樂「八卦」雜誌，就你所知，呢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雜誌有冇侵犯公眾人物既私隱？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85840" y="5357880"/>
            <a:ext cx="54291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30360" indent="-15303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日期：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6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9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7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至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14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對象：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18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歲或以上操粵語的香港居民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：由訪問員直接進行電話訪問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1,015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58.0% 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（以符合資格的目標對象計算 ）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85880" y="4287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「八卦」雜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因素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214200" y="121428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642960" y="1500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有意見認為現時法例對公眾人物私隱保障不足，需要加強立法；但又有意見認為加強立法會削弱新聞自由，妨礙傳媒既新聞調查報告，只需加強刑罰而毋須加強立法。你傾向支持邊種意見？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2428920" y="2286000"/>
          <a:ext cx="6429240" cy="43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2286000"/>
                    <a:ext cx="642924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矩形 9"/>
          <p:cNvSpPr/>
          <p:nvPr/>
        </p:nvSpPr>
        <p:spPr>
          <a:xfrm>
            <a:off x="357120" y="5357880"/>
            <a:ext cx="5357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30360" indent="-15303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日期：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6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9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7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至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14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對象：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18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歲或以上操粵語的香港居民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：由訪問員直接進行電話訪問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1,015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58.0% 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（以符合資格的目標對象計算 ）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國際民意調查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6" name="圖片 6" descr="WPO_PressFreedom_May08_graph5.jpg"/>
          <p:cNvPicPr/>
          <p:nvPr/>
        </p:nvPicPr>
        <p:blipFill>
          <a:blip r:embed="rId1"/>
          <a:stretch/>
        </p:blipFill>
        <p:spPr>
          <a:xfrm>
            <a:off x="285840" y="1143000"/>
            <a:ext cx="4143240" cy="5500800"/>
          </a:xfrm>
          <a:prstGeom prst="rect">
            <a:avLst/>
          </a:prstGeom>
          <a:ln w="0">
            <a:noFill/>
          </a:ln>
        </p:spPr>
      </p:pic>
      <p:pic>
        <p:nvPicPr>
          <p:cNvPr id="137" name="圖片 7" descr="WPO_PressFreedom_May08_graph6.jpg"/>
          <p:cNvPicPr/>
          <p:nvPr/>
        </p:nvPicPr>
        <p:blipFill>
          <a:blip r:embed="rId2"/>
          <a:stretch/>
        </p:blipFill>
        <p:spPr>
          <a:xfrm>
            <a:off x="4714920" y="1143000"/>
            <a:ext cx="421488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國際民意調查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圖片 8" descr="WPO_PressFreedom_May08_graph4.jpg"/>
          <p:cNvPicPr/>
          <p:nvPr/>
        </p:nvPicPr>
        <p:blipFill>
          <a:blip r:embed="rId1"/>
          <a:stretch/>
        </p:blipFill>
        <p:spPr>
          <a:xfrm>
            <a:off x="214200" y="1143000"/>
            <a:ext cx="4286520" cy="5500800"/>
          </a:xfrm>
          <a:prstGeom prst="rect">
            <a:avLst/>
          </a:prstGeom>
          <a:ln w="0">
            <a:noFill/>
          </a:ln>
        </p:spPr>
      </p:pic>
      <p:pic>
        <p:nvPicPr>
          <p:cNvPr id="143" name="圖片 11" descr="WPO_PressFreedom_May08_graph3.jpg"/>
          <p:cNvPicPr/>
          <p:nvPr/>
        </p:nvPicPr>
        <p:blipFill>
          <a:blip r:embed="rId2"/>
          <a:stretch/>
        </p:blipFill>
        <p:spPr>
          <a:xfrm>
            <a:off x="4643280" y="1143000"/>
            <a:ext cx="428652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642960" y="20001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785880" y="428616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2286000"/>
            <a:ext cx="914400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瀏覽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http://hkupop.hku.hk 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網上資源：民意研究講座及工作坊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及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http://www.WorldPublicOpinion.or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社會指標走勢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0" name="圖片 7" descr="social_indicators_halfyr1.gif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自由指標走勢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" name="圖片 9" descr="chart01.jpg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傳媒公信力走勢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0" name="圖片 2" descr="chart02.jpg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4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傳媒發揮新聞自由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5" name="圖片 6" descr="use freedom yr1.gif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傳媒誤用新聞自由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0" name="圖片 7" descr="misuse freedom yr1.gif"/>
          <p:cNvPicPr/>
          <p:nvPr/>
        </p:nvPicPr>
        <p:blipFill>
          <a:blip r:embed="rId1"/>
          <a:stretch/>
        </p:blipFill>
        <p:spPr>
          <a:xfrm>
            <a:off x="214200" y="1214280"/>
            <a:ext cx="8715600" cy="542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傳媒報道負責程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圖片 6" descr="responsible yr1.gif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傳媒有否自我審查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0" name="圖片 6" descr="self censorship yr1.gif"/>
          <p:cNvPicPr/>
          <p:nvPr/>
        </p:nvPicPr>
        <p:blipFill>
          <a:blip r:embed="rId1"/>
          <a:stretch/>
        </p:blipFill>
        <p:spPr>
          <a:xfrm>
            <a:off x="214200" y="1214280"/>
            <a:ext cx="8715600" cy="542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新聞自由滿意程度：移民因素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圖片 2" descr="bar01.jpg"/>
          <p:cNvPicPr/>
          <p:nvPr/>
        </p:nvPicPr>
        <p:blipFill>
          <a:blip r:embed="rId1"/>
          <a:stretch/>
        </p:blipFill>
        <p:spPr>
          <a:xfrm>
            <a:off x="214200" y="1214280"/>
            <a:ext cx="8715600" cy="542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 Chung</cp:lastModifiedBy>
  <cp:lastPrinted>2001-04-04T10:00:24Z</cp:lastPrinted>
  <dcterms:modified xsi:type="dcterms:W3CDTF">2008-05-01T21:45:25Z</dcterms:modified>
  <cp:revision>792</cp:revision>
  <dc:subject/>
  <dc:title>無投影片標題</dc:title>
</cp:coreProperties>
</file>