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484EB4-7B7B-468A-A347-A796F007D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093F7DE-ACEA-4632-B2DB-85909DADF27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07C8780-552D-486D-ADB2-BF6AF187CE0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901A05-C024-4751-BB77-874B0B08182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BF9E3D3-8C88-41C9-BA24-C1FEA243BF1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FD622D7-4D5D-4EDD-9DCB-17A59B51F9C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588-A1DF-4714-A64A-98841A6F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52E-E70F-4434-80F8-34E904AE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8B1-F92D-433B-87F1-73A90CC0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0F7-EA99-4A75-A3A1-6437BE7C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236-7470-4A85-A187-2D0E84E5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263-F01D-439B-B934-15305F77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EC3-966D-4874-B004-DED786FD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B4A4-0DE3-4934-91C9-D2632A27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A80C-8902-444A-A8E1-EDD772D9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341-1A6C-4665-B70D-DD380AC9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D2B-F3D7-481E-8973-FAD9F084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4AA-0608-45D6-B5B7-C5CA21B9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84EA-E4BA-4E9E-AC28-69CE4C99EB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57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Lecture at </a:t>
            </a:r>
            <a:r>
              <a:rPr b="1" i="1" lang="en-GB" sz="24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City University of Hong Kon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, 24 April 2008</a:t>
            </a:r>
            <a:r>
              <a:rPr b="1" i="1" lang="en-GB" sz="24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 </a:t>
            </a:r>
            <a:br>
              <a:rPr sz="2400"/>
            </a:br>
            <a:r>
              <a:rPr b="1" i="1" lang="en-GB" sz="10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    </a:t>
            </a:r>
            <a:br>
              <a:rPr sz="2400"/>
            </a:br>
            <a:r>
              <a:rPr b="1" i="1" lang="en-GB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“Politics and Ethics of Exit Polls”</a:t>
            </a:r>
            <a:br>
              <a:rPr sz="2800"/>
            </a:b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2052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0" name="Object 2053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15368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055"/>
          <p:cNvSpPr/>
          <p:nvPr/>
        </p:nvSpPr>
        <p:spPr>
          <a:xfrm>
            <a:off x="857160" y="542916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Line 2059"/>
          <p:cNvSpPr/>
          <p:nvPr/>
        </p:nvSpPr>
        <p:spPr>
          <a:xfrm>
            <a:off x="457200" y="311472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Line 2060"/>
          <p:cNvSpPr/>
          <p:nvPr/>
        </p:nvSpPr>
        <p:spPr>
          <a:xfrm>
            <a:off x="457200" y="486720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785880" y="164304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785880" y="2143080"/>
            <a:ext cx="764388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ourse Title (EN3506): Quantitative Communication </a:t>
            </a: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Research Methods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 “designed to introduce the basic logic, concepts, and skills of quantitative research, with a special emphasis on survey method…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opic for this week: </a:t>
            </a: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Principles, Politics and Ethics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of Survey Research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Ethics and Politics of Social Research” was the  suggested titl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Politics and Ethics of Exit Polls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” is the final tit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143000" y="264312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lease make use of the HKU POP Site –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en-US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[ today’s workshop, “</a:t>
            </a:r>
            <a:r>
              <a:rPr b="1" lang="en-US" sz="2800" spc="-1" strike="noStrike">
                <a:solidFill>
                  <a:srgbClr val="fffa06"/>
                </a:solidFill>
                <a:latin typeface="Times New Roman"/>
              </a:rPr>
              <a:t>CityU08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785880" y="500040"/>
            <a:ext cx="7619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Exit Poll Story in Hong Ko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785880" y="13572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785880" y="1643040"/>
            <a:ext cx="7572240" cy="46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historical treatise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f exit polling in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“exit poll controversy” of 2008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Exit polls for Legislative Council Election </a:t>
            </a:r>
            <a:r>
              <a:rPr b="1" lang="en-US" sz="2000" spc="-1" strike="noStrike">
                <a:solidFill>
                  <a:srgbClr val="fffa06"/>
                </a:solidFill>
                <a:latin typeface="Times New Roman"/>
                <a:ea typeface="新細明體"/>
              </a:rPr>
              <a:t>Sep 200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District Council elections and Legislative Council </a:t>
            </a:r>
            <a:r>
              <a:rPr b="1" lang="en-US" sz="2000" spc="-1" strike="noStrike">
                <a:solidFill>
                  <a:srgbClr val="fffa06"/>
                </a:solidFill>
                <a:latin typeface="Times New Roman"/>
                <a:ea typeface="新細明體"/>
              </a:rPr>
              <a:t>by-elections of 200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Enquiry from Legislative Council Secretariat 25 </a:t>
            </a:r>
            <a:r>
              <a:rPr b="1" lang="en-US" sz="2000" spc="-1" strike="noStrike">
                <a:solidFill>
                  <a:srgbClr val="fffa06"/>
                </a:solidFill>
                <a:latin typeface="Times New Roman"/>
                <a:ea typeface="新細明體"/>
              </a:rPr>
              <a:t>Feb 200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Proposed revisions to exit poll guidelines and public </a:t>
            </a:r>
            <a:r>
              <a:rPr b="1" lang="en-US" sz="2000" spc="-1" strike="noStrike">
                <a:solidFill>
                  <a:srgbClr val="fffa06"/>
                </a:solidFill>
                <a:latin typeface="Times New Roman"/>
                <a:ea typeface="新細明體"/>
              </a:rPr>
              <a:t>consultation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 by Electoral Affairs Commission 25 Mar to 23 Apr 200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a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WAPOR Guidelines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for Exit Polls and Election Forecas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3352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857160" y="1571760"/>
            <a:ext cx="7715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References and column articles at </a:t>
            </a:r>
            <a:r>
              <a:rPr b="0" i="1" lang="en-US" sz="22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WAPOR website at </a:t>
            </a:r>
            <a:r>
              <a:rPr b="0" i="1" lang="en-US" sz="22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AAPOR website at </a:t>
            </a:r>
            <a:r>
              <a:rPr b="0" i="1" lang="en-US" sz="22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ESOMAR (World Association of Research Professionals) website at </a:t>
            </a:r>
            <a:r>
              <a:rPr b="0" i="1" lang="en-US" sz="2200" spc="-1" strike="noStrike">
                <a:solidFill>
                  <a:srgbClr val="ffff99"/>
                </a:solidFill>
                <a:latin typeface="Times New Roman"/>
              </a:rPr>
              <a:t>http://www.esomar.org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NCPP website at </a:t>
            </a:r>
            <a:r>
              <a:rPr b="0" i="1" lang="en-US" sz="2200" spc="-1" strike="noStrike">
                <a:solidFill>
                  <a:srgbClr val="ffff99"/>
                </a:solidFill>
                <a:latin typeface="Times New Roman"/>
              </a:rPr>
              <a:t>http://www.ncpp.org </a:t>
            </a: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(National Council on Public Polls of USA)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i="1" lang="en-US" sz="22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The Electoral Affairs Commission (“EAC”) website at </a:t>
            </a:r>
            <a:r>
              <a:rPr b="0" i="1" lang="en-US" sz="2200" spc="-1" strike="noStrike">
                <a:solidFill>
                  <a:srgbClr val="fffa06"/>
                </a:solidFill>
                <a:latin typeface="Times New Roman"/>
              </a:rPr>
              <a:t>http://www.eac.gov.hk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For listening to HK Legco meetings: </a:t>
            </a:r>
            <a:r>
              <a:rPr b="0" i="1" lang="en-US" sz="2200" spc="-1" strike="noStrike">
                <a:solidFill>
                  <a:srgbClr val="fffa06"/>
                </a:solidFill>
                <a:latin typeface="Times New Roman"/>
              </a:rPr>
              <a:t>http://www.legco.gov.hk </a:t>
            </a: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click “voice broadcast” and then search relevant meeting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Line 6"/>
          <p:cNvSpPr/>
          <p:nvPr/>
        </p:nvSpPr>
        <p:spPr>
          <a:xfrm>
            <a:off x="857160" y="1285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 Chung</cp:lastModifiedBy>
  <cp:lastPrinted>2001-04-04T10:00:24Z</cp:lastPrinted>
  <dcterms:modified xsi:type="dcterms:W3CDTF">2008-04-24T05:37:09Z</dcterms:modified>
  <cp:revision>655</cp:revision>
  <dc:subject/>
  <dc:title>無投影片標題</dc:title>
</cp:coreProperties>
</file>