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89600" cy="374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738320"/>
            <a:ext cx="5029200" cy="44910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8024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948024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4164410-5EB8-4EDE-AB69-A3CE27043B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88CE042-CFCE-451D-8A2F-E334CA0BB77F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E59CE11-4637-4C46-98E1-6BCDBEE13925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0F0FDF5-A762-41B8-A2EB-A4C6959E39DE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14400" y="4738320"/>
            <a:ext cx="50292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8C16C8E-6E33-4E5E-8168-63FCB8F568F0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2D9A2A7-C944-4176-B792-AECBC9342D51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F2EC-FCBF-4E54-9C63-12326D843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7E56-565C-4EE6-AD7F-126EE15D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8F2D-20C5-4625-922E-59DA6DCFF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0915-F12B-42E2-A9D2-0A6828176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29BD-BE3C-4794-AF20-1058E62A3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4505-172E-4658-8876-1E80AD3BF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BF03-A023-4B4E-A8BB-4ABAED031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BD40-281C-4946-A57F-4DCFF0F09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180B-8DF2-41B1-A982-004C74849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27C0-C7AE-4369-8FBD-FA155F95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AEAB-DDF6-4200-994B-3DAFCAA7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18EF-B51B-45C0-9874-EC9B4779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500"/>
            </a:gs>
            <a:gs pos="50000">
              <a:srgbClr val="006600"/>
            </a:gs>
            <a:gs pos="100000">
              <a:srgbClr val="002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57494-1699-42B7-B2B6-159C2DFDED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hkupop.hku.hk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071520"/>
            <a:ext cx="91440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Student Workshop on the Basics of Sample Surveys</a:t>
            </a:r>
            <a:br>
              <a:rPr sz="2800"/>
            </a:b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for the Statistics and Actuarial Science Society, HKUSU</a:t>
            </a:r>
            <a:br>
              <a:rPr sz="2800"/>
            </a:br>
            <a:br>
              <a:rPr sz="800"/>
            </a:b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24 January 2007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9" name="Rectangle 2052"/>
          <p:cNvSpPr/>
          <p:nvPr/>
        </p:nvSpPr>
        <p:spPr>
          <a:xfrm>
            <a:off x="3429000" y="1295280"/>
            <a:ext cx="5029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50" name="Object 2053"/>
          <p:cNvGraphicFramePr/>
          <p:nvPr/>
        </p:nvGraphicFramePr>
        <p:xfrm>
          <a:off x="1523880" y="1143000"/>
          <a:ext cx="153684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205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143000"/>
                    <a:ext cx="153684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Text Box 2055"/>
          <p:cNvSpPr/>
          <p:nvPr/>
        </p:nvSpPr>
        <p:spPr>
          <a:xfrm>
            <a:off x="928800" y="5214960"/>
            <a:ext cx="75438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cc"/>
                </a:solidFill>
                <a:latin typeface="Times New Roman"/>
              </a:rPr>
              <a:t>Robert CHUNG Ting-yiu, Karie PANG Ka-lai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cc"/>
                </a:solidFill>
                <a:latin typeface="Times New Roman"/>
              </a:rPr>
              <a:t>and Cliff CHOW Kwong-pok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Line 2059"/>
          <p:cNvSpPr/>
          <p:nvPr/>
        </p:nvSpPr>
        <p:spPr>
          <a:xfrm>
            <a:off x="457200" y="2971800"/>
            <a:ext cx="815328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" name="Line 2060"/>
          <p:cNvSpPr/>
          <p:nvPr/>
        </p:nvSpPr>
        <p:spPr>
          <a:xfrm>
            <a:off x="457200" y="4724280"/>
            <a:ext cx="815328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  <a:ea typeface="SimSun"/>
              </a:rPr>
              <a:t>Things to Avoid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609480" y="1905120"/>
            <a:ext cx="784872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jargons, slang and abbreviation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double-barreled question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double negative expression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SimSun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leading questions, emotional words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  <a:ea typeface="SimSun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prompt a list with too many item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profound and complicated ideas / concept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  <a:ea typeface="SimSun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Line 6"/>
          <p:cNvSpPr/>
          <p:nvPr/>
        </p:nvSpPr>
        <p:spPr>
          <a:xfrm>
            <a:off x="685800" y="15238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191120" y="2743200"/>
            <a:ext cx="37335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  <a:ea typeface="SimSun"/>
              </a:rPr>
              <a:t>Interview Skill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Line 4"/>
          <p:cNvSpPr/>
          <p:nvPr/>
        </p:nvSpPr>
        <p:spPr>
          <a:xfrm>
            <a:off x="914400" y="25909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" name="Line 5"/>
          <p:cNvSpPr/>
          <p:nvPr/>
        </p:nvSpPr>
        <p:spPr>
          <a:xfrm>
            <a:off x="914400" y="40384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0" name="Picture 6" descr="C:\Program Files\Common Files\Microsoft Shared\Clipart\cagcat50\BD05296_.WMF"/>
          <p:cNvPicPr/>
          <p:nvPr/>
        </p:nvPicPr>
        <p:blipFill>
          <a:blip r:embed="rId1"/>
          <a:stretch/>
        </p:blipFill>
        <p:spPr>
          <a:xfrm>
            <a:off x="838080" y="762120"/>
            <a:ext cx="335304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  <a:ea typeface="SimSun"/>
              </a:rPr>
              <a:t>Skills &amp; Technique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838080" y="1981080"/>
            <a:ext cx="75438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SimSun"/>
              </a:rPr>
              <a:t>Interviewer handbook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SimSun"/>
              </a:rPr>
              <a:t>Qualities of a good interviewer: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honest, accurate, mature, responsible, punctual, moderately intelligent, articulate, patient, stable, self-motivated, hardworking, proficient in multiple languages……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Demo clip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SimSun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Line 6"/>
          <p:cNvSpPr/>
          <p:nvPr/>
        </p:nvSpPr>
        <p:spPr>
          <a:xfrm>
            <a:off x="685800" y="15238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762120" y="838080"/>
            <a:ext cx="7619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utline of Workshop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857160" y="2571840"/>
            <a:ext cx="764388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1720" indent="-53172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art 1: Brief introduction of opinion survey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31720" indent="-53172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art 2: Questionnaire design and interview skill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31720" indent="-53172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art 3: Practical operation and data analysi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31720" indent="-53172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art 4: Open discuss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Line 5"/>
          <p:cNvSpPr/>
          <p:nvPr/>
        </p:nvSpPr>
        <p:spPr>
          <a:xfrm>
            <a:off x="785880" y="200016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2133720" y="3429000"/>
            <a:ext cx="502920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685800" y="838080"/>
            <a:ext cx="7620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nline Resources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1143000" y="2514600"/>
            <a:ext cx="6858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Make use of the HKU POP Site –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en-US" sz="36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http://hkupop.hku.hk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OP Resources </a:t>
            </a:r>
            <a:r>
              <a:rPr b="1" lang="en-US" sz="2800" spc="-1" strike="noStrike">
                <a:solidFill>
                  <a:srgbClr val="cc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 Public Opinion Lectures and Workshop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[ today’s workshop, “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sass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” ]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" name="Line 6"/>
          <p:cNvSpPr/>
          <p:nvPr/>
        </p:nvSpPr>
        <p:spPr>
          <a:xfrm>
            <a:off x="762120" y="2133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685800" y="838080"/>
            <a:ext cx="7620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nternship Programme 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1000080" y="2214720"/>
            <a:ext cx="7215120" cy="38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Each participant of today’s workshop (23 January 2008) is offered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10 internship interview sessions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 at POP’s call centre up to 29 February 2008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55680" indent="-3556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All interns will be trained and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paid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 as ordinary POP telephone interviewers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55680" indent="-3556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Upon satisfactory completion of the internship, an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appraisal report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 for each intern will be sent to each individual plus the representative of SASS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Line 6"/>
          <p:cNvSpPr/>
          <p:nvPr/>
        </p:nvSpPr>
        <p:spPr>
          <a:xfrm>
            <a:off x="785880" y="19288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838080" y="1928880"/>
            <a:ext cx="73915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A brief introduction of opinion surveys –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From a TV programme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Line 4"/>
          <p:cNvSpPr/>
          <p:nvPr/>
        </p:nvSpPr>
        <p:spPr>
          <a:xfrm>
            <a:off x="714240" y="164304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Line 5"/>
          <p:cNvSpPr/>
          <p:nvPr/>
        </p:nvSpPr>
        <p:spPr>
          <a:xfrm>
            <a:off x="785880" y="521496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533520" y="2057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SimSun"/>
                <a:ea typeface="SimSu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Questionnaire Desig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Line 4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" name="Line 5"/>
          <p:cNvSpPr/>
          <p:nvPr/>
        </p:nvSpPr>
        <p:spPr>
          <a:xfrm>
            <a:off x="685800" y="34290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75" name="Picture 6" descr="D:\Program Files\Common Files\Microsoft Shared\Clipart\cagcat50\BS00580_.wmf"/>
          <p:cNvPicPr/>
          <p:nvPr/>
        </p:nvPicPr>
        <p:blipFill>
          <a:blip r:embed="rId1"/>
          <a:stretch/>
        </p:blipFill>
        <p:spPr>
          <a:xfrm>
            <a:off x="5029200" y="3505320"/>
            <a:ext cx="3581280" cy="301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  <a:ea typeface="SimSun"/>
              </a:rPr>
              <a:t>General Principle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914400" y="1828800"/>
            <a:ext cx="75438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o fulfill the research objectiv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imple, direct &amp; unambiguou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levant and meaningful to respondent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SimSun"/>
              </a:rPr>
              <a:t>ength to be as short as practicable 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SimSun"/>
              </a:rPr>
              <a:t>- Acceptable to an average pers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SimSun"/>
              </a:rPr>
              <a:t>- To avoid respondent fatigu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SimSun"/>
              </a:rPr>
              <a:t>- Directly related to response rate &amp; cost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Line 6"/>
          <p:cNvSpPr/>
          <p:nvPr/>
        </p:nvSpPr>
        <p:spPr>
          <a:xfrm>
            <a:off x="685800" y="15238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  <a:ea typeface="SimSun"/>
              </a:rPr>
              <a:t>Question Format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762120" y="1676520"/>
            <a:ext cx="761976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SimSu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SimSun"/>
              </a:rPr>
              <a:t>Simple yes-no ques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SimSu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SimSun"/>
              </a:rPr>
              <a:t>3-pt or 5-pt scale (with mid-point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SimSu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SimSun"/>
              </a:rPr>
              <a:t>Prompted or unprompted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SimSu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SimSun"/>
              </a:rPr>
              <a:t>Open vs. close ended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Answers should be 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mutually exclusive, exhaustive and balance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SimSun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SimSu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SimSun"/>
              </a:rPr>
              <a:t>Also include “don’t know / hard to say” and “refuse to answer”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Line 6"/>
          <p:cNvSpPr/>
          <p:nvPr/>
        </p:nvSpPr>
        <p:spPr>
          <a:xfrm>
            <a:off x="685800" y="15238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  <a:ea typeface="SimSun"/>
              </a:rPr>
              <a:t>Question Order (flow)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762120" y="1828800"/>
            <a:ext cx="784836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Funneling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, i.e. from general to specific,  from public to personal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To arrange questions logically (by topics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To avoid order effect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Unaided </a:t>
            </a:r>
            <a:r>
              <a:rPr b="0" lang="en-US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aided question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Sensitive / difficult questions at the last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End by mapping demographics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Line 6"/>
          <p:cNvSpPr/>
          <p:nvPr/>
        </p:nvSpPr>
        <p:spPr>
          <a:xfrm>
            <a:off x="685800" y="15238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cliff</cp:lastModifiedBy>
  <cp:lastPrinted>2001-04-04T10:00:24Z</cp:lastPrinted>
  <dcterms:modified xsi:type="dcterms:W3CDTF">2008-02-01T10:02:30Z</dcterms:modified>
  <cp:revision>599</cp:revision>
  <dc:subject/>
  <dc:title>無投影片標題</dc:title>
</cp:coreProperties>
</file>