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54A-4B03-4A84-A281-84C0566E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BF5-7FF9-4702-9F0F-04A71A0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773-7484-40C2-873A-AB1CCEBD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94F-869B-4A26-847F-9D9EEFD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844-796E-4B45-A00D-0CF3C2DB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22F-BFF0-4601-8594-C87B5F6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A04-0201-4EF1-8DF0-2404D07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B1E-007C-4E31-83E4-FF812222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CBE-5C71-4635-9A92-7B379D7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538-3ACC-4902-BF14-E1E8070F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7AB-1062-41E0-B905-4E1D063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6C4-BD07-4DCA-AF6B-DCACB48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1A4-1DB2-411B-A3E9-010EFAAF81A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143000"/>
            <a:ext cx="80773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</a:rPr>
              <a:t>香港教育學院講座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5029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主任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1240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「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搜集及意見表達技巧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」</a:t>
            </a:r>
            <a:r>
              <a:rPr b="1" lang="zh-TW" sz="4000" spc="-1" strike="noStrike">
                <a:solidFill>
                  <a:srgbClr val="ff0000"/>
                </a:solidFill>
                <a:latin typeface="新細明體"/>
              </a:rPr>
              <a:t> 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8954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956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</a:rPr>
              <a:t>大綱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514600"/>
            <a:ext cx="6858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香港大學民意網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的理論和實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校園內外的民意調查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香港大學學生研究隊的經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36576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74320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下載是次講座內容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教育學院講座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- “ied2006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5146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其他參考資料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新聞公報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附加資料「民研問與答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中學師生民意研究習作計劃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90920"/>
            <a:ext cx="647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的特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量與質的矛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民意的可變和可塑性，傳媒的中介角色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意見與態度的分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品牌效應的理性和感性空間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市場的價值和價值的市場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民意的力量和價值的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5909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如何設計一個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參閱文獻，確立研究及調查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資源考慮：有沒有其他更好的研究方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計抽樣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計問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立執行及管理機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草擬報告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定發放方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666880"/>
            <a:ext cx="6477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如何執行一個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面訪調查、自填問卷、電話訪問、網上調查的分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如何控制訪員的質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如何控制答案的質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電腦輔助系統的重要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正確理解民意的本質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校園內外的調查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為什麼進行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什麼議題？如何執行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同學意見？青年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老師意見？巿民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群眾意見？專業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香港大學學生會的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香香港大學學生研究隊的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網上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1:54Z</dcterms:modified>
  <cp:revision>673</cp:revision>
  <dc:subject/>
  <dc:title>無投影片標題</dc:title>
</cp:coreProperties>
</file>